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5F9A-7447-48BA-9740-F4466AAB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6F6-936A-4AE8-AE61-A1F602D1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B8D-0E6E-4218-826A-C1F74DC8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CE48-577F-4C54-9E9D-9D458155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C94-A79C-499A-B6D5-AA3AA3E8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D7A-829E-42AC-9ADD-E4FE28B9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F81-FD21-4552-81BE-F0FFFB89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A4B-05F7-4A00-8804-D07BF30B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2C9-7B03-4061-8673-CE1F17FF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296-FFB4-4C2C-8DDD-580E097C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AFE-65CE-4301-8899-28A71846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01C-1997-4D05-93E1-D9E90CD7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960E-B4C0-453E-A62C-6AA4A01F9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ние: определите, что уточняется в предложе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устодиев Б.М. родился в тысяча восемьсот семьдесят восьмом году, двадцать третьего февраля, в Астрахани, в семье преподавателя духовной семина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1500120" y="-9360"/>
            <a:ext cx="65721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нструирование предло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, подножия, художник, дочерей, Шаляпина, снежной, горы, изобразил, Дворищина И. Г.,  рядом, с, афишей, и, его,  дру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бавить уточняющее обстоятельств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втором плане разворачивается праздничная феерия кустодиевской ярмарки: балаганы, скоморохи, мчащиеся кони, веселые извозчики, гармоники, подвыпившие мастеровые, грозди воздушных ша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дите ошиб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2.В казанском балагане, на Пасху, восьмилетний Федор Шаляпин увидел скомороха Якова Мамонова, который пробудил в нем интерес к теат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Шаляпин изображен в центре полотна, в родной ему стихии, в круговороте весел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е утверждение невер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Уточняемые обстоятельства чаще всего выражаются существительными, наречиями, местоименными нареч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Уточняющие обстоятельства могут присоединяться к уточняемым при помощи слов: в том числе, в частности, главным образом, особенно, именно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При уточняемом обстоятельстве может быть только одно уточняющее обстоя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4132080" y="2196720"/>
            <a:ext cx="20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3812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565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ком варианте ответа правильно указаны все цифры, на месте которых в предложении должны стоять запят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йчас (1) в начале девятнадцатого века (2) « Портрет Ф. И. Шаляпина» кисти Кустодиева(3) находится в Западной Европе(4) во Фра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 1, 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  2, 3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 1, 2,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2529720"/>
            <a:ext cx="119952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шковский Александр Матв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993102"/>
          <p:cNvPicPr/>
          <p:nvPr/>
        </p:nvPicPr>
        <p:blipFill>
          <a:blip r:embed="rId1"/>
          <a:stretch/>
        </p:blipFill>
        <p:spPr>
          <a:xfrm>
            <a:off x="3419640" y="1989000"/>
            <a:ext cx="2531880" cy="336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993102"/>
          <p:cNvPicPr/>
          <p:nvPr/>
        </p:nvPicPr>
        <p:blipFill>
          <a:blip r:embed="rId2"/>
          <a:stretch/>
        </p:blipFill>
        <p:spPr>
          <a:xfrm>
            <a:off x="3059280" y="1557360"/>
            <a:ext cx="3578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13744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 выучить правила на стр. 212- 213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 упр. 345( 1-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 конструирование предложений по картине Кустодиева « Портрет Ф. И. Шаляпина» с уточн. обст -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уппа – 5-6 предл., 2 группа- 3-4 п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 По желанию: подумать, какое значение будет иметь пред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дали, на площади, шумит Масленица.( 1- говорящий находится на площади; 2 – говорящий находится вне площад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Обособленные уточняющие обстоятельства места и врем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ащиеся долж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называется уточняющими обстоятельствами места и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учаи обособления уточняющих обстоятельств места и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ме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вить знаки препинания при уточняющих обстоятельст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нять в речи данные конструкции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значит уточни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очнить – это что-то добавить в характеристике, конкретизировать ее: сузить значение понятия, дать другое наименование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зьмите на замет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915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точняющие обстоятельства могут присоединяться к уточняемым при помощи слов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особен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менн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главным образо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част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 то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числ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стодиев часто приезжал в живописные уголки провинции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 города и села Верхней Вол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1052640"/>
          <a:ext cx="8064360" cy="5591160"/>
        </p:xfrm>
        <a:graphic>
          <a:graphicData uri="http://schemas.openxmlformats.org/drawingml/2006/table">
            <a:tbl>
              <a:tblPr/>
              <a:tblGrid>
                <a:gridCol w="2155680"/>
                <a:gridCol w="5908680"/>
              </a:tblGrid>
              <a:tr h="1925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Уточняющие обстоятельства ме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?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нно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  Там   Туда  Отту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зде      Всюд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   на каникулах, 7 июля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Уточняющие обстоятельства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?  когда  именн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     Тогда        Пот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   на стадионе, у трибун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ая соединительная линия 4"/>
          <p:cNvSpPr/>
          <p:nvPr/>
        </p:nvSpPr>
        <p:spPr>
          <a:xfrm>
            <a:off x="3571920" y="1643040"/>
            <a:ext cx="2071800" cy="1440"/>
          </a:xfrm>
          <a:prstGeom prst="line">
            <a:avLst/>
          </a:prstGeom>
          <a:ln w="9360">
            <a:solidFill>
              <a:srgbClr val="000000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9"/>
          <p:cNvSpPr/>
          <p:nvPr/>
        </p:nvSpPr>
        <p:spPr>
          <a:xfrm flipV="1">
            <a:off x="3569400" y="1643040"/>
            <a:ext cx="180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1"/>
          <p:cNvCxnSpPr/>
          <p:nvPr/>
        </p:nvCxnSpPr>
        <p:spPr>
          <a:xfrm flipH="1">
            <a:off x="5643360" y="1643040"/>
            <a:ext cx="2160" cy="28656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6" name="Прямая соединительная линия 18"/>
          <p:cNvSpPr/>
          <p:nvPr/>
        </p:nvSpPr>
        <p:spPr>
          <a:xfrm flipV="1">
            <a:off x="3498840" y="4573440"/>
            <a:ext cx="1440" cy="21456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0"/>
          <p:cNvSpPr/>
          <p:nvPr/>
        </p:nvSpPr>
        <p:spPr>
          <a:xfrm>
            <a:off x="3500280" y="4572000"/>
            <a:ext cx="264348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Прямая со стрелкой 25"/>
          <p:cNvCxnSpPr/>
          <p:nvPr/>
        </p:nvCxnSpPr>
        <p:spPr>
          <a:xfrm flipH="1">
            <a:off x="6143400" y="4573080"/>
            <a:ext cx="2160" cy="14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Прямая соединительная линия 29"/>
          <p:cNvSpPr/>
          <p:nvPr/>
        </p:nvSpPr>
        <p:spPr>
          <a:xfrm>
            <a:off x="3286080" y="6572160"/>
            <a:ext cx="928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32"/>
          <p:cNvSpPr/>
          <p:nvPr/>
        </p:nvSpPr>
        <p:spPr>
          <a:xfrm>
            <a:off x="4643280" y="6572160"/>
            <a:ext cx="9288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34"/>
          <p:cNvSpPr/>
          <p:nvPr/>
        </p:nvSpPr>
        <p:spPr>
          <a:xfrm>
            <a:off x="6143760" y="6572160"/>
            <a:ext cx="107136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36"/>
          <p:cNvSpPr/>
          <p:nvPr/>
        </p:nvSpPr>
        <p:spPr>
          <a:xfrm>
            <a:off x="3429000" y="3857760"/>
            <a:ext cx="78588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38"/>
          <p:cNvSpPr/>
          <p:nvPr/>
        </p:nvSpPr>
        <p:spPr>
          <a:xfrm>
            <a:off x="4643280" y="3857760"/>
            <a:ext cx="85752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40"/>
          <p:cNvSpPr/>
          <p:nvPr/>
        </p:nvSpPr>
        <p:spPr>
          <a:xfrm>
            <a:off x="6072120" y="3857760"/>
            <a:ext cx="1071720" cy="1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44"/>
          <p:cNvSpPr/>
          <p:nvPr/>
        </p:nvSpPr>
        <p:spPr>
          <a:xfrm>
            <a:off x="4429080" y="6572160"/>
            <a:ext cx="46080" cy="460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45"/>
          <p:cNvSpPr/>
          <p:nvPr/>
        </p:nvSpPr>
        <p:spPr>
          <a:xfrm>
            <a:off x="5786280" y="6572160"/>
            <a:ext cx="71640" cy="460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Блок-схема: узел 46"/>
          <p:cNvSpPr/>
          <p:nvPr/>
        </p:nvSpPr>
        <p:spPr>
          <a:xfrm flipV="1">
            <a:off x="4475160" y="3857760"/>
            <a:ext cx="46080" cy="712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узел 47"/>
          <p:cNvSpPr/>
          <p:nvPr/>
        </p:nvSpPr>
        <p:spPr>
          <a:xfrm>
            <a:off x="5857920" y="3857760"/>
            <a:ext cx="46080" cy="7128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сня «Дубинуш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fedor_shalyapin_-_dubinushka_(zaycev.net).wav" descr=""/>
          <p:cNvPicPr/>
          <p:nvPr/>
        </p:nvPicPr>
        <p:blipFill>
          <a:blip r:embed="rId1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59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5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Борис Михайлович Кустоди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220px-Kustodiev_self_portrait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2057400"/>
            <a:ext cx="385920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3" name="Text Box 4"/>
          <p:cNvSpPr/>
          <p:nvPr/>
        </p:nvSpPr>
        <p:spPr>
          <a:xfrm>
            <a:off x="4191120" y="1832040"/>
            <a:ext cx="495288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«Много я знал в жизни интересных, талантливых и хороших людей, но, если я когда-либо видел в человеке действительно высокий дух, так это в Кустодиев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Ф. Шаляп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1162080" y="1600200"/>
            <a:ext cx="6819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3T11:43:55Z</dcterms:created>
  <dc:creator>Admin</dc:creator>
  <dc:description/>
  <dc:language>en-US</dc:language>
  <cp:lastModifiedBy>Admin</cp:lastModifiedBy>
  <dcterms:modified xsi:type="dcterms:W3CDTF">2023-11-13T11:11:49Z</dcterms:modified>
  <cp:revision>60</cp:revision>
  <dc:subject/>
  <dc:title>Слайд 1</dc:title>
</cp:coreProperties>
</file>