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97D-603A-4B44-9264-101CBB86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C0F-260E-4F05-A84B-CC722D09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007-EEFC-4A80-AEC2-6E761CBA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2A47-0177-4512-A511-48163834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EB0-D693-46D0-81D8-D5BD24C7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516-1E9E-4895-B497-BCEC91C6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489-0E1D-49A0-B840-6E8E8979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ECF7-ACFA-4CFD-B9C8-9889F6E9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5F6-4E98-4370-8CEA-1BFCCC02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E87-9560-47B2-9E8D-FFB632D7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66A4-77EB-489F-8B63-EB9C620F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2F5-9019-4DEB-90C9-5E41A789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3F08-A34B-4B12-89C4-2394EEEA6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е: определите, что уточняется в предложен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устодиев Б.М. родился в тысяча восемьсот семьдесят восьмом году, двадцать третьего февраля, в Астрахани, в семье преподавателя духовной семина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1500120" y="-9360"/>
            <a:ext cx="657216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нструирование предлож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, подножия, художник, дочерей, Шаляпина, снежной, горы, изобразил, Дворищина И. Г.,  рядом, с, афишей, и, его, 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бавить уточняющее обстоятельств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втором плане разворачивается праздничная феерия кустодиевской ярмарки: балаганы, скоморохи, мчащиеся кони, веселые извозчики, гармоники, подвыпившие мастеровые, грозди воздушных ш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йдите ошиб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2.В казанском балагане, на Пасху, восьмилетний Федор Шаляпин увидел скомороха Якова Мамонова, который пробудил в нем интерес к теат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Шаляпин изображен в центре полотна, в родной ему стихии, в круговороте весел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утверждение не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Уточняемые обстоятельства чаще всего выражаются существительными, наречиями, местоименными нареч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Уточняющие обстоятельства могут присоединяться к уточняемым при помощи слов: в том числе, в частности, главным образом, особенно, именно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При уточняемом обстоятельстве может быть только одно уточняющее обстоятель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4132080" y="2196720"/>
            <a:ext cx="20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3812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м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565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, на месте которых в предложении должны стоять запят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йчас (1) в начале девятнадцатого века (2) « Портрет Ф. И. Шаляпина» кисти Кустодиева(3) находится в Западной Европе(4) во Фра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1, 3,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 2, 3,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 1, 2,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2529720"/>
            <a:ext cx="1199520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шковский Александр Матве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993102"/>
          <p:cNvPicPr/>
          <p:nvPr/>
        </p:nvPicPr>
        <p:blipFill>
          <a:blip r:embed="rId1"/>
          <a:stretch/>
        </p:blipFill>
        <p:spPr>
          <a:xfrm>
            <a:off x="3419640" y="1989000"/>
            <a:ext cx="2531880" cy="3362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993102"/>
          <p:cNvPicPr/>
          <p:nvPr/>
        </p:nvPicPr>
        <p:blipFill>
          <a:blip r:embed="rId2"/>
          <a:stretch/>
        </p:blipFill>
        <p:spPr>
          <a:xfrm>
            <a:off x="3059280" y="1557360"/>
            <a:ext cx="35780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13744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 выучить правила на стр. 212- 213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 упр. 345( 1-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 конструирование предложений по картине Кустодиева « Портрет Ф. И. Шаляпина» с уточн. обст -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группа – 5-6 предл., 2 группа- 3-4 п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  По желанию: подумать, какое значение будет иметь предл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дали, на площади, шумит Масленица.( 1- говорящий находится на площади; 2 – говорящий находится вне площад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Обособленные уточняющие обстоятельства места и време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ащиеся долж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97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называется уточняющими обстоятельствами места и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учаи обособления уточняющих обстоятельств места и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вить знаки препинания при уточняющих обстоятельст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менять в речи данные конструкции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значит уточни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точнить – это что-то добавить в характеристике, конкретизировать ее: сузить значение понятия, дать другое наименование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зьмите на заметк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915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точняющие обстоятельства могут присоединяться к уточняемым при помощи слов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собенн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менн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главным образо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 частн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 то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числ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ежде всег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стодиев часто приезжал в живописные уголки провинции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ежде всег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в города и села Верхней Вол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ас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4000" y="1052640"/>
          <a:ext cx="8064360" cy="5591160"/>
        </p:xfrm>
        <a:graphic>
          <a:graphicData uri="http://schemas.openxmlformats.org/drawingml/2006/table">
            <a:tbl>
              <a:tblPr/>
              <a:tblGrid>
                <a:gridCol w="2155680"/>
                <a:gridCol w="5908680"/>
              </a:tblGrid>
              <a:tr h="1925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Уточняющие обстоятельства ме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?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но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   Там   Туда  Отту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зде      Всюд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  на каникулах, 7 июл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точняющие обстоятельства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?  когда  именн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     Тогда        Пот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    на стадионе, у трибун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Прямая соединительная линия 4"/>
          <p:cNvSpPr/>
          <p:nvPr/>
        </p:nvSpPr>
        <p:spPr>
          <a:xfrm>
            <a:off x="3571920" y="1643040"/>
            <a:ext cx="2071800" cy="1440"/>
          </a:xfrm>
          <a:prstGeom prst="line">
            <a:avLst/>
          </a:prstGeom>
          <a:ln w="9360">
            <a:solidFill>
              <a:srgbClr val="000000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9"/>
          <p:cNvSpPr/>
          <p:nvPr/>
        </p:nvSpPr>
        <p:spPr>
          <a:xfrm flipV="1">
            <a:off x="3569400" y="1643040"/>
            <a:ext cx="180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11"/>
          <p:cNvCxnSpPr/>
          <p:nvPr/>
        </p:nvCxnSpPr>
        <p:spPr>
          <a:xfrm flipH="1">
            <a:off x="5643360" y="1643040"/>
            <a:ext cx="2160" cy="28656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6" name="Прямая соединительная линия 18"/>
          <p:cNvSpPr/>
          <p:nvPr/>
        </p:nvSpPr>
        <p:spPr>
          <a:xfrm flipV="1">
            <a:off x="3498840" y="4573440"/>
            <a:ext cx="1440" cy="21456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20"/>
          <p:cNvSpPr/>
          <p:nvPr/>
        </p:nvSpPr>
        <p:spPr>
          <a:xfrm>
            <a:off x="3500280" y="4572000"/>
            <a:ext cx="2643480" cy="14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Прямая со стрелкой 25"/>
          <p:cNvCxnSpPr/>
          <p:nvPr/>
        </p:nvCxnSpPr>
        <p:spPr>
          <a:xfrm flipH="1">
            <a:off x="6143400" y="4573080"/>
            <a:ext cx="2160" cy="14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Прямая соединительная линия 29"/>
          <p:cNvSpPr/>
          <p:nvPr/>
        </p:nvSpPr>
        <p:spPr>
          <a:xfrm>
            <a:off x="3286080" y="657216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32"/>
          <p:cNvSpPr/>
          <p:nvPr/>
        </p:nvSpPr>
        <p:spPr>
          <a:xfrm>
            <a:off x="4643280" y="6572160"/>
            <a:ext cx="9288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34"/>
          <p:cNvSpPr/>
          <p:nvPr/>
        </p:nvSpPr>
        <p:spPr>
          <a:xfrm>
            <a:off x="6143760" y="6572160"/>
            <a:ext cx="107136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36"/>
          <p:cNvSpPr/>
          <p:nvPr/>
        </p:nvSpPr>
        <p:spPr>
          <a:xfrm>
            <a:off x="3429000" y="3857760"/>
            <a:ext cx="785880" cy="14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38"/>
          <p:cNvSpPr/>
          <p:nvPr/>
        </p:nvSpPr>
        <p:spPr>
          <a:xfrm>
            <a:off x="4643280" y="3857760"/>
            <a:ext cx="857520" cy="14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40"/>
          <p:cNvSpPr/>
          <p:nvPr/>
        </p:nvSpPr>
        <p:spPr>
          <a:xfrm>
            <a:off x="6072120" y="3857760"/>
            <a:ext cx="1071720" cy="14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узел 44"/>
          <p:cNvSpPr/>
          <p:nvPr/>
        </p:nvSpPr>
        <p:spPr>
          <a:xfrm>
            <a:off x="4429080" y="6572160"/>
            <a:ext cx="46080" cy="4608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узел 45"/>
          <p:cNvSpPr/>
          <p:nvPr/>
        </p:nvSpPr>
        <p:spPr>
          <a:xfrm>
            <a:off x="5786280" y="6572160"/>
            <a:ext cx="71640" cy="4608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узел 46"/>
          <p:cNvSpPr/>
          <p:nvPr/>
        </p:nvSpPr>
        <p:spPr>
          <a:xfrm flipV="1">
            <a:off x="4475160" y="3857760"/>
            <a:ext cx="46080" cy="7128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узел 47"/>
          <p:cNvSpPr/>
          <p:nvPr/>
        </p:nvSpPr>
        <p:spPr>
          <a:xfrm>
            <a:off x="5857920" y="3857760"/>
            <a:ext cx="46080" cy="7128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сня «Дубинуш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fedor_shalyapin_-_dubinushka_(zaycev.net).wav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595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орис Михайлович Кустоди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220px-Kustodiev_self_portrait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2057400"/>
            <a:ext cx="385920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3" name="Text Box 4"/>
          <p:cNvSpPr/>
          <p:nvPr/>
        </p:nvSpPr>
        <p:spPr>
          <a:xfrm>
            <a:off x="4191120" y="1832040"/>
            <a:ext cx="495288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Много я знал в жизни интересных, талантливых и хороших людей, но, если я когда-либо видел в человеке действительно высокий дух, так это в Кустодиев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Ф. Шаляпи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1162080" y="1600200"/>
            <a:ext cx="6819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11:43:55Z</dcterms:created>
  <dc:creator>Admin</dc:creator>
  <dc:description/>
  <dc:language>en-US</dc:language>
  <cp:lastModifiedBy>Admin</cp:lastModifiedBy>
  <dcterms:modified xsi:type="dcterms:W3CDTF">2023-11-13T11:11:49Z</dcterms:modified>
  <cp:revision>60</cp:revision>
  <dc:subject/>
  <dc:title>Слайд 1</dc:title>
</cp:coreProperties>
</file>