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B0AD-ADCC-491F-8185-261FD2B063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DC11-6C9B-4036-83FF-733A327D0C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CAB-C4DF-4367-872F-73E6BA84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8DA-C90C-43B1-B128-70B79284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00C-2C21-45C3-BDF0-67F9B7D4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ECAF-5CB2-400F-801D-7DCC99AD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978-80A4-480A-9C9C-62C06606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1F3-9E64-4284-A96A-EF9FD0A6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9D8-99F1-475C-B024-187818FF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008-03D5-4A75-BD8B-88954328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F6A-248A-4580-8816-BD11DB12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FD50-A55F-410D-8A8D-73A63E03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B7CD-8920-4CD9-9AC4-00610DC9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468-7919-4CD6-B128-9440C9B5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CAAD-3CE2-48D4-AD68-FA95A73CDC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Предложение есть продукт соединения подлежащего и сказуемого»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.М.Пешков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283212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571680" y="26431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казуемо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3571920" y="50004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й  член  предло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286080" y="1357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значает  то,  что  сообщается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 подлежащ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3643200" y="2714760"/>
            <a:ext cx="53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чает  на  вопро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 делает  предмет?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643200" y="4143240"/>
            <a:ext cx="40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жается  глаго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3571920" y="51436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чёркивается  двумя  че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85840" y="2142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пособы  выражения  сказуем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1"/>
          <p:cNvSpPr/>
          <p:nvPr/>
        </p:nvSpPr>
        <p:spPr>
          <a:xfrm>
            <a:off x="3500280" y="2714760"/>
            <a:ext cx="2357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Глаго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2"/>
          <p:cNvSpPr/>
          <p:nvPr/>
        </p:nvSpPr>
        <p:spPr>
          <a:xfrm>
            <a:off x="428760" y="3929040"/>
            <a:ext cx="3071520" cy="1000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мя 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3"/>
          <p:cNvSpPr/>
          <p:nvPr/>
        </p:nvSpPr>
        <p:spPr>
          <a:xfrm>
            <a:off x="5857920" y="3929040"/>
            <a:ext cx="3071880" cy="107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18"/>
          <p:cNvCxnSpPr/>
          <p:nvPr/>
        </p:nvCxnSpPr>
        <p:spPr>
          <a:xfrm>
            <a:off x="4500720" y="1000080"/>
            <a:ext cx="72000" cy="1572480"/>
          </a:xfrm>
          <a:prstGeom prst="straightConnector1">
            <a:avLst/>
          </a:prstGeom>
          <a:ln w="7632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7" name="Прямая со стрелкой 34"/>
          <p:cNvCxnSpPr/>
          <p:nvPr/>
        </p:nvCxnSpPr>
        <p:spPr>
          <a:xfrm flipH="1">
            <a:off x="1499400" y="1356840"/>
            <a:ext cx="1072440" cy="2072520"/>
          </a:xfrm>
          <a:prstGeom prst="straightConnector1">
            <a:avLst/>
          </a:prstGeom>
          <a:ln w="7632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108" name="Прямая со стрелкой 37"/>
          <p:cNvCxnSpPr/>
          <p:nvPr/>
        </p:nvCxnSpPr>
        <p:spPr>
          <a:xfrm>
            <a:off x="6714000" y="1357200"/>
            <a:ext cx="1072440" cy="1858320"/>
          </a:xfrm>
          <a:prstGeom prst="straightConnector1">
            <a:avLst/>
          </a:prstGeom>
          <a:ln w="76320">
            <a:solidFill>
              <a:srgbClr val="17375e"/>
            </a:solidFill>
            <a:miter/>
            <a:tailEnd len="med" type="arrow" w="med"/>
          </a:ln>
        </p:spPr>
      </p:cxnSp>
    </p:spTree>
  </p:cSld>
  <p:transition spd="slow">
    <p:wipe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4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28760" y="601560"/>
            <a:ext cx="8358120" cy="55803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ного по осени грибов  уродилось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Да какие молодцы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  тёмными  ёлками  боровики стоят. У  них  кафтаны  белые,  шляпы  на  головах  богатые.  Грибы – заглядень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д  высокими  соснами  маслята с  сыроежками   растут.  Они   тоже хороши!</a:t>
            </a:r>
            <a:r>
              <a:rPr b="1" i="1" lang="en-US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14"/>
          <p:cNvSpPr/>
          <p:nvPr/>
        </p:nvSpPr>
        <p:spPr>
          <a:xfrm>
            <a:off x="1428840" y="1285920"/>
            <a:ext cx="1428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0"/>
          <p:cNvSpPr/>
          <p:nvPr/>
        </p:nvSpPr>
        <p:spPr>
          <a:xfrm>
            <a:off x="4714920" y="1285920"/>
            <a:ext cx="13572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8"/>
          <p:cNvSpPr/>
          <p:nvPr/>
        </p:nvSpPr>
        <p:spPr>
          <a:xfrm>
            <a:off x="6286680" y="1285920"/>
            <a:ext cx="22143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1"/>
          <p:cNvSpPr/>
          <p:nvPr/>
        </p:nvSpPr>
        <p:spPr>
          <a:xfrm>
            <a:off x="6286680" y="1428840"/>
            <a:ext cx="22143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7"/>
          <p:cNvSpPr/>
          <p:nvPr/>
        </p:nvSpPr>
        <p:spPr>
          <a:xfrm>
            <a:off x="2357280" y="1857240"/>
            <a:ext cx="18576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42"/>
          <p:cNvSpPr/>
          <p:nvPr/>
        </p:nvSpPr>
        <p:spPr>
          <a:xfrm>
            <a:off x="6429240" y="2428920"/>
            <a:ext cx="178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50"/>
          <p:cNvSpPr/>
          <p:nvPr/>
        </p:nvSpPr>
        <p:spPr>
          <a:xfrm>
            <a:off x="500040" y="2928960"/>
            <a:ext cx="1428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54"/>
          <p:cNvSpPr/>
          <p:nvPr/>
        </p:nvSpPr>
        <p:spPr>
          <a:xfrm>
            <a:off x="500040" y="3071880"/>
            <a:ext cx="142884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2"/>
          <p:cNvSpPr/>
          <p:nvPr/>
        </p:nvSpPr>
        <p:spPr>
          <a:xfrm>
            <a:off x="3643200" y="2928960"/>
            <a:ext cx="1928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65"/>
          <p:cNvSpPr/>
          <p:nvPr/>
        </p:nvSpPr>
        <p:spPr>
          <a:xfrm>
            <a:off x="5857920" y="292896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68"/>
          <p:cNvSpPr/>
          <p:nvPr/>
        </p:nvSpPr>
        <p:spPr>
          <a:xfrm>
            <a:off x="5857920" y="3071880"/>
            <a:ext cx="114300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75"/>
          <p:cNvSpPr/>
          <p:nvPr/>
        </p:nvSpPr>
        <p:spPr>
          <a:xfrm>
            <a:off x="428760" y="3500280"/>
            <a:ext cx="150012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79"/>
          <p:cNvSpPr/>
          <p:nvPr/>
        </p:nvSpPr>
        <p:spPr>
          <a:xfrm>
            <a:off x="4643280" y="3500280"/>
            <a:ext cx="1714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83"/>
          <p:cNvSpPr/>
          <p:nvPr/>
        </p:nvSpPr>
        <p:spPr>
          <a:xfrm>
            <a:off x="4643280" y="3643200"/>
            <a:ext cx="1714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88"/>
          <p:cNvSpPr/>
          <p:nvPr/>
        </p:nvSpPr>
        <p:spPr>
          <a:xfrm>
            <a:off x="6643800" y="3500280"/>
            <a:ext cx="135720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92"/>
          <p:cNvSpPr/>
          <p:nvPr/>
        </p:nvSpPr>
        <p:spPr>
          <a:xfrm>
            <a:off x="500040" y="4000680"/>
            <a:ext cx="22147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96"/>
          <p:cNvSpPr/>
          <p:nvPr/>
        </p:nvSpPr>
        <p:spPr>
          <a:xfrm>
            <a:off x="500040" y="4143240"/>
            <a:ext cx="221472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100"/>
          <p:cNvSpPr/>
          <p:nvPr/>
        </p:nvSpPr>
        <p:spPr>
          <a:xfrm>
            <a:off x="6500880" y="4572000"/>
            <a:ext cx="1928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04"/>
          <p:cNvSpPr/>
          <p:nvPr/>
        </p:nvSpPr>
        <p:spPr>
          <a:xfrm>
            <a:off x="500040" y="5143680"/>
            <a:ext cx="30718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108"/>
          <p:cNvSpPr/>
          <p:nvPr/>
        </p:nvSpPr>
        <p:spPr>
          <a:xfrm>
            <a:off x="3786120" y="5143680"/>
            <a:ext cx="17146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112"/>
          <p:cNvSpPr/>
          <p:nvPr/>
        </p:nvSpPr>
        <p:spPr>
          <a:xfrm>
            <a:off x="5857920" y="5143680"/>
            <a:ext cx="8571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5"/>
          <p:cNvSpPr/>
          <p:nvPr/>
        </p:nvSpPr>
        <p:spPr>
          <a:xfrm>
            <a:off x="500040" y="571500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20"/>
          <p:cNvSpPr/>
          <p:nvPr/>
        </p:nvSpPr>
        <p:spPr>
          <a:xfrm>
            <a:off x="500040" y="5857920"/>
            <a:ext cx="15717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130"/>
          <p:cNvSpPr/>
          <p:nvPr/>
        </p:nvSpPr>
        <p:spPr>
          <a:xfrm>
            <a:off x="3786120" y="5286240"/>
            <a:ext cx="1714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8"/>
          <p:cNvPicPr/>
          <p:nvPr/>
        </p:nvPicPr>
        <p:blipFill>
          <a:blip r:embed="rId1"/>
          <a:stretch/>
        </p:blipFill>
        <p:spPr>
          <a:xfrm>
            <a:off x="7000920" y="5207040"/>
            <a:ext cx="1604880" cy="1436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500040" y="2571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казу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3429000" y="3571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й  член 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"/>
          <p:cNvSpPr/>
          <p:nvPr/>
        </p:nvSpPr>
        <p:spPr>
          <a:xfrm>
            <a:off x="3429000" y="11430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значает  то,  что  сообщае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 подлежащ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3429000" y="2286000"/>
            <a:ext cx="53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жается  глаголом,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уществительным,  прилагательны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429000" y="3929040"/>
            <a:ext cx="528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чает  на  вопросы:  что  делает  предмет?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аков  он?  что  он  такое?  кто  он  такой?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3429000" y="557208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чёркивается  двумя  че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76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результат своей рабо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285920"/>
            <a:ext cx="91440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А) Я всё понял, могу этот материал объяснить другом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Б) Сам всё понял, но объяснить другому не берусь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В) Для полного понимания мне нужно повторить (укажите  что)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951840" y="25092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alibri"/>
              </a:rPr>
              <a:t>Выпишите   подлежаще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Calibri"/>
              </a:rPr>
              <a:t>вариант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Весёлые отблески огня играли на стек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2.На печке два мальчика сладко посапыв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3. Валентина вспомнила сказ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4. Она вытащила из-под снега охапку хворо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Calibri"/>
              </a:rPr>
              <a:t>5. Сырой туман висел над рекой.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I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Calibri"/>
              </a:rPr>
              <a:t>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1.  Входят семь богатыр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2.Они вывели бычка на ул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3. Синие лужи ослепительно сверкали. 4. Дед бережно вынул из конверта письм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alibri"/>
              </a:rPr>
              <a:t>5. Она босиком побежит по свежей траве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951840" y="25092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alibri"/>
              </a:rPr>
              <a:t>Проверь себя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Calibri"/>
              </a:rPr>
              <a:t>вариант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1. </a:t>
            </a: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отблес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2.два маль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3. Валентин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4. 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5.  туман висе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Calibri"/>
              </a:rPr>
              <a:t>I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Calibri"/>
              </a:rPr>
              <a:t>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1.  семь богатыр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2.  о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3. луж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4. де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Calibri"/>
              </a:rPr>
              <a:t>5. 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HEART03.WMF"/>
          <p:cNvPicPr/>
          <p:nvPr/>
        </p:nvPicPr>
        <p:blipFill>
          <a:blip r:embed="rId1"/>
          <a:stretch/>
        </p:blipFill>
        <p:spPr>
          <a:xfrm>
            <a:off x="2357280" y="285840"/>
            <a:ext cx="2428920" cy="27590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EART04.WMF"/>
          <p:cNvPicPr/>
          <p:nvPr/>
        </p:nvPicPr>
        <p:blipFill>
          <a:blip r:embed="rId2"/>
          <a:stretch/>
        </p:blipFill>
        <p:spPr>
          <a:xfrm>
            <a:off x="142920" y="142920"/>
            <a:ext cx="2643120" cy="2857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ELFSIGN.WMF"/>
          <p:cNvPicPr/>
          <p:nvPr/>
        </p:nvPicPr>
        <p:blipFill>
          <a:blip r:embed="rId3"/>
          <a:stretch/>
        </p:blipFill>
        <p:spPr>
          <a:xfrm>
            <a:off x="357120" y="3643200"/>
            <a:ext cx="2857680" cy="2989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14200" y="29289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ункту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786040" y="2928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интакс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71680" y="5357880"/>
            <a:ext cx="24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лежа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0" y="2786040"/>
            <a:ext cx="50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286080" y="507204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9" descr="APE.WMF"/>
          <p:cNvPicPr/>
          <p:nvPr/>
        </p:nvPicPr>
        <p:blipFill>
          <a:blip r:embed="rId4"/>
          <a:stretch/>
        </p:blipFill>
        <p:spPr>
          <a:xfrm>
            <a:off x="3786120" y="4286160"/>
            <a:ext cx="3232080" cy="22258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5072040" y="492912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6" descr="DEAL.WMF"/>
          <p:cNvPicPr/>
          <p:nvPr/>
        </p:nvPicPr>
        <p:blipFill>
          <a:blip r:embed="rId5"/>
          <a:stretch/>
        </p:blipFill>
        <p:spPr>
          <a:xfrm>
            <a:off x="4786200" y="1333440"/>
            <a:ext cx="3429000" cy="2158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17"/>
          <p:cNvSpPr/>
          <p:nvPr/>
        </p:nvSpPr>
        <p:spPr>
          <a:xfrm>
            <a:off x="4214880" y="35002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овосоче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6500880" y="342900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6858000" y="3500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4500720" y="52862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казу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35692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f497d"/>
                </a:solidFill>
                <a:latin typeface="Calibri"/>
              </a:rPr>
              <a:t>Сказуемо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Ломоносов.jpg"/>
          <p:cNvPicPr/>
          <p:nvPr/>
        </p:nvPicPr>
        <p:blipFill>
          <a:blip r:embed="rId1"/>
          <a:stretch/>
        </p:blipFill>
        <p:spPr>
          <a:xfrm>
            <a:off x="539640" y="333360"/>
            <a:ext cx="4500720" cy="5807160"/>
          </a:xfrm>
          <a:prstGeom prst="rect">
            <a:avLst/>
          </a:prstGeom>
          <a:ln w="9360">
            <a:solidFill>
              <a:srgbClr val="1e1c11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5292720" y="378936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ин  «сказуемое»,  как  и  термин  «подлежащее»,  ввёл  М.В.Ломо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ЛЕЖАЩЕЕ – значит «лежащее в основе предложени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КАЗУЕМОЕ –  то, что «сказано о подлежащ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чебные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5840" y="928800"/>
            <a:ext cx="824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ы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лжны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втори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известные  сведения     о   сказуемом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Выявить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основные  способы  выражения  сказуем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учитьс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правильно  находить  сказуемое  в  предложен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Что нам известно о сказуемом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357120" y="14292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ьте  на  поставленные  вопрос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  или 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00040" y="121428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казуемое – это  главны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лен 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500040" y="214308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казуемое  обозначает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редмет  речи,  то,  о  чём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оворится  в  предложении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143760" y="1357200"/>
            <a:ext cx="121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блако 9"/>
          <p:cNvSpPr/>
          <p:nvPr/>
        </p:nvSpPr>
        <p:spPr>
          <a:xfrm>
            <a:off x="5715000" y="1071720"/>
            <a:ext cx="1928880" cy="1285560"/>
          </a:xfrm>
          <a:prstGeom prst="pi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6715080" y="2571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500040" y="357192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3. Сказуемое  отвечает  на  вопро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что  делает  предмет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олнце 14"/>
          <p:cNvSpPr/>
          <p:nvPr/>
        </p:nvSpPr>
        <p:spPr>
          <a:xfrm>
            <a:off x="6286680" y="2000160"/>
            <a:ext cx="1571400" cy="1500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5"/>
          <p:cNvSpPr/>
          <p:nvPr/>
        </p:nvSpPr>
        <p:spPr>
          <a:xfrm>
            <a:off x="7000920" y="35719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блако 16"/>
          <p:cNvSpPr/>
          <p:nvPr/>
        </p:nvSpPr>
        <p:spPr>
          <a:xfrm>
            <a:off x="6786720" y="3357720"/>
            <a:ext cx="1785960" cy="1143000"/>
          </a:xfrm>
          <a:prstGeom prst="pi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500040" y="4643280"/>
            <a:ext cx="46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4. Сказуемое  выражае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глагол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"/>
          <p:cNvSpPr/>
          <p:nvPr/>
        </p:nvSpPr>
        <p:spPr>
          <a:xfrm>
            <a:off x="5357880" y="48578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блако 20"/>
          <p:cNvSpPr/>
          <p:nvPr/>
        </p:nvSpPr>
        <p:spPr>
          <a:xfrm>
            <a:off x="4929120" y="4214880"/>
            <a:ext cx="1843200" cy="1485720"/>
          </a:xfrm>
          <a:prstGeom prst="pi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1"/>
          <p:cNvSpPr/>
          <p:nvPr/>
        </p:nvSpPr>
        <p:spPr>
          <a:xfrm>
            <a:off x="500040" y="564372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5.  Сказуемое  подчёркивается  одной  черт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2"/>
          <p:cNvSpPr/>
          <p:nvPr/>
        </p:nvSpPr>
        <p:spPr>
          <a:xfrm>
            <a:off x="7858080" y="57862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блако 23"/>
          <p:cNvSpPr/>
          <p:nvPr/>
        </p:nvSpPr>
        <p:spPr>
          <a:xfrm>
            <a:off x="7715160" y="5643720"/>
            <a:ext cx="1285920" cy="857160"/>
          </a:xfrm>
          <a:prstGeom prst="pie">
            <a:avLst/>
          </a:prstGeom>
          <a:solidFill>
            <a:srgbClr val="ffffff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2:04:12Z</dcterms:created>
  <dc:creator>Admin</dc:creator>
  <dc:description/>
  <dc:language>en-US</dc:language>
  <cp:lastModifiedBy>user</cp:lastModifiedBy>
  <dcterms:modified xsi:type="dcterms:W3CDTF">2019-01-16T08:57:41Z</dcterms:modified>
  <cp:revision>211</cp:revision>
  <dc:subject/>
  <dc:title>Виды  сказуемых</dc:title>
</cp:coreProperties>
</file>