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3046-3DCD-4F8D-9ABB-9BE071C83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04D9-3D7B-421B-92DB-D5C99BD2A7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A21-7C9C-420C-A066-C38A44F3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89A-0A85-4DF5-B7E3-5E888E12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A73-64A3-4694-920A-6456DEC6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CB7-79DA-42E5-AD38-D646A063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A07-FB00-46C9-A261-06B814A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9A9-5E7E-4873-B769-33B6FDB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7A3-B89C-415D-AF40-1806EA6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744-3E90-4588-A83A-5D58327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47A-150E-49E5-8D78-2D8393B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313-8391-4AF4-A3E5-22685AA3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E44-0334-441C-A128-1F24F0A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422-D470-49AB-972F-D35F7C2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1CDE-97A8-417C-8259-284FBAF4D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едложение есть продукт соединения подлежащего и сказуемого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.М.Пешков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83212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71680" y="2643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571920" y="5000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286080" y="13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то,  что  сообщае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 подлежащ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643200" y="271476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 делает  предмет?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643200" y="4143240"/>
            <a:ext cx="40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571920" y="5143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85840" y="2142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пособы  выражения  сказуе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3500280" y="2714760"/>
            <a:ext cx="2357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Глаг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428760" y="3929040"/>
            <a:ext cx="307152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мя 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5857920" y="3929040"/>
            <a:ext cx="30718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18"/>
          <p:cNvCxnSpPr/>
          <p:nvPr/>
        </p:nvCxnSpPr>
        <p:spPr>
          <a:xfrm>
            <a:off x="4500720" y="1000080"/>
            <a:ext cx="72000" cy="157248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7" name="Прямая со стрелкой 34"/>
          <p:cNvCxnSpPr/>
          <p:nvPr/>
        </p:nvCxnSpPr>
        <p:spPr>
          <a:xfrm flipH="1">
            <a:off x="1499400" y="1356840"/>
            <a:ext cx="1072440" cy="207252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8" name="Прямая со стрелкой 37"/>
          <p:cNvCxnSpPr/>
          <p:nvPr/>
        </p:nvCxnSpPr>
        <p:spPr>
          <a:xfrm>
            <a:off x="6714000" y="1357200"/>
            <a:ext cx="1072440" cy="185832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28760" y="601560"/>
            <a:ext cx="8358120" cy="55803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ного по осени грибов  уродилос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 какие молодц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 тёмными  ёлками  боровики стоят. У  них  кафтаны  белые,  шляпы  на  головах  богатые.  Грибы – заглядень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 высокими  соснами  маслята с  сыроежками   растут.  Они   тоже хороши!</a:t>
            </a:r>
            <a:r>
              <a:rPr b="1" i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4"/>
          <p:cNvSpPr/>
          <p:nvPr/>
        </p:nvSpPr>
        <p:spPr>
          <a:xfrm>
            <a:off x="1428840" y="128592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0"/>
          <p:cNvSpPr/>
          <p:nvPr/>
        </p:nvSpPr>
        <p:spPr>
          <a:xfrm>
            <a:off x="4714920" y="1285920"/>
            <a:ext cx="1357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8"/>
          <p:cNvSpPr/>
          <p:nvPr/>
        </p:nvSpPr>
        <p:spPr>
          <a:xfrm>
            <a:off x="6286680" y="1285920"/>
            <a:ext cx="22143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1"/>
          <p:cNvSpPr/>
          <p:nvPr/>
        </p:nvSpPr>
        <p:spPr>
          <a:xfrm>
            <a:off x="6286680" y="1428840"/>
            <a:ext cx="22143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7"/>
          <p:cNvSpPr/>
          <p:nvPr/>
        </p:nvSpPr>
        <p:spPr>
          <a:xfrm>
            <a:off x="2357280" y="1857240"/>
            <a:ext cx="1857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2"/>
          <p:cNvSpPr/>
          <p:nvPr/>
        </p:nvSpPr>
        <p:spPr>
          <a:xfrm>
            <a:off x="6429240" y="2428920"/>
            <a:ext cx="178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0"/>
          <p:cNvSpPr/>
          <p:nvPr/>
        </p:nvSpPr>
        <p:spPr>
          <a:xfrm>
            <a:off x="500040" y="292896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4"/>
          <p:cNvSpPr/>
          <p:nvPr/>
        </p:nvSpPr>
        <p:spPr>
          <a:xfrm>
            <a:off x="500040" y="307188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2"/>
          <p:cNvSpPr/>
          <p:nvPr/>
        </p:nvSpPr>
        <p:spPr>
          <a:xfrm>
            <a:off x="3643200" y="2928960"/>
            <a:ext cx="1928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65"/>
          <p:cNvSpPr/>
          <p:nvPr/>
        </p:nvSpPr>
        <p:spPr>
          <a:xfrm>
            <a:off x="5857920" y="292896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68"/>
          <p:cNvSpPr/>
          <p:nvPr/>
        </p:nvSpPr>
        <p:spPr>
          <a:xfrm>
            <a:off x="5857920" y="307188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75"/>
          <p:cNvSpPr/>
          <p:nvPr/>
        </p:nvSpPr>
        <p:spPr>
          <a:xfrm>
            <a:off x="428760" y="3500280"/>
            <a:ext cx="15001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79"/>
          <p:cNvSpPr/>
          <p:nvPr/>
        </p:nvSpPr>
        <p:spPr>
          <a:xfrm>
            <a:off x="4643280" y="350028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83"/>
          <p:cNvSpPr/>
          <p:nvPr/>
        </p:nvSpPr>
        <p:spPr>
          <a:xfrm>
            <a:off x="4643280" y="364320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88"/>
          <p:cNvSpPr/>
          <p:nvPr/>
        </p:nvSpPr>
        <p:spPr>
          <a:xfrm>
            <a:off x="6643800" y="3500280"/>
            <a:ext cx="13572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2"/>
          <p:cNvSpPr/>
          <p:nvPr/>
        </p:nvSpPr>
        <p:spPr>
          <a:xfrm>
            <a:off x="500040" y="4000680"/>
            <a:ext cx="22147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6"/>
          <p:cNvSpPr/>
          <p:nvPr/>
        </p:nvSpPr>
        <p:spPr>
          <a:xfrm>
            <a:off x="500040" y="4143240"/>
            <a:ext cx="22147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00"/>
          <p:cNvSpPr/>
          <p:nvPr/>
        </p:nvSpPr>
        <p:spPr>
          <a:xfrm>
            <a:off x="6500880" y="4572000"/>
            <a:ext cx="1928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4"/>
          <p:cNvSpPr/>
          <p:nvPr/>
        </p:nvSpPr>
        <p:spPr>
          <a:xfrm>
            <a:off x="500040" y="5143680"/>
            <a:ext cx="3071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8"/>
          <p:cNvSpPr/>
          <p:nvPr/>
        </p:nvSpPr>
        <p:spPr>
          <a:xfrm>
            <a:off x="3786120" y="5143680"/>
            <a:ext cx="1714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12"/>
          <p:cNvSpPr/>
          <p:nvPr/>
        </p:nvSpPr>
        <p:spPr>
          <a:xfrm>
            <a:off x="5857920" y="5143680"/>
            <a:ext cx="857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5"/>
          <p:cNvSpPr/>
          <p:nvPr/>
        </p:nvSpPr>
        <p:spPr>
          <a:xfrm>
            <a:off x="500040" y="571500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0"/>
          <p:cNvSpPr/>
          <p:nvPr/>
        </p:nvSpPr>
        <p:spPr>
          <a:xfrm>
            <a:off x="500040" y="585792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30"/>
          <p:cNvSpPr/>
          <p:nvPr/>
        </p:nvSpPr>
        <p:spPr>
          <a:xfrm>
            <a:off x="3786120" y="528624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8"/>
          <p:cNvPicPr/>
          <p:nvPr/>
        </p:nvPicPr>
        <p:blipFill>
          <a:blip r:embed="rId1"/>
          <a:stretch/>
        </p:blipFill>
        <p:spPr>
          <a:xfrm>
            <a:off x="7000920" y="5207040"/>
            <a:ext cx="1604880" cy="14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500040" y="2571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429000" y="357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429000" y="1143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то,  что  сообщае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 подлежащ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228600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уществительным,  прилагатель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429000" y="39290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ы:  что  делает  предмет?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аков  он?  что  он  такое?  кто  он  такой?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429000" y="55720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результат своей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285920"/>
            <a:ext cx="91440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А) Я всё понял, могу этот материал объяснить другом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Б) Сам всё понял, но объяснить другому не берус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В) Для полного понимания мне нужно повторить (укажите  что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Выпишите   подлежаще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есёлые отблески огня играли на стек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2.На печке два мальчика сладко посапыв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3. Валентина вспомнила ска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4. Она вытащила из-под снега охапку хворо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5. Сырой туман висел над рекой.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1.  Входят семь богатыр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2.Они вывели бычка на у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3. Синие лужи ослепительно сверкали. 4. Дед бережно вынул из конверта письм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5. Она босиком побежит по свежей траве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Проверь себя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отбле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2.два маль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3. Валент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4. 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5.  туман в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1.  семь богатыр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2.  о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3. луж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4. де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5. 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EART03.WMF"/>
          <p:cNvPicPr/>
          <p:nvPr/>
        </p:nvPicPr>
        <p:blipFill>
          <a:blip r:embed="rId1"/>
          <a:stretch/>
        </p:blipFill>
        <p:spPr>
          <a:xfrm>
            <a:off x="2357280" y="285840"/>
            <a:ext cx="2428920" cy="2759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EART04.WMF"/>
          <p:cNvPicPr/>
          <p:nvPr/>
        </p:nvPicPr>
        <p:blipFill>
          <a:blip r:embed="rId2"/>
          <a:stretch/>
        </p:blipFill>
        <p:spPr>
          <a:xfrm>
            <a:off x="142920" y="14292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ELFSIGN.WMF"/>
          <p:cNvPicPr/>
          <p:nvPr/>
        </p:nvPicPr>
        <p:blipFill>
          <a:blip r:embed="rId3"/>
          <a:stretch/>
        </p:blipFill>
        <p:spPr>
          <a:xfrm>
            <a:off x="357120" y="3643200"/>
            <a:ext cx="2857680" cy="298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2928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нкту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86040" y="2928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нтакс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71680" y="535788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0" y="27860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286080" y="50720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APE.WMF"/>
          <p:cNvPicPr/>
          <p:nvPr/>
        </p:nvPicPr>
        <p:blipFill>
          <a:blip r:embed="rId4"/>
          <a:stretch/>
        </p:blipFill>
        <p:spPr>
          <a:xfrm>
            <a:off x="3786120" y="4286160"/>
            <a:ext cx="3232080" cy="2225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072040" y="49291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6" descr="DEAL.WMF"/>
          <p:cNvPicPr/>
          <p:nvPr/>
        </p:nvPicPr>
        <p:blipFill>
          <a:blip r:embed="rId5"/>
          <a:stretch/>
        </p:blipFill>
        <p:spPr>
          <a:xfrm>
            <a:off x="4786200" y="1333440"/>
            <a:ext cx="3429000" cy="215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7"/>
          <p:cNvSpPr/>
          <p:nvPr/>
        </p:nvSpPr>
        <p:spPr>
          <a:xfrm>
            <a:off x="4214880" y="3500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восоч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650088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858000" y="3500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4500720" y="5286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f497d"/>
                </a:solidFill>
                <a:latin typeface="Calibri"/>
              </a:rPr>
              <a:t>Сказуемо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Ломоносов.jpg"/>
          <p:cNvPicPr/>
          <p:nvPr/>
        </p:nvPicPr>
        <p:blipFill>
          <a:blip r:embed="rId1"/>
          <a:stretch/>
        </p:blipFill>
        <p:spPr>
          <a:xfrm>
            <a:off x="539640" y="333360"/>
            <a:ext cx="4500720" cy="580716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5292720" y="378936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ин  «сказуемое»,  как  и  термин  «подлежащее»,  ввёл  М.В.Ломо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ЛЕЖАЩЕЕ – значит «лежащее в основе предложени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УЕМОЕ –  то, что «сказано о подлежащ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ебны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928800"/>
            <a:ext cx="824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ы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лж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втори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известные  сведения     о   сказуем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ыяви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основные  способы  выражения  сказуем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учитьс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правильно  находить  сказуемое  в  предлож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Что нам известно о сказуемом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14292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ьте  на  поставленные  вопрос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  или 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0040" y="12142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казуемое – это  глав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лен 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00040" y="214308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казуемое  обозначае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едмет  речи,  то,  о  чё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оворится  в  предложени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143760" y="13572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лако 9"/>
          <p:cNvSpPr/>
          <p:nvPr/>
        </p:nvSpPr>
        <p:spPr>
          <a:xfrm>
            <a:off x="5715000" y="1071720"/>
            <a:ext cx="1928880" cy="128556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6715080" y="257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00040" y="357192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3. Сказуемое  отвечает  на  вопро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что  делает  предмет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лнце 14"/>
          <p:cNvSpPr/>
          <p:nvPr/>
        </p:nvSpPr>
        <p:spPr>
          <a:xfrm>
            <a:off x="6286680" y="200016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7000920" y="3571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16"/>
          <p:cNvSpPr/>
          <p:nvPr/>
        </p:nvSpPr>
        <p:spPr>
          <a:xfrm>
            <a:off x="6786720" y="3357720"/>
            <a:ext cx="178596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500040" y="4643280"/>
            <a:ext cx="46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4. Сказуемое  выражае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глаг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5357880" y="48578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блако 20"/>
          <p:cNvSpPr/>
          <p:nvPr/>
        </p:nvSpPr>
        <p:spPr>
          <a:xfrm>
            <a:off x="4929120" y="4214880"/>
            <a:ext cx="184320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500040" y="56437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5.  Сказуемое  подчёркивается  одной  черт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7858080" y="5786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23"/>
          <p:cNvSpPr/>
          <p:nvPr/>
        </p:nvSpPr>
        <p:spPr>
          <a:xfrm>
            <a:off x="7715160" y="5643720"/>
            <a:ext cx="1285920" cy="85716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2:04:12Z</dcterms:created>
  <dc:creator>Admin</dc:creator>
  <dc:description/>
  <dc:language>en-US</dc:language>
  <cp:lastModifiedBy>user</cp:lastModifiedBy>
  <dcterms:modified xsi:type="dcterms:W3CDTF">2019-01-16T08:57:41Z</dcterms:modified>
  <cp:revision>211</cp:revision>
  <dc:subject/>
  <dc:title>Виды  сказуемых</dc:title>
</cp:coreProperties>
</file>