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CC1-0C7C-4A73-848B-59B199B0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E0ED-CFA7-4C3C-BB8B-37FB6DD1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547-CC53-4192-868D-EC8FE08D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FB2-C792-401E-B1C1-5487024B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2CBE-81A5-4D45-88AF-15BEB7FB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DE21-A768-42A7-9CD8-1F0892B2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2DC9-D60B-48DC-9547-6857469A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43D8-0AD7-4E5E-A8BF-225B5E9A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44DD-043D-45B6-9991-94682F9B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324F-FB4A-4763-AF2F-10D0EBFA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8DEE-C7D3-47B0-AAF6-AE136D8E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0F3-1FA6-448D-A142-C43F7FA9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DFFF-767B-46F9-AC9C-FE96162F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0D97-C02F-42E7-BD51-A3A755B3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CF2D-C2D5-4245-A303-D52A2823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B96F-4246-4B30-A91F-7189738B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B23E-0D66-4B24-AA1C-1CB3C145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A16BB-E0D7-4975-99C5-09CD0661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91FE2-12A7-4470-85D9-DFD9DBF1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CB25F-3E5D-48F3-9B9B-45E6A76D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851F5-AB1A-401A-8594-5CB522E6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B4EB5-23CC-48F8-98AE-7B53F9F2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4BC-8AAA-4DE7-8398-3C6F96EC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022C8-80CE-4F3A-9D3A-78887E7C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526B2-3E5C-46FB-AE47-E75A582C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467FA-9457-4A40-895D-375F220D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32748-89FD-47FC-88D0-E5EB086E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F83DF-A5F0-424A-98E1-EBF9045A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6A2E5-B805-4F36-B6BB-65CF2EFC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80815-C8C1-4D57-B8C8-34E76085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F492E-1069-459F-A200-BACCA51E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CA767-FFE6-4A8D-968E-6C57E556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A8A40-2150-48C8-A69F-E0AA5AFF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AB7-8BC0-4913-8FEF-50AD6875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ECDFF-3FBE-4A60-839E-D858F575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E43A9-B6E3-4A3A-8E5C-1EA86795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E3FBD-CC8A-4917-AD91-B346BB79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3E22F-F005-4E24-BA14-EAAC12C7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35EAB-A871-4B36-ABD2-20ECC814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C41EB-7494-4B84-B608-E99BC80B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92CB2-796D-4CB0-A256-108C8FEF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23A74-D45B-4F40-837C-CAD108EC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85F31-1F8C-4755-9588-ED0A9E14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95B-D343-4087-9EA9-53A5BDE9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7BC-795A-4ECB-8F2D-C09450A1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187-60E3-43AA-85A0-1452A3E0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3899-9054-42ED-9E7F-9E4BA358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06D1-4B09-4A51-87EC-51F59EE0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307F-70FB-476A-BDDC-F8D4826E94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4C25-C2C4-42AB-8E61-D8D641C24D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9538-67A6-4C36-A395-B2DDCBC66E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57FF-6B53-4870-AA10-5B90F243F9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8920" y="1197000"/>
            <a:ext cx="70549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Harlow Solid Italic"/>
              </a:rPr>
              <a:t>Взаимодействие семьи и детского сада в современных условия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419280" y="4508640"/>
            <a:ext cx="5392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ОУ «СОШ №1 г. Немана» Дошкольное отде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итатель первой катего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мельянова Э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еман 2021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течение года педагогами группы оформляются газ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AutoShape 3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AutoShape 3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AutoShape 4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AutoShape 4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AutoShape 4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15" name="Picture 48" descr="25842_original"/>
          <p:cNvPicPr/>
          <p:nvPr/>
        </p:nvPicPr>
        <p:blipFill>
          <a:blip r:embed="rId1"/>
          <a:stretch/>
        </p:blipFill>
        <p:spPr>
          <a:xfrm>
            <a:off x="2171880" y="2492280"/>
            <a:ext cx="4800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Наглядно-информационные фор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6" descr="kakprovodit-sreb-nkomdosug"/>
          <p:cNvPicPr/>
          <p:nvPr/>
        </p:nvPicPr>
        <p:blipFill>
          <a:blip r:embed="rId1"/>
          <a:stretch/>
        </p:blipFill>
        <p:spPr>
          <a:xfrm>
            <a:off x="611280" y="1197000"/>
            <a:ext cx="3959280" cy="284652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19" name="Picture 12" descr="zapovedi"/>
          <p:cNvPicPr/>
          <p:nvPr/>
        </p:nvPicPr>
        <p:blipFill>
          <a:blip r:embed="rId2"/>
          <a:stretch/>
        </p:blipFill>
        <p:spPr>
          <a:xfrm>
            <a:off x="4643280" y="3068640"/>
            <a:ext cx="3959280" cy="27558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803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спитание и развитие ребенка не возможны без участи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2" name="Picture 19" descr="detskiy-sad"/>
          <p:cNvPicPr/>
          <p:nvPr/>
        </p:nvPicPr>
        <p:blipFill>
          <a:blip r:embed="rId1"/>
          <a:stretch/>
        </p:blipFill>
        <p:spPr>
          <a:xfrm>
            <a:off x="1835280" y="2421000"/>
            <a:ext cx="52797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1042920" y="14842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932360" cy="29322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УСПЕХА ВАМ В РАБОТЕ С РОДИТЕЛЯМИ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424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Только равноправное творческое взаимодействие образовательной организации с семьями воспитанников является залогом полноценного развития ребенка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питание подрастающего поколения в современном обществе является предметом особой заботы. В законе РФ «Об образовании» ст.18.п.1определяется, что родители являются первым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дагога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2" descr=""/>
          <p:cNvPicPr/>
          <p:nvPr/>
        </p:nvPicPr>
        <p:blipFill>
          <a:blip r:embed="rId1"/>
          <a:srcRect l="0" t="9940" r="7471" b="10239"/>
          <a:stretch/>
        </p:blipFill>
        <p:spPr>
          <a:xfrm>
            <a:off x="1835280" y="2637000"/>
            <a:ext cx="48974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920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пам и мамам необходимо помнить, что детский сад - только помощник в воспитании ребенка, и потому они не должны перекладывать всю ответственность на педагогов и устраняться от воспитательно-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                             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508720" y="2060280"/>
            <a:ext cx="31780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72a0280255a5f8b7d8315b7b9b874180"/>
          <p:cNvPicPr/>
          <p:nvPr/>
        </p:nvPicPr>
        <p:blipFill>
          <a:blip r:embed="rId1"/>
          <a:stretch/>
        </p:blipFill>
        <p:spPr>
          <a:xfrm>
            <a:off x="2133720" y="2503440"/>
            <a:ext cx="4956120" cy="3598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того, чтобы спланировать работу с родителями, надо хорошо знать родителей своих воспитанников. Поэтому начинать необходимо с анализа социального состава родителей, их настроя и ожиданий от пребывания ребенка в д/са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0755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Рисунок 1" descr=""/>
          <p:cNvPicPr/>
          <p:nvPr/>
        </p:nvPicPr>
        <p:blipFill>
          <a:blip r:embed="rId1"/>
          <a:srcRect l="0" t="0" r="0" b="19993"/>
          <a:stretch/>
        </p:blipFill>
        <p:spPr>
          <a:xfrm>
            <a:off x="2009880" y="2637000"/>
            <a:ext cx="52783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1280" y="475920"/>
            <a:ext cx="807552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Родителей знакомлю с жизнью д/сада и их ребенка через родительские собрания, уголки, информационные стенды и газеты, провожу консультации, беседы с показом видеозаписей, развлечения с родителями и наконец, занятия с участием родителей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79" name="Picture 8" descr="img_5953"/>
          <p:cNvPicPr/>
          <p:nvPr/>
        </p:nvPicPr>
        <p:blipFill>
          <a:blip r:embed="rId1"/>
          <a:stretch/>
        </p:blipFill>
        <p:spPr>
          <a:xfrm>
            <a:off x="-13944600" y="-8915400"/>
            <a:ext cx="4857840" cy="3238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img_5953"/>
          <p:cNvPicPr/>
          <p:nvPr/>
        </p:nvPicPr>
        <p:blipFill>
          <a:blip r:embed="rId2"/>
          <a:stretch/>
        </p:blipFill>
        <p:spPr>
          <a:xfrm>
            <a:off x="1908000" y="2637000"/>
            <a:ext cx="431820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27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280" y="475920"/>
            <a:ext cx="8280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чень теплой традицией стало ежегодное проведение мероприятия в ноябре, посвященное «Дню матери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5" descr="roditelyam"/>
          <p:cNvPicPr/>
          <p:nvPr/>
        </p:nvPicPr>
        <p:blipFill>
          <a:blip r:embed="rId1"/>
          <a:stretch/>
        </p:blipFill>
        <p:spPr>
          <a:xfrm>
            <a:off x="1403280" y="1962000"/>
            <a:ext cx="4311720" cy="32385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86" name="Picture 11" descr="_3MO0U5QDP"/>
          <p:cNvPicPr/>
          <p:nvPr/>
        </p:nvPicPr>
        <p:blipFill>
          <a:blip r:embed="rId2"/>
          <a:stretch/>
        </p:blipFill>
        <p:spPr>
          <a:xfrm>
            <a:off x="4211640" y="3141720"/>
            <a:ext cx="4487760" cy="3238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здник в дошкольной организации это радость, веселье, торжество, которое разделяют и взрослые, и де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Рисунок 1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0008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нашем д/саду стало традиционным проведение спортивных праздников, посвященных «23 февраля»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93" name="Picture 12" descr="1363004097_dsc_0646%20%281%29"/>
          <p:cNvPicPr/>
          <p:nvPr/>
        </p:nvPicPr>
        <p:blipFill>
          <a:blip r:embed="rId1"/>
          <a:stretch/>
        </p:blipFill>
        <p:spPr>
          <a:xfrm>
            <a:off x="4572000" y="3068640"/>
            <a:ext cx="3774960" cy="251784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97" name="Picture 20" descr="image003"/>
          <p:cNvPicPr/>
          <p:nvPr/>
        </p:nvPicPr>
        <p:blipFill>
          <a:blip r:embed="rId2"/>
          <a:stretch/>
        </p:blipFill>
        <p:spPr>
          <a:xfrm>
            <a:off x="870120" y="2170080"/>
            <a:ext cx="3368520" cy="25178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тоянное проведение разнообразных конкурсов и выставо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6" descr="dobro-pozhalovat-v-logopedicheskuyu-gruppu-1-detskogo-sada-30-iskorka-5"/>
          <p:cNvPicPr/>
          <p:nvPr/>
        </p:nvPicPr>
        <p:blipFill>
          <a:blip r:embed="rId1"/>
          <a:stretch/>
        </p:blipFill>
        <p:spPr>
          <a:xfrm>
            <a:off x="611280" y="1197000"/>
            <a:ext cx="3778200" cy="2517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19e599f5179afd65f744a05dec6bece9"/>
          <p:cNvPicPr/>
          <p:nvPr/>
        </p:nvPicPr>
        <p:blipFill>
          <a:blip r:embed="rId2"/>
          <a:stretch/>
        </p:blipFill>
        <p:spPr>
          <a:xfrm>
            <a:off x="4788000" y="1197000"/>
            <a:ext cx="3789360" cy="25192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08" name="Picture 22" descr="afe4b2f3e58531988283f3ef444b08d1"/>
          <p:cNvPicPr/>
          <p:nvPr/>
        </p:nvPicPr>
        <p:blipFill>
          <a:blip r:embed="rId3"/>
          <a:stretch/>
        </p:blipFill>
        <p:spPr>
          <a:xfrm>
            <a:off x="2627280" y="3789360"/>
            <a:ext cx="356724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53:09Z</dcterms:created>
  <dc:creator>Федотова Виктория Александровна</dc:creator>
  <dc:description/>
  <dc:language>en-US</dc:language>
  <cp:lastModifiedBy>Ольга</cp:lastModifiedBy>
  <dcterms:modified xsi:type="dcterms:W3CDTF">2023-11-13T09:08:23Z</dcterms:modified>
  <cp:revision>92</cp:revision>
  <dc:subject/>
  <dc:title>Актуальность взаимодействия ДОУ и семьи – изменение социально-экономических процессов в обществе, целей образования</dc:title>
</cp:coreProperties>
</file>