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675-9879-464A-9228-FF3535AE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FFE-E283-45BC-B681-5C5AA8FF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C1E-DE20-4C0A-9555-AF04F6DB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1657-CCE2-4317-946E-AB20D4AE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AF92-5276-4D61-B64A-EDAAEA19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759E-46BF-469D-96C5-DB34EFE4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54DA-5322-4853-B08C-C802E90A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ECAA-A6B2-4D41-B6E8-ADC90E77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AE91-61AC-46FC-8536-8972BA74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6C4A-B9ED-49AC-8609-58161BDF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C2DB-2F62-4320-A790-B7EA3F2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C47-E5FC-41E4-9DB3-C5A47116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BA90-7455-4996-962D-F13BB4B7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D026-AA50-4104-9F30-82F9BA68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5442-1633-486E-8AE8-DD57B141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3DAC-FAA5-47F5-A0A4-A289E5C7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FCAE-E4E3-4131-8B9F-8E563BB9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858F-1C26-4DC0-8A18-1C580B08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0CA68-34DF-4E21-93A5-BE59FD09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5EB93-F540-4B62-842C-53A4F5E9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7BD45-9B82-457A-9C65-B84D1933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BC54-02DD-456C-B7C2-0A2A0D82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8060-4F88-471F-9867-3CB949E7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C694-C921-4B78-9AF8-79FA09AA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D8CA-7EDF-47EA-912E-B3C761A9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18DA-5CBE-439E-8F3A-904FD94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72B6-E652-4B6E-B293-D244C021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579A3-2FBE-4A3C-A7C4-B83F07C5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9599-C8C8-4E35-ACBA-FE6C9AD88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61857-3799-4F62-870D-7302F341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1291-3AFB-4C6E-B2A1-E1845BA6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B2C71-49B9-4C9C-A68E-C9E1FF5E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EE1E-08AA-4488-A7FC-90F2B3FA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288C-06D0-4529-A478-0AAB8A17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346E2-22BA-4C51-9CCF-61A22F39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F5AC9-A63C-47D9-B54A-62A0B1BD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76CE-C231-4F4E-B954-90A34E6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13B60-BB78-4690-B61C-F65BDFF1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54EBA-0EF6-4503-8C54-73AEB344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016FA-845A-4195-A91D-63B94430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B2F58-9127-46A9-84B3-289CB73E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31F3F-4A46-495D-80BB-F46DC211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1CA77-CB8C-4500-A249-D2682703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FC5-9F20-47F4-A8A6-CA662E92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D61-EF9A-4F1A-AA58-E931F221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5B7-45DD-4FA0-AA8E-B770088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EB5-8999-43FC-9DDC-53A980BE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4A77-70BC-420E-ADA2-84C80998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4D4D-30C0-4657-BF46-4E3F779AC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0E8C-65C0-4A9F-BB94-1D09E3E409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EA65-C98B-473A-A1D4-AAF02CA0CF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45FF-110C-4483-9ABF-EAD1FF9DB0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8920" y="1197000"/>
            <a:ext cx="705492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Harlow Solid Italic"/>
              </a:rPr>
              <a:t>Взаимодействие семьи и детского сада в современных условия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419280" y="4508640"/>
            <a:ext cx="5392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ОУ «СОШ №1 г. Немана» Дошкольное отд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питатель первой катего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мельянова Э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еман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течение года педагогами группы оформляются газ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AutoShape 3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AutoShape 3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AutoShape 4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AutoShape 4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AutoShape 4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5" name="Picture 48" descr="25842_original"/>
          <p:cNvPicPr/>
          <p:nvPr/>
        </p:nvPicPr>
        <p:blipFill>
          <a:blip r:embed="rId1"/>
          <a:stretch/>
        </p:blipFill>
        <p:spPr>
          <a:xfrm>
            <a:off x="2171880" y="2492280"/>
            <a:ext cx="4800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Наглядно-информационные формы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6" descr="kakprovodit-sreb-nkomdosug"/>
          <p:cNvPicPr/>
          <p:nvPr/>
        </p:nvPicPr>
        <p:blipFill>
          <a:blip r:embed="rId1"/>
          <a:stretch/>
        </p:blipFill>
        <p:spPr>
          <a:xfrm>
            <a:off x="611280" y="1197000"/>
            <a:ext cx="3959280" cy="284652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19" name="Picture 12" descr="zapovedi"/>
          <p:cNvPicPr/>
          <p:nvPr/>
        </p:nvPicPr>
        <p:blipFill>
          <a:blip r:embed="rId2"/>
          <a:stretch/>
        </p:blipFill>
        <p:spPr>
          <a:xfrm>
            <a:off x="4643280" y="3068640"/>
            <a:ext cx="3959280" cy="27558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80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оспитание и развитие ребенка не возможны без участи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1" name="AutoShape 1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2" name="Picture 19" descr="detskiy-sad"/>
          <p:cNvPicPr/>
          <p:nvPr/>
        </p:nvPicPr>
        <p:blipFill>
          <a:blip r:embed="rId1"/>
          <a:stretch/>
        </p:blipFill>
        <p:spPr>
          <a:xfrm>
            <a:off x="1835280" y="2421000"/>
            <a:ext cx="5279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1042920" y="14842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932360" cy="29322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УСПЕХА ВАМ В РАБОТЕ С РОДИТЕЛЯМ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Только равноправное творческое взаимодействие образовательной организации с семьями воспитанников является залогом полноценного развития ребенка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спитание подрастающего поколения в современном обществе является предметом особой заботы. В законе РФ «Об образовании» ст.18.п.1определяется, что родители являются первым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дагог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Рисунок 2" descr=""/>
          <p:cNvPicPr/>
          <p:nvPr/>
        </p:nvPicPr>
        <p:blipFill>
          <a:blip r:embed="rId1"/>
          <a:srcRect l="0" t="9940" r="7471" b="10239"/>
          <a:stretch/>
        </p:blipFill>
        <p:spPr>
          <a:xfrm>
            <a:off x="1835280" y="2637000"/>
            <a:ext cx="48974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920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апам и мамам необходимо помнить, что детский сад - только помощник в воспитании ребенка, и потому они не должны перекладывать всю ответственность на педагогов и устраняться от воспитательно- образовательного процес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alibri"/>
              </a:rPr>
              <a:t>               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508720" y="2060280"/>
            <a:ext cx="3178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72a0280255a5f8b7d8315b7b9b874180"/>
          <p:cNvPicPr/>
          <p:nvPr/>
        </p:nvPicPr>
        <p:blipFill>
          <a:blip r:embed="rId1"/>
          <a:stretch/>
        </p:blipFill>
        <p:spPr>
          <a:xfrm>
            <a:off x="2133720" y="2503440"/>
            <a:ext cx="4956120" cy="3598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ого, чтобы спланировать работу с родителями, надо хорошо знать родителей своих воспитанников. Поэтому начинать необходимо с анализа социального состава родителей, их настроя и ожиданий от пребывания ребенка в д/са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0755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Рисунок 1" descr=""/>
          <p:cNvPicPr/>
          <p:nvPr/>
        </p:nvPicPr>
        <p:blipFill>
          <a:blip r:embed="rId1"/>
          <a:srcRect l="0" t="0" r="0" b="19993"/>
          <a:stretch/>
        </p:blipFill>
        <p:spPr>
          <a:xfrm>
            <a:off x="2009880" y="2637000"/>
            <a:ext cx="52783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25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475920"/>
            <a:ext cx="807552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одителей знакомлю с жизнью д/сада и их ребенка через родительские собрания, уголки, информационные стенды и газеты, провожу консультации, беседы с показом видеозаписей, развлечения с родителями и наконец, занятия с участием родителей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79" name="Picture 8" descr="img_5953"/>
          <p:cNvPicPr/>
          <p:nvPr/>
        </p:nvPicPr>
        <p:blipFill>
          <a:blip r:embed="rId1"/>
          <a:stretch/>
        </p:blipFill>
        <p:spPr>
          <a:xfrm>
            <a:off x="-13944600" y="-8915400"/>
            <a:ext cx="4857840" cy="3238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img_5953"/>
          <p:cNvPicPr/>
          <p:nvPr/>
        </p:nvPicPr>
        <p:blipFill>
          <a:blip r:embed="rId2"/>
          <a:stretch/>
        </p:blipFill>
        <p:spPr>
          <a:xfrm>
            <a:off x="1908000" y="2637000"/>
            <a:ext cx="431820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27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280" y="47592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теплой традицией стало ежегодное проведение мероприятия в ноябре, посвященное «Дню матери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5" descr="roditelyam"/>
          <p:cNvPicPr/>
          <p:nvPr/>
        </p:nvPicPr>
        <p:blipFill>
          <a:blip r:embed="rId1"/>
          <a:stretch/>
        </p:blipFill>
        <p:spPr>
          <a:xfrm>
            <a:off x="1403280" y="1962000"/>
            <a:ext cx="4311720" cy="32385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86" name="Picture 11" descr="_3MO0U5QDP"/>
          <p:cNvPicPr/>
          <p:nvPr/>
        </p:nvPicPr>
        <p:blipFill>
          <a:blip r:embed="rId2"/>
          <a:stretch/>
        </p:blipFill>
        <p:spPr>
          <a:xfrm>
            <a:off x="4211640" y="3141720"/>
            <a:ext cx="448776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здник в дошкольной организации это радость, веселье, торжество, которое разделяют и взрослые, и де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0008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нашем д/саду стало традиционным проведение спортивных праздников, посвященных «23 февраля»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3" name="Picture 12" descr="1363004097_dsc_0646%20%281%29"/>
          <p:cNvPicPr/>
          <p:nvPr/>
        </p:nvPicPr>
        <p:blipFill>
          <a:blip r:embed="rId1"/>
          <a:stretch/>
        </p:blipFill>
        <p:spPr>
          <a:xfrm>
            <a:off x="4572000" y="3068640"/>
            <a:ext cx="3774960" cy="251784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97" name="Picture 20" descr="image003"/>
          <p:cNvPicPr/>
          <p:nvPr/>
        </p:nvPicPr>
        <p:blipFill>
          <a:blip r:embed="rId2"/>
          <a:stretch/>
        </p:blipFill>
        <p:spPr>
          <a:xfrm>
            <a:off x="870120" y="2170080"/>
            <a:ext cx="3368520" cy="25178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2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оянное проведение разнообразных конкурсов и выстав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dobro-pozhalovat-v-logopedicheskuyu-gruppu-1-detskogo-sada-30-iskorka-5"/>
          <p:cNvPicPr/>
          <p:nvPr/>
        </p:nvPicPr>
        <p:blipFill>
          <a:blip r:embed="rId1"/>
          <a:stretch/>
        </p:blipFill>
        <p:spPr>
          <a:xfrm>
            <a:off x="611280" y="1197000"/>
            <a:ext cx="3778200" cy="25178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19e599f5179afd65f744a05dec6bece9"/>
          <p:cNvPicPr/>
          <p:nvPr/>
        </p:nvPicPr>
        <p:blipFill>
          <a:blip r:embed="rId2"/>
          <a:stretch/>
        </p:blipFill>
        <p:spPr>
          <a:xfrm>
            <a:off x="4788000" y="1197000"/>
            <a:ext cx="3789360" cy="2519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AutoShape 1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AutoShape 1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AutoShape 1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AutoShape 20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08" name="Picture 22" descr="afe4b2f3e58531988283f3ef444b08d1"/>
          <p:cNvPicPr/>
          <p:nvPr/>
        </p:nvPicPr>
        <p:blipFill>
          <a:blip r:embed="rId3"/>
          <a:stretch/>
        </p:blipFill>
        <p:spPr>
          <a:xfrm>
            <a:off x="2627280" y="3789360"/>
            <a:ext cx="356724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53:09Z</dcterms:created>
  <dc:creator>Федотова Виктория Александровна</dc:creator>
  <dc:description/>
  <dc:language>en-US</dc:language>
  <cp:lastModifiedBy>Ольга</cp:lastModifiedBy>
  <dcterms:modified xsi:type="dcterms:W3CDTF">2023-11-13T09:08:23Z</dcterms:modified>
  <cp:revision>92</cp:revision>
  <dc:subject/>
  <dc:title>Актуальность взаимодействия ДОУ и семьи – изменение социально-экономических процессов в обществе, целей образования</dc:title>
</cp:coreProperties>
</file>