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788E-4FBC-421A-894D-15F217F03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B47F-074D-4416-AABF-3F3DCF78F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C634-AEC1-4AA5-BB8B-61A624846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42D1-2CC3-47DF-A82A-43A9E9B61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CF89-802D-4B75-9DEF-879A2E071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A27E-E710-4CE5-8F09-DA7E19377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398D-1F10-476E-BBFC-4E3AFF181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7244-6D53-4891-B2B2-C8BE8BD10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BD5F-4DD1-4E96-99B6-06CB9A4B9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E67D-125D-412D-9C8C-E067988B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ECEA-6376-4D7B-8CD7-5C914905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D103-2DFE-41FA-A171-AAAFFED87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33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706BB-1126-482D-ADA7-3EDEA8FB0E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0033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33"/>
                </a:solidFill>
                <a:latin typeface="Arial"/>
              </a:rPr>
              <a:t>Регулировка зерноочистительных маши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0033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03280" y="620640"/>
            <a:ext cx="6840720" cy="583272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0033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332000" y="404640"/>
            <a:ext cx="6192720" cy="612000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0033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476360" y="333360"/>
            <a:ext cx="6264360" cy="619128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0033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619280" y="476280"/>
            <a:ext cx="5977080" cy="590544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0033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. Изучение нового материа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33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4000" y="274680"/>
            <a:ext cx="8424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1) Общие регулировки решетной части маш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та – основной рабочий орган в зерноочистительной машине, и от правильного их подбора зависит получение высококачественного материала. На решета поступает для обработки смес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ржащая полноценные, а также дробленные, раздавленные, щуплые семена обрабатываемой культуры, семена сорных культурных растений, песок, остатки стеблей, листьев и другие примеси. Реше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 разделяют эту смесь на части по ширине и толщине входящих в нее частиц. Через решета с круглыми отверстиями проходят только те частицы (зерна), ширина которых меньше диаметра отверсти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сквозь решета с продолговатыми отверстиями – частицы, толщина которых меньше поперечного размера отверстий. Подбор решет производят с учетом схемы решетной части маш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33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95280" y="823320"/>
            <a:ext cx="8353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Регулирование питающих устрой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бочие органы зерноочистительных машин чувствительны к величине загрузки. При перегрузке резко снижается качество очистки (сортирования), а при уменьшении загрузки пропорционально снижается производительность. Оптимальную загруз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ашины определяют по загрузке решет и других рабочих органов, а также по производительности машины. Питающее устройство большинства зерноочиститель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ашин состоит из рифленого валика и подпружиненного клап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менением расстояния между клапаном и валиком регулируют подачу материала на очист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33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95280" y="1554840"/>
            <a:ext cx="8209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3)Регулирование воздушных систем зерноочистительных маш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страивают воздушную систему после установки подачи зернового материала. В зерноочистительных машинах в основном распространены вертикальные каналы постоянного сечения, поэтому регулирование воздушной системы машины сводится к регулированию скорости воздушного потока в каналах. В зависимости от обрабатываемой культуры в машинах регулируют общую скорость воздушного пот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0033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. Повторение изученного материа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0033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42920" y="333360"/>
            <a:ext cx="7489800" cy="619128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0033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187280" y="404640"/>
            <a:ext cx="6913800" cy="604872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0033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258920" y="620640"/>
            <a:ext cx="7058160" cy="576108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0033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258920" y="549360"/>
            <a:ext cx="7200720" cy="590400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0033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187280" y="549360"/>
            <a:ext cx="6769440" cy="554364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0033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7704360" cy="626436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0033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332000" y="549360"/>
            <a:ext cx="6264360" cy="590400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11:32:17Z</dcterms:created>
  <dc:creator>Admin</dc:creator>
  <dc:description/>
  <dc:language>en-US</dc:language>
  <cp:lastModifiedBy>Admin</cp:lastModifiedBy>
  <dcterms:modified xsi:type="dcterms:W3CDTF">2012-02-01T16:31:59Z</dcterms:modified>
  <cp:revision>3</cp:revision>
  <dc:subject/>
  <dc:title>Регулировка зерноочистительных машин</dc:title>
</cp:coreProperties>
</file>