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0C2-1BD4-4CC9-8969-E7C54FAA3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5E3-0B02-4130-A937-82C2A7DF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953-4C0B-47D7-B1F6-D5CF886D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14D5-8002-4988-A279-4A3AEB3F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1A07-7F77-4FA0-AE2D-562AE6CF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3AF-8A38-4BC0-840A-275A19B9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C5A-E0DB-4DAD-84A0-04943123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337-EB79-4E62-8618-8101FC24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296-D67E-4557-8AAE-9D87DCBD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D54-1417-44F2-BA67-EE7C1A4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6806-53D7-4912-B1B8-5F707674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EA4-3463-4D63-90F0-FE6D12A6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A333-0402-4E16-A5E4-8339464DC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Arial"/>
              </a:rPr>
              <a:t>Регулировка зерноочистительных маши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840720" cy="58327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192720" cy="6120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264360" cy="6191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5977080" cy="5905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Изучение нов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274680"/>
            <a:ext cx="842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) Общие регулировки решетной части ма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та – основной рабочий орган в зерноочистительной машине, и от правильного их подбора зависит получение высококачественного материала. На решета поступает для обработки сме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ая полноценные, а также дробленные, раздавленные, щуплые семена обрабатываемой культуры, семена сорных культурных растений, песок, остатки стеблей, листьев и другие примеси. Реш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 разделяют эту смесь на части по ширине и толщине входящих в нее частиц. Через решета с круглыми отверстиями проходят только те частицы (зерна), ширина которых меньше диаметра отверс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квозь решета с продолговатыми отверстиями – частицы, толщина которых меньше поперечного размера отверстий. Подбор решет производят с учетом схемы решетной части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82332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егулирование питающих устр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чие органы зерноочистительных машин чувствительны к величине загрузки. При перегрузке резко снижается качество очистки (сортирования), а при уменьшении загрузки пропорционально снижается производительность. Оптимальную загруз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шины определяют по загрузке решет и других рабочих органов, а также по производительности машины. Питающее устройство большинства зерноочист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шин состоит из рифленого валика и подпружиненного клап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нением расстояния между клапаном и валиком регулируют подачу материала на очист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155484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)Регулирование воздушных систем зерноочистительных ма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страивают воздушную систему после установки подачи зернового материала. В зерноочистительных машинах в основном распространены вертикальные каналы постоянного сечения, поэтому регулирование воздушной системы машины сводится к регулированию скорости воздушного потока в каналах. В зависимости от обрабатываемой культуры в машинах регулируют общую скорость воздушного по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Повторение изученн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7489800" cy="6191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6913800" cy="60487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7058160" cy="5761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7200720" cy="5904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769440" cy="55436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704360" cy="6264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64360" cy="5904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1:32:17Z</dcterms:created>
  <dc:creator>Admin</dc:creator>
  <dc:description/>
  <dc:language>en-US</dc:language>
  <cp:lastModifiedBy>Admin</cp:lastModifiedBy>
  <dcterms:modified xsi:type="dcterms:W3CDTF">2012-02-01T16:31:59Z</dcterms:modified>
  <cp:revision>3</cp:revision>
  <dc:subject/>
  <dc:title>Регулировка зерноочистительных машин</dc:title>
</cp:coreProperties>
</file>