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A44-85AE-4159-A9D9-22E13EC1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717-ED67-4465-BAEE-1CF72F52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131-B310-4C5E-9A67-E10DE3AB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2D3-8EAE-402E-AB71-F7881423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A66-96B1-4298-82E3-1CC0632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E4B-9A85-40CE-8EE2-56CEDE9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C64-6387-41D7-8120-C74DF8A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37C-9FD4-43AB-8C18-58B8E48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908-5D22-4229-B870-C5E0FA95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D1F-2471-4E4D-9052-BB3D4BC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BED-8FCB-44B6-8F49-3460AE4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7CE-E7A8-4FFD-9E54-5F7BEED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61B9-2419-443D-A732-3EC75F05F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Взаимозаменяемость деталей, узлов и мех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3068640"/>
            <a:ext cx="8642160" cy="3384720"/>
          </a:xfrm>
          <a:prstGeom prst="rect">
            <a:avLst/>
          </a:prstGeom>
          <a:solidFill>
            <a:srgbClr val="660033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Размеры: номинальный, действительный, предельные размеры. Предельные отклонения, допуск. Поле допуска. Посадка. Виды посадок. Зазор, натяг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Отклонением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называется разность между предельным и номинальным размерами детали. На чертеже отклонения обозначаются обычно числовыми величинами при номинальном размере, причем верхнее отклонение указывается выше, а нижнее — ниже.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Например, в размере   номинальным размером является 30, а отклонениями будут +0,15 и —0,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158920" cy="16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осадка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– характер соединения деталей, определяемый наличием в нем зазоров или натя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Зазор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– разность размеров отверстия и вала, если размер отверстия больше размера вала.</a:t>
            </a:r>
            <a:br>
              <a:rPr sz="4400"/>
            </a:b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Натяг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– разность размеров отверстия и вала, если размер вала больше размера отверст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Посадки разделяются на 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одвижные и неподвижные.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Ниже приводим наиболее применяемые посадки, причем в скобках даются их сокращенные обознач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616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Fcy;&amp;acy;&amp;jcy;&amp;lcy;:Dopusk.svg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Размер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- числовое значение линейной величины (диаметра, длины и т.п.) в выбранных единицах измер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Размеры подразделяются на  действительные, предельные, номинальны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Размер детали, фактически полученный при обработке, называется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действительным размером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Размеры, между которыми может колебаться действительный размер детали, называются </a:t>
            </a: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предельными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Из них больший размер называется </a:t>
            </a: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наибольшим предельным размером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, а меньший — </a:t>
            </a: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наименьшим предельным размером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Расчетный размер детали, проставляемый на чертеже, от которого отсчитываются отклонения, называется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номинальным размером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. Обычно номинальные размеры выражаются в целых миллиметрах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Например, в размере 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номинальным размером является 3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имер, размер вала раве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этом случае наибольший предельный размер будет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+0,15 = 30,15 мм.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А наименьший предельный размер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2448000" cy="17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Допуск на изготовление.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Разность между наибольшим и наименьшим предельными размерами называется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допуском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. Например, для размера 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ва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допуск будет равен разности предельных размеров, т. е.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30,15 — 29,9 = 0,25 м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1:07:55Z</dcterms:created>
  <dc:creator>Admin</dc:creator>
  <dc:description/>
  <dc:language>en-US</dc:language>
  <cp:lastModifiedBy>Admin</cp:lastModifiedBy>
  <dcterms:modified xsi:type="dcterms:W3CDTF">2013-01-30T11:59:17Z</dcterms:modified>
  <cp:revision>3</cp:revision>
  <dc:subject/>
  <dc:title>Слайд 1</dc:title>
</cp:coreProperties>
</file>