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28E-1051-433E-B9BE-231BD4FC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D7E-D91E-42AE-8648-46D47717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4C9-452D-4B04-95AF-0BB022B5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54A-D6DF-4183-B9E6-02333B8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FC7-269D-4850-A7CD-97C4833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B9A-04DC-421B-89B6-3AE2C35C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00D-8D27-43D2-8EB4-2C9B822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381-AC31-4EA8-8C6D-6C670F80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202-02D9-493B-988F-04DDA936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C2D-54A8-41F5-841B-1EB0ADC9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5C3-5019-4344-8CDD-5FD467DD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53D-681D-4CBB-ADDB-2ADD0EB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C40C-35D0-45B1-9589-C64CECCFF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Тема урока:</a:t>
            </a:r>
            <a:br>
              <a:rPr sz="4000"/>
            </a:b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Взаимозаменяемость деталей, узлов и мех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3068640"/>
            <a:ext cx="8642160" cy="3384720"/>
          </a:xfrm>
          <a:prstGeom prst="rect">
            <a:avLst/>
          </a:prstGeom>
          <a:solidFill>
            <a:srgbClr val="660033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Размеры: номинальный, действительный, предельные размеры. Предельные отклонения, допуск. Поле допуска. Посадка. Виды посадок. Зазор, натяг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Отклонение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называется разность между предельным и номинальным размерами детали. На чертеже отклонения обозначаются обычно числовыми величинами при номинальном размере, причем верхнее отклонение указывается выше, а нижнее — ниже. 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апример, в размере   номинальным размером является 30, а отклонениями будут +0,15 и —0,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158920" cy="167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осадка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характер соединения деталей, определяемый наличием в нем зазоров или натя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Зазор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разность размеров отверстия и вала, если размер отверстия больше размера вала.</a:t>
            </a:r>
            <a:br>
              <a:rPr sz="4400"/>
            </a:b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Натяг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– разность размеров отверстия и вала, если размер вала больше размера отверст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Посадки разделяются на 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подвижные и неподвижные.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Ниже приводим наиболее применяемые посадки, причем в скобках даются их сокращенные обознач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616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&amp;Fcy;&amp;acy;&amp;jcy;&amp;lcy;:Dopusk.svg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Размер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 - числовое значение линейной величины (диаметра, длины и т.п.) в выбранных единицах измерен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Размеры подразделяются на  действительные, предельные, номинальны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Размер детали, фактически полученный при обработке, называется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действительным размером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Размеры, между которыми может колебаться действительный размер детали, называются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предельными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 Из них больший размер называется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наибольшим предельным размеро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, а меньший — </a:t>
            </a:r>
            <a:r>
              <a:rPr b="1" i="1" lang="en-US" sz="4000" spc="-1" strike="noStrike">
                <a:solidFill>
                  <a:srgbClr val="660033"/>
                </a:solidFill>
                <a:latin typeface="Arial"/>
              </a:rPr>
              <a:t>наименьшим предельным размером</a:t>
            </a:r>
            <a:r>
              <a:rPr b="0" lang="en-US" sz="40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Расчетный размер детали, проставляемый на чертеже, от которого отсчитываются отклонения, называется </a:t>
            </a:r>
            <a:r>
              <a:rPr b="1" i="1" lang="en-US" sz="4400" spc="-1" strike="noStrike">
                <a:solidFill>
                  <a:srgbClr val="660033"/>
                </a:solidFill>
                <a:latin typeface="Arial"/>
              </a:rPr>
              <a:t>номинальным размером</a:t>
            </a: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. Обычно номинальные размеры выражаются в целых миллиметрах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апример, в размере 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номинальным размером является 3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имер, размер вала равен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этом случае наибольший предельный размер будет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0 +0,15 = 30,15 мм.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А наименьший предельный размер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2448000" cy="17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Допуск на изготовление.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Разность между наибольшим и наименьшим предельными размерами называется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660033"/>
                </a:solidFill>
                <a:latin typeface="Arial"/>
              </a:rPr>
              <a:t>допуском</a:t>
            </a: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. Например, для размера 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в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допуск будет равен разности предельных размеров, т. е.</a:t>
            </a:r>
            <a:br>
              <a:rPr sz="4000"/>
            </a:br>
            <a:r>
              <a:rPr b="0" lang="ru-RU" sz="4000" spc="-1" strike="noStrike">
                <a:solidFill>
                  <a:srgbClr val="660033"/>
                </a:solidFill>
                <a:latin typeface="Arial"/>
              </a:rPr>
              <a:t>30,15 — 29,9 = 0,25 м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11:07:55Z</dcterms:created>
  <dc:creator>Admin</dc:creator>
  <dc:description/>
  <dc:language>en-US</dc:language>
  <cp:lastModifiedBy>Admin</cp:lastModifiedBy>
  <dcterms:modified xsi:type="dcterms:W3CDTF">2013-01-30T11:59:17Z</dcterms:modified>
  <cp:revision>3</cp:revision>
  <dc:subject/>
  <dc:title>Слайд 1</dc:title>
</cp:coreProperties>
</file>