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4262-B02E-433D-ACD4-4D917A3E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A984-D69A-4966-B718-F236A2FB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3E29-E145-4B70-84EE-39771B5D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1E81-6C59-43FB-B6F9-0F037DCA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1ACC-59F8-4885-9B27-728C6351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1490-9927-453A-97C3-EBEAB31C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1FD0-95A1-4184-8C7C-6BB4C4EE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F9F7-FDD8-4E2C-BCEA-64005B94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CEDE-A113-4477-9599-CB23648A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F281-7111-4E15-BB69-F1116957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52D1-30CB-44F5-BB93-50FFDF3C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F0B6-8697-48A3-9EFF-388BD913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A49A-B943-4049-8672-485DE64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3216-4852-4051-8AE9-BD0D54D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67DD-ACB6-41C2-8AD7-E2958BE2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82E9-5DE8-4D68-9A36-D4693638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FF0A-5389-4A29-9197-FC585C3B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252B-DC22-42FA-B4A4-F229DEE2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AB6B-63DC-4DEC-BEA2-13E43FFF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635F-E433-4738-9131-DE9BF4F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E0E2-8CF6-4327-B7C6-5788A694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53D5-E4AF-4B67-BF20-A14F807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975C-537F-456A-9519-0E5AB6E2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73C4-C8AA-4F2F-B7E8-F7470D4C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8E65-287E-4CAB-AA4B-C75EE7D8AA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0D27-6DF0-4FA3-AB90-78E88ACF13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2060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а: Предельные размеры и предельные отклонения размеров. Допуски размеров. Поле допу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ходная пос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ная посад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- посадка  ,при котрой возможно получение как наибольшего зазора , так и наименьшего натя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улы для расчета заз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ax=Dmax-dmin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Smax=ES-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улы для расчета натяг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ax=dmax-Dmin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Nmax=es-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к посадки\ допуск натяга или допуск зазора для переходной посад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(NS)=Smax+N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й натяг, заз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N)m=(Nmax-Smax)*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01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475080" y="-282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75080" y="-1042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4360" y="476280"/>
          <a:ext cx="7343640" cy="6024600"/>
        </p:xfrm>
        <a:graphic>
          <a:graphicData uri="http://schemas.openxmlformats.org/drawingml/2006/table">
            <a:tbl>
              <a:tblPr/>
              <a:tblGrid>
                <a:gridCol w="1150920"/>
                <a:gridCol w="1152360"/>
                <a:gridCol w="647640"/>
                <a:gridCol w="649440"/>
                <a:gridCol w="574560"/>
                <a:gridCol w="792360"/>
                <a:gridCol w="792000"/>
                <a:gridCol w="936720"/>
                <a:gridCol w="647640"/>
              </a:tblGrid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онтроль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оп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 при чтении разм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д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на чертеже,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т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азмеров чертеж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ин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,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е отклонение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Нижнее предельное отклонение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ьший предельный размер,  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ьший предельный размер,  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а, 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я допус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68360" y="1052640"/>
          <a:ext cx="8229600" cy="5014800"/>
        </p:xfrm>
        <a:graphic>
          <a:graphicData uri="http://schemas.openxmlformats.org/drawingml/2006/table">
            <a:tbl>
              <a:tblPr/>
              <a:tblGrid>
                <a:gridCol w="1289160"/>
                <a:gridCol w="1292040"/>
                <a:gridCol w="725400"/>
                <a:gridCol w="652680"/>
                <a:gridCol w="792000"/>
                <a:gridCol w="814320"/>
                <a:gridCol w="889200"/>
                <a:gridCol w="1049400"/>
                <a:gridCol w="725400"/>
              </a:tblGrid>
              <a:tr h="45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онтро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 при чтении разм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на чертеже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т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 годности           действительных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р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350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минальный размер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мер относительно которого определяются предельные размеры  и который служит так же началом от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минальный раз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кончательно принятый в процессе проектирования и приставленный на чертеже размер детали или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йствительный размер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мер установленный измерением с допустимой погреш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777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ельный размеры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mi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mi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два предельно допустимых размера, между которыми должен находиться или которым может быть равен действительный размер. Деталь считается годной и в том случае, если действительный размер равен предельн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тверс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i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ал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in=d+e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– верхнее откло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тверс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ал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=Dmax-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– нижнее откло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тверс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i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а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i=dmin-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048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уск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ность между наибольшим и наименьшим предельными размерами или абсолютная  величина алгебраической разности между верхним и нижнимоткло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 отверст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i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а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i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е допус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ле ограниченно верхним и нижним отклонениями. Поле допуска определяется величиной допуска и его положением относительно номинального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левая ли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иния, соответствующая номинальному размеру, от которого откладывается отклонении размеров при графическом изображении допусков и пос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 при изготовлении деталей неизбежны погрешности разме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м разница между номинальным и действительным размер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размеры называются предельны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определяет допус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м разница между понятием «допуск» и «поле допуск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улируйте условие годности действительного размера в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улируйте условие годности действительного размера отверст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ком случае действительным размер равный номинальному окажется брако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: Посадки. Виды посад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Вал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термин, условно применяемый для обозначения наружных (охватываемых) элементов деталей, включая и нецилиндрические эле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Отверстие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термин, применяемый для обозначения внутренних (охватывающих) элементов деталей, включая нецилиндрические элементы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сад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характер соединения двух деталей, определяемый разностью их размеров до сб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пуск посад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умма допусков отверстия и вала , составляющих соеди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адка с зазо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зор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ность отверстия и вала, если размер отверстия больше размера вала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=D-d; D&gt;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улы для расчета зазоров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ax=Dmax-Dmin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ax=ES-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in=Dmin-dmax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Smin=EI-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к заз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S=Smax-S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допуска зазо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S=TD+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й заз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=(Smax+Smin)*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416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адка с натяг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3644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адка с натягом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адки, при которой обеспечивается  натяг в соедин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=d-D; d&gt;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улы для расчета натяг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ax=dmax-Dmin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ax=es-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in=dmin-Dmax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in=ei-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к натя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N=Nmax-N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допуска натя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N=TD+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й натя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=(Nmax+Nmin)*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4167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6:57:56Z</dcterms:created>
  <dc:creator>GrandMasTэR</dc:creator>
  <dc:description/>
  <dc:language>en-US</dc:language>
  <cp:lastModifiedBy>Admin</cp:lastModifiedBy>
  <dcterms:modified xsi:type="dcterms:W3CDTF">2014-01-27T12:55:43Z</dcterms:modified>
  <cp:revision>8</cp:revision>
  <dc:subject/>
  <dc:title>Тема: Предельные размеры и предельные отклонения размеров. Допуски размеров. Поле допуска</dc:title>
</cp:coreProperties>
</file>