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5B1BC-D853-492F-AA15-53C6E4FE8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CAE4E-BC8C-417B-B0CA-EE54D96F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32ECA-BF4B-4DBF-A111-28CE418C1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8032A-BE46-4AA5-934B-815F60A6C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5066-3F14-4D57-9555-FC639BF13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F839-1DF3-4420-B3C1-3995D1AC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69B9-E392-4833-B3C2-FFFD14C8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8E51-4E2B-4195-9C71-7E19A8B1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8DD43-3AB7-442C-8062-A2CD595A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B756A-A420-4B40-9A6D-585FBD91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63D78-E75A-4D68-9B42-645DDB7C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662EE-B7F5-4E67-9560-202F0DB6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A3391-62F3-4C2C-8369-0A600402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C2F3-74CC-496D-B624-E5BFFFB9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4201-E3E4-4B14-B8A3-DFC6D68A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4F24-6AAC-47E8-A4D7-5AFE2D4A9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1EAC-5938-4679-BD66-B858A0FCC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F0020-BA3D-485A-9A30-7DCC50D8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7B2A4-053E-4439-9B45-9C009DBE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F8C2C-5E30-4385-A10E-38F555F8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F6CC6-DE9A-4830-8580-43C631DF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E4D2F-B0C3-47D8-A566-FF63821B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7B9E1-7722-47E6-9739-81E97DF9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BFD0E-F82A-43FD-9807-E87AFF8B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BB45-5A57-4216-B91D-941A9461B1F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F8DC-364A-4FCD-B094-FC66E8F9723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24080" y="206064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ма: Предельные размеры и предельные отклонения размеров. Допуски размеров. Поле допус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реходная поса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3499920"/>
            <a:ext cx="82296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ереходная посадк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- посадка  ,при котрой возможно получение как наибольшего зазора , так и наименьшего натяг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улы для расчета зазо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max=Dmax-dmin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Smax=ES-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улы для расчета натяг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max=dmax-Dmin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Nmax=es-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уск посадки\ допуск натяга или допуск зазора для переходной посад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(NS)=Smax+Nma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рк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S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D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едний натяг, заз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SN)m=(Nmax-Smax)*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720108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475080" y="-2822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75080" y="-1042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84360" y="476280"/>
          <a:ext cx="7343640" cy="6024600"/>
        </p:xfrm>
        <a:graphic>
          <a:graphicData uri="http://schemas.openxmlformats.org/drawingml/2006/table">
            <a:tbl>
              <a:tblPr/>
              <a:tblGrid>
                <a:gridCol w="1150920"/>
                <a:gridCol w="1152360"/>
                <a:gridCol w="647640"/>
                <a:gridCol w="649440"/>
                <a:gridCol w="574560"/>
                <a:gridCol w="792360"/>
                <a:gridCol w="792000"/>
                <a:gridCol w="936720"/>
                <a:gridCol w="647640"/>
              </a:tblGrid>
              <a:tr h="3985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Контрольн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вопрос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ятия при чтении размер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ходные данн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ы на чертеже,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.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.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отв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.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.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размеров чертеж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ина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,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ельное отклонение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Нижнее предельное отклонение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м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больший предельный размер,  м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ьший предельный размер,  м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ск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а, м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ческо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браж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я допус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468360" y="1052640"/>
          <a:ext cx="8229600" cy="5014800"/>
        </p:xfrm>
        <a:graphic>
          <a:graphicData uri="http://schemas.openxmlformats.org/drawingml/2006/table">
            <a:tbl>
              <a:tblPr/>
              <a:tblGrid>
                <a:gridCol w="1289160"/>
                <a:gridCol w="1292040"/>
                <a:gridCol w="725400"/>
                <a:gridCol w="652680"/>
                <a:gridCol w="792000"/>
                <a:gridCol w="814320"/>
                <a:gridCol w="889200"/>
                <a:gridCol w="1049400"/>
                <a:gridCol w="725400"/>
              </a:tblGrid>
              <a:tr h="4590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Контроль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вопро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ятия при чтении размер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ходные да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ы на чертеже,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.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.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от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.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.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 row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лючение о годности           действительных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меров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95280" y="350028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оминальный размер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размер относительно которого определяются предельные размеры  и который служит так же началом отсч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оминальный разм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окончательно принятый в процессе проектирования и приставленный на чертеже размер детали или соеди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ействительный размер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размер установленный измерением с допустимой погреш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77774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3068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едельный размеры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ma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min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ma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min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два предельно допустимых размера, между которыми должен находиться или которым может быть равен действительный размер. Деталь считается годной и в том случае, если действительный размер равен предельно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отверсти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max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min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вал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max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min=d+e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 – верхнее отклон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отверсти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max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вал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s=Dmax-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 – нижнее отклон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отверсти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I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min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вал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i=dmin-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47640" y="404640"/>
            <a:ext cx="604872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опуск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D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d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)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ность между наибольшим и наименьшим предельными размерами или абсолютная  величина алгебраической разности между верхним и нижнимотклоне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 отверст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D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max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min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D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ал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d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max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min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d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ле допус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оле ограниченно верхним и нижним отклонениями. Поле допуска определяется величиной допуска и его положением относительно номинального разм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улевая ли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линия, соответствующая номинальному размеру, от которого откладывается отклонении размеров при графическом изображении допусков и посад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нтрольные 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чему при изготовлении деталей неизбежны погрешности размер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чем разница между номинальным и действительным размера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ие размеры называются предельны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 определяет допус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чем разница между понятием «допуск» и «поле допуска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формулируйте условие годности действительного размера ва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формулируйте условие годности действительного размера отверст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каком случае действительным размер равный номинальному окажется браком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ма: Посадки. Виды посадок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«Вал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термин, условно применяемый для обозначения наружных (охватываемых) элементов деталей, включая и нецилиндрические элемен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«Отверстие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термин, применяемый для обозначения внутренних (охватывающих) элементов деталей, включая нецилиндрические элементы дета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осад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характер соединения двух деталей, определяемый разностью их размеров до сбор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Допуск посад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сумма допусков отверстия и вала , составляющих соедин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садка с зазор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3573360"/>
            <a:ext cx="8229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Зазор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разность отверстия и вала, если размер отверстия больше размера вала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=D-d; D&gt;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улы для расчета зазоров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max=Dmax-Dmin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max=ES-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min=Dmin-dmax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Smin=EI-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уск зазо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S=Smax-S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рка допуска зазор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S=TD+T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едний зазо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m=(Smax+Smin)*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741672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садка с натяг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364464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садка с натягом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адки, при которой обеспечивается  натяг в соединени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=d-D; d&gt;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улы для расчета натягов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max=dmax-Dmin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max=es-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min=dmin-Dmax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min=ei-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уск натяг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N=Nmax-N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рка допуска натяг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N=TD+T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едний натя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m=(Nmax+Nmin)*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741672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16:57:56Z</dcterms:created>
  <dc:creator>GrandMasTэR</dc:creator>
  <dc:description/>
  <dc:language>en-US</dc:language>
  <cp:lastModifiedBy>Admin</cp:lastModifiedBy>
  <dcterms:modified xsi:type="dcterms:W3CDTF">2014-01-27T12:55:43Z</dcterms:modified>
  <cp:revision>8</cp:revision>
  <dc:subject/>
  <dc:title>Тема: Предельные размеры и предельные отклонения размеров. Допуски размеров. Поле допуска</dc:title>
</cp:coreProperties>
</file>