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2091-5C0B-43B6-80F2-B78FCAD29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у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у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B85-97B7-44B9-9FA8-28AA455B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D18-DD4D-4050-AE9B-AC81A96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EA0-1045-4AA9-BF90-D7892D6F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8AA-DD49-4951-B9AB-0DCF5606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413-8CDE-438E-918F-E1A6148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401-674A-430B-9861-32ECFF2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558-638D-4AED-BD79-4C6020D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D0D-D836-4ABD-990D-C45F7D03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15B-99A9-4923-8E39-05B5012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20E-F480-4939-8491-347B1F5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845-B7E5-4EEC-AC2B-D3F1898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971-B350-4F6C-84D3-1A46230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C06-230E-4B94-A7D9-A0E07244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solidFill>
            <a:srgbClr val="99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УСТАНОВКА МАШИН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66"/>
                </a:solidFill>
                <a:latin typeface="Arial"/>
              </a:rPr>
              <a:t>ДЛЯ ХИМИЧЕСКОЙ ЗАЩИТЫ РАСТЕНИЙ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НА НОРМУ РАСХОДА ЯДОХИМИК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этому значению расхода устанавливают рычаг механизма управления на нужное деление шкалы. Его определяют по таблице или  графику. При этом необходимо помнить, что минутный расход ядохимиката может изменяться в зависимости от рода его;  влажности и других факторов. В случае применения ядохимикатов настраивать опыливатели на фактический расход необходимо опытным путем. Для этого надо определить время опорожнения бункера, собрав ядохимикат в лоток, подставленный под бункер, и взвесив. Если масса собранного ядохимиката будет значительно отклоняться от расчетной, то, управлением дозирующей заслонкой настройку продолжают до тех пор, пока не получат требуемой нормы расхода ядохимикат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ка на норму расх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ный расход ядохимиката подсчитывают по формул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=BQv/600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минутный расход, кг/мин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рабочая скорость движения опыливателя, км/ч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ширина рабочего захвата, м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данная норма расхода ядохимиката, кг/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АГ-УД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ЭРОЗОЛЬНЫЙ ГЕНЕРАТО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Г-УД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Камера сго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Эж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Соп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Компр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Форсу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Свеча нака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Нагре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Распылитель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Ёмкость для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Ёмкость для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Кран подачи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Кран подачи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Филь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Регулятор подачи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&amp;Acy;&amp;Gcy;-&amp;Ucy;&amp;Dcy;-2"/>
          <p:cNvPicPr/>
          <p:nvPr/>
        </p:nvPicPr>
        <p:blipFill>
          <a:blip r:embed="rId1"/>
          <a:stretch/>
        </p:blipFill>
        <p:spPr>
          <a:xfrm>
            <a:off x="3995640" y="1341360"/>
            <a:ext cx="4657680" cy="4103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тановка на норму расхода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зольный генератор  настраивают на заданную норму расхода рабочей жидкости на 1 га обрабатываемой площади или на нужную степень наполнения при обработке закрытых помещ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ход на 1 га рабочей жидкости, превращенной в туман, зависит от ее минутного расхода в аэрозольном генераторе, ширины рабочего захвата агрегата и скорости его движ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пределения требуемого минутного расхода жидкого ядохимиката впол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има формула, указанная для опрыскивателей и опыливателей. Необходимо отметить, что регулировка машины на вычисленный расход жидкости действительна только для определенной ширины захвата и скорости движ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ходе на другой режим работы (ширина захвата и скорость) необходимо изменить регулировку минутного расхода ядохимиката. На расход жидкости оказывает также определенное влияние температурный режим в камере сгорания и на обрезе рабочего сопла. При увеличении температуры минутный расх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дохимиката увелич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ПС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травливателях сначала пробным пропуском определяют производительность машины на зерне, подставив на 1 - 3 мин тару под рукав выхода зерна. Разделив массу зерна в тоннах на продолжительность опыта, получают производительность в тоннах за 1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ределения расхода жидкого ядохимиката дозатор суспензии устанавливают на расход ядохимиката в соответствии с производительностью по семенам. Для этого рычаг дозатора семян ставят на нулевое деление, кран взятия проб поворачивают вправо, маховичок дозатора суспензии ставят на деление шкалы согласно таблицам. Так, для производительности 10 т/ч семян по таблице  при норме расхода ядохимиката 2 кг/т расход суспензии составляет 1,7 л/мин. По таблице  указанному расходу соответствует девятое деление шкалы дозатора суспензии. Маховичком регулируют дозатор, мерным цилиндром определяют расход за 20 с и вычисляют расход (л/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32720" cy="5272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6192720" cy="61912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6696000" cy="6121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ОПШ-15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ка на норму расх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ный расход ядохимиката подсчитывают по формул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=BQv/600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минутный расход, кг/мин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рабочая скорость движения опыливателя, км/ч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ширина рабочего захвата, м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данная норма расхода ядохимиката, кг/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ОШУ-50А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Перед выездом в поле для работы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ОШУ-50А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регулируют на заданную норму внесения ядохимикатов. Для этого при заданной норме внесения ядохимикатов, ширине захвата, скорости движения агрегата, определяют минутный расход.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Для этого нужно заполнить бункер на 1/3 имитатором ядохимиката, предварительно отключив привод вентилятора. Затем под выходное отверстие бункера подставить емкость для сбора ядохимиката и, установив рычаг заслонки в определенное положение, включить карданную передачу на 1 мин, собрать и взвесить высыпавшийся порошок. Операцию проделать не менее трех раз. Отклонение полученного расхода от расчетного не должна превышать 5 %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06:45Z</dcterms:created>
  <dc:creator>Admin</dc:creator>
  <dc:description/>
  <dc:language>en-US</dc:language>
  <cp:lastModifiedBy>Admin</cp:lastModifiedBy>
  <dcterms:modified xsi:type="dcterms:W3CDTF">2012-11-25T07:55:28Z</dcterms:modified>
  <cp:revision>3</cp:revision>
  <dc:subject/>
  <dc:title>Слайд 1</dc:title>
</cp:coreProperties>
</file>