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E48B-E8F3-4C90-8FC8-8FC5EAFC03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шу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шу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C4FD-0FEF-43C7-B3E0-B5E10755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29C4-4C4A-4FA9-BC16-34687549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678-5413-41AD-8FD1-DA08868D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DF05-EAE5-4F74-A2C5-B6EE7DBC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EB2-BC89-4F55-BC48-BE1E287C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43C-C31D-4D84-94E7-6E97A239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A84-1D18-47A7-BEB2-A59E4849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59E-452B-4842-929C-E607EF66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D7A3-2341-4B33-A647-BCA061DF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2F0A-7A8E-42BF-9FD8-CCF15A93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2C2B-94C9-48B3-B79E-9969BCE1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A943-7888-44AE-AB8D-6959FAC3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F07E-31C9-4B62-A3A1-6B99101D6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solidFill>
            <a:srgbClr val="990000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УСТАНОВКА МАШИН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9966"/>
                </a:solidFill>
                <a:latin typeface="Arial"/>
              </a:rPr>
              <a:t>ДЛЯ ХИМИЧЕСКОЙ ЗАЩИТЫ РАСТЕНИЙ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НА НОРМУ РАСХОДА ЯДОХИМИК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этому значению расхода устанавливают рычаг механизма управления на нужное деление шкалы. Его определяют по таблице или  графику. При этом необходимо помнить, что минутный расход ядохимиката может изменяться в зависимости от рода его;  влажности и других факторов. В случае применения ядохимикатов настраивать опыливатели на фактический расход необходимо опытным путем. Для этого надо определить время опорожнения бункера, собрав ядохимикат в лоток, подставленный под бункер, и взвесив. Если масса собранного ядохимиката будет значительно отклоняться от расчетной, то, управлением дозирующей заслонкой настройку продолжают до тех пор, пока не получат требуемой нормы расхода ядохимиката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становка на норму расход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нутный расход ядохимиката подсчитывают по формуле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q=BQv/600,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де: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минутный расход, кг/мин;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рабочая скорость движения опыливателя, км/ч;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ширина рабочего захвата, м;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Q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заданная норма расхода ядохимиката, кг/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631280" cy="2259000"/>
          </a:xfrm>
          <a:prstGeom prst="rect">
            <a:avLst/>
          </a:prstGeom>
          <a:solidFill>
            <a:srgbClr val="800000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УСТАНОВКА 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 АГ-УД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НА НОРМУ РАСХОДА ЯДОХИМИК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ЭРОЗОЛЬНЫЙ ГЕНЕРАТО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Г-УД-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Камера сгор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Эж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Соп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Компресс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Форсу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Свеча накал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Нагрев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Распылитель ядохимик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Ёмкость для топли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Ёмкость для ядохимик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Кран подачи ядохимик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Кран подачи топли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Филь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Регулятор подачи воздух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&amp;Acy;&amp;Gcy;-&amp;Ucy;&amp;Dcy;-2"/>
          <p:cNvPicPr/>
          <p:nvPr/>
        </p:nvPicPr>
        <p:blipFill>
          <a:blip r:embed="rId1"/>
          <a:stretch/>
        </p:blipFill>
        <p:spPr>
          <a:xfrm>
            <a:off x="3995640" y="1341360"/>
            <a:ext cx="4657680" cy="41036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становка на норму расхода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эрозольный генератор  настраивают на заданную норму расхода рабочей жидкости на 1 га обрабатываемой площади или на нужную степень наполнения при обработке закрытых помещений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сход на 1 га рабочей жидкости, превращенной в туман, зависит от ее минутного расхода в аэрозольном генераторе, ширины рабочего захвата агрегата и скорости его движен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определения требуемого минутного расхода жидкого ядохимиката вполн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нима формула, указанная для опрыскивателей и опыливателей. Необходимо отметить, что регулировка машины на вычисленный расход жидкости действительна только для определенной ширины захвата и скорости движения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ереходе на другой режим работы (ширина захвата и скорость) необходимо изменить регулировку минутного расхода ядохимиката. На расход жидкости оказывает также определенное влияние температурный режим в камере сгорания и на обрезе рабочего сопла. При увеличении температуры минутный расхо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дохимиката увеличи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631280" cy="2259000"/>
          </a:xfrm>
          <a:prstGeom prst="rect">
            <a:avLst/>
          </a:prstGeom>
          <a:solidFill>
            <a:srgbClr val="800000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УСТАНОВКА 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 ПС-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НА НОРМУ РАСХОДА ЯДОХИМИК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ротравливателях сначала пробным пропуском определяют производительность машины на зерне, подставив на 1 - 3 мин тару под рукав выхода зерна. Разделив массу зерна в тоннах на продолжительность опыта, получают производительность в тоннах за 1 ми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пределения расхода жидкого ядохимиката дозатор суспензии устанавливают на расход ядохимиката в соответствии с производительностью по семенам. Для этого рычаг дозатора семян ставят на нулевое деление, кран взятия проб поворачивают вправо, маховичок дозатора суспензии ставят на деление шкалы согласно таблицам. Так, для производительности 10 т/ч семян по таблице  при норме расхода ядохимиката 2 кг/т расход суспензии составляет 1,7 л/мин. По таблице  указанному расходу соответствует девятое деление шкалы дозатора суспензии. Маховичком регулируют дозатор, мерным цилиндром определяют расход за 20 с и вычисляют расход (л/м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632720" cy="52722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6192720" cy="619128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6696000" cy="61214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4720" cy="590544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631280" cy="2259000"/>
          </a:xfrm>
          <a:prstGeom prst="rect">
            <a:avLst/>
          </a:prstGeom>
          <a:solidFill>
            <a:srgbClr val="800000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УСТАНОВКА 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ОПШ-15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НА НОРМУ РАСХОДА ЯДОХИМИК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становка на норму расход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нутный расход ядохимиката подсчитывают по формуле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q=BQv/600,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де: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минутный расход, кг/мин;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рабочая скорость движения опыливателя, км/ч;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ширина рабочего захвата, м;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Q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заданная норма расхода ядохимиката, кг/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631280" cy="2259000"/>
          </a:xfrm>
          <a:prstGeom prst="rect">
            <a:avLst/>
          </a:prstGeom>
          <a:solidFill>
            <a:srgbClr val="800000"/>
          </a:solidFill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УСТАНОВКА  </a:t>
            </a:r>
            <a:br>
              <a:rPr sz="3600"/>
            </a:b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ОШУ-50А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НА НОРМУ РАСХОДА ЯДОХИМИК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Перед выездом в поле для работы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ОШУ-50А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регулируют на заданную норму внесения ядохимикатов. Для этого при заданной норме внесения ядохимикатов, ширине захвата, скорости движения агрегата, определяют минутный расход.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Для этого нужно заполнить бункер на 1/3 имитатором ядохимиката, предварительно отключив привод вентилятора. Затем под выходное отверстие бункера подставить емкость для сбора ядохимиката и, установив рычаг заслонки в определенное положение, включить карданную передачу на 1 мин, собрать и взвесить высыпавшийся порошок. Операцию проделать не менее трех раз. Отклонение полученного расхода от расчетного не должна превышать 5 %</a:t>
            </a: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7:06:45Z</dcterms:created>
  <dc:creator>Admin</dc:creator>
  <dc:description/>
  <dc:language>en-US</dc:language>
  <cp:lastModifiedBy>Admin</cp:lastModifiedBy>
  <dcterms:modified xsi:type="dcterms:W3CDTF">2012-11-25T07:55:28Z</dcterms:modified>
  <cp:revision>3</cp:revision>
  <dc:subject/>
  <dc:title>Слайд 1</dc:title>
</cp:coreProperties>
</file>