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2F0-247B-4B14-869C-A0AA3CF2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803-4598-44DE-AA6F-5368D042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072-E907-478A-B338-A4E2E90F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0F7-6A25-4998-ADE9-9BB6C09D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994-FDED-43FB-A5F4-A4927077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731-A813-4866-9910-4B6573A9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B82-474A-4914-B274-5C030CF6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14D-F2F1-45E1-91FA-91258C07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D4F-35C5-406B-811E-7D8F9A11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3A0-2A0E-4D99-BC2B-E817DE0C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8B3-F7E4-4479-B614-98E52B19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C89-1F5B-4631-9473-D922320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A7C5-4E44-4E6D-BBBA-B094E541CD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combook.ru/pictures/10078164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36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4200" y="214200"/>
            <a:ext cx="8286840" cy="1191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внеклассного чтения  в 3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«Защитники От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Копыл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1 -2022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42960" y="1500120"/>
            <a:ext cx="7358040" cy="4757400"/>
          </a:xfrm>
          <a:prstGeom prst="rect">
            <a:avLst/>
          </a:prstGeom>
          <a:solidFill>
            <a:srgbClr val="f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ть духовно- нравственные перспективы через формирование представлений детей о защитниках Отечества, переживание чувства патриотизма и любви к Ро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Формировать представление о качествах «защитника», познакомить с великими полководцам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оздать настроение праздника, побудить испытать переживание, удивление, при неожиданном развитии собы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пособствовать развитию речи детей, развивать умение мыслить и анализировать тек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Стимулировать интерес к чтению, потребность в самостоятельном чт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Вызвать чувство гордости за свой народ, воспитывать патриотизм и любовь к Ро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А.В.Суворов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730г.-1800г. 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усский полковод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6"/>
          <p:cNvCxnSpPr/>
          <p:nvPr/>
        </p:nvCxnSpPr>
        <p:spPr>
          <a:xfrm flipV="1">
            <a:off x="2928960" y="1213560"/>
            <a:ext cx="2160" cy="252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  <p:pic>
        <p:nvPicPr>
          <p:cNvPr id="85" name="Picture 5" descr="C:\Documents and Settings\ЖУ\Мои документы\Моя музыка\Мои рисунки\16988-1[1].jpg"/>
          <p:cNvPicPr/>
          <p:nvPr/>
        </p:nvPicPr>
        <p:blipFill>
          <a:blip r:embed="rId1"/>
          <a:stretch/>
        </p:blipFill>
        <p:spPr>
          <a:xfrm>
            <a:off x="428760" y="2786040"/>
            <a:ext cx="2714400" cy="3714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6" name="Picture 12" descr="Картинка 7 из 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1785960"/>
            <a:ext cx="3214800" cy="4714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7" name="Picture 4" descr="C:\Documents and Settings\ЖУ\Мои документы\Моя музыка\Мои рисунки\iCA3SLQKO.jpg"/>
          <p:cNvPicPr/>
          <p:nvPr/>
        </p:nvPicPr>
        <p:blipFill>
          <a:blip r:embed="rId4"/>
          <a:stretch/>
        </p:blipFill>
        <p:spPr>
          <a:xfrm>
            <a:off x="357120" y="0"/>
            <a:ext cx="2143080" cy="2500200"/>
          </a:xfrm>
          <a:prstGeom prst="rect">
            <a:avLst/>
          </a:prstGeom>
          <a:ln w="28440">
            <a:solidFill>
              <a:srgbClr val="ec767c"/>
            </a:solidFill>
            <a:miter/>
          </a:ln>
        </p:spPr>
      </p:pic>
      <p:pic>
        <p:nvPicPr>
          <p:cNvPr id="88" name="Picture 5" descr="C:\Documents and Settings\ЖУ\Мои документы\Моя музыка\Мои рисунки\iCAO909KH.jpg"/>
          <p:cNvPicPr/>
          <p:nvPr/>
        </p:nvPicPr>
        <p:blipFill>
          <a:blip r:embed="rId5"/>
          <a:stretch/>
        </p:blipFill>
        <p:spPr>
          <a:xfrm>
            <a:off x="7500960" y="285840"/>
            <a:ext cx="1357200" cy="154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Picture 6" descr="C:\Documents and Settings\ЖУ\Мои документы\Моя музыка\Мои рисунки\iCATXCB29.jpg"/>
          <p:cNvPicPr/>
          <p:nvPr/>
        </p:nvPicPr>
        <p:blipFill>
          <a:blip r:embed="rId6"/>
          <a:stretch/>
        </p:blipFill>
        <p:spPr>
          <a:xfrm>
            <a:off x="6929280" y="3143160"/>
            <a:ext cx="1928880" cy="33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42920" y="0"/>
            <a:ext cx="871524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.П.Алексе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ассказы о Суворове и русских солда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Шты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Шты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колющее оружие, прикрепляемое на конец ствола винтовки или руж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7030a0"/>
                </a:solidFill>
                <a:latin typeface="Arial"/>
              </a:rPr>
              <a:t>НИКУДЫШ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ПЛОХОЙ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.             ПОСЫЛЬН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БОТНИК ,ОТПРАВЛЯЕМЫЙ  ПОР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Фельдмарша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-   высший генеральский чин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Губер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род области или большого округа России, разделённого на уезды под управлением губерна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змаи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 ТУРЕЦКАЯ КРЕПОСТЬ.</a:t>
            </a: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.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85840" y="4643280"/>
            <a:ext cx="4214880" cy="204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2" name="Picture 5" descr="День взятия турецкой крепости Измаил русскими войсками под командованием А.В. Суворова"/>
          <p:cNvPicPr/>
          <p:nvPr/>
        </p:nvPicPr>
        <p:blipFill>
          <a:blip r:embed="rId2"/>
          <a:stretch/>
        </p:blipFill>
        <p:spPr>
          <a:xfrm>
            <a:off x="6286680" y="4572000"/>
            <a:ext cx="2547720" cy="200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3" name="Picture 5" descr="C:\Documents and Settings\ЖУ\Мои документы\Моя музыка\Мои рисунки\Alekseev_S._P.-1.[1].jpg"/>
          <p:cNvPicPr/>
          <p:nvPr/>
        </p:nvPicPr>
        <p:blipFill>
          <a:blip r:embed="rId3"/>
          <a:stretch/>
        </p:blipFill>
        <p:spPr>
          <a:xfrm>
            <a:off x="285840" y="500040"/>
            <a:ext cx="1000080" cy="121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ЖУ\Мои документы\Моя музыка\Мои рисунки\mosin-bayonet_400_p130[1].jpg"/>
          <p:cNvPicPr/>
          <p:nvPr/>
        </p:nvPicPr>
        <p:blipFill>
          <a:blip r:embed="rId1"/>
          <a:stretch/>
        </p:blipFill>
        <p:spPr>
          <a:xfrm>
            <a:off x="4429080" y="1285920"/>
            <a:ext cx="4286160" cy="428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Шты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Documents and Settings\ЖУ\Мои документы\Моя музыка\Мои рисунки\iCAKSR7E8.jpg"/>
          <p:cNvPicPr/>
          <p:nvPr/>
        </p:nvPicPr>
        <p:blipFill>
          <a:blip r:embed="rId2"/>
          <a:stretch/>
        </p:blipFill>
        <p:spPr>
          <a:xfrm>
            <a:off x="500040" y="1500120"/>
            <a:ext cx="2870280" cy="3429000"/>
          </a:xfrm>
          <a:prstGeom prst="rect">
            <a:avLst/>
          </a:prstGeom>
          <a:ln w="19080">
            <a:solidFill>
              <a:srgbClr val="ec767c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3171e"/>
                </a:solidFill>
                <a:latin typeface="Arial"/>
              </a:rPr>
              <a:t>Пословицы и поговорки о воинской храбр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55736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яжело в учении – легко в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оин врагов побивает, а трус корысть под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мелость города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от герой, кто за Родину г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ЖУ\Мои документы\Моя музыка\Мои рисунки\iCA362YM6.jpg"/>
          <p:cNvPicPr/>
          <p:nvPr/>
        </p:nvPicPr>
        <p:blipFill>
          <a:blip r:embed="rId1"/>
          <a:stretch/>
        </p:blipFill>
        <p:spPr>
          <a:xfrm>
            <a:off x="4572000" y="3786120"/>
            <a:ext cx="2000160" cy="271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Picture 3" descr="C:\Documents and Settings\ЖУ\Мои документы\Моя музыка\Мои рисунки\iCAIY8BFN.jpg"/>
          <p:cNvPicPr/>
          <p:nvPr/>
        </p:nvPicPr>
        <p:blipFill>
          <a:blip r:embed="rId2"/>
          <a:stretch/>
        </p:blipFill>
        <p:spPr>
          <a:xfrm>
            <a:off x="2428920" y="3786120"/>
            <a:ext cx="1857240" cy="271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Picture 4" descr="C:\Documents and Settings\ЖУ\Мои документы\Моя музыка\Мои рисунки\iCAIN7HZ7.jpg"/>
          <p:cNvPicPr/>
          <p:nvPr/>
        </p:nvPicPr>
        <p:blipFill>
          <a:blip r:embed="rId3"/>
          <a:stretch/>
        </p:blipFill>
        <p:spPr>
          <a:xfrm>
            <a:off x="285840" y="3786120"/>
            <a:ext cx="1911240" cy="2786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2" name="Picture 6" descr="C:\Documents and Settings\ЖУ\Мои документы\Моя музыка\Мои рисунки\iCAEUU4RQ.jpg"/>
          <p:cNvPicPr/>
          <p:nvPr/>
        </p:nvPicPr>
        <p:blipFill>
          <a:blip r:embed="rId4"/>
          <a:stretch/>
        </p:blipFill>
        <p:spPr>
          <a:xfrm>
            <a:off x="6786720" y="3786120"/>
            <a:ext cx="2071440" cy="271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142920" y="142920"/>
            <a:ext cx="6332400" cy="347724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Arial"/>
              </a:rPr>
              <a:t>Книги  о Российской  армии и её геро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итайте эти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С. П. Баруздин. Шёл по улице сол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Б.Н.Никольский. Солдатская шк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А.Митяев. Книга будущих команд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А. Митяев. Землянка. Богаты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Н.Ф.Григорьев. Боевая хитрость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:\Documents and Settings\ЖУ\Мои документы\Моя музыка\Мои рисунки\suvorov[1].jpg"/>
          <p:cNvPicPr/>
          <p:nvPr/>
        </p:nvPicPr>
        <p:blipFill>
          <a:blip r:embed="rId5"/>
          <a:stretch/>
        </p:blipFill>
        <p:spPr>
          <a:xfrm>
            <a:off x="6715080" y="285840"/>
            <a:ext cx="2143080" cy="3143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5" name="Марш кадетов.mp3" descr=""/>
          <p:cNvPicPr/>
          <p:nvPr/>
        </p:nvPicPr>
        <p:blipFill>
          <a:blip r:embed="rId6"/>
          <a:stretch/>
        </p:blipFill>
        <p:spPr>
          <a:xfrm>
            <a:off x="357120" y="3071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7572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928800" y="285840"/>
            <a:ext cx="678636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ута отды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о время физкультминутки мы определим, какие слова подходят «защитнику». Если «да» вы громко хлопаете в ладоши, если «нет» –отдаёте честь, как во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ерность, косынка, смелость, отвага, военная форма, трусость, честность, сила, фартук, героизм, предательство, муж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кажите, ребята, когда наша Армия празднует «День Защитника Отече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ченик нашего класса выучил стихотворение Матвеева «Сынов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 слайдов о родах войск Российской Арм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C:\Documents and Settings\ЖУ\Мои документы\Моя музыка\Мои рисунки\iCAB7TJA0.jpg"/>
          <p:cNvPicPr/>
          <p:nvPr/>
        </p:nvPicPr>
        <p:blipFill>
          <a:blip r:embed="rId1"/>
          <a:stretch/>
        </p:blipFill>
        <p:spPr>
          <a:xfrm>
            <a:off x="571680" y="4643280"/>
            <a:ext cx="2643120" cy="185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:\Documents and Settings\ЖУ\Мои документы\Моя музыка\Мои рисунки\iCABKGAN9.jpg"/>
          <p:cNvPicPr/>
          <p:nvPr/>
        </p:nvPicPr>
        <p:blipFill>
          <a:blip r:embed="rId2"/>
          <a:stretch/>
        </p:blipFill>
        <p:spPr>
          <a:xfrm>
            <a:off x="7072200" y="4429080"/>
            <a:ext cx="1500480" cy="1946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C:\Documents and Settings\ЖУ\Мои документы\Моя музыка\Мои рисунки\16988-1[1].jpg"/>
          <p:cNvPicPr/>
          <p:nvPr/>
        </p:nvPicPr>
        <p:blipFill>
          <a:blip r:embed="rId3"/>
          <a:stretch/>
        </p:blipFill>
        <p:spPr>
          <a:xfrm>
            <a:off x="571680" y="1357200"/>
            <a:ext cx="138096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C:\Documents and Settings\ЖУ\Мои документы\Моя музыка\Мои рисунки\bazhanov_ushakov.jpg"/>
          <p:cNvPicPr/>
          <p:nvPr/>
        </p:nvPicPr>
        <p:blipFill>
          <a:blip r:embed="rId4"/>
          <a:stretch/>
        </p:blipFill>
        <p:spPr>
          <a:xfrm>
            <a:off x="2643120" y="1357200"/>
            <a:ext cx="1500120" cy="221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http://im3-tub.yandex.net/i?id=214641813&amp;tov=3"/>
          <p:cNvPicPr/>
          <p:nvPr/>
        </p:nvPicPr>
        <p:blipFill>
          <a:blip r:embed="rId5"/>
          <a:stretch/>
        </p:blipFill>
        <p:spPr>
          <a:xfrm>
            <a:off x="7000920" y="1500120"/>
            <a:ext cx="1604880" cy="20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C:\Documents and Settings\ЖУ\Мои документы\Моя музыка\Мои рисунки\iCAH392X2.jpg"/>
          <p:cNvPicPr/>
          <p:nvPr/>
        </p:nvPicPr>
        <p:blipFill>
          <a:blip r:embed="rId6"/>
          <a:stretch/>
        </p:blipFill>
        <p:spPr>
          <a:xfrm>
            <a:off x="4756320" y="1428840"/>
            <a:ext cx="1828800" cy="21430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8"/>
          <p:cNvSpPr/>
          <p:nvPr/>
        </p:nvSpPr>
        <p:spPr>
          <a:xfrm>
            <a:off x="579240" y="392904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Су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2571840" y="38577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Ф.Уш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4786200" y="36432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И.Баграти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7065360" y="385776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К.Ж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reobr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ЖУ\Мои документы\Моя музыка\Мои рисунки\143071931[1].jpg"/>
          <p:cNvPicPr/>
          <p:nvPr/>
        </p:nvPicPr>
        <p:blipFill>
          <a:blip r:embed="rId8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2823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92844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рмии есть пехотинцы, танкисты, моряки, лётчики, артиллеристы, пограничники, десант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C:\Documents and Settings\ЖУ\Мои документы\162846_image_large[1].jpg"/>
          <p:cNvPicPr/>
          <p:nvPr/>
        </p:nvPicPr>
        <p:blipFill>
          <a:blip r:embed="rId1"/>
          <a:stretch/>
        </p:blipFill>
        <p:spPr>
          <a:xfrm>
            <a:off x="4071960" y="1357200"/>
            <a:ext cx="5072040" cy="2598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ЖУ\Мои документы\Моя музыка\Мои рисунки\army05b[1].jpg"/>
          <p:cNvPicPr/>
          <p:nvPr/>
        </p:nvPicPr>
        <p:blipFill>
          <a:blip r:embed="rId2"/>
          <a:stretch/>
        </p:blipFill>
        <p:spPr>
          <a:xfrm>
            <a:off x="428760" y="2857680"/>
            <a:ext cx="2438280" cy="162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2" name="Picture 7" descr="C:\Documents and Settings\ЖУ\Мои документы\2836-4[1].jpg"/>
          <p:cNvPicPr/>
          <p:nvPr/>
        </p:nvPicPr>
        <p:blipFill>
          <a:blip r:embed="rId3"/>
          <a:stretch/>
        </p:blipFill>
        <p:spPr>
          <a:xfrm>
            <a:off x="500040" y="4643280"/>
            <a:ext cx="3133800" cy="18957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23" name="Picture 9" descr="C:\Documents and Settings\ЖУ\Мои документы\0439625144[1].jpg"/>
          <p:cNvPicPr/>
          <p:nvPr/>
        </p:nvPicPr>
        <p:blipFill>
          <a:blip r:embed="rId4"/>
          <a:stretch/>
        </p:blipFill>
        <p:spPr>
          <a:xfrm>
            <a:off x="4214880" y="4214880"/>
            <a:ext cx="4286160" cy="235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4" name="Picture 7" descr="C:\Documents and Settings\ЖУ\Мои документы\Моя музыка\Мои рисунки\i[4].jpg"/>
          <p:cNvPicPr/>
          <p:nvPr/>
        </p:nvPicPr>
        <p:blipFill>
          <a:blip r:embed="rId5"/>
          <a:stretch/>
        </p:blipFill>
        <p:spPr>
          <a:xfrm>
            <a:off x="2357280" y="1357200"/>
            <a:ext cx="12700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229600" cy="114300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дат должен быть : смелым,  храбрым,  сильным,  честным, дисциплинированным, умны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ЖУ\Мои документы\main-230[1].jpg"/>
          <p:cNvPicPr/>
          <p:nvPr/>
        </p:nvPicPr>
        <p:blipFill>
          <a:blip r:embed="rId1"/>
          <a:stretch/>
        </p:blipFill>
        <p:spPr>
          <a:xfrm>
            <a:off x="0" y="1428840"/>
            <a:ext cx="3929040" cy="2415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ЖУ\Мои документы\1227902585.03[1].jpg"/>
          <p:cNvPicPr/>
          <p:nvPr/>
        </p:nvPicPr>
        <p:blipFill>
          <a:blip r:embed="rId2"/>
          <a:stretch/>
        </p:blipFill>
        <p:spPr>
          <a:xfrm>
            <a:off x="4214880" y="3890880"/>
            <a:ext cx="4429080" cy="2835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28" name="Picture 3" descr="C:\Documents and Settings\ЖУ\Мои документы\2005110401b[1].jpg"/>
          <p:cNvPicPr/>
          <p:nvPr/>
        </p:nvPicPr>
        <p:blipFill>
          <a:blip r:embed="rId3"/>
          <a:stretch/>
        </p:blipFill>
        <p:spPr>
          <a:xfrm>
            <a:off x="357120" y="4143240"/>
            <a:ext cx="3500640" cy="242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9" name="Picture 6" descr="C:\Documents and Settings\ЖУ\Мои документы\Моя музыка\Мои рисунки\iCABFZB04.jpg"/>
          <p:cNvPicPr/>
          <p:nvPr/>
        </p:nvPicPr>
        <p:blipFill>
          <a:blip r:embed="rId4"/>
          <a:stretch/>
        </p:blipFill>
        <p:spPr>
          <a:xfrm>
            <a:off x="4714920" y="1428840"/>
            <a:ext cx="3429000" cy="221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6" descr="C:\Documents and Settings\ЖУ\Мои документы\main-230[1].jpg"/>
          <p:cNvPicPr/>
          <p:nvPr/>
        </p:nvPicPr>
        <p:blipFill>
          <a:blip r:embed="rId5"/>
          <a:stretch/>
        </p:blipFill>
        <p:spPr>
          <a:xfrm>
            <a:off x="428760" y="1428840"/>
            <a:ext cx="3929040" cy="2415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для солдата дружить и солдатской дружбой   доро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C:\Documents and Settings\ЖУ\Мои документы\Моя музыка\Мои рисунки\~parad_2027_250x150_mc[1].jpg"/>
          <p:cNvPicPr/>
          <p:nvPr/>
        </p:nvPicPr>
        <p:blipFill>
          <a:blip r:embed="rId1"/>
          <a:stretch/>
        </p:blipFill>
        <p:spPr>
          <a:xfrm>
            <a:off x="5857920" y="4714920"/>
            <a:ext cx="3286080" cy="17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ЖУ\Мои документы\mtr-04[1].jpg"/>
          <p:cNvPicPr/>
          <p:nvPr/>
        </p:nvPicPr>
        <p:blipFill>
          <a:blip r:embed="rId2"/>
          <a:stretch/>
        </p:blipFill>
        <p:spPr>
          <a:xfrm>
            <a:off x="3929040" y="1571760"/>
            <a:ext cx="4286160" cy="2995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Documents and Settings\ЖУ\Мои документы\v_ingushetii_proizoshel_bojj_voennykh_s[1].jpg"/>
          <p:cNvPicPr/>
          <p:nvPr/>
        </p:nvPicPr>
        <p:blipFill>
          <a:blip r:embed="rId3"/>
          <a:stretch/>
        </p:blipFill>
        <p:spPr>
          <a:xfrm>
            <a:off x="357120" y="1571760"/>
            <a:ext cx="3387960" cy="2709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nts and Settings\ЖУ\Мои документы\Копия news_img_14575040_0006[1].jpg"/>
          <p:cNvPicPr/>
          <p:nvPr/>
        </p:nvPicPr>
        <p:blipFill>
          <a:blip r:embed="rId4"/>
          <a:stretch/>
        </p:blipFill>
        <p:spPr>
          <a:xfrm>
            <a:off x="785880" y="4643280"/>
            <a:ext cx="2381040" cy="17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Защитниками не рождаются - ими становятся»</a:t>
            </a:r>
            <a:br>
              <a:rPr sz="3200"/>
            </a:br>
            <a:br>
              <a:rPr sz="2400"/>
            </a:b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«Отечество- это наша страна, Родина»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« Всё пройдёт, а Родина – остан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ЖУ\Мои документы\Моя музыка\Мои рисунки\8455002_30_big[1].jpg"/>
          <p:cNvPicPr/>
          <p:nvPr/>
        </p:nvPicPr>
        <p:blipFill>
          <a:blip r:embed="rId1"/>
          <a:stretch/>
        </p:blipFill>
        <p:spPr>
          <a:xfrm>
            <a:off x="1357200" y="3000240"/>
            <a:ext cx="5643720" cy="3571920"/>
          </a:xfrm>
          <a:prstGeom prst="rect">
            <a:avLst/>
          </a:prstGeom>
          <a:ln w="57240">
            <a:solidFill>
              <a:srgbClr val="ec767c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72680" cy="1428840"/>
          </a:xfrm>
          <a:prstGeom prst="rect">
            <a:avLst/>
          </a:prstGeom>
          <a:solidFill>
            <a:srgbClr val="cee2e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 солдатом чтобы стать , нужно многое узнать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ыть проворным и умелым, очень ловким, сильным,  смелым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Documents and Settings\ЖУ\Мои документы\Моя музыка\Мои рисунки\42b8e5d0206a5ed0f958ea25c67[1].jpg"/>
          <p:cNvPicPr/>
          <p:nvPr/>
        </p:nvPicPr>
        <p:blipFill>
          <a:blip r:embed="rId1"/>
          <a:stretch/>
        </p:blipFill>
        <p:spPr>
          <a:xfrm>
            <a:off x="4929120" y="1587600"/>
            <a:ext cx="3892680" cy="2500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8" name="Picture 5" descr="C:\Documents and Settings\ЖУ\Мои документы\Моя музыка\Мои рисунки\b_2289[1].jpg"/>
          <p:cNvPicPr/>
          <p:nvPr/>
        </p:nvPicPr>
        <p:blipFill>
          <a:blip r:embed="rId2"/>
          <a:stretch/>
        </p:blipFill>
        <p:spPr>
          <a:xfrm>
            <a:off x="357120" y="1643040"/>
            <a:ext cx="3737160" cy="245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9" name="Picture 6" descr="C:\Documents and Settings\ЖУ\Мои документы\Моя музыка\Мои рисунки\iCAP09CA0.jpg"/>
          <p:cNvPicPr/>
          <p:nvPr/>
        </p:nvPicPr>
        <p:blipFill>
          <a:blip r:embed="rId3"/>
          <a:stretch/>
        </p:blipFill>
        <p:spPr>
          <a:xfrm>
            <a:off x="2928960" y="4286160"/>
            <a:ext cx="342900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f8cd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храняет наше море славный, доблестный моряк, гордо реет на линкоре наш родной Российский ф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ЖУ\Мои документы\Моя музыка\Мои рисунки\CRW_6257[1].jpg"/>
          <p:cNvPicPr/>
          <p:nvPr/>
        </p:nvPicPr>
        <p:blipFill>
          <a:blip r:embed="rId1"/>
          <a:stretch/>
        </p:blipFill>
        <p:spPr>
          <a:xfrm>
            <a:off x="3143160" y="1500120"/>
            <a:ext cx="4929120" cy="2746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Documents and Settings\ЖУ\Мои документы\Моя музыка\Мои рисунки\iCAYW25Y5.jpg"/>
          <p:cNvPicPr/>
          <p:nvPr/>
        </p:nvPicPr>
        <p:blipFill>
          <a:blip r:embed="rId2"/>
          <a:stretch/>
        </p:blipFill>
        <p:spPr>
          <a:xfrm>
            <a:off x="285840" y="1571760"/>
            <a:ext cx="2714400" cy="257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3" name="Picture 6" descr="C:\Documents and Settings\ЖУ\Мои документы\main-230[1].jpg"/>
          <p:cNvPicPr/>
          <p:nvPr/>
        </p:nvPicPr>
        <p:blipFill>
          <a:blip r:embed="rId3"/>
          <a:stretch/>
        </p:blipFill>
        <p:spPr>
          <a:xfrm>
            <a:off x="2357280" y="4286160"/>
            <a:ext cx="3857760" cy="2525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miarmia.mp3" descr=""/>
          <p:cNvPicPr/>
          <p:nvPr/>
        </p:nvPicPr>
        <p:blipFill>
          <a:blip r:embed="rId4"/>
          <a:stretch/>
        </p:blipFill>
        <p:spPr>
          <a:xfrm>
            <a:off x="7358040" y="585792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2694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из нас мечтает, чтобы рядом были настоящие защитники. Сильный должен защищать слабого. Ваша главная задача – хорошо  учиться.  Слова А.В. Суворова «Тяжело в учении- легко в бою» относятся и к вам  ребята. Будьте же достойными гражданами нашей родной  страны. Заканчивая наш разговор, предлагаю украсить «небо звёздам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расный  цвет –урок понрави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иний цвет - что-то было не т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из чего же из чего же.mp3" descr=""/>
          <p:cNvPicPr/>
          <p:nvPr/>
        </p:nvPicPr>
        <p:blipFill>
          <a:blip r:embed="rId1"/>
          <a:stretch/>
        </p:blipFill>
        <p:spPr>
          <a:xfrm>
            <a:off x="8143920" y="85716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3458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857160" y="714240"/>
            <a:ext cx="650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соци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акие ассоциации у вас возникли, когда вы услышали слово «защит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: ( воины, солдат, защищает, спасает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в словаре С.И. Ожегова  слово «защитник» имеет следующее зна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840" y="3142800"/>
            <a:ext cx="54864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Arial"/>
              </a:rPr>
              <a:t>Защитни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ЖУ\Мои документы\Моя музыка\Мои рисунки\russian_men_parade3[1].jpg"/>
          <p:cNvPicPr/>
          <p:nvPr/>
        </p:nvPicPr>
        <p:blipFill>
          <a:blip r:embed="rId1"/>
          <a:srcRect l="5206" t="0" r="5206" b="0"/>
          <a:stretch/>
        </p:blipFill>
        <p:spPr>
          <a:xfrm>
            <a:off x="1643040" y="285840"/>
            <a:ext cx="6215040" cy="3500280"/>
          </a:xfrm>
          <a:prstGeom prst="rect">
            <a:avLst/>
          </a:prstGeom>
          <a:ln w="0">
            <a:noFill/>
          </a:ln>
        </p:spPr>
      </p:pic>
      <p:cxnSp>
        <p:nvCxnSpPr>
          <p:cNvPr id="48" name="Прямая со стрелкой 9"/>
          <p:cNvCxnSpPr/>
          <p:nvPr/>
        </p:nvCxnSpPr>
        <p:spPr>
          <a:xfrm flipV="1">
            <a:off x="4143240" y="1071000"/>
            <a:ext cx="1286640" cy="157212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triangle" w="med"/>
          </a:ln>
        </p:spPr>
      </p:cxnSp>
      <p:sp>
        <p:nvSpPr>
          <p:cNvPr id="49" name="Прямоугольник 14"/>
          <p:cNvSpPr/>
          <p:nvPr/>
        </p:nvSpPr>
        <p:spPr>
          <a:xfrm>
            <a:off x="1857240" y="5929200"/>
            <a:ext cx="2286000" cy="571680"/>
          </a:xfrm>
          <a:prstGeom prst="rect">
            <a:avLst/>
          </a:prstGeom>
          <a:solidFill>
            <a:srgbClr val="00206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357120" y="4857840"/>
            <a:ext cx="2286000" cy="571320"/>
          </a:xfrm>
          <a:prstGeom prst="rect">
            <a:avLst/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щищ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6286680" y="4857840"/>
            <a:ext cx="2286000" cy="571320"/>
          </a:xfrm>
          <a:prstGeom prst="rect">
            <a:avLst/>
          </a:prstGeom>
          <a:solidFill>
            <a:srgbClr val="00b05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5000760" y="5857920"/>
            <a:ext cx="2286000" cy="571320"/>
          </a:xfrm>
          <a:prstGeom prst="rect">
            <a:avLst/>
          </a:prstGeom>
          <a:solidFill>
            <a:srgbClr val="a3171e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20"/>
          <p:cNvCxnSpPr>
            <a:stCxn id="46" idx="2"/>
          </p:cNvCxnSpPr>
          <p:nvPr/>
        </p:nvCxnSpPr>
        <p:spPr>
          <a:xfrm>
            <a:off x="4172040" y="4500360"/>
            <a:ext cx="2115360" cy="50076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  <p:cxnSp>
        <p:nvCxnSpPr>
          <p:cNvPr id="54" name="Прямая со стрелкой 22"/>
          <p:cNvCxnSpPr>
            <a:stCxn id="46" idx="2"/>
            <a:endCxn id="50" idx="3"/>
          </p:cNvCxnSpPr>
          <p:nvPr/>
        </p:nvCxnSpPr>
        <p:spPr>
          <a:xfrm flipH="1">
            <a:off x="2642400" y="4500720"/>
            <a:ext cx="1529640" cy="64332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  <p:cxnSp>
        <p:nvCxnSpPr>
          <p:cNvPr id="55" name="Прямая со стрелкой 24"/>
          <p:cNvCxnSpPr>
            <a:endCxn id="52" idx="0"/>
          </p:cNvCxnSpPr>
          <p:nvPr/>
        </p:nvCxnSpPr>
        <p:spPr>
          <a:xfrm>
            <a:off x="4142880" y="4572000"/>
            <a:ext cx="2001240" cy="128664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  <p:cxnSp>
        <p:nvCxnSpPr>
          <p:cNvPr id="56" name="Прямая со стрелкой 26"/>
          <p:cNvCxnSpPr>
            <a:endCxn id="49" idx="0"/>
          </p:cNvCxnSpPr>
          <p:nvPr/>
        </p:nvCxnSpPr>
        <p:spPr>
          <a:xfrm flipH="1">
            <a:off x="2999520" y="4643280"/>
            <a:ext cx="1072440" cy="128664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1214280" y="285840"/>
            <a:ext cx="6072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щение к теме и проблем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шу родину в разное время защищали разные люди: по- разному  одевались, разным оружием владели, но одно у них было общее- сильная любовь к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аких вы знаете защитников земли русс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лайд о  русских богатыр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аких полководцев, генерал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лайд о великих русских полководц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наете ли вы, ребята, фамилию А.В.Суворов? Кто такой А.В.Суво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показ слайда, на котором портрет А.В.Суво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ченица нашего класса подготовила домашнее задание –рассказ о А.В.Сувор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a1f28"/>
                </a:solidFill>
                <a:uFillTx/>
                <a:latin typeface="Arial"/>
              </a:rPr>
              <a:t>Защитники  земли русской. </a:t>
            </a:r>
            <a:br>
              <a:rPr sz="20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Илья Муром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6d1014"/>
                </a:solidFill>
                <a:latin typeface="Arial"/>
              </a:rPr>
              <a:t>Добрыня Никит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лёша Попови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ЖУ\Мои документы\Моя музыка\Мои рисунки\_04[1].jpg"/>
          <p:cNvPicPr/>
          <p:nvPr/>
        </p:nvPicPr>
        <p:blipFill>
          <a:blip r:embed="rId1"/>
          <a:stretch/>
        </p:blipFill>
        <p:spPr>
          <a:xfrm>
            <a:off x="357120" y="1214280"/>
            <a:ext cx="8429760" cy="535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ЖУ\Мои документы\bazhanov_ushakov.jpg"/>
          <p:cNvPicPr/>
          <p:nvPr/>
        </p:nvPicPr>
        <p:blipFill>
          <a:blip r:embed="rId1"/>
          <a:stretch/>
        </p:blipFill>
        <p:spPr>
          <a:xfrm>
            <a:off x="3286080" y="1714680"/>
            <a:ext cx="2571840" cy="3714480"/>
          </a:xfrm>
          <a:prstGeom prst="rect">
            <a:avLst/>
          </a:prstGeom>
          <a:ln w="28440">
            <a:solidFill>
              <a:srgbClr val="ec767c"/>
            </a:solidFill>
            <a:miter/>
          </a:ln>
        </p:spPr>
      </p:pic>
      <p:pic>
        <p:nvPicPr>
          <p:cNvPr id="61" name="Picture 6" descr="C:\Documents and Settings\ЖУ\Мои документы\Моя музыка\Мои рисунки\pic_g23i[1].jpg"/>
          <p:cNvPicPr/>
          <p:nvPr/>
        </p:nvPicPr>
        <p:blipFill>
          <a:blip r:embed="rId2"/>
          <a:stretch/>
        </p:blipFill>
        <p:spPr>
          <a:xfrm>
            <a:off x="6143760" y="1714680"/>
            <a:ext cx="2714400" cy="371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Прямоугольник 4"/>
          <p:cNvSpPr/>
          <p:nvPr/>
        </p:nvSpPr>
        <p:spPr>
          <a:xfrm>
            <a:off x="1000080" y="214200"/>
            <a:ext cx="692964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еликие  русские полково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 flipH="1">
            <a:off x="0" y="71424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.И.Багратион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.   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Ф.Ф. Ушаков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.       М.И.Кут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494640" y="5857920"/>
            <a:ext cx="21315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65-1812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3429000" y="5929200"/>
            <a:ext cx="2286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44г.-18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6000840" y="5929200"/>
            <a:ext cx="28573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45г.    - 183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im8-tub.yandex.net/i?id=38380783&amp;tov=8"/>
          <p:cNvPicPr/>
          <p:nvPr/>
        </p:nvPicPr>
        <p:blipFill>
          <a:blip r:embed="rId3"/>
          <a:stretch/>
        </p:blipFill>
        <p:spPr>
          <a:xfrm>
            <a:off x="285840" y="1714680"/>
            <a:ext cx="2786040" cy="36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ш урок посвящён Защитникам Оте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C:\Documents and Settings\ЖУ\Мои документы\Моя музыка\Мои рисунки\7731505e5a57[1].jpg"/>
          <p:cNvPicPr/>
          <p:nvPr/>
        </p:nvPicPr>
        <p:blipFill>
          <a:blip r:embed="rId1"/>
          <a:stretch/>
        </p:blipFill>
        <p:spPr>
          <a:xfrm>
            <a:off x="3429000" y="4214880"/>
            <a:ext cx="3429000" cy="21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ЖУ\Мои документы\Моя музыка\Мои рисунки\iCAB7TJA0.jpg"/>
          <p:cNvPicPr/>
          <p:nvPr/>
        </p:nvPicPr>
        <p:blipFill>
          <a:blip r:embed="rId2"/>
          <a:stretch/>
        </p:blipFill>
        <p:spPr>
          <a:xfrm>
            <a:off x="357120" y="4357800"/>
            <a:ext cx="2928960" cy="200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Picture 11" descr="C:\Documents and Settings\ЖУ\Мои документы\Моя музыка\Мои рисунки\iCABKGAN9.jpg"/>
          <p:cNvPicPr/>
          <p:nvPr/>
        </p:nvPicPr>
        <p:blipFill>
          <a:blip r:embed="rId3"/>
          <a:stretch/>
        </p:blipFill>
        <p:spPr>
          <a:xfrm>
            <a:off x="7000920" y="4286160"/>
            <a:ext cx="1785960" cy="2143080"/>
          </a:xfrm>
          <a:prstGeom prst="rect">
            <a:avLst/>
          </a:prstGeom>
          <a:ln w="38160">
            <a:solidFill>
              <a:srgbClr val="2da2bf"/>
            </a:solidFill>
            <a:miter/>
          </a:ln>
        </p:spPr>
      </p:pic>
      <p:pic>
        <p:nvPicPr>
          <p:cNvPr id="72" name="Picture 12" descr="C:\Documents and Settings\ЖУ\Мои документы\Моя музыка\Мои рисунки\16988-1[1].jpg"/>
          <p:cNvPicPr/>
          <p:nvPr/>
        </p:nvPicPr>
        <p:blipFill>
          <a:blip r:embed="rId4"/>
          <a:stretch/>
        </p:blipFill>
        <p:spPr>
          <a:xfrm>
            <a:off x="357120" y="928800"/>
            <a:ext cx="1857600" cy="264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3" name="Picture 13" descr="C:\Documents and Settings\ЖУ\Мои документы\Моя музыка\Мои рисунки\bazhanov_ushakov.jpg"/>
          <p:cNvPicPr/>
          <p:nvPr/>
        </p:nvPicPr>
        <p:blipFill>
          <a:blip r:embed="rId5"/>
          <a:stretch/>
        </p:blipFill>
        <p:spPr>
          <a:xfrm>
            <a:off x="2428920" y="928800"/>
            <a:ext cx="2000160" cy="2643120"/>
          </a:xfrm>
          <a:prstGeom prst="rect">
            <a:avLst/>
          </a:prstGeom>
          <a:ln w="28440">
            <a:solidFill>
              <a:srgbClr val="2da2bf"/>
            </a:solidFill>
            <a:miter/>
          </a:ln>
        </p:spPr>
      </p:pic>
      <p:pic>
        <p:nvPicPr>
          <p:cNvPr id="74" name="Picture 18" descr="http://im3-tub.yandex.net/i?id=214641813&amp;tov=3"/>
          <p:cNvPicPr/>
          <p:nvPr/>
        </p:nvPicPr>
        <p:blipFill>
          <a:blip r:embed="rId6"/>
          <a:stretch/>
        </p:blipFill>
        <p:spPr>
          <a:xfrm>
            <a:off x="7000920" y="1000080"/>
            <a:ext cx="1857240" cy="25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9" descr="C:\Documents and Settings\ЖУ\Мои документы\Моя музыка\Мои рисунки\iCAH392X2.jpg"/>
          <p:cNvPicPr/>
          <p:nvPr/>
        </p:nvPicPr>
        <p:blipFill>
          <a:blip r:embed="rId7"/>
          <a:stretch/>
        </p:blipFill>
        <p:spPr>
          <a:xfrm>
            <a:off x="4643280" y="928800"/>
            <a:ext cx="2071800" cy="2643120"/>
          </a:xfrm>
          <a:prstGeom prst="rect">
            <a:avLst/>
          </a:prstGeom>
          <a:ln w="38160">
            <a:solidFill>
              <a:srgbClr val="2da2bf"/>
            </a:solidFill>
            <a:miter/>
          </a:ln>
        </p:spPr>
      </p:pic>
      <p:sp>
        <p:nvSpPr>
          <p:cNvPr id="76" name="TextBox 18"/>
          <p:cNvSpPr/>
          <p:nvPr/>
        </p:nvSpPr>
        <p:spPr>
          <a:xfrm>
            <a:off x="285840" y="3714840"/>
            <a:ext cx="18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В.Сув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2357280" y="3714840"/>
            <a:ext cx="18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.Ф.Уш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4429080" y="371484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И.Баграти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7059960" y="37148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К.Ж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reobr.mp3" descr=""/>
          <p:cNvPicPr/>
          <p:nvPr/>
        </p:nvPicPr>
        <p:blipFill>
          <a:blip r:embed="rId8"/>
          <a:stretch/>
        </p:blipFill>
        <p:spPr>
          <a:xfrm>
            <a:off x="8215200" y="285840"/>
            <a:ext cx="642960" cy="42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823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82152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лександр Невски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то с мечом на русскую землю придёт, тот от меча и погибнет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вская битва – 1240 г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едовое побоище – 1242 г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ЖУ\Мои документы\000000.jpg"/>
          <p:cNvPicPr/>
          <p:nvPr/>
        </p:nvPicPr>
        <p:blipFill>
          <a:blip r:embed="rId1"/>
          <a:stretch/>
        </p:blipFill>
        <p:spPr>
          <a:xfrm>
            <a:off x="3214800" y="2428920"/>
            <a:ext cx="3286080" cy="414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16:15:26Z</dcterms:created>
  <dc:creator>ЖУ</dc:creator>
  <dc:description/>
  <dc:language>en-US</dc:language>
  <cp:lastModifiedBy>Учетная запись Майкрософт</cp:lastModifiedBy>
  <dcterms:modified xsi:type="dcterms:W3CDTF">2023-11-13T09:09:43Z</dcterms:modified>
  <cp:revision>117</cp:revision>
  <dc:subject/>
  <dc:title>Наш урок посвящён Дню защитника Отечества, защитников мира  свободы и счастья.</dc:title>
</cp:coreProperties>
</file>