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9F2637-7DE3-411A-BBCF-BA88B6B1CF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BAEB40-D254-48A3-8E7F-3C9F34E87A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F28DAC-86C8-4DAC-8012-415C21B6B3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8A21-8E19-4778-B921-728943D9B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425D-E97E-4A1E-B600-C7EE61983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9AF5-9C18-43E7-87DD-F81005B08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0C04-1E95-4B72-98D6-43415981D5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A575E-68D6-408C-8703-C211B710E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9558-2D51-4D33-B10E-558094F43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56D1-2763-40C7-A106-FEBBCC2B6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BA34-C676-4477-80A4-97C681901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0353-07E2-4D3F-B1C0-35730B163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F84D-A770-45F4-AE88-D3FEC2A32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7C46-F371-4DBF-A50B-3C25D5C9C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F2C8-4766-4E27-A891-F8D31347E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213420-9398-4748-9E3E-7CB13442AA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../../../../&#1090;&#1077;&#1093;&#1085;&#1086;&#1083;&#1086;&#1075;&#1080;&#1095;&#1077;&#1089;&#1082;&#1072;&#1103;%20&#1082;&#1072;&#1088;&#1090;&#1072;.docx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../&#1090;&#1077;&#1093;&#1085;&#1086;&#1083;&#1086;&#1075;&#1080;&#1095;&#1077;&#1089;&#1082;&#1072;&#1103;%20&#1082;&#1072;&#1088;&#1090;&#1072;.docx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34800" y="493560"/>
            <a:ext cx="7339320" cy="2602080"/>
            <a:chOff x="334800" y="493560"/>
            <a:chExt cx="7339320" cy="26020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334800" y="493560"/>
              <a:ext cx="733932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85640" y="620640"/>
              <a:ext cx="7037640" cy="20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Script"/>
                </a:rPr>
                <a:t>«</a:t>
              </a: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Segoe Script"/>
                  <a:hlinkClick r:id="rId3"/>
                </a:rPr>
                <a:t>Дорогие ребята</a:t>
              </a:r>
              <a:r>
                <a:rPr b="0" lang="ru-RU" sz="1800" spc="-1" strike="noStrike">
                  <a:solidFill>
                    <a:srgbClr val="000000"/>
                  </a:solidFill>
                  <a:latin typeface="Segoe Script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Script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Segoe Script"/>
                </a:rPr>
                <a:t>Обращаюсь к вам за помощью. Мой дачный участок имел форму прямоугольника с размерами 20м. на 30м. Из-за строительства дороги мне пришлось перенести изгородь следующим образом (рисунок) Мне кажется, что мой участок уменьшился. Прав ли я? Стоит ли мне подать жалобу на строителей?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311640" y="3179880"/>
            <a:ext cx="2952720" cy="20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чный участ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260000">
            <a:off x="5697000" y="3053880"/>
            <a:ext cx="966960" cy="3380040"/>
          </a:xfrm>
          <a:prstGeom prst="parallelogram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374920" y="3179880"/>
            <a:ext cx="974880" cy="20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265720" y="3179880"/>
            <a:ext cx="974880" cy="20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44680" y="5253120"/>
            <a:ext cx="1003320" cy="14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35480" y="5267160"/>
            <a:ext cx="1003320" cy="18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70480" y="33591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ро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113440" y="865080"/>
            <a:ext cx="3241440" cy="105408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26160" y="1857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03840" y="4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61200" y="434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1857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380360" y="1902960"/>
            <a:ext cx="1000080" cy="1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131320" y="879480"/>
            <a:ext cx="513720" cy="1549080"/>
            <a:chOff x="8131320" y="879480"/>
            <a:chExt cx="513720" cy="1549080"/>
          </a:xfrm>
        </p:grpSpPr>
        <p:grpSp>
          <p:nvGrpSpPr>
            <p:cNvPr id="248" name=""/>
            <p:cNvGrpSpPr/>
            <p:nvPr/>
          </p:nvGrpSpPr>
          <p:grpSpPr>
            <a:xfrm>
              <a:off x="8131320" y="879480"/>
              <a:ext cx="226800" cy="1027080"/>
              <a:chOff x="8131320" y="879480"/>
              <a:chExt cx="226800" cy="1027080"/>
            </a:xfrm>
          </p:grpSpPr>
          <p:sp>
            <p:nvSpPr>
              <p:cNvPr id="249" name=""/>
              <p:cNvSpPr/>
              <p:nvPr/>
            </p:nvSpPr>
            <p:spPr>
              <a:xfrm>
                <a:off x="8358120" y="879480"/>
                <a:ext cx="0" cy="102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131320" y="1808280"/>
                <a:ext cx="225000" cy="982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8208360" y="1908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600" y="14446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площадь параллелогра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00" y="395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35960" y="4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39400" y="117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0040" y="982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3068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ычислите площадь параллелограмма, длины сторон которого 8 см и 12 см, а тупой угол содержит 15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41560" y="1628640"/>
            <a:ext cx="24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  48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6920" y="62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79280" y="328464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Итоги уро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39337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Закончите фразу: сегодня на уроке 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260280"/>
            <a:ext cx="61927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man Old Style"/>
              </a:rPr>
              <a:t>п.21 стр.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man Old Style"/>
              </a:rPr>
              <a:t> № </a:t>
            </a:r>
            <a:r>
              <a:rPr b="1" lang="ru-RU" sz="2400" spc="-1" strike="noStrike">
                <a:solidFill>
                  <a:srgbClr val="0000cc"/>
                </a:solidFill>
                <a:latin typeface="Bookman Old Style"/>
              </a:rPr>
              <a:t>698 №700 №7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Bookman Old Style"/>
              </a:rPr>
              <a:t>или ответ дедуш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4437000"/>
            <a:ext cx="19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узна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19640" y="4797360"/>
            <a:ext cx="19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поня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51640" y="4581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научил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1844640"/>
            <a:ext cx="7561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00000"/>
                </a:solidFill>
                <a:latin typeface="Bookman Old Style"/>
              </a:rPr>
              <a:t>Площадь параллелограм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765000"/>
            <a:ext cx="8858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cc"/>
                </a:solidFill>
                <a:latin typeface="Bookman Old Style"/>
              </a:rPr>
              <a:t>«</a:t>
            </a:r>
            <a:r>
              <a:rPr b="1" i="1" lang="ru-RU" sz="2200" spc="-1" strike="noStrike" u="sng">
                <a:solidFill>
                  <a:srgbClr val="ccccff"/>
                </a:solidFill>
                <a:uFillTx/>
                <a:latin typeface="Bookman Old Style"/>
                <a:hlinkClick r:id="rId2"/>
              </a:rPr>
              <a:t>Скроите» </a:t>
            </a:r>
            <a:r>
              <a:rPr b="1" i="1" lang="ru-RU" sz="2200" spc="-1" strike="noStrike">
                <a:solidFill>
                  <a:srgbClr val="0000cc"/>
                </a:solidFill>
                <a:latin typeface="Bookman Old Style"/>
              </a:rPr>
              <a:t>многоугольники из данных многоугольник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71280" y="2349360"/>
            <a:ext cx="1079640" cy="2065320"/>
          </a:xfrm>
          <a:prstGeom prst="rtTriangl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443640" y="2349000"/>
            <a:ext cx="2230560" cy="2086560"/>
            <a:chOff x="6443640" y="2349000"/>
            <a:chExt cx="2230560" cy="2086560"/>
          </a:xfrm>
        </p:grpSpPr>
        <p:grpSp>
          <p:nvGrpSpPr>
            <p:cNvPr id="63" name=""/>
            <p:cNvGrpSpPr/>
            <p:nvPr/>
          </p:nvGrpSpPr>
          <p:grpSpPr>
            <a:xfrm>
              <a:off x="6443640" y="2349360"/>
              <a:ext cx="2230560" cy="2085840"/>
              <a:chOff x="6443640" y="2349360"/>
              <a:chExt cx="2230560" cy="208584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6443640" y="2349360"/>
                <a:ext cx="1150920" cy="208584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596360" y="2349360"/>
                <a:ext cx="1077840" cy="2085840"/>
              </a:xfrm>
              <a:prstGeom prst="rtTriangl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443640" y="2349000"/>
              <a:ext cx="2230560" cy="2086560"/>
              <a:chOff x="6443640" y="2349000"/>
              <a:chExt cx="2230560" cy="2086560"/>
            </a:xfrm>
          </p:grpSpPr>
          <p:sp>
            <p:nvSpPr>
              <p:cNvPr id="67" name=""/>
              <p:cNvSpPr/>
              <p:nvPr/>
            </p:nvSpPr>
            <p:spPr>
              <a:xfrm flipV="1">
                <a:off x="6443640" y="2349000"/>
                <a:ext cx="0" cy="2086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443640" y="4435560"/>
                <a:ext cx="115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7596360" y="2349000"/>
                <a:ext cx="1077840" cy="208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443640" y="2350440"/>
                <a:ext cx="2230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1692360" y="2349000"/>
            <a:ext cx="2230200" cy="2086560"/>
            <a:chOff x="1692360" y="2349000"/>
            <a:chExt cx="2230200" cy="2086560"/>
          </a:xfrm>
        </p:grpSpPr>
        <p:grpSp>
          <p:nvGrpSpPr>
            <p:cNvPr id="72" name=""/>
            <p:cNvGrpSpPr/>
            <p:nvPr/>
          </p:nvGrpSpPr>
          <p:grpSpPr>
            <a:xfrm>
              <a:off x="1692360" y="2349360"/>
              <a:ext cx="2230200" cy="2085840"/>
              <a:chOff x="1692360" y="2349360"/>
              <a:chExt cx="2230200" cy="2085840"/>
            </a:xfrm>
          </p:grpSpPr>
          <p:sp>
            <p:nvSpPr>
              <p:cNvPr id="73" name=""/>
              <p:cNvSpPr/>
              <p:nvPr/>
            </p:nvSpPr>
            <p:spPr>
              <a:xfrm flipV="1">
                <a:off x="1692360" y="2349360"/>
                <a:ext cx="1150920" cy="208584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2844720" y="2349360"/>
                <a:ext cx="1077840" cy="2085840"/>
              </a:xfrm>
              <a:prstGeom prst="rtTriangl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692360" y="2349000"/>
              <a:ext cx="2230200" cy="2086560"/>
              <a:chOff x="1692360" y="2349000"/>
              <a:chExt cx="2230200" cy="208656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1692360" y="2349000"/>
                <a:ext cx="0" cy="20862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92360" y="4435560"/>
                <a:ext cx="115092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2844720" y="2349000"/>
                <a:ext cx="1077840" cy="20862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92360" y="2350440"/>
                <a:ext cx="223020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 flipH="1">
            <a:off x="250200" y="2349360"/>
            <a:ext cx="1081080" cy="2087640"/>
          </a:xfrm>
          <a:prstGeom prst="rtTriangl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2349360"/>
            <a:ext cx="2303280" cy="20876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349360"/>
            <a:ext cx="3313080" cy="2087640"/>
          </a:xfrm>
          <a:prstGeom prst="parallelogram">
            <a:avLst>
              <a:gd name="adj" fmla="val 50754"/>
            </a:avLst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4581360"/>
            <a:ext cx="34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сохранилось у параллелограмма и прямоугольни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2349360"/>
            <a:ext cx="1440" cy="20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2875 -0.0051 E">
                                      <p:cBhvr>
                                        <p:cTn id="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81481E-006 L -0.08264 4.81481E-006 E">
                                      <p:cBhvr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9000" y="189000"/>
            <a:ext cx="819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  <a:ea typeface="Arial"/>
              </a:rPr>
              <a:t>План доказательства теор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836640"/>
          <a:ext cx="8210160" cy="2650680"/>
        </p:xfrm>
        <a:graphic>
          <a:graphicData uri="http://schemas.openxmlformats.org/drawingml/2006/table">
            <a:tbl>
              <a:tblPr/>
              <a:tblGrid>
                <a:gridCol w="1152360"/>
                <a:gridCol w="70578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азать равенство прямоугольных треугольник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ти площадь прямоугольни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ти площадь параллелограмм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делать вывод о равенстве площадей параллелограмма и прямоугольни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1004760"/>
            <a:ext cx="360360" cy="44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9880" y="1996920"/>
            <a:ext cx="345960" cy="4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26920" y="2525760"/>
            <a:ext cx="358920" cy="447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826920" y="1484280"/>
            <a:ext cx="360360" cy="450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24360" y="3789360"/>
            <a:ext cx="1944720" cy="1440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2304" h="1488">
                <a:moveTo>
                  <a:pt x="0" y="0"/>
                </a:moveTo>
                <a:lnTo>
                  <a:pt x="2304" y="0"/>
                </a:lnTo>
                <a:lnTo>
                  <a:pt x="2304" y="1488"/>
                </a:lnTo>
                <a:lnTo>
                  <a:pt x="0" y="14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3789360"/>
            <a:ext cx="2809800" cy="144000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695760" y="3789360"/>
            <a:ext cx="226800" cy="1415880"/>
            <a:chOff x="3695760" y="3789360"/>
            <a:chExt cx="226800" cy="1415880"/>
          </a:xfrm>
        </p:grpSpPr>
        <p:sp>
          <p:nvSpPr>
            <p:cNvPr id="94" name=""/>
            <p:cNvSpPr/>
            <p:nvPr/>
          </p:nvSpPr>
          <p:spPr>
            <a:xfrm>
              <a:off x="3922560" y="3789360"/>
              <a:ext cx="0" cy="14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95760" y="5070600"/>
              <a:ext cx="225000" cy="13464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640480" y="3811680"/>
            <a:ext cx="226800" cy="1415880"/>
            <a:chOff x="5640480" y="3811680"/>
            <a:chExt cx="226800" cy="1415880"/>
          </a:xfrm>
        </p:grpSpPr>
        <p:sp>
          <p:nvSpPr>
            <p:cNvPr id="97" name=""/>
            <p:cNvSpPr/>
            <p:nvPr/>
          </p:nvSpPr>
          <p:spPr>
            <a:xfrm>
              <a:off x="5867280" y="3811680"/>
              <a:ext cx="0" cy="14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40480" y="5092560"/>
              <a:ext cx="225000" cy="13500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76720" y="4869000"/>
            <a:ext cx="2085840" cy="336240"/>
            <a:chOff x="3276720" y="4869000"/>
            <a:chExt cx="2085840" cy="336240"/>
          </a:xfrm>
        </p:grpSpPr>
        <p:sp>
          <p:nvSpPr>
            <p:cNvPr id="100" name=""/>
            <p:cNvSpPr/>
            <p:nvPr/>
          </p:nvSpPr>
          <p:spPr>
            <a:xfrm>
              <a:off x="3276720" y="4869000"/>
              <a:ext cx="114120" cy="336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136" h="288">
                  <a:moveTo>
                    <a:pt x="0" y="0"/>
                  </a:moveTo>
                  <a:cubicBezTo>
                    <a:pt x="17" y="21"/>
                    <a:pt x="81" y="80"/>
                    <a:pt x="104" y="128"/>
                  </a:cubicBezTo>
                  <a:cubicBezTo>
                    <a:pt x="127" y="176"/>
                    <a:pt x="129" y="255"/>
                    <a:pt x="136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48440" y="4869000"/>
              <a:ext cx="114120" cy="336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136" h="288">
                  <a:moveTo>
                    <a:pt x="0" y="0"/>
                  </a:moveTo>
                  <a:cubicBezTo>
                    <a:pt x="17" y="21"/>
                    <a:pt x="81" y="80"/>
                    <a:pt x="104" y="128"/>
                  </a:cubicBezTo>
                  <a:cubicBezTo>
                    <a:pt x="127" y="176"/>
                    <a:pt x="129" y="255"/>
                    <a:pt x="136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588840" y="3530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46240" y="491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46400" y="3552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38160" y="494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320" y="494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92560" y="4952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396120" y="3684600"/>
                <a:ext cx="1993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ABH=ΔDC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370320" y="4456080"/>
            <a:ext cx="228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8040" y="4519440"/>
            <a:ext cx="228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4040" y="528948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57440" y="5297400"/>
            <a:ext cx="154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H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75640" y="4121280"/>
            <a:ext cx="89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HK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04000" y="4116240"/>
            <a:ext cx="144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HD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27240" y="5900760"/>
            <a:ext cx="1744200" cy="459720"/>
            <a:chOff x="3927240" y="5900760"/>
            <a:chExt cx="1744200" cy="459720"/>
          </a:xfrm>
        </p:grpSpPr>
        <p:sp>
          <p:nvSpPr>
            <p:cNvPr id="116" name=""/>
            <p:cNvSpPr/>
            <p:nvPr/>
          </p:nvSpPr>
          <p:spPr>
            <a:xfrm>
              <a:off x="3927240" y="5900760"/>
              <a:ext cx="174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ар=а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5097600" y="5999040"/>
                  <a:ext cx="30312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6451560" y="4869000"/>
            <a:ext cx="141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S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HK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028240" y="1438200"/>
            <a:ext cx="4225680" cy="2789280"/>
            <a:chOff x="2028240" y="1438200"/>
            <a:chExt cx="4225680" cy="2789280"/>
          </a:xfrm>
        </p:grpSpPr>
        <p:sp>
          <p:nvSpPr>
            <p:cNvPr id="120" name=""/>
            <p:cNvSpPr/>
            <p:nvPr/>
          </p:nvSpPr>
          <p:spPr>
            <a:xfrm>
              <a:off x="2530440" y="1654200"/>
              <a:ext cx="3309840" cy="2087640"/>
            </a:xfrm>
            <a:prstGeom prst="parallelogram">
              <a:avLst>
                <a:gd name="adj" fmla="val 5075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28240" y="367200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ookman Old Style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6360" y="143820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ookman Old Style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50720" y="143820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ookman Old Style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51400" y="3706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ookman Old Style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457360" y="3743280"/>
            <a:ext cx="2303640" cy="1800"/>
          </a:xfrm>
          <a:prstGeom prst="line">
            <a:avLst/>
          </a:prstGeom>
          <a:ln w="34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1638360"/>
            <a:ext cx="1800" cy="208764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5280" y="344484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34240" y="4357800"/>
            <a:ext cx="24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S = MK ∙ N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 flipH="1">
            <a:off x="4699800" y="4811400"/>
            <a:ext cx="359640" cy="36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/>
          <p:nvPr/>
        </p:nvCxnSpPr>
        <p:spPr>
          <a:xfrm>
            <a:off x="6537240" y="4695480"/>
            <a:ext cx="288000" cy="36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4262760" y="506412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Bookman Old Style"/>
              </a:rPr>
              <a:t>осн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95560" y="499284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Bookman Old Style"/>
              </a:rPr>
              <a:t>высо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812880"/>
            <a:ext cx="548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cc"/>
                </a:solidFill>
                <a:latin typeface="Bookman Old Style"/>
              </a:rPr>
              <a:t> </a:t>
            </a:r>
            <a:r>
              <a:rPr b="1" i="1" lang="ru-RU" sz="2200" spc="-1" strike="noStrike">
                <a:solidFill>
                  <a:srgbClr val="0000cc"/>
                </a:solidFill>
                <a:latin typeface="Bookman Old Style"/>
              </a:rPr>
              <a:t>Площадь параллелограм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981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йти площадь параллелогра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057400"/>
            <a:ext cx="5257800" cy="23623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5680" y="4267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61080" y="1600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2080" y="16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75440" y="43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68440" y="2057400"/>
            <a:ext cx="456480" cy="2806560"/>
            <a:chOff x="3268440" y="2057400"/>
            <a:chExt cx="456480" cy="2806560"/>
          </a:xfrm>
        </p:grpSpPr>
        <p:grpSp>
          <p:nvGrpSpPr>
            <p:cNvPr id="141" name=""/>
            <p:cNvGrpSpPr/>
            <p:nvPr/>
          </p:nvGrpSpPr>
          <p:grpSpPr>
            <a:xfrm>
              <a:off x="3276720" y="2057400"/>
              <a:ext cx="226800" cy="2360520"/>
              <a:chOff x="3276720" y="2057400"/>
              <a:chExt cx="226800" cy="2360520"/>
            </a:xfrm>
          </p:grpSpPr>
          <p:sp>
            <p:nvSpPr>
              <p:cNvPr id="142" name=""/>
              <p:cNvSpPr/>
              <p:nvPr/>
            </p:nvSpPr>
            <p:spPr>
              <a:xfrm>
                <a:off x="3503520" y="2057400"/>
                <a:ext cx="0" cy="236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76720" y="4191120"/>
                <a:ext cx="225000" cy="2268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268440" y="43434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51648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4419720"/>
            <a:ext cx="3657600" cy="53316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304" h="336">
                <a:moveTo>
                  <a:pt x="0" y="0"/>
                </a:moveTo>
                <a:cubicBezTo>
                  <a:pt x="360" y="168"/>
                  <a:pt x="720" y="336"/>
                  <a:pt x="1104" y="336"/>
                </a:cubicBezTo>
                <a:cubicBezTo>
                  <a:pt x="1488" y="336"/>
                  <a:pt x="1896" y="168"/>
                  <a:pt x="23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4016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54936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BCD 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4076640"/>
            <a:ext cx="1800360" cy="1440000"/>
          </a:xfrm>
          <a:prstGeom prst="irregularSeal1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5120" y="2057400"/>
            <a:ext cx="5257800" cy="23623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5680" y="4267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1080" y="1600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2080" y="16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75440" y="43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8880" y="312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79560" y="2054160"/>
            <a:ext cx="1606680" cy="236556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2365560"/>
              <a:gd name="textAreaBottom" fmla="*/ 2365920 h 2365560"/>
            </a:gdLst>
            <a:ahLst/>
            <a:rect l="textAreaLeft" t="textAreaTop" r="textAreaRight" b="textAreaBottom"/>
            <a:pathLst>
              <a:path w="1012" h="1490">
                <a:moveTo>
                  <a:pt x="1012" y="0"/>
                </a:moveTo>
                <a:cubicBezTo>
                  <a:pt x="891" y="75"/>
                  <a:pt x="457" y="202"/>
                  <a:pt x="288" y="450"/>
                </a:cubicBezTo>
                <a:cubicBezTo>
                  <a:pt x="119" y="698"/>
                  <a:pt x="60" y="1273"/>
                  <a:pt x="0" y="14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65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55000" y="2362320"/>
            <a:ext cx="2905920" cy="2046960"/>
            <a:chOff x="2655000" y="2362320"/>
            <a:chExt cx="2905920" cy="2046960"/>
          </a:xfrm>
        </p:grpSpPr>
        <p:grpSp>
          <p:nvGrpSpPr>
            <p:cNvPr id="159" name=""/>
            <p:cNvGrpSpPr/>
            <p:nvPr/>
          </p:nvGrpSpPr>
          <p:grpSpPr>
            <a:xfrm>
              <a:off x="3035160" y="2464200"/>
              <a:ext cx="2525760" cy="1945080"/>
              <a:chOff x="3035160" y="2464200"/>
              <a:chExt cx="2525760" cy="1945080"/>
            </a:xfrm>
          </p:grpSpPr>
          <p:sp>
            <p:nvSpPr>
              <p:cNvPr id="160" name=""/>
              <p:cNvSpPr/>
              <p:nvPr/>
            </p:nvSpPr>
            <p:spPr>
              <a:xfrm rot="10800000">
                <a:off x="3035160" y="2701800"/>
                <a:ext cx="2525760" cy="1707480"/>
              </a:xfrm>
              <a:custGeom>
                <a:avLst/>
                <a:gdLst>
                  <a:gd name="textAreaLeft" fmla="*/ 0 w 2525760"/>
                  <a:gd name="textAreaRight" fmla="*/ 2526120 w 2525760"/>
                  <a:gd name="textAreaTop" fmla="*/ 0 h 1707480"/>
                  <a:gd name="textAreaBottom" fmla="*/ 1707840 h 1707480"/>
                </a:gdLst>
                <a:ahLst/>
                <a:rect l="textAreaLeft" t="textAreaTop" r="textAreaRight" b="textAreaBottom"/>
                <a:pathLst>
                  <a:path w="1592" h="1064">
                    <a:moveTo>
                      <a:pt x="0" y="0"/>
                    </a:moveTo>
                    <a:lnTo>
                      <a:pt x="1592" y="106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 rot="14700000">
                <a:off x="3103920" y="2570760"/>
                <a:ext cx="362520" cy="1987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360 h 198720"/>
                  <a:gd name="textAreaBottom" fmla="*/ 199440 h 198720"/>
                </a:gdLst>
                <a:ahLst/>
                <a:rect l="textAreaLeft" t="textAreaTop" r="textAreaRight" b="textAreaBottom"/>
                <a:pathLst>
                  <a:path w="227" h="126">
                    <a:moveTo>
                      <a:pt x="227" y="85"/>
                    </a:moveTo>
                    <a:lnTo>
                      <a:pt x="80" y="0"/>
                    </a:lnTo>
                    <a:lnTo>
                      <a:pt x="0" y="12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655000" y="2362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843280" y="54936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BCD 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981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йти площадь параллелогра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4076640"/>
            <a:ext cx="1800360" cy="1440000"/>
          </a:xfrm>
          <a:prstGeom prst="irregularSeal1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06360" y="2376360"/>
            <a:ext cx="5257800" cy="23623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06360" y="2376360"/>
            <a:ext cx="5257800" cy="2362320"/>
          </a:xfrm>
          <a:prstGeom prst="parallelogram">
            <a:avLst>
              <a:gd name="adj" fmla="val 6735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4586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51160" y="191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13320" y="191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6680" y="4662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738680"/>
            <a:ext cx="19047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77960" y="2376360"/>
            <a:ext cx="437760" cy="2806560"/>
            <a:chOff x="2577960" y="2376360"/>
            <a:chExt cx="437760" cy="2806560"/>
          </a:xfrm>
        </p:grpSpPr>
        <p:grpSp>
          <p:nvGrpSpPr>
            <p:cNvPr id="174" name=""/>
            <p:cNvGrpSpPr/>
            <p:nvPr/>
          </p:nvGrpSpPr>
          <p:grpSpPr>
            <a:xfrm>
              <a:off x="2577960" y="2376360"/>
              <a:ext cx="227160" cy="2360880"/>
              <a:chOff x="2577960" y="2376360"/>
              <a:chExt cx="227160" cy="2360880"/>
            </a:xfrm>
          </p:grpSpPr>
          <p:sp>
            <p:nvSpPr>
              <p:cNvPr id="175" name=""/>
              <p:cNvSpPr/>
              <p:nvPr/>
            </p:nvSpPr>
            <p:spPr>
              <a:xfrm>
                <a:off x="2805120" y="2376360"/>
                <a:ext cx="0" cy="236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77960" y="4510080"/>
                <a:ext cx="225720" cy="22716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579040" y="4662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235560" y="2376360"/>
            <a:ext cx="514440" cy="2882880"/>
            <a:chOff x="6235560" y="2376360"/>
            <a:chExt cx="514440" cy="2882880"/>
          </a:xfrm>
        </p:grpSpPr>
        <p:grpSp>
          <p:nvGrpSpPr>
            <p:cNvPr id="179" name=""/>
            <p:cNvGrpSpPr/>
            <p:nvPr/>
          </p:nvGrpSpPr>
          <p:grpSpPr>
            <a:xfrm>
              <a:off x="6235560" y="2376360"/>
              <a:ext cx="227520" cy="2360880"/>
              <a:chOff x="6235560" y="2376360"/>
              <a:chExt cx="227520" cy="2360880"/>
            </a:xfrm>
          </p:grpSpPr>
          <p:sp>
            <p:nvSpPr>
              <p:cNvPr id="180" name=""/>
              <p:cNvSpPr/>
              <p:nvPr/>
            </p:nvSpPr>
            <p:spPr>
              <a:xfrm>
                <a:off x="6463080" y="2376360"/>
                <a:ext cx="0" cy="236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35560" y="4510080"/>
                <a:ext cx="226080" cy="22716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313320" y="4738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52280" y="15228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формулы площади параллелограм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806560" y="2376360"/>
            <a:ext cx="2856600" cy="2044800"/>
            <a:chOff x="2806560" y="2376360"/>
            <a:chExt cx="2856600" cy="2044800"/>
          </a:xfrm>
        </p:grpSpPr>
        <p:sp>
          <p:nvSpPr>
            <p:cNvPr id="185" name=""/>
            <p:cNvSpPr/>
            <p:nvPr/>
          </p:nvSpPr>
          <p:spPr>
            <a:xfrm>
              <a:off x="2806560" y="2376360"/>
              <a:ext cx="2525760" cy="1687680"/>
            </a:xfrm>
            <a:custGeom>
              <a:avLst/>
              <a:gdLst>
                <a:gd name="textAreaLeft" fmla="*/ 0 w 2525760"/>
                <a:gd name="textAreaRight" fmla="*/ 2526120 w 2525760"/>
                <a:gd name="textAreaTop" fmla="*/ 0 h 1687680"/>
                <a:gd name="textAreaBottom" fmla="*/ 1688040 h 1687680"/>
              </a:gdLst>
              <a:ahLst/>
              <a:rect l="textAreaLeft" t="textAreaTop" r="textAreaRight" b="textAreaBottom"/>
              <a:pathLst>
                <a:path w="1592" h="1064">
                  <a:moveTo>
                    <a:pt x="0" y="0"/>
                  </a:moveTo>
                  <a:lnTo>
                    <a:pt x="1592" y="10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26040" y="3701880"/>
              <a:ext cx="358920" cy="1987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227" h="126">
                  <a:moveTo>
                    <a:pt x="227" y="85"/>
                  </a:moveTo>
                  <a:lnTo>
                    <a:pt x="80" y="0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46280" y="3900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743200" y="585720"/>
            <a:ext cx="1244520" cy="185436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784" h="1168">
                <a:moveTo>
                  <a:pt x="0" y="1168"/>
                </a:moveTo>
                <a:lnTo>
                  <a:pt x="78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493800" y="243000"/>
            <a:ext cx="2968920" cy="2131920"/>
            <a:chOff x="3493800" y="243000"/>
            <a:chExt cx="2968920" cy="2131920"/>
          </a:xfrm>
        </p:grpSpPr>
        <p:sp>
          <p:nvSpPr>
            <p:cNvPr id="190" name=""/>
            <p:cNvSpPr/>
            <p:nvPr/>
          </p:nvSpPr>
          <p:spPr>
            <a:xfrm>
              <a:off x="3936960" y="687240"/>
              <a:ext cx="2525760" cy="1687680"/>
            </a:xfrm>
            <a:custGeom>
              <a:avLst/>
              <a:gdLst>
                <a:gd name="textAreaLeft" fmla="*/ 0 w 2525760"/>
                <a:gd name="textAreaRight" fmla="*/ 2526120 w 2525760"/>
                <a:gd name="textAreaTop" fmla="*/ 0 h 1687680"/>
                <a:gd name="textAreaBottom" fmla="*/ 1688040 h 1687680"/>
              </a:gdLst>
              <a:ahLst/>
              <a:rect l="textAreaLeft" t="textAreaTop" r="textAreaRight" b="textAreaBottom"/>
              <a:pathLst>
                <a:path w="1592" h="1064">
                  <a:moveTo>
                    <a:pt x="0" y="0"/>
                  </a:moveTo>
                  <a:lnTo>
                    <a:pt x="1592" y="10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040000">
              <a:off x="3796920" y="850320"/>
              <a:ext cx="358920" cy="1983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7" h="126">
                  <a:moveTo>
                    <a:pt x="227" y="85"/>
                  </a:moveTo>
                  <a:lnTo>
                    <a:pt x="80" y="0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3800" y="243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35720" y="1919160"/>
            <a:ext cx="453600" cy="2818080"/>
            <a:chOff x="4635720" y="1919160"/>
            <a:chExt cx="453600" cy="2818080"/>
          </a:xfrm>
        </p:grpSpPr>
        <p:grpSp>
          <p:nvGrpSpPr>
            <p:cNvPr id="194" name=""/>
            <p:cNvGrpSpPr/>
            <p:nvPr/>
          </p:nvGrpSpPr>
          <p:grpSpPr>
            <a:xfrm>
              <a:off x="4862880" y="2376360"/>
              <a:ext cx="226440" cy="2360880"/>
              <a:chOff x="4862880" y="2376360"/>
              <a:chExt cx="226440" cy="2360880"/>
            </a:xfrm>
          </p:grpSpPr>
          <p:sp>
            <p:nvSpPr>
              <p:cNvPr id="195" name=""/>
              <p:cNvSpPr/>
              <p:nvPr/>
            </p:nvSpPr>
            <p:spPr>
              <a:xfrm flipV="1">
                <a:off x="4863240" y="2376360"/>
                <a:ext cx="0" cy="236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800000">
                <a:off x="4862880" y="2378880"/>
                <a:ext cx="226440" cy="226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4635720" y="19191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04920" y="2389320"/>
            <a:ext cx="2489040" cy="1440"/>
          </a:xfrm>
          <a:custGeom>
            <a:avLst/>
            <a:gdLst>
              <a:gd name="textAreaLeft" fmla="*/ 0 w 2489040"/>
              <a:gd name="textAreaRight" fmla="*/ 2489400 w 2489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68" h="1">
                <a:moveTo>
                  <a:pt x="0" y="0"/>
                </a:moveTo>
                <a:lnTo>
                  <a:pt x="15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78120" y="1919160"/>
            <a:ext cx="453600" cy="2818080"/>
            <a:chOff x="978120" y="1919160"/>
            <a:chExt cx="453600" cy="2818080"/>
          </a:xfrm>
        </p:grpSpPr>
        <p:grpSp>
          <p:nvGrpSpPr>
            <p:cNvPr id="200" name=""/>
            <p:cNvGrpSpPr/>
            <p:nvPr/>
          </p:nvGrpSpPr>
          <p:grpSpPr>
            <a:xfrm>
              <a:off x="1205280" y="2376360"/>
              <a:ext cx="226440" cy="2360880"/>
              <a:chOff x="1205280" y="2376360"/>
              <a:chExt cx="226440" cy="236088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1205640" y="2376360"/>
                <a:ext cx="0" cy="236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0800000">
                <a:off x="1205280" y="2378880"/>
                <a:ext cx="226440" cy="226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978120" y="19191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69200" y="2681280"/>
            <a:ext cx="2905920" cy="2047320"/>
            <a:chOff x="1969200" y="2681280"/>
            <a:chExt cx="2905920" cy="2047320"/>
          </a:xfrm>
        </p:grpSpPr>
        <p:grpSp>
          <p:nvGrpSpPr>
            <p:cNvPr id="205" name=""/>
            <p:cNvGrpSpPr/>
            <p:nvPr/>
          </p:nvGrpSpPr>
          <p:grpSpPr>
            <a:xfrm>
              <a:off x="2349360" y="2783160"/>
              <a:ext cx="2525760" cy="1945440"/>
              <a:chOff x="2349360" y="2783160"/>
              <a:chExt cx="2525760" cy="1945440"/>
            </a:xfrm>
          </p:grpSpPr>
          <p:sp>
            <p:nvSpPr>
              <p:cNvPr id="206" name=""/>
              <p:cNvSpPr/>
              <p:nvPr/>
            </p:nvSpPr>
            <p:spPr>
              <a:xfrm rot="10800000">
                <a:off x="2349360" y="3021120"/>
                <a:ext cx="2525760" cy="1707480"/>
              </a:xfrm>
              <a:custGeom>
                <a:avLst/>
                <a:gdLst>
                  <a:gd name="textAreaLeft" fmla="*/ 0 w 2525760"/>
                  <a:gd name="textAreaRight" fmla="*/ 2526120 w 2525760"/>
                  <a:gd name="textAreaTop" fmla="*/ 0 h 1707480"/>
                  <a:gd name="textAreaBottom" fmla="*/ 1707840 h 1707480"/>
                </a:gdLst>
                <a:ahLst/>
                <a:rect l="textAreaLeft" t="textAreaTop" r="textAreaRight" b="textAreaBottom"/>
                <a:pathLst>
                  <a:path w="1592" h="1064">
                    <a:moveTo>
                      <a:pt x="0" y="0"/>
                    </a:moveTo>
                    <a:lnTo>
                      <a:pt x="1592" y="106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 rot="14700000">
                <a:off x="2417760" y="2889720"/>
                <a:ext cx="362880" cy="198720"/>
              </a:xfrm>
              <a:custGeom>
                <a:avLst/>
                <a:gdLst>
                  <a:gd name="textAreaLeft" fmla="*/ 0 w 362880"/>
                  <a:gd name="textAreaRight" fmla="*/ 362880 w 362880"/>
                  <a:gd name="textAreaTop" fmla="*/ 360 h 198720"/>
                  <a:gd name="textAreaBottom" fmla="*/ 199440 h 198720"/>
                </a:gdLst>
                <a:ahLst/>
                <a:rect l="textAreaLeft" t="textAreaTop" r="textAreaRight" b="textAreaBottom"/>
                <a:pathLst>
                  <a:path w="227" h="126">
                    <a:moveTo>
                      <a:pt x="227" y="85"/>
                    </a:moveTo>
                    <a:lnTo>
                      <a:pt x="80" y="0"/>
                    </a:lnTo>
                    <a:lnTo>
                      <a:pt x="0" y="12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969200" y="2681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619440" y="4713120"/>
            <a:ext cx="1244520" cy="185436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784" h="1168">
                <a:moveTo>
                  <a:pt x="0" y="1168"/>
                </a:moveTo>
                <a:lnTo>
                  <a:pt x="78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06360" y="4738680"/>
            <a:ext cx="2856600" cy="2044440"/>
            <a:chOff x="1206360" y="4738680"/>
            <a:chExt cx="2856600" cy="2044440"/>
          </a:xfrm>
        </p:grpSpPr>
        <p:sp>
          <p:nvSpPr>
            <p:cNvPr id="211" name=""/>
            <p:cNvSpPr/>
            <p:nvPr/>
          </p:nvSpPr>
          <p:spPr>
            <a:xfrm>
              <a:off x="1206360" y="4738680"/>
              <a:ext cx="2525760" cy="1687680"/>
            </a:xfrm>
            <a:custGeom>
              <a:avLst/>
              <a:gdLst>
                <a:gd name="textAreaLeft" fmla="*/ 0 w 2525760"/>
                <a:gd name="textAreaRight" fmla="*/ 2526120 w 2525760"/>
                <a:gd name="textAreaTop" fmla="*/ 0 h 1687680"/>
                <a:gd name="textAreaBottom" fmla="*/ 1688040 h 1687680"/>
              </a:gdLst>
              <a:ahLst/>
              <a:rect l="textAreaLeft" t="textAreaTop" r="textAreaRight" b="textAreaBottom"/>
              <a:pathLst>
                <a:path w="1592" h="1064">
                  <a:moveTo>
                    <a:pt x="0" y="0"/>
                  </a:moveTo>
                  <a:lnTo>
                    <a:pt x="1592" y="10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25840" y="6064200"/>
              <a:ext cx="358920" cy="1983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7" h="126">
                  <a:moveTo>
                    <a:pt x="227" y="85"/>
                  </a:moveTo>
                  <a:lnTo>
                    <a:pt x="80" y="0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46080" y="62625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286680" y="279360"/>
            <a:ext cx="218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*B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86320" y="838080"/>
            <a:ext cx="210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DC*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96160" y="2133720"/>
            <a:ext cx="218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AB*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87040" y="1523880"/>
            <a:ext cx="216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BC*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96160" y="2819520"/>
            <a:ext cx="218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AD*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96160" y="3505320"/>
            <a:ext cx="208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AB*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96160" y="4191120"/>
            <a:ext cx="205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BC*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95800" y="4876920"/>
            <a:ext cx="210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DC*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2895480"/>
            <a:ext cx="8001000" cy="1752840"/>
          </a:xfrm>
          <a:custGeom>
            <a:avLst/>
            <a:gdLst>
              <a:gd name="textAreaLeft" fmla="*/ 0 w 8001000"/>
              <a:gd name="textAreaRight" fmla="*/ 8001360 w 80010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6360" y="451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84760" y="2362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5960" y="2362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6280" y="451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39960" y="320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963520" y="2895480"/>
            <a:ext cx="456480" cy="2233440"/>
            <a:chOff x="2963520" y="2895480"/>
            <a:chExt cx="456480" cy="2233440"/>
          </a:xfrm>
        </p:grpSpPr>
        <p:grpSp>
          <p:nvGrpSpPr>
            <p:cNvPr id="229" name=""/>
            <p:cNvGrpSpPr/>
            <p:nvPr/>
          </p:nvGrpSpPr>
          <p:grpSpPr>
            <a:xfrm>
              <a:off x="2971800" y="2895480"/>
              <a:ext cx="227160" cy="1765440"/>
              <a:chOff x="2971800" y="2895480"/>
              <a:chExt cx="227160" cy="1765440"/>
            </a:xfrm>
          </p:grpSpPr>
          <p:sp>
            <p:nvSpPr>
              <p:cNvPr id="230" name=""/>
              <p:cNvSpPr/>
              <p:nvPr/>
            </p:nvSpPr>
            <p:spPr>
              <a:xfrm>
                <a:off x="3198960" y="2895480"/>
                <a:ext cx="0" cy="176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71800" y="4491000"/>
                <a:ext cx="225720" cy="16992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2963520" y="46083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012680" y="434340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2616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616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4648320"/>
            <a:ext cx="5486400" cy="60948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456" h="384">
                <a:moveTo>
                  <a:pt x="0" y="0"/>
                </a:moveTo>
                <a:cubicBezTo>
                  <a:pt x="528" y="192"/>
                  <a:pt x="1056" y="384"/>
                  <a:pt x="1632" y="384"/>
                </a:cubicBezTo>
                <a:cubicBezTo>
                  <a:pt x="2208" y="384"/>
                  <a:pt x="2832" y="192"/>
                  <a:pt x="34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115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54936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BCD 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81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йти площадь параллелогра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04000" y="4076640"/>
            <a:ext cx="1800360" cy="1440000"/>
          </a:xfrm>
          <a:prstGeom prst="irregularSeal1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7.40741E-007 L -0.29166 0.44444 E">
                                      <p:cBhvr>
                                        <p:cTn id="242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/>
  <dcterms:modified xsi:type="dcterms:W3CDTF">2022-04-16T12:49:23Z</dcterms:modified>
  <cp:revision>126</cp:revision>
  <dc:subject/>
  <dc:title>Слайд 1</dc:title>
</cp:coreProperties>
</file>