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C20AA4-A9C1-4A4C-BB07-C35DA618FA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348669-CFD2-44BF-B57B-A3A9E61804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55AA4C-AE88-449F-8DDC-9FD605CCC9E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6F9A-ADB5-41DB-9810-210F5103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42AA-4447-4795-BD48-B57BD904F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CF134-47A4-423D-943A-C93AFFAC9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DA076-E61F-4554-95BF-7C90201218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F9D2-4679-49D5-907E-103063CC33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3458-1A83-4418-9A3E-67A4ACD722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16E8D-BB92-40EC-8840-D057FFCC2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4838-6A36-481B-9E15-BA5032623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846B-1DB6-49B0-AE33-27F1F6410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C29F-793A-4A68-98D8-42F4F8AE8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2303-C226-4E61-B644-77A762979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78F5-0F1F-4550-9AF0-682AB7C23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BECD39-734B-4218-9DC3-B1AE1E6D79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../../../../&#1090;&#1077;&#1093;&#1085;&#1086;&#1083;&#1086;&#1075;&#1080;&#1095;&#1077;&#1089;&#1082;&#1072;&#1103;%20&#1082;&#1072;&#1088;&#1090;&#1072;.docx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../../&#1090;&#1077;&#1093;&#1085;&#1086;&#1083;&#1086;&#1075;&#1080;&#1095;&#1077;&#1089;&#1082;&#1072;&#1103;%20&#1082;&#1072;&#1088;&#1090;&#1072;.docx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334800" y="493560"/>
            <a:ext cx="7339320" cy="2602080"/>
            <a:chOff x="334800" y="493560"/>
            <a:chExt cx="7339320" cy="26020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334800" y="493560"/>
              <a:ext cx="7339320" cy="26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85640" y="620640"/>
              <a:ext cx="70376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«</a:t>
              </a:r>
              <a:r>
                <a:rPr b="0" lang="ru-RU" sz="1800" spc="-1" strike="noStrike" u="sng">
                  <a:solidFill>
                    <a:srgbClr val="ccccff"/>
                  </a:solidFill>
                  <a:uFillTx/>
                  <a:latin typeface="Segoe Script"/>
                  <a:hlinkClick r:id="rId3"/>
                </a:rPr>
                <a:t>Дорогие ребята</a:t>
              </a: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Segoe Script"/>
                </a:rPr>
                <a:t>Обращаюсь к вам за помощью. Мой дачный участок имел форму прямоугольника с размерами 20м. на 30м. Из-за строительства дороги мне пришлось перенести изгородь следующим образом (рисунок) Мне кажется, что мой участок уменьшился. Прав ли я? Стоит ли мне подать жалобу на строителей?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311640" y="3179880"/>
            <a:ext cx="2952720" cy="20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чный участо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260000">
            <a:off x="5697000" y="3053880"/>
            <a:ext cx="966960" cy="3380040"/>
          </a:xfrm>
          <a:prstGeom prst="parallelogram">
            <a:avLst>
              <a:gd name="adj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374920" y="3179880"/>
            <a:ext cx="974880" cy="20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65720" y="3179880"/>
            <a:ext cx="974880" cy="20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44680" y="5253120"/>
            <a:ext cx="1003320" cy="144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35480" y="5267160"/>
            <a:ext cx="1003320" cy="1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70480" y="33591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113440" y="865080"/>
            <a:ext cx="3241440" cy="105408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2616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3840" y="409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161200" y="434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1857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380360" y="1902960"/>
            <a:ext cx="1000080" cy="17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8131320" y="879480"/>
            <a:ext cx="513720" cy="1549080"/>
            <a:chOff x="8131320" y="879480"/>
            <a:chExt cx="513720" cy="1549080"/>
          </a:xfrm>
        </p:grpSpPr>
        <p:grpSp>
          <p:nvGrpSpPr>
            <p:cNvPr id="248" name=""/>
            <p:cNvGrpSpPr/>
            <p:nvPr/>
          </p:nvGrpSpPr>
          <p:grpSpPr>
            <a:xfrm>
              <a:off x="8131320" y="879480"/>
              <a:ext cx="226800" cy="1027080"/>
              <a:chOff x="8131320" y="879480"/>
              <a:chExt cx="226800" cy="1027080"/>
            </a:xfrm>
          </p:grpSpPr>
          <p:sp>
            <p:nvSpPr>
              <p:cNvPr id="249" name=""/>
              <p:cNvSpPr/>
              <p:nvPr/>
            </p:nvSpPr>
            <p:spPr>
              <a:xfrm>
                <a:off x="8358120" y="879480"/>
                <a:ext cx="0" cy="102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131320" y="1808280"/>
                <a:ext cx="225000" cy="9828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8208360" y="1908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00" y="14446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00" y="395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амостоятельная раб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35960" y="409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39400" y="1179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0040" y="982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3068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ычислите площадь параллелограмма, длины сторон которого 8 см и 12 см, а тупой угол содержит 15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41560" y="1628640"/>
            <a:ext cx="24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576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48 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6920" y="62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тве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79280" y="328464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Bookman Old Style"/>
              </a:rPr>
              <a:t>Итоги уро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393372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Закончите фразу: сегодня на уроке 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260280"/>
            <a:ext cx="619272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п.21 стр.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 № </a:t>
            </a: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698 №700 №7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0000cc"/>
                </a:solidFill>
                <a:latin typeface="Bookman Old Style"/>
              </a:rPr>
              <a:t>или ответ дедуш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443700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узн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19640" y="4797360"/>
            <a:ext cx="19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поня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51640" y="458136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Bookman Old Style"/>
              </a:rPr>
              <a:t>научил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6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1844640"/>
            <a:ext cx="7561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b00000"/>
                </a:solidFill>
                <a:latin typeface="Bookman Old Style"/>
              </a:rPr>
              <a:t>Площадь параллелограм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765000"/>
            <a:ext cx="8858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«</a:t>
            </a:r>
            <a:r>
              <a:rPr b="1" i="1" lang="ru-RU" sz="2200" spc="-1" strike="noStrike" u="sng">
                <a:solidFill>
                  <a:srgbClr val="ccccff"/>
                </a:solidFill>
                <a:uFillTx/>
                <a:latin typeface="Bookman Old Style"/>
                <a:hlinkClick r:id="rId2"/>
              </a:rPr>
              <a:t>Скроите»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многоугольники из данных многоугольников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280" y="2349360"/>
            <a:ext cx="1079640" cy="2065320"/>
          </a:xfrm>
          <a:prstGeom prst="rtTriangl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443640" y="2349000"/>
            <a:ext cx="2230560" cy="2086560"/>
            <a:chOff x="6443640" y="2349000"/>
            <a:chExt cx="2230560" cy="2086560"/>
          </a:xfrm>
        </p:grpSpPr>
        <p:grpSp>
          <p:nvGrpSpPr>
            <p:cNvPr id="63" name=""/>
            <p:cNvGrpSpPr/>
            <p:nvPr/>
          </p:nvGrpSpPr>
          <p:grpSpPr>
            <a:xfrm>
              <a:off x="6443640" y="2349360"/>
              <a:ext cx="2230560" cy="2085840"/>
              <a:chOff x="6443640" y="2349360"/>
              <a:chExt cx="2230560" cy="208584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6443640" y="2349360"/>
                <a:ext cx="1150920" cy="208584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7596360" y="2349360"/>
                <a:ext cx="1077840" cy="2085840"/>
              </a:xfrm>
              <a:prstGeom prst="rtTriangl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443640" y="2349000"/>
              <a:ext cx="2230560" cy="2086560"/>
              <a:chOff x="6443640" y="2349000"/>
              <a:chExt cx="2230560" cy="2086560"/>
            </a:xfrm>
          </p:grpSpPr>
          <p:sp>
            <p:nvSpPr>
              <p:cNvPr id="67" name=""/>
              <p:cNvSpPr/>
              <p:nvPr/>
            </p:nvSpPr>
            <p:spPr>
              <a:xfrm flipV="1">
                <a:off x="6443640" y="2349000"/>
                <a:ext cx="0" cy="208620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443640" y="4435560"/>
                <a:ext cx="115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7596360" y="2349000"/>
                <a:ext cx="1077840" cy="208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443640" y="2350440"/>
                <a:ext cx="223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1692360" y="2349000"/>
            <a:ext cx="2230200" cy="2086560"/>
            <a:chOff x="1692360" y="2349000"/>
            <a:chExt cx="2230200" cy="2086560"/>
          </a:xfrm>
        </p:grpSpPr>
        <p:grpSp>
          <p:nvGrpSpPr>
            <p:cNvPr id="72" name=""/>
            <p:cNvGrpSpPr/>
            <p:nvPr/>
          </p:nvGrpSpPr>
          <p:grpSpPr>
            <a:xfrm>
              <a:off x="1692360" y="2349360"/>
              <a:ext cx="2230200" cy="2085840"/>
              <a:chOff x="1692360" y="2349360"/>
              <a:chExt cx="2230200" cy="208584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1692360" y="2349360"/>
                <a:ext cx="1150920" cy="2085840"/>
              </a:xfrm>
              <a:prstGeom prst="rect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2844720" y="2349360"/>
                <a:ext cx="1077840" cy="2085840"/>
              </a:xfrm>
              <a:prstGeom prst="rtTriangl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692360" y="2349000"/>
              <a:ext cx="2230200" cy="2086560"/>
              <a:chOff x="1692360" y="2349000"/>
              <a:chExt cx="2230200" cy="208656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1692360" y="2349000"/>
                <a:ext cx="0" cy="2086200"/>
              </a:xfrm>
              <a:prstGeom prst="line">
                <a:avLst/>
              </a:prstGeom>
              <a:ln w="316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692360" y="4435560"/>
                <a:ext cx="115092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2844720" y="2349000"/>
                <a:ext cx="1077840" cy="208620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692360" y="2350440"/>
                <a:ext cx="22302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 flipH="1">
            <a:off x="250200" y="2349360"/>
            <a:ext cx="1081080" cy="2087640"/>
          </a:xfrm>
          <a:prstGeom prst="rtTriangle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2349360"/>
            <a:ext cx="2303280" cy="20876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349360"/>
            <a:ext cx="3313080" cy="2087640"/>
          </a:xfrm>
          <a:prstGeom prst="parallelogram">
            <a:avLst>
              <a:gd name="adj" fmla="val 50754"/>
            </a:avLst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71640" y="4581360"/>
            <a:ext cx="34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сохранилось у параллелограмма и прямоугольни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51640" y="2349360"/>
            <a:ext cx="1440" cy="20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2875 -0.0051 E">
                                      <p:cBhvr>
                                        <p:cTn id="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81481E-006 L -0.08264 4.81481E-006 E">
                                      <p:cBhvr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9000" y="189000"/>
            <a:ext cx="819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  <a:ea typeface="Arial"/>
              </a:rPr>
              <a:t>План доказательства теор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836640"/>
          <a:ext cx="8210160" cy="2650680"/>
        </p:xfrm>
        <a:graphic>
          <a:graphicData uri="http://schemas.openxmlformats.org/drawingml/2006/table">
            <a:tbl>
              <a:tblPr/>
              <a:tblGrid>
                <a:gridCol w="1152360"/>
                <a:gridCol w="705780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казать равенство прямоугольных треугольников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прямоугольни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0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ти площадь параллелограмм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делать вывод о равенстве площадей параллелограмма и прямоугольни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bbe0e3"/>
                      </a:solidFill>
                    </a:lnL>
                    <a:lnR w="2880">
                      <a:solidFill>
                        <a:srgbClr val="bbe0e3"/>
                      </a:solidFill>
                    </a:lnR>
                    <a:lnT w="2880">
                      <a:solidFill>
                        <a:srgbClr val="bbe0e3"/>
                      </a:solidFill>
                    </a:lnT>
                    <a:lnB w="2880">
                      <a:solidFill>
                        <a:srgbClr val="bbe0e3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1004760"/>
            <a:ext cx="360360" cy="44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39880" y="1996920"/>
            <a:ext cx="345960" cy="4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6920" y="2525760"/>
            <a:ext cx="358920" cy="447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826920" y="1484280"/>
            <a:ext cx="360360" cy="45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24360" y="3789360"/>
            <a:ext cx="1944720" cy="1440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2304" h="1488">
                <a:moveTo>
                  <a:pt x="0" y="0"/>
                </a:moveTo>
                <a:lnTo>
                  <a:pt x="2304" y="0"/>
                </a:lnTo>
                <a:lnTo>
                  <a:pt x="2304" y="1488"/>
                </a:lnTo>
                <a:lnTo>
                  <a:pt x="0" y="148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9280" y="3789360"/>
            <a:ext cx="2809800" cy="144000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695760" y="3789360"/>
            <a:ext cx="226800" cy="1415880"/>
            <a:chOff x="3695760" y="3789360"/>
            <a:chExt cx="226800" cy="1415880"/>
          </a:xfrm>
        </p:grpSpPr>
        <p:sp>
          <p:nvSpPr>
            <p:cNvPr id="94" name=""/>
            <p:cNvSpPr/>
            <p:nvPr/>
          </p:nvSpPr>
          <p:spPr>
            <a:xfrm>
              <a:off x="3922560" y="3789360"/>
              <a:ext cx="0" cy="14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95760" y="5070600"/>
              <a:ext cx="225000" cy="13464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640480" y="3811680"/>
            <a:ext cx="226800" cy="1415880"/>
            <a:chOff x="5640480" y="3811680"/>
            <a:chExt cx="226800" cy="1415880"/>
          </a:xfrm>
        </p:grpSpPr>
        <p:sp>
          <p:nvSpPr>
            <p:cNvPr id="97" name=""/>
            <p:cNvSpPr/>
            <p:nvPr/>
          </p:nvSpPr>
          <p:spPr>
            <a:xfrm>
              <a:off x="5867280" y="3811680"/>
              <a:ext cx="0" cy="141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0480" y="5092560"/>
              <a:ext cx="225000" cy="13500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44" h="144">
                  <a:moveTo>
                    <a:pt x="144" y="0"/>
                  </a:moveTo>
                  <a:lnTo>
                    <a:pt x="0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3276720" y="4869000"/>
            <a:ext cx="2085840" cy="336240"/>
            <a:chOff x="3276720" y="4869000"/>
            <a:chExt cx="2085840" cy="336240"/>
          </a:xfrm>
        </p:grpSpPr>
        <p:sp>
          <p:nvSpPr>
            <p:cNvPr id="100" name=""/>
            <p:cNvSpPr/>
            <p:nvPr/>
          </p:nvSpPr>
          <p:spPr>
            <a:xfrm>
              <a:off x="3276720" y="4869000"/>
              <a:ext cx="114120" cy="336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48440" y="4869000"/>
              <a:ext cx="114120" cy="3362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136" h="288">
                  <a:moveTo>
                    <a:pt x="0" y="0"/>
                  </a:moveTo>
                  <a:cubicBezTo>
                    <a:pt x="17" y="21"/>
                    <a:pt x="81" y="80"/>
                    <a:pt x="104" y="128"/>
                  </a:cubicBezTo>
                  <a:cubicBezTo>
                    <a:pt x="127" y="176"/>
                    <a:pt x="129" y="255"/>
                    <a:pt x="136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588840" y="3530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46240" y="4919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6400" y="3552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8160" y="494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494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2560" y="495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396120" y="3684600"/>
                <a:ext cx="1993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ABH=ΔDC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370320" y="4456080"/>
            <a:ext cx="228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8040" y="4519440"/>
            <a:ext cx="2286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24040" y="528948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57440" y="5297400"/>
            <a:ext cx="154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D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75640" y="4121280"/>
            <a:ext cx="89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K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4000" y="4116240"/>
            <a:ext cx="144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HD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27240" y="5900760"/>
            <a:ext cx="1744200" cy="459720"/>
            <a:chOff x="3927240" y="5900760"/>
            <a:chExt cx="1744200" cy="459720"/>
          </a:xfrm>
        </p:grpSpPr>
        <p:sp>
          <p:nvSpPr>
            <p:cNvPr id="116" name=""/>
            <p:cNvSpPr/>
            <p:nvPr/>
          </p:nvSpPr>
          <p:spPr>
            <a:xfrm>
              <a:off x="3927240" y="5900760"/>
              <a:ext cx="174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ар=а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5097600" y="5999040"/>
                  <a:ext cx="3031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6451560" y="4869000"/>
            <a:ext cx="1416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S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HK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028240" y="1438200"/>
            <a:ext cx="4225680" cy="2789280"/>
            <a:chOff x="2028240" y="1438200"/>
            <a:chExt cx="4225680" cy="2789280"/>
          </a:xfrm>
        </p:grpSpPr>
        <p:sp>
          <p:nvSpPr>
            <p:cNvPr id="120" name=""/>
            <p:cNvSpPr/>
            <p:nvPr/>
          </p:nvSpPr>
          <p:spPr>
            <a:xfrm>
              <a:off x="2530440" y="1654200"/>
              <a:ext cx="3309840" cy="2087640"/>
            </a:xfrm>
            <a:prstGeom prst="parallelogram">
              <a:avLst>
                <a:gd name="adj" fmla="val 5075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28240" y="3672000"/>
              <a:ext cx="51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96360" y="1438200"/>
              <a:ext cx="4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50720" y="143820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51400" y="3706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ookman Old Style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457360" y="3743280"/>
            <a:ext cx="2303640" cy="1800"/>
          </a:xfrm>
          <a:prstGeom prst="line">
            <a:avLst/>
          </a:prstGeom>
          <a:ln w="349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1638360"/>
            <a:ext cx="1800" cy="208764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5280" y="3444840"/>
            <a:ext cx="3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34240" y="4357800"/>
            <a:ext cx="24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S = MK ∙ N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 flipH="1">
            <a:off x="4699800" y="4811400"/>
            <a:ext cx="359640" cy="36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/>
          <p:nvPr/>
        </p:nvCxnSpPr>
        <p:spPr>
          <a:xfrm>
            <a:off x="6537240" y="4695480"/>
            <a:ext cx="288000" cy="36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4262760" y="506412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Bookman Old Style"/>
              </a:rPr>
              <a:t>осн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95560" y="499284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Bookman Old Style"/>
              </a:rPr>
              <a:t>выс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920" y="812880"/>
            <a:ext cx="548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 </a:t>
            </a:r>
            <a:r>
              <a:rPr b="1" i="1" lang="ru-RU" sz="2200" spc="-1" strike="noStrike">
                <a:solidFill>
                  <a:srgbClr val="0000cc"/>
                </a:solidFill>
                <a:latin typeface="Bookman Old Style"/>
              </a:rPr>
              <a:t>Площадь параллелограмм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05740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56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61080" y="160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208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754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68440" y="2057400"/>
            <a:ext cx="456480" cy="2806560"/>
            <a:chOff x="3268440" y="2057400"/>
            <a:chExt cx="456480" cy="2806560"/>
          </a:xfrm>
        </p:grpSpPr>
        <p:grpSp>
          <p:nvGrpSpPr>
            <p:cNvPr id="141" name=""/>
            <p:cNvGrpSpPr/>
            <p:nvPr/>
          </p:nvGrpSpPr>
          <p:grpSpPr>
            <a:xfrm>
              <a:off x="3276720" y="2057400"/>
              <a:ext cx="226800" cy="2360520"/>
              <a:chOff x="3276720" y="2057400"/>
              <a:chExt cx="226800" cy="2360520"/>
            </a:xfrm>
          </p:grpSpPr>
          <p:sp>
            <p:nvSpPr>
              <p:cNvPr id="142" name=""/>
              <p:cNvSpPr/>
              <p:nvPr/>
            </p:nvSpPr>
            <p:spPr>
              <a:xfrm>
                <a:off x="3503520" y="2057400"/>
                <a:ext cx="0" cy="2360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76720" y="4191120"/>
                <a:ext cx="225000" cy="226800"/>
              </a:xfrm>
              <a:custGeom>
                <a:avLst/>
                <a:gdLst>
                  <a:gd name="textAreaLeft" fmla="*/ 0 w 225000"/>
                  <a:gd name="textAreaRight" fmla="*/ 225360 w 22500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268440" y="434340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51648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4419720"/>
            <a:ext cx="3657600" cy="53316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304" h="336">
                <a:moveTo>
                  <a:pt x="0" y="0"/>
                </a:moveTo>
                <a:cubicBezTo>
                  <a:pt x="360" y="168"/>
                  <a:pt x="720" y="336"/>
                  <a:pt x="1104" y="336"/>
                </a:cubicBezTo>
                <a:cubicBezTo>
                  <a:pt x="1488" y="336"/>
                  <a:pt x="1896" y="168"/>
                  <a:pt x="23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4016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905120" y="205740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5680" y="4267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61080" y="160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2080" y="16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75440" y="4343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8880" y="3124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79560" y="2054160"/>
            <a:ext cx="1606680" cy="2365560"/>
          </a:xfrm>
          <a:custGeom>
            <a:avLst/>
            <a:gdLst>
              <a:gd name="textAreaLeft" fmla="*/ 0 w 1606680"/>
              <a:gd name="textAreaRight" fmla="*/ 1607040 w 1606680"/>
              <a:gd name="textAreaTop" fmla="*/ 0 h 2365560"/>
              <a:gd name="textAreaBottom" fmla="*/ 2365920 h 2365560"/>
            </a:gdLst>
            <a:ahLst/>
            <a:rect l="textAreaLeft" t="textAreaTop" r="textAreaRight" b="textAreaBottom"/>
            <a:pathLst>
              <a:path w="1012" h="1490">
                <a:moveTo>
                  <a:pt x="1012" y="0"/>
                </a:moveTo>
                <a:cubicBezTo>
                  <a:pt x="891" y="75"/>
                  <a:pt x="457" y="202"/>
                  <a:pt x="288" y="450"/>
                </a:cubicBezTo>
                <a:cubicBezTo>
                  <a:pt x="119" y="698"/>
                  <a:pt x="60" y="1273"/>
                  <a:pt x="0" y="14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6560" y="251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55000" y="2362320"/>
            <a:ext cx="2905920" cy="2046960"/>
            <a:chOff x="2655000" y="2362320"/>
            <a:chExt cx="2905920" cy="2046960"/>
          </a:xfrm>
        </p:grpSpPr>
        <p:grpSp>
          <p:nvGrpSpPr>
            <p:cNvPr id="159" name=""/>
            <p:cNvGrpSpPr/>
            <p:nvPr/>
          </p:nvGrpSpPr>
          <p:grpSpPr>
            <a:xfrm>
              <a:off x="3035160" y="2464200"/>
              <a:ext cx="2525760" cy="1945080"/>
              <a:chOff x="3035160" y="2464200"/>
              <a:chExt cx="2525760" cy="1945080"/>
            </a:xfrm>
          </p:grpSpPr>
          <p:sp>
            <p:nvSpPr>
              <p:cNvPr id="160" name=""/>
              <p:cNvSpPr/>
              <p:nvPr/>
            </p:nvSpPr>
            <p:spPr>
              <a:xfrm rot="10800000">
                <a:off x="3035160" y="2701800"/>
                <a:ext cx="2525760" cy="1707480"/>
              </a:xfrm>
              <a:custGeom>
                <a:avLst/>
                <a:gdLst>
                  <a:gd name="textAreaLeft" fmla="*/ 0 w 2525760"/>
                  <a:gd name="textAreaRight" fmla="*/ 2526120 w 2525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1592" h="1064">
                    <a:moveTo>
                      <a:pt x="0" y="0"/>
                    </a:moveTo>
                    <a:lnTo>
                      <a:pt x="1592" y="10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 rot="14700000">
                <a:off x="3103920" y="2570760"/>
                <a:ext cx="362520" cy="19872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27" h="126">
                    <a:moveTo>
                      <a:pt x="227" y="85"/>
                    </a:moveTo>
                    <a:lnTo>
                      <a:pt x="80" y="0"/>
                    </a:ln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655000" y="23623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06360" y="2376360"/>
            <a:ext cx="5257800" cy="2362320"/>
          </a:xfrm>
          <a:custGeom>
            <a:avLst/>
            <a:gdLst>
              <a:gd name="textAreaLeft" fmla="*/ 0 w 5257800"/>
              <a:gd name="textAreaRight" fmla="*/ 5258160 w 5257800"/>
              <a:gd name="textAreaTop" fmla="*/ 0 h 2362320"/>
              <a:gd name="textAreaBottom" fmla="*/ 2362320 h 236232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06360" y="2376360"/>
            <a:ext cx="5257800" cy="2362320"/>
          </a:xfrm>
          <a:prstGeom prst="parallelogram">
            <a:avLst>
              <a:gd name="adj" fmla="val 6735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45864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5116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3320" y="191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6680" y="466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4738680"/>
            <a:ext cx="19047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77960" y="2376360"/>
            <a:ext cx="437760" cy="2806560"/>
            <a:chOff x="2577960" y="2376360"/>
            <a:chExt cx="437760" cy="2806560"/>
          </a:xfrm>
        </p:grpSpPr>
        <p:grpSp>
          <p:nvGrpSpPr>
            <p:cNvPr id="174" name=""/>
            <p:cNvGrpSpPr/>
            <p:nvPr/>
          </p:nvGrpSpPr>
          <p:grpSpPr>
            <a:xfrm>
              <a:off x="2577960" y="2376360"/>
              <a:ext cx="227160" cy="2360880"/>
              <a:chOff x="2577960" y="2376360"/>
              <a:chExt cx="227160" cy="2360880"/>
            </a:xfrm>
          </p:grpSpPr>
          <p:sp>
            <p:nvSpPr>
              <p:cNvPr id="175" name=""/>
              <p:cNvSpPr/>
              <p:nvPr/>
            </p:nvSpPr>
            <p:spPr>
              <a:xfrm>
                <a:off x="2805120" y="2376360"/>
                <a:ext cx="0" cy="236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77960" y="4510080"/>
                <a:ext cx="225720" cy="22716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2579040" y="4662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35560" y="2376360"/>
            <a:ext cx="514440" cy="2882880"/>
            <a:chOff x="6235560" y="2376360"/>
            <a:chExt cx="514440" cy="2882880"/>
          </a:xfrm>
        </p:grpSpPr>
        <p:grpSp>
          <p:nvGrpSpPr>
            <p:cNvPr id="179" name=""/>
            <p:cNvGrpSpPr/>
            <p:nvPr/>
          </p:nvGrpSpPr>
          <p:grpSpPr>
            <a:xfrm>
              <a:off x="6235560" y="2376360"/>
              <a:ext cx="227520" cy="2360880"/>
              <a:chOff x="6235560" y="2376360"/>
              <a:chExt cx="227520" cy="2360880"/>
            </a:xfrm>
          </p:grpSpPr>
          <p:sp>
            <p:nvSpPr>
              <p:cNvPr id="180" name=""/>
              <p:cNvSpPr/>
              <p:nvPr/>
            </p:nvSpPr>
            <p:spPr>
              <a:xfrm>
                <a:off x="646308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235560" y="4510080"/>
                <a:ext cx="226080" cy="22716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227160"/>
                  <a:gd name="textAreaBottom" fmla="*/ 227520 h 22716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6313320" y="4738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52280" y="152280"/>
            <a:ext cx="289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формулы площади параллелограм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806560" y="2376360"/>
            <a:ext cx="2856600" cy="2044800"/>
            <a:chOff x="2806560" y="2376360"/>
            <a:chExt cx="2856600" cy="2044800"/>
          </a:xfrm>
        </p:grpSpPr>
        <p:sp>
          <p:nvSpPr>
            <p:cNvPr id="185" name=""/>
            <p:cNvSpPr/>
            <p:nvPr/>
          </p:nvSpPr>
          <p:spPr>
            <a:xfrm>
              <a:off x="2806560" y="237636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26040" y="3701880"/>
              <a:ext cx="358920" cy="1987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46280" y="39006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743200" y="585720"/>
            <a:ext cx="1244520" cy="185436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784" h="1168">
                <a:moveTo>
                  <a:pt x="0" y="1168"/>
                </a:moveTo>
                <a:lnTo>
                  <a:pt x="78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493800" y="243000"/>
            <a:ext cx="2968920" cy="2131920"/>
            <a:chOff x="3493800" y="243000"/>
            <a:chExt cx="2968920" cy="2131920"/>
          </a:xfrm>
        </p:grpSpPr>
        <p:sp>
          <p:nvSpPr>
            <p:cNvPr id="190" name=""/>
            <p:cNvSpPr/>
            <p:nvPr/>
          </p:nvSpPr>
          <p:spPr>
            <a:xfrm>
              <a:off x="3936960" y="68724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040000">
              <a:off x="3796920" y="850320"/>
              <a:ext cx="358920" cy="198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3800" y="243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635720" y="1919160"/>
            <a:ext cx="453600" cy="2818080"/>
            <a:chOff x="4635720" y="1919160"/>
            <a:chExt cx="453600" cy="2818080"/>
          </a:xfrm>
        </p:grpSpPr>
        <p:grpSp>
          <p:nvGrpSpPr>
            <p:cNvPr id="194" name=""/>
            <p:cNvGrpSpPr/>
            <p:nvPr/>
          </p:nvGrpSpPr>
          <p:grpSpPr>
            <a:xfrm>
              <a:off x="4862880" y="2376360"/>
              <a:ext cx="226440" cy="2360880"/>
              <a:chOff x="4862880" y="2376360"/>
              <a:chExt cx="226440" cy="2360880"/>
            </a:xfrm>
          </p:grpSpPr>
          <p:sp>
            <p:nvSpPr>
              <p:cNvPr id="195" name=""/>
              <p:cNvSpPr/>
              <p:nvPr/>
            </p:nvSpPr>
            <p:spPr>
              <a:xfrm flipV="1">
                <a:off x="486324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800000">
                <a:off x="4862880" y="2378880"/>
                <a:ext cx="226440" cy="226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635720" y="1919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04920" y="2389320"/>
            <a:ext cx="2489040" cy="1440"/>
          </a:xfrm>
          <a:custGeom>
            <a:avLst/>
            <a:gdLst>
              <a:gd name="textAreaLeft" fmla="*/ 0 w 2489040"/>
              <a:gd name="textAreaRight" fmla="*/ 2489400 w 2489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68" h="1">
                <a:moveTo>
                  <a:pt x="0" y="0"/>
                </a:moveTo>
                <a:lnTo>
                  <a:pt x="15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78120" y="1919160"/>
            <a:ext cx="453600" cy="2818080"/>
            <a:chOff x="978120" y="1919160"/>
            <a:chExt cx="453600" cy="2818080"/>
          </a:xfrm>
        </p:grpSpPr>
        <p:grpSp>
          <p:nvGrpSpPr>
            <p:cNvPr id="200" name=""/>
            <p:cNvGrpSpPr/>
            <p:nvPr/>
          </p:nvGrpSpPr>
          <p:grpSpPr>
            <a:xfrm>
              <a:off x="1205280" y="2376360"/>
              <a:ext cx="226440" cy="2360880"/>
              <a:chOff x="1205280" y="2376360"/>
              <a:chExt cx="226440" cy="236088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1205640" y="2376360"/>
                <a:ext cx="0" cy="236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0800000">
                <a:off x="1205280" y="2378880"/>
                <a:ext cx="226440" cy="226440"/>
              </a:xfrm>
              <a:custGeom>
                <a:avLst/>
                <a:gdLst>
                  <a:gd name="textAreaLeft" fmla="*/ 0 w 226440"/>
                  <a:gd name="textAreaRight" fmla="*/ 226800 w 22644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978120" y="1919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69200" y="2681280"/>
            <a:ext cx="2905920" cy="2047320"/>
            <a:chOff x="1969200" y="2681280"/>
            <a:chExt cx="2905920" cy="2047320"/>
          </a:xfrm>
        </p:grpSpPr>
        <p:grpSp>
          <p:nvGrpSpPr>
            <p:cNvPr id="205" name=""/>
            <p:cNvGrpSpPr/>
            <p:nvPr/>
          </p:nvGrpSpPr>
          <p:grpSpPr>
            <a:xfrm>
              <a:off x="2349360" y="2783160"/>
              <a:ext cx="2525760" cy="1945440"/>
              <a:chOff x="2349360" y="2783160"/>
              <a:chExt cx="2525760" cy="1945440"/>
            </a:xfrm>
          </p:grpSpPr>
          <p:sp>
            <p:nvSpPr>
              <p:cNvPr id="206" name=""/>
              <p:cNvSpPr/>
              <p:nvPr/>
            </p:nvSpPr>
            <p:spPr>
              <a:xfrm rot="10800000">
                <a:off x="2349360" y="3021120"/>
                <a:ext cx="2525760" cy="1707480"/>
              </a:xfrm>
              <a:custGeom>
                <a:avLst/>
                <a:gdLst>
                  <a:gd name="textAreaLeft" fmla="*/ 0 w 2525760"/>
                  <a:gd name="textAreaRight" fmla="*/ 2526120 w 2525760"/>
                  <a:gd name="textAreaTop" fmla="*/ 0 h 1707480"/>
                  <a:gd name="textAreaBottom" fmla="*/ 1707840 h 1707480"/>
                </a:gdLst>
                <a:ahLst/>
                <a:rect l="textAreaLeft" t="textAreaTop" r="textAreaRight" b="textAreaBottom"/>
                <a:pathLst>
                  <a:path w="1592" h="1064">
                    <a:moveTo>
                      <a:pt x="0" y="0"/>
                    </a:moveTo>
                    <a:lnTo>
                      <a:pt x="1592" y="106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14700000">
                <a:off x="2417760" y="2889720"/>
                <a:ext cx="362880" cy="198720"/>
              </a:xfrm>
              <a:custGeom>
                <a:avLst/>
                <a:gdLst>
                  <a:gd name="textAreaLeft" fmla="*/ 0 w 362880"/>
                  <a:gd name="textAreaRight" fmla="*/ 362880 w 362880"/>
                  <a:gd name="textAreaTop" fmla="*/ 360 h 198720"/>
                  <a:gd name="textAreaBottom" fmla="*/ 199440 h 198720"/>
                </a:gdLst>
                <a:ahLst/>
                <a:rect l="textAreaLeft" t="textAreaTop" r="textAreaRight" b="textAreaBottom"/>
                <a:pathLst>
                  <a:path w="227" h="126">
                    <a:moveTo>
                      <a:pt x="227" y="85"/>
                    </a:moveTo>
                    <a:lnTo>
                      <a:pt x="80" y="0"/>
                    </a:lnTo>
                    <a:lnTo>
                      <a:pt x="0" y="12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969200" y="2681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619440" y="4713120"/>
            <a:ext cx="1244520" cy="1854360"/>
          </a:xfrm>
          <a:custGeom>
            <a:avLst/>
            <a:gdLst>
              <a:gd name="textAreaLeft" fmla="*/ 0 w 1244520"/>
              <a:gd name="textAreaRight" fmla="*/ 1244880 w 124452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784" h="1168">
                <a:moveTo>
                  <a:pt x="0" y="1168"/>
                </a:moveTo>
                <a:lnTo>
                  <a:pt x="78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206360" y="4738680"/>
            <a:ext cx="2856600" cy="2044440"/>
            <a:chOff x="1206360" y="4738680"/>
            <a:chExt cx="2856600" cy="2044440"/>
          </a:xfrm>
        </p:grpSpPr>
        <p:sp>
          <p:nvSpPr>
            <p:cNvPr id="211" name=""/>
            <p:cNvSpPr/>
            <p:nvPr/>
          </p:nvSpPr>
          <p:spPr>
            <a:xfrm>
              <a:off x="1206360" y="4738680"/>
              <a:ext cx="2525760" cy="1687680"/>
            </a:xfrm>
            <a:custGeom>
              <a:avLst/>
              <a:gdLst>
                <a:gd name="textAreaLeft" fmla="*/ 0 w 2525760"/>
                <a:gd name="textAreaRight" fmla="*/ 2526120 w 2525760"/>
                <a:gd name="textAreaTop" fmla="*/ 0 h 1687680"/>
                <a:gd name="textAreaBottom" fmla="*/ 1688040 h 1687680"/>
              </a:gdLst>
              <a:ahLst/>
              <a:rect l="textAreaLeft" t="textAreaTop" r="textAreaRight" b="textAreaBottom"/>
              <a:pathLst>
                <a:path w="1592" h="1064">
                  <a:moveTo>
                    <a:pt x="0" y="0"/>
                  </a:moveTo>
                  <a:lnTo>
                    <a:pt x="1592" y="106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525840" y="6064200"/>
              <a:ext cx="358920" cy="19836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7" h="126">
                  <a:moveTo>
                    <a:pt x="227" y="85"/>
                  </a:moveTo>
                  <a:lnTo>
                    <a:pt x="80" y="0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46080" y="62625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286680" y="27936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*B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86320" y="838080"/>
            <a:ext cx="210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DC*B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96160" y="213372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B*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87040" y="1523880"/>
            <a:ext cx="216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BC*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6160" y="2819520"/>
            <a:ext cx="2186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D*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96160" y="3505320"/>
            <a:ext cx="208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AB*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96160" y="4191120"/>
            <a:ext cx="205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BC*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5800" y="4876920"/>
            <a:ext cx="210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DC*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5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0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6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1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120" y="2895480"/>
            <a:ext cx="8001000" cy="1752840"/>
          </a:xfrm>
          <a:custGeom>
            <a:avLst/>
            <a:gdLst>
              <a:gd name="textAreaLeft" fmla="*/ 0 w 8001000"/>
              <a:gd name="textAreaRight" fmla="*/ 8001360 w 80010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3312" h="1488">
                <a:moveTo>
                  <a:pt x="0" y="1488"/>
                </a:moveTo>
                <a:lnTo>
                  <a:pt x="1008" y="0"/>
                </a:lnTo>
                <a:lnTo>
                  <a:pt x="3312" y="0"/>
                </a:lnTo>
                <a:lnTo>
                  <a:pt x="2304" y="1488"/>
                </a:lnTo>
                <a:lnTo>
                  <a:pt x="0" y="148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636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984760" y="2362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5960" y="23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628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39960" y="3200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963520" y="2895480"/>
            <a:ext cx="456480" cy="2233440"/>
            <a:chOff x="2963520" y="2895480"/>
            <a:chExt cx="456480" cy="2233440"/>
          </a:xfrm>
        </p:grpSpPr>
        <p:grpSp>
          <p:nvGrpSpPr>
            <p:cNvPr id="229" name=""/>
            <p:cNvGrpSpPr/>
            <p:nvPr/>
          </p:nvGrpSpPr>
          <p:grpSpPr>
            <a:xfrm>
              <a:off x="2971800" y="2895480"/>
              <a:ext cx="227160" cy="1765440"/>
              <a:chOff x="2971800" y="2895480"/>
              <a:chExt cx="227160" cy="176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3198960" y="2895480"/>
                <a:ext cx="0" cy="176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71800" y="4491000"/>
                <a:ext cx="225720" cy="169920"/>
              </a:xfrm>
              <a:custGeom>
                <a:avLst/>
                <a:gdLst>
                  <a:gd name="textAreaLeft" fmla="*/ 0 w 225720"/>
                  <a:gd name="textAreaRight" fmla="*/ 226080 w 225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44" h="144">
                    <a:moveTo>
                      <a:pt x="144" y="0"/>
                    </a:moveTo>
                    <a:lnTo>
                      <a:pt x="0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963520" y="460836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012680" y="43434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2616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616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2120" y="4648320"/>
            <a:ext cx="5486400" cy="60948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3456" h="384">
                <a:moveTo>
                  <a:pt x="0" y="0"/>
                </a:moveTo>
                <a:cubicBezTo>
                  <a:pt x="528" y="192"/>
                  <a:pt x="1056" y="384"/>
                  <a:pt x="1632" y="384"/>
                </a:cubicBezTo>
                <a:cubicBezTo>
                  <a:pt x="2208" y="384"/>
                  <a:pt x="2832" y="192"/>
                  <a:pt x="34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11560" y="3581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54936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BCD -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параллел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98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йти площадь параллелограм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04000" y="4076640"/>
            <a:ext cx="1800360" cy="1440000"/>
          </a:xfrm>
          <a:prstGeom prst="irregularSeal1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7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7.40741E-007 L -0.29166 0.44444 E">
                                      <p:cBhvr>
                                        <p:cTn id="242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52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/>
  <dcterms:modified xsi:type="dcterms:W3CDTF">2022-04-16T12:49:23Z</dcterms:modified>
  <cp:revision>126</cp:revision>
  <dc:subject/>
  <dc:title>Слайд 1</dc:title>
</cp:coreProperties>
</file>