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8E9B-4B33-4AFC-A8E5-5FD9E8F9AE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9A2-B7BB-4477-90FA-4F340A1B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806-1F9A-4928-8711-6E147CAE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D84-1094-468A-A23E-EC8567FB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957-3CB4-466F-A634-5D191414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B48-7DA5-4DCA-B98B-D93515B4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8BC-DDCB-46A2-AE03-A9F0754C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157-19BA-4CEC-994B-961E101C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2C1-1B64-4826-9889-E4733C3F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5CB-EED1-4D8B-96AC-20D6396C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6BA-222D-4E8C-BB83-DD70778E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DAA-A832-4FB0-B177-2884158F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C8C-1E23-48BB-9806-70C0DF5C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15E1-E61B-4DEC-A3C4-D4673086A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7360" y="-53953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 пр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д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т  с  л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ск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 с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св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ею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 ск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зк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ю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лш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бн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й п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л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чк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й взм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хн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т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 л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 п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дсн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жн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к р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сцв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620640"/>
            <a:ext cx="647640" cy="538200"/>
          </a:xfrm>
          <a:prstGeom prst="cloudCallout">
            <a:avLst>
              <a:gd name="adj1" fmla="val -52203"/>
              <a:gd name="adj2" fmla="val 72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692280"/>
            <a:ext cx="43164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3640" y="1484280"/>
            <a:ext cx="43200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1557360"/>
            <a:ext cx="43164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2421000"/>
            <a:ext cx="503280" cy="576360"/>
          </a:xfrm>
          <a:prstGeom prst="cloudCallout">
            <a:avLst>
              <a:gd name="adj1" fmla="val -52837"/>
              <a:gd name="adj2" fmla="val 646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2492280"/>
            <a:ext cx="432000" cy="50508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2492280"/>
            <a:ext cx="432000" cy="50508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2492280"/>
            <a:ext cx="432000" cy="50508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7640" y="2492280"/>
            <a:ext cx="576000" cy="505080"/>
          </a:xfrm>
          <a:prstGeom prst="cloudCallout">
            <a:avLst>
              <a:gd name="adj1" fmla="val -39805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5640" y="3500280"/>
            <a:ext cx="432000" cy="50508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35640" y="3500280"/>
            <a:ext cx="431640" cy="50508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4221000"/>
            <a:ext cx="431640" cy="576360"/>
          </a:xfrm>
          <a:prstGeom prst="cloudCallout">
            <a:avLst>
              <a:gd name="adj1" fmla="val -53310"/>
              <a:gd name="adj2" fmla="val 646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1640" y="5300640"/>
            <a:ext cx="43164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6093000"/>
            <a:ext cx="43164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000" y="6021360"/>
            <a:ext cx="504720" cy="576360"/>
          </a:xfrm>
          <a:prstGeom prst="cloudCallout">
            <a:avLst>
              <a:gd name="adj1" fmla="val -52828"/>
              <a:gd name="adj2" fmla="val 76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5300640"/>
            <a:ext cx="43200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80360" y="3500280"/>
            <a:ext cx="431640" cy="505080"/>
          </a:xfrm>
          <a:prstGeom prst="cloudCallout">
            <a:avLst>
              <a:gd name="adj1" fmla="val -387134"/>
              <a:gd name="adj2" fmla="val 1660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27640" y="3500280"/>
            <a:ext cx="432000" cy="50508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4720" y="2492280"/>
            <a:ext cx="432000" cy="50508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4360" y="2492280"/>
            <a:ext cx="432000" cy="505080"/>
          </a:xfrm>
          <a:prstGeom prst="cloudCallout">
            <a:avLst>
              <a:gd name="adj1" fmla="val -187134"/>
              <a:gd name="adj2" fmla="val 494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96360" y="2492280"/>
            <a:ext cx="576000" cy="505080"/>
          </a:xfrm>
          <a:prstGeom prst="cloudCallout">
            <a:avLst>
              <a:gd name="adj1" fmla="val -40083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692280"/>
            <a:ext cx="43164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00640"/>
            <a:ext cx="431640" cy="577800"/>
          </a:xfrm>
          <a:prstGeom prst="cloudCallout">
            <a:avLst>
              <a:gd name="adj1" fmla="val -53310"/>
              <a:gd name="adj2" fmla="val 769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5300640"/>
            <a:ext cx="43200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4292640"/>
            <a:ext cx="43200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71640" y="3429000"/>
            <a:ext cx="43200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3500280"/>
            <a:ext cx="431640" cy="50508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692280"/>
            <a:ext cx="43200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692280"/>
            <a:ext cx="43200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1484280"/>
            <a:ext cx="576360" cy="504720"/>
          </a:xfrm>
          <a:prstGeom prst="cloudCallout">
            <a:avLst>
              <a:gd name="adj1" fmla="val -39805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5300640"/>
            <a:ext cx="43200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6093000"/>
            <a:ext cx="43200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500"/>
                            </p:stCondLst>
                            <p:childTnLst>
                              <p:par>
                                <p:cTn id="9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500"/>
                            </p:stCondLst>
                            <p:childTnLst>
                              <p:par>
                                <p:cTn id="10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500"/>
                            </p:stCondLst>
                            <p:childTnLst>
                              <p:par>
                                <p:cTn id="119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9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9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9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20905" t="32138" r="37449" b="33685"/>
          <a:stretch/>
        </p:blipFill>
        <p:spPr>
          <a:xfrm>
            <a:off x="250920" y="260280"/>
            <a:ext cx="2233440" cy="2808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80000" y="333360"/>
            <a:ext cx="2629080" cy="2971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rcRect l="10672" t="9094" r="51773" b="47279"/>
          <a:stretch/>
        </p:blipFill>
        <p:spPr>
          <a:xfrm>
            <a:off x="250920" y="4292640"/>
            <a:ext cx="2736720" cy="2305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19840" y="3933720"/>
            <a:ext cx="32241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rcRect l="35423" t="27996" r="15508" b="40953"/>
          <a:stretch/>
        </p:blipFill>
        <p:spPr>
          <a:xfrm>
            <a:off x="5919840" y="3933720"/>
            <a:ext cx="3224160" cy="29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25640" y="260280"/>
            <a:ext cx="63183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Снова солнце в небе улыб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Снег растаял, ручейки звен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И подснежник первый пробив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Птицы с песнями домой лет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675640" y="6308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87640" y="2698920"/>
            <a:ext cx="25210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ес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какая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5877000"/>
            <a:ext cx="4140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долгождан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3280" y="4221000"/>
            <a:ext cx="3960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солнеч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04000" y="1557360"/>
            <a:ext cx="3240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я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35640" y="2421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тёпл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557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ласк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421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краси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516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пасмур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429000"/>
            <a:ext cx="3816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рання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58136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поздня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5084640"/>
            <a:ext cx="41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дождли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3357720"/>
            <a:ext cx="3492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ветрен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555640" y="2133720"/>
            <a:ext cx="8636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484000" y="2852640"/>
            <a:ext cx="863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050560" y="3213000"/>
            <a:ext cx="1297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3357720"/>
            <a:ext cx="1224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843280" y="3429000"/>
            <a:ext cx="792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076720" y="2133720"/>
            <a:ext cx="8636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076720" y="2781360"/>
            <a:ext cx="129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6720" y="321300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76720" y="3357720"/>
            <a:ext cx="863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3357720"/>
            <a:ext cx="71928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3429000"/>
            <a:ext cx="50328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675640" y="6308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987640" y="2698920"/>
            <a:ext cx="25210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ес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какая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5877000"/>
            <a:ext cx="41403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долгождан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83280" y="4221000"/>
            <a:ext cx="3960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солнеч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04000" y="1557360"/>
            <a:ext cx="3240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я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35640" y="2421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тёпл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557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ласк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421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краси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516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пасмур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429000"/>
            <a:ext cx="38163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рання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581360"/>
            <a:ext cx="252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поздня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5084640"/>
            <a:ext cx="41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дождли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1640" y="3357720"/>
            <a:ext cx="34923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ветрен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55640" y="2133720"/>
            <a:ext cx="8636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2484000" y="2852640"/>
            <a:ext cx="863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050560" y="3213000"/>
            <a:ext cx="1297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68360" y="3357720"/>
            <a:ext cx="1224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843280" y="3429000"/>
            <a:ext cx="792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076720" y="2133720"/>
            <a:ext cx="8636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076720" y="2781360"/>
            <a:ext cx="129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321300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6720" y="3357720"/>
            <a:ext cx="863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3357720"/>
            <a:ext cx="71928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3429000"/>
            <a:ext cx="50328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Март – месяц солн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Апрель – месяц в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Май – месяц трав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557360"/>
            <a:ext cx="82803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солн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ве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руче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кап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реб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одснеж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т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Медв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1844640"/>
            <a:ext cx="21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557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Светит         ярк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213372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Дует       тёп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314172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Звенит        звон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27082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Бежит         быст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3645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Весё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7280" y="3645000"/>
            <a:ext cx="48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ускают  корабл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414972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робивается   перв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4581360"/>
            <a:ext cx="59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Возвращаются    радос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40000" y="5084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робуждаются от зимней спя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40464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Весн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4:04:29Z</dcterms:created>
  <dc:creator>User</dc:creator>
  <dc:description/>
  <dc:language>en-US</dc:language>
  <cp:lastModifiedBy>000</cp:lastModifiedBy>
  <dcterms:modified xsi:type="dcterms:W3CDTF">2009-04-21T05:28:48Z</dcterms:modified>
  <cp:revision>9</cp:revision>
  <dc:subject/>
  <dc:title>Слайд 1</dc:title>
</cp:coreProperties>
</file>