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81B-05B3-4DAC-96EB-357FF37E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71A3-54E3-4552-939F-D38E19ED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15F2-0DB0-452A-9F3B-350A1029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B6D-B41C-4955-AA10-1C461F37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98AE-17D9-40F7-99AB-743A5C0D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F2C6-C6F4-4461-B8BE-70176314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BD3D-32C5-42A8-A69B-79BA3477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6FD3-E450-4E9F-A540-C11374F4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99E7-44AD-42C7-99C8-8F35A52B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550-E82E-4505-B1B5-27C769E0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CFC0-DC96-44FA-AA8A-F1F5A289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07CE-21EC-439D-8980-2F306A8F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E10B-40AC-4B2A-A57C-77D7884E1A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перам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е «темперамен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ы темпера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сти нервных процес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а темперамен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вестные меланхол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d986685a-99c4-5fe3-a2bc-1053a038f350"/>
          <p:cNvPicPr/>
          <p:nvPr/>
        </p:nvPicPr>
        <p:blipFill>
          <a:blip r:embed="rId1"/>
          <a:stretch/>
        </p:blipFill>
        <p:spPr>
          <a:xfrm>
            <a:off x="2590920" y="1371600"/>
            <a:ext cx="4181400" cy="52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обенности нервных 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temper"/>
          <p:cNvPicPr/>
          <p:nvPr/>
        </p:nvPicPr>
        <p:blipFill>
          <a:blip r:embed="rId1"/>
          <a:stretch/>
        </p:blipFill>
        <p:spPr>
          <a:xfrm>
            <a:off x="533520" y="2057400"/>
            <a:ext cx="818676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ства темперамен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temper"/>
          <p:cNvPicPr/>
          <p:nvPr/>
        </p:nvPicPr>
        <p:blipFill>
          <a:blip r:embed="rId1"/>
          <a:stretch/>
        </p:blipFill>
        <p:spPr>
          <a:xfrm>
            <a:off x="2233440" y="2600280"/>
            <a:ext cx="4677120" cy="1657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tab"/>
          <p:cNvPicPr/>
          <p:nvPr/>
        </p:nvPicPr>
        <p:blipFill>
          <a:blip r:embed="rId2"/>
          <a:stretch/>
        </p:blipFill>
        <p:spPr>
          <a:xfrm>
            <a:off x="380880" y="1828800"/>
            <a:ext cx="7848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нятие «темперамен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перамент – это врожденные особенности человека, которые обусловливают динамические характеристики интенсивности и скорости реагирования, степени эмоциональной возбудимости и уравновешенности, особенности приспособления к окружающей ср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л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лери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— это субъект, обладающий одним из четырёх основных типов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мперамен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характеризующийся высоким уровнем психической активности, энергичностью действий, резкостью, стремительностью, силой движений, их быстрым темпом, порывистостью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лери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вспыльчив, нетерпелив, подвержен эмоциональным срывам, часто бывает агрессив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holerik-kto-takoi"/>
          <p:cNvPicPr/>
          <p:nvPr/>
        </p:nvPicPr>
        <p:blipFill>
          <a:blip r:embed="rId1"/>
          <a:stretch/>
        </p:blipFill>
        <p:spPr>
          <a:xfrm>
            <a:off x="5141880" y="2133720"/>
            <a:ext cx="27306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вестные холер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493841251c9a576cd7aec631950982d3"/>
          <p:cNvPicPr/>
          <p:nvPr/>
        </p:nvPicPr>
        <p:blipFill>
          <a:blip r:embed="rId1"/>
          <a:stretch/>
        </p:blipFill>
        <p:spPr>
          <a:xfrm>
            <a:off x="1447920" y="1600200"/>
            <a:ext cx="64008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нгви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нгвиник — это личность, характеризующаяся 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окой психической активностью, энергичностью, работоспособностью, быстротой и живостью движений, разнообразием и богатством мимики, быстрым темпом реч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Сангвиник стремится к частой смене впечатлений, легко и быстро отзывается на окружающие события, общителе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54126_multpersonazh_507"/>
          <p:cNvPicPr/>
          <p:nvPr/>
        </p:nvPicPr>
        <p:blipFill>
          <a:blip r:embed="rId1"/>
          <a:stretch/>
        </p:blipFill>
        <p:spPr>
          <a:xfrm>
            <a:off x="4987800" y="1600200"/>
            <a:ext cx="3359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вестные сангви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1523038899_vladimir-lenin"/>
          <p:cNvPicPr/>
          <p:nvPr/>
        </p:nvPicPr>
        <p:blipFill>
          <a:blip r:embed="rId1"/>
          <a:stretch/>
        </p:blipFill>
        <p:spPr>
          <a:xfrm>
            <a:off x="2514600" y="1523880"/>
            <a:ext cx="343548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это один из четырех типов личности в классификации Гиппократа. Ему свойственны спокойствие, рассудительность, стабильное настроение, ровные, слабовыраженные во внешний мир эмоции. 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53998_multpersonazh_392"/>
          <p:cNvPicPr/>
          <p:nvPr/>
        </p:nvPicPr>
        <p:blipFill>
          <a:blip r:embed="rId1"/>
          <a:stretch/>
        </p:blipFill>
        <p:spPr>
          <a:xfrm>
            <a:off x="5794200" y="1600200"/>
            <a:ext cx="2130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вестные флег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71658315bb9d5d427630be12f5b084fb"/>
          <p:cNvPicPr/>
          <p:nvPr/>
        </p:nvPicPr>
        <p:blipFill>
          <a:blip r:embed="rId1"/>
          <a:stretch/>
        </p:blipFill>
        <p:spPr>
          <a:xfrm>
            <a:off x="2514600" y="1523880"/>
            <a:ext cx="3657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ланх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анхол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люди спокойные, медлительные и чувствительные. Они легко расстраиваются, причем часто из-за ситуаций, не стоящих слез, и потом тяжело оправляются от неудач. Меланхолик не торопится и не проявляет инициативу на работе, а отдыхать предпочитает спокойно и в одиночестве. Сильные черты этого типа — умение сочувствовать, вдумчивость и наблюдательность. Также считается, что именно среди меланхоликов особенно много творческих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12T15:36:55Z</dcterms:created>
  <dc:creator>Марина</dc:creator>
  <dc:description/>
  <dc:language>en-US</dc:language>
  <cp:lastModifiedBy>zam</cp:lastModifiedBy>
  <dcterms:modified xsi:type="dcterms:W3CDTF">2023-11-13T05:19:32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