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E3BB-24BE-462E-AD2C-643E9C3F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0CE6-58E9-47A4-99FD-B3954679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09FA-157A-41F2-9BC3-4642BE6C4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06AE-B606-43B3-8266-581DA9485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0F7F-0085-42AC-8F6E-CD006B7F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F3AC-EADF-4F90-AE4C-21BA3676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F196-90BB-445D-994E-3658A7F3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FE05-A595-4CF2-92C8-2C2B5403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2978-98A4-4E53-8E04-ABB6AD36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1656-E067-48E1-ABA4-CDAEDF2E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AADC-448F-480E-9EC9-2A24CB07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54D9-4520-4AFA-AAA6-6D10E7CD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1304-BB9D-423D-9809-C2075BED99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перам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ятие «темперамен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пы темперам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енности нервных процес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йства темпераме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вестные меланхол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d986685a-99c4-5fe3-a2bc-1053a038f350"/>
          <p:cNvPicPr/>
          <p:nvPr/>
        </p:nvPicPr>
        <p:blipFill>
          <a:blip r:embed="rId1"/>
          <a:stretch/>
        </p:blipFill>
        <p:spPr>
          <a:xfrm>
            <a:off x="2590920" y="1371600"/>
            <a:ext cx="41814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обенности нервных 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temper"/>
          <p:cNvPicPr/>
          <p:nvPr/>
        </p:nvPicPr>
        <p:blipFill>
          <a:blip r:embed="rId1"/>
          <a:stretch/>
        </p:blipFill>
        <p:spPr>
          <a:xfrm>
            <a:off x="533520" y="2057400"/>
            <a:ext cx="818676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войства темперамен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temper"/>
          <p:cNvPicPr/>
          <p:nvPr/>
        </p:nvPicPr>
        <p:blipFill>
          <a:blip r:embed="rId1"/>
          <a:stretch/>
        </p:blipFill>
        <p:spPr>
          <a:xfrm>
            <a:off x="2233440" y="2600280"/>
            <a:ext cx="4677120" cy="1657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tab"/>
          <p:cNvPicPr/>
          <p:nvPr/>
        </p:nvPicPr>
        <p:blipFill>
          <a:blip r:embed="rId2"/>
          <a:stretch/>
        </p:blipFill>
        <p:spPr>
          <a:xfrm>
            <a:off x="380880" y="1828800"/>
            <a:ext cx="78487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нятие «темперамен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перамент – это врожденные особенности человека, которые обусловливают динамические характеристики интенсивности и скорости реагирования, степени эмоциональной возбудимости и уравновешенности, особенности приспособления к окружающей ср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ле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олери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— это субъект, обладающий одним из четырёх основных типов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мперамен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характеризующийся высоким уровнем психической активности, энергичностью действий, резкостью, стремительностью, силой движений, их быстрым темпом, порывистостью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олери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вспыльчив, нетерпелив, подвержен эмоциональным срывам, часто бывает агрессивн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holerik-kto-takoi"/>
          <p:cNvPicPr/>
          <p:nvPr/>
        </p:nvPicPr>
        <p:blipFill>
          <a:blip r:embed="rId1"/>
          <a:stretch/>
        </p:blipFill>
        <p:spPr>
          <a:xfrm>
            <a:off x="5141880" y="2133720"/>
            <a:ext cx="27306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вестные холер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493841251c9a576cd7aec631950982d3"/>
          <p:cNvPicPr/>
          <p:nvPr/>
        </p:nvPicPr>
        <p:blipFill>
          <a:blip r:embed="rId1"/>
          <a:stretch/>
        </p:blipFill>
        <p:spPr>
          <a:xfrm>
            <a:off x="1447920" y="1600200"/>
            <a:ext cx="640080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нгви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нгвиник — это личность, характеризующаяся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сокой психической активностью, энергичностью, работоспособностью, быстротой и живостью движений, разнообразием и богатством мимики, быстрым темпом реч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Сангвиник стремится к частой смене впечатлений, легко и быстро отзывается на окружающие события, общителе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54126_multpersonazh_507"/>
          <p:cNvPicPr/>
          <p:nvPr/>
        </p:nvPicPr>
        <p:blipFill>
          <a:blip r:embed="rId1"/>
          <a:stretch/>
        </p:blipFill>
        <p:spPr>
          <a:xfrm>
            <a:off x="4987800" y="1600200"/>
            <a:ext cx="3359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вестные сангви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1523038899_vladimir-lenin"/>
          <p:cNvPicPr/>
          <p:nvPr/>
        </p:nvPicPr>
        <p:blipFill>
          <a:blip r:embed="rId1"/>
          <a:stretch/>
        </p:blipFill>
        <p:spPr>
          <a:xfrm>
            <a:off x="2514600" y="1523880"/>
            <a:ext cx="343548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легм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легмати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это один из четырех типов личности в классификации Гиппократа. Ему свойственны спокойствие, рассудительность, стабильное настроение, ровные, слабовыраженные во внешний мир эмоции. 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53998_multpersonazh_392"/>
          <p:cNvPicPr/>
          <p:nvPr/>
        </p:nvPicPr>
        <p:blipFill>
          <a:blip r:embed="rId1"/>
          <a:stretch/>
        </p:blipFill>
        <p:spPr>
          <a:xfrm>
            <a:off x="5794200" y="1600200"/>
            <a:ext cx="2130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вестные флегма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71658315bb9d5d427630be12f5b084fb"/>
          <p:cNvPicPr/>
          <p:nvPr/>
        </p:nvPicPr>
        <p:blipFill>
          <a:blip r:embed="rId1"/>
          <a:stretch/>
        </p:blipFill>
        <p:spPr>
          <a:xfrm>
            <a:off x="2514600" y="1523880"/>
            <a:ext cx="3657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ланхо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ланхол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люди спокойные, медлительные и чувствительные. Они легко расстраиваются, причем часто из-за ситуаций, не стоящих слез, и потом тяжело оправляются от неудач. Меланхолик не торопится и не проявляет инициативу на работе, а отдыхать предпочитает спокойно и в одиночестве. Сильные черты этого типа — умение сочувствовать, вдумчивость и наблюдательность. Также считается, что именно среди меланхоликов особенно много творческих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1-12T15:36:55Z</dcterms:created>
  <dc:creator>Марина</dc:creator>
  <dc:description/>
  <dc:language>en-US</dc:language>
  <cp:lastModifiedBy>zam</cp:lastModifiedBy>
  <dcterms:modified xsi:type="dcterms:W3CDTF">2023-11-13T05:19:32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