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png" ContentType="image/png"/>
  <Override PartName="/ppt/media/image2.gif" ContentType="image/gif"/>
  <Override PartName="/ppt/media/image7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3A64-C54D-4564-9CB7-6ECC7E1F615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C70D-8431-49D9-B6C6-9FD8A7B9FCA9}" type="slidenum">
              <a:rPr b="0" lang="ru-RU" sz="1200" spc="-1" strike="noStrike">
                <a:solidFill>
                  <a:srgbClr val="8383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EE7-443E-43FC-93BF-61654114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9B3-51BE-413C-86E3-8D746BA1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D02-F7F6-477C-A195-DCF42358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379-3902-446F-A05B-3311ADD6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9F64-078A-4500-9045-129349C3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9134-4C51-4FE1-BD8F-71090B73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AA76-79E7-4A29-8DC2-661ADE54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D4DD-C3BE-48CB-9801-FE6ACA24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2035-5198-4FF2-954F-12641F59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0401-5FD1-4753-8DA3-80E9335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2F4-C9CF-41B0-B160-E1D47E02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847-6CBC-4BC2-ADCC-1AB2591D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F406-B6F4-41E4-A094-D975DA57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254CE-0CB4-4EC1-B474-A5436DCE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6BD2-D52F-4419-9456-00F2A8E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348D-8C9C-4289-AF38-6AC57632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D8F2-922B-459C-B9E1-82933565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7C0-558D-466F-AF65-DE1F609F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BD7-987C-4670-B617-9704DAD9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A04-4917-4F4D-9C59-638AF8BC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396-9EC1-4FE6-83AC-391C01ED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3313-4779-4F9F-BCA2-3F7C58D9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749-969D-41E6-8DFB-6EDA711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4A6E-64F9-4F23-9A89-6C73CE6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9A8C-8A52-489B-BEF5-0FEF5D113D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70C3-0E1B-4907-A2CB-58BA0F0E2130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hyperlink" Target="http://www.realchina.ru/wp-content/uploads/2009/12/&#1054;&#1076;&#1077;&#1078;&#1076;&#1072;.JPG" TargetMode="External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5.jpe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ПРЕДМЕТ ОРГАНИЧЕСКОЙ ХИМИИ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9 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рганических веществ 27 млн. причем каждый год их число увеличивается на 200-300 тысяч. Общее количество неорганических веществ не превышает 1 млн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Какие химические элементы помимо углерода входят в состав органических веществ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Органическая химия – это химия соединений углерода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Молекулярные формулы органических вещест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сахар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– глюк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- крахма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-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уротропин (сухое горючее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Н – этиловый спир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лимон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66330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парафиновая свеча, нефт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амино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Понятие об органических веществах. 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Признаки  органических веществ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Содержат углерод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Горят и (или) разлагаются с образованием углеродсодержащих продуктов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Связь в молекулах органических веществ ковалентна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  <a:ea typeface="Arial"/>
              </a:rPr>
              <a:t>Кристаллические решетки в молекулах органических веществ молекулярные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2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. </a:t>
            </a: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Валентность химических элемент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9810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пишите формулы следующих веществ и определите степени окисления химических элементов: С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-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+1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        С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-8/3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+1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      С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-10/4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3200" spc="-1" strike="noStrike" baseline="30000">
                <a:solidFill>
                  <a:srgbClr val="663300"/>
                </a:solidFill>
                <a:latin typeface="Times New Roman"/>
              </a:rPr>
              <a:t>+1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х + (+1)х4=0     3х +(+1)*8=0     4х +(+1)*10=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х = - 4                х = -8/3                 х = -10/4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ХІХ в. не было такого понятия, как степень окисления, т.к. не было еще известно строение атома.  Поэтому химики пользовались понятием валентности химических элементов. А что такое валентность?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Фридрих Август Кекуле, немецкий химик-органик, в 1857 г. первый высказал идею о валентности как о целом числе «единиц сродства», которым обладает атом, и установил валентность серы, кислорода и углерода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Валентность и степень окисления химических элемент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0" y="1295280"/>
          <a:ext cx="9144000" cy="5435640"/>
        </p:xfrm>
        <a:graphic>
          <a:graphicData uri="http://schemas.openxmlformats.org/drawingml/2006/table">
            <a:tbl>
              <a:tblPr/>
              <a:tblGrid>
                <a:gridCol w="2438280"/>
                <a:gridCol w="2971800"/>
                <a:gridCol w="3733920"/>
              </a:tblGrid>
              <a:tr h="55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ущность поняти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2572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число химических связей, соединяющих данный атом с другими атомами в молекул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І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 І, валентность кислорода ІІ,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</a:t>
                      </a:r>
                      <a:r>
                        <a:rPr b="1" lang="ru-RU" sz="20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І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</a:tr>
              <a:tr h="2309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тепень окисления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смещение общих электронных пар между атомами элемента в молекуле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0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,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+1</a:t>
                      </a:r>
                      <a:r>
                        <a:rPr b="1" lang="ru-RU" sz="20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0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Прямоугольник 14"/>
          <p:cNvSpPr/>
          <p:nvPr/>
        </p:nvSpPr>
        <p:spPr>
          <a:xfrm>
            <a:off x="4714920" y="5286240"/>
            <a:ext cx="42876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392" name="Прямая со стрелкой 15"/>
          <p:cNvCxnSpPr/>
          <p:nvPr/>
        </p:nvCxnSpPr>
        <p:spPr>
          <a:xfrm flipH="1" flipV="1">
            <a:off x="4857480" y="528552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Прямая со стрелкой 16"/>
          <p:cNvCxnSpPr/>
          <p:nvPr/>
        </p:nvCxnSpPr>
        <p:spPr>
          <a:xfrm flipH="1">
            <a:off x="5000400" y="528588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Прямоугольник 17"/>
          <p:cNvSpPr/>
          <p:nvPr/>
        </p:nvSpPr>
        <p:spPr>
          <a:xfrm>
            <a:off x="4714920" y="492912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4d"/>
                </a:solidFill>
                <a:latin typeface="Times New Roman"/>
              </a:rPr>
              <a:t>1 </a:t>
            </a: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s</a:t>
            </a:r>
            <a:r>
              <a:rPr b="0" lang="en-US" sz="1600" spc="-1" strike="noStrike" baseline="30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6858000" y="4143240"/>
            <a:ext cx="42876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Прямоугольник 21"/>
          <p:cNvSpPr/>
          <p:nvPr/>
        </p:nvSpPr>
        <p:spPr>
          <a:xfrm>
            <a:off x="6429240" y="4143240"/>
            <a:ext cx="42876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Прямоугольник 22"/>
          <p:cNvSpPr/>
          <p:nvPr/>
        </p:nvSpPr>
        <p:spPr>
          <a:xfrm>
            <a:off x="6000840" y="4143240"/>
            <a:ext cx="428400" cy="42876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Прямоугольник 23"/>
          <p:cNvSpPr/>
          <p:nvPr/>
        </p:nvSpPr>
        <p:spPr>
          <a:xfrm>
            <a:off x="5572080" y="4500720"/>
            <a:ext cx="428760" cy="428400"/>
          </a:xfrm>
          <a:prstGeom prst="rect">
            <a:avLst/>
          </a:prstGeom>
          <a:solidFill>
            <a:srgbClr val="babe90"/>
          </a:solidFill>
          <a:ln w="19080">
            <a:solidFill>
              <a:srgbClr val="3d3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cxnSp>
        <p:nvCxnSpPr>
          <p:cNvPr id="399" name="Прямая со стрелкой 24"/>
          <p:cNvCxnSpPr/>
          <p:nvPr/>
        </p:nvCxnSpPr>
        <p:spPr>
          <a:xfrm>
            <a:off x="5857920" y="4500720"/>
            <a:ext cx="21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25"/>
          <p:cNvCxnSpPr/>
          <p:nvPr/>
        </p:nvCxnSpPr>
        <p:spPr>
          <a:xfrm flipV="1">
            <a:off x="5715000" y="4500360"/>
            <a:ext cx="21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Прямая со стрелкой 27"/>
          <p:cNvCxnSpPr/>
          <p:nvPr/>
        </p:nvCxnSpPr>
        <p:spPr>
          <a:xfrm flipH="1" flipV="1">
            <a:off x="6143400" y="414252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Прямая со стрелкой 29"/>
          <p:cNvCxnSpPr/>
          <p:nvPr/>
        </p:nvCxnSpPr>
        <p:spPr>
          <a:xfrm flipH="1" flipV="1">
            <a:off x="6571440" y="4142520"/>
            <a:ext cx="252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3" name="Прямоугольник 32"/>
          <p:cNvSpPr/>
          <p:nvPr/>
        </p:nvSpPr>
        <p:spPr>
          <a:xfrm>
            <a:off x="5572080" y="4143240"/>
            <a:ext cx="500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4d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s</a:t>
            </a:r>
            <a:r>
              <a:rPr b="0" lang="en-US" sz="1600" spc="-1" strike="noStrike" baseline="30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Прямоугольник 33"/>
          <p:cNvSpPr/>
          <p:nvPr/>
        </p:nvSpPr>
        <p:spPr>
          <a:xfrm>
            <a:off x="6357960" y="3786120"/>
            <a:ext cx="5000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4d"/>
                </a:solidFill>
                <a:latin typeface="Times New Roman"/>
              </a:rPr>
              <a:t>2p</a:t>
            </a:r>
            <a:r>
              <a:rPr b="0" lang="ru-RU" sz="1600" spc="-1" strike="noStrike" baseline="30000">
                <a:solidFill>
                  <a:srgbClr val="33334d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Arial"/>
            </a:endParaRPr>
          </a:p>
        </p:txBody>
      </p:sp>
      <p:grpSp>
        <p:nvGrpSpPr>
          <p:cNvPr id="405" name="Группа 40"/>
          <p:cNvGrpSpPr/>
          <p:nvPr/>
        </p:nvGrpSpPr>
        <p:grpSpPr>
          <a:xfrm>
            <a:off x="785880" y="2786040"/>
            <a:ext cx="2741400" cy="2001960"/>
            <a:chOff x="785880" y="2786040"/>
            <a:chExt cx="2741400" cy="2001960"/>
          </a:xfrm>
        </p:grpSpPr>
        <p:pic>
          <p:nvPicPr>
            <p:cNvPr id="406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785880" y="2786040"/>
              <a:ext cx="2601360" cy="20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Прямоугольник 5"/>
            <p:cNvSpPr/>
            <p:nvPr/>
          </p:nvSpPr>
          <p:spPr>
            <a:xfrm>
              <a:off x="1220760" y="3168360"/>
              <a:ext cx="5853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66693e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8" name="Прямоугольник 6"/>
            <p:cNvSpPr/>
            <p:nvPr/>
          </p:nvSpPr>
          <p:spPr>
            <a:xfrm>
              <a:off x="2435760" y="3167640"/>
              <a:ext cx="446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93e"/>
                  </a:solidFill>
                  <a:latin typeface="Times New Roman"/>
                </a:rPr>
                <a:t>0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09" name="Дуга 7"/>
            <p:cNvSpPr/>
            <p:nvPr/>
          </p:nvSpPr>
          <p:spPr>
            <a:xfrm>
              <a:off x="2435760" y="3210840"/>
              <a:ext cx="744480" cy="947160"/>
            </a:xfrm>
            <a:custGeom>
              <a:avLst/>
              <a:gdLst/>
              <a:ahLst/>
              <a:rect l="l" t="t" r="r" b="b"/>
              <a:pathLst>
                <a:path stroke="0" w="861926" h="1529025">
                  <a:moveTo>
                    <a:pt x="430963" y="0"/>
                  </a:moveTo>
                  <a:cubicBezTo>
                    <a:pt x="618134" y="0"/>
                    <a:pt x="783907" y="214319"/>
                    <a:pt x="841223" y="530404"/>
                  </a:cubicBezTo>
                  <a:cubicBezTo>
                    <a:pt x="869292" y="685201"/>
                    <a:pt x="868808" y="851842"/>
                    <a:pt x="839840" y="1006117"/>
                  </a:cubicBezTo>
                  <a:cubicBezTo>
                    <a:pt x="779857" y="1325570"/>
                    <a:pt x="609121" y="1537797"/>
                    <a:pt x="419384" y="1528750"/>
                  </a:cubicBezTo>
                  <a:lnTo>
                    <a:pt x="430963" y="764513"/>
                  </a:lnTo>
                  <a:lnTo>
                    <a:pt x="430963" y="0"/>
                  </a:lnTo>
                  <a:close/>
                </a:path>
                <a:path fill="none" w="861926" h="1529025">
                  <a:moveTo>
                    <a:pt x="430963" y="0"/>
                  </a:moveTo>
                  <a:cubicBezTo>
                    <a:pt x="618134" y="0"/>
                    <a:pt x="783907" y="214319"/>
                    <a:pt x="841223" y="530404"/>
                  </a:cubicBezTo>
                  <a:cubicBezTo>
                    <a:pt x="869292" y="685201"/>
                    <a:pt x="868808" y="851842"/>
                    <a:pt x="839840" y="1006117"/>
                  </a:cubicBezTo>
                  <a:cubicBezTo>
                    <a:pt x="779857" y="1325570"/>
                    <a:pt x="609121" y="1537797"/>
                    <a:pt x="419384" y="1528750"/>
                  </a:cubicBezTo>
                </a:path>
              </a:pathLst>
            </a:custGeom>
            <a:noFill/>
            <a:ln w="38160">
              <a:solidFill>
                <a:srgbClr val="6669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0" name="Дуга 8"/>
            <p:cNvSpPr/>
            <p:nvPr/>
          </p:nvSpPr>
          <p:spPr>
            <a:xfrm>
              <a:off x="2782800" y="3210840"/>
              <a:ext cx="744480" cy="947160"/>
            </a:xfrm>
            <a:custGeom>
              <a:avLst/>
              <a:gdLst/>
              <a:ahLst/>
              <a:rect l="l" t="t" r="r" b="b"/>
              <a:pathLst>
                <a:path stroke="0" w="861925" h="1529025">
                  <a:moveTo>
                    <a:pt x="430962" y="0"/>
                  </a:moveTo>
                  <a:cubicBezTo>
                    <a:pt x="618284" y="0"/>
                    <a:pt x="784154" y="214658"/>
                    <a:pt x="841347" y="531093"/>
                  </a:cubicBezTo>
                  <a:cubicBezTo>
                    <a:pt x="869377" y="686179"/>
                    <a:pt x="868757" y="853091"/>
                    <a:pt x="839577" y="1007508"/>
                  </a:cubicBezTo>
                  <a:cubicBezTo>
                    <a:pt x="778969" y="1328238"/>
                    <a:pt x="606750" y="1540182"/>
                    <a:pt x="416176" y="1528576"/>
                  </a:cubicBezTo>
                  <a:lnTo>
                    <a:pt x="430963" y="764513"/>
                  </a:lnTo>
                  <a:cubicBezTo>
                    <a:pt x="430963" y="509675"/>
                    <a:pt x="430962" y="254838"/>
                    <a:pt x="430962" y="0"/>
                  </a:cubicBezTo>
                  <a:close/>
                </a:path>
                <a:path fill="none" w="861925" h="1529025">
                  <a:moveTo>
                    <a:pt x="430962" y="0"/>
                  </a:moveTo>
                  <a:cubicBezTo>
                    <a:pt x="618284" y="0"/>
                    <a:pt x="784154" y="214658"/>
                    <a:pt x="841347" y="531093"/>
                  </a:cubicBezTo>
                  <a:cubicBezTo>
                    <a:pt x="869377" y="686179"/>
                    <a:pt x="868757" y="853091"/>
                    <a:pt x="839577" y="1007508"/>
                  </a:cubicBezTo>
                  <a:cubicBezTo>
                    <a:pt x="778969" y="1328238"/>
                    <a:pt x="606750" y="1540182"/>
                    <a:pt x="416176" y="1528576"/>
                  </a:cubicBezTo>
                </a:path>
              </a:pathLst>
            </a:custGeom>
            <a:noFill/>
            <a:ln w="38160">
              <a:solidFill>
                <a:srgbClr val="6669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1" name="Прямоугольник 10"/>
            <p:cNvSpPr/>
            <p:nvPr/>
          </p:nvSpPr>
          <p:spPr>
            <a:xfrm>
              <a:off x="2585160" y="4158360"/>
              <a:ext cx="287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693e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2" name="Прямоугольник 11"/>
            <p:cNvSpPr/>
            <p:nvPr/>
          </p:nvSpPr>
          <p:spPr>
            <a:xfrm>
              <a:off x="2932200" y="4158360"/>
              <a:ext cx="28764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693e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413" name="Прямоугольник 36"/>
            <p:cNvSpPr/>
            <p:nvPr/>
          </p:nvSpPr>
          <p:spPr>
            <a:xfrm>
              <a:off x="1159200" y="3743280"/>
              <a:ext cx="78984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93e"/>
                  </a:solidFill>
                  <a:latin typeface="Times New Roman"/>
                </a:rPr>
                <a:t>+</a:t>
              </a:r>
              <a:r>
                <a:rPr b="0" lang="ru-RU" sz="2800" spc="-1" strike="noStrike">
                  <a:solidFill>
                    <a:srgbClr val="66693e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414" name="Заголовок 37" descr=""/>
          <p:cNvPicPr/>
          <p:nvPr/>
        </p:nvPicPr>
        <p:blipFill>
          <a:blip r:embed="rId2"/>
          <a:stretch/>
        </p:blipFill>
        <p:spPr>
          <a:xfrm>
            <a:off x="457200" y="182520"/>
            <a:ext cx="8229600" cy="1066680"/>
          </a:xfrm>
          <a:prstGeom prst="rect">
            <a:avLst/>
          </a:prstGeom>
          <a:ln w="0">
            <a:noFill/>
          </a:ln>
        </p:spPr>
      </p:pic>
      <p:pic>
        <p:nvPicPr>
          <p:cNvPr id="415" name="Схема 38" descr=""/>
          <p:cNvPicPr/>
          <p:nvPr/>
        </p:nvPicPr>
        <p:blipFill>
          <a:blip r:embed="rId3"/>
          <a:stretch/>
        </p:blipFill>
        <p:spPr>
          <a:xfrm>
            <a:off x="920880" y="1427040"/>
            <a:ext cx="6705360" cy="9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0.00504 0.01295 C -0.00695 0.06036 -0.0066 0.04209 -0.00504 0.09644 C 0.0184 0.0939 0.03489 0.09829 0.06302 0.09644 C 0.08559 0.09829 0.10573 0.09459 0.12969 0.09644 C 0.12847 0.02729 0.1309 0.0754 0.1309 -0.06151 E">
                                      <p:cBhvr>
                                        <p:cTn id="99" dur="20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2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Валентность атома углерода в органических веществах равна четырём.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Валентность и степень окисления химических элементо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52280" y="762120"/>
          <a:ext cx="8763120" cy="5927760"/>
        </p:xfrm>
        <a:graphic>
          <a:graphicData uri="http://schemas.openxmlformats.org/drawingml/2006/table">
            <a:tbl>
              <a:tblPr/>
              <a:tblGrid>
                <a:gridCol w="1981440"/>
                <a:gridCol w="3025800"/>
                <a:gridCol w="375588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нят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ущность поняти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начени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18720">
                      <a:solidFill>
                        <a:srgbClr val="fefed6"/>
                      </a:solidFill>
                    </a:lnB>
                    <a:solidFill>
                      <a:srgbClr val="babe90"/>
                    </a:solidFill>
                  </a:tcPr>
                </a:tc>
              </a:tr>
              <a:tr h="2819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число химических связей, соединяющих данный атом с другими атомами в молекул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І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алентность водорода  І, валентность кислорода ІІ,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</a:t>
                      </a:r>
                      <a:r>
                        <a:rPr b="1" lang="ru-RU" sz="22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ІІ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1872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e7e8db"/>
                    </a:solidFill>
                  </a:tcPr>
                </a:tc>
              </a:tr>
              <a:tr h="2530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тепень окислени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казывает смещение общих электронных пар между атомами элемента в молекул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2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,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:О: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-О-Н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+1</a:t>
                      </a:r>
                      <a:r>
                        <a:rPr b="1" lang="ru-RU" sz="2200" spc="-1" strike="noStrike" baseline="-25000">
                          <a:solidFill>
                            <a:srgbClr val="66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</a:t>
                      </a:r>
                      <a:r>
                        <a:rPr b="1" lang="ru-RU" sz="2200" spc="-1" strike="noStrike" baseline="30000">
                          <a:solidFill>
                            <a:srgbClr val="663300"/>
                          </a:solidFill>
                          <a:latin typeface="Times New Roman"/>
                        </a:rPr>
                        <a:t>-2</a:t>
                      </a: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d6"/>
                      </a:solidFill>
                    </a:lnL>
                    <a:lnR w="5760">
                      <a:solidFill>
                        <a:srgbClr val="fefed6"/>
                      </a:solidFill>
                    </a:lnR>
                    <a:lnT w="5760">
                      <a:solidFill>
                        <a:srgbClr val="fefed6"/>
                      </a:solidFill>
                    </a:lnT>
                    <a:lnB w="5760">
                      <a:solidFill>
                        <a:srgbClr val="fefed6"/>
                      </a:solidFill>
                    </a:lnB>
                    <a:solidFill>
                      <a:srgbClr val="f3f4ee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пишите структурные формулы следующих веществ и определите степени окисления химических элементов: С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, С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Задачи урока: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228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Образовательные: </a:t>
            </a: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сформировать понятие о предмете органической химии, рассмотреть особенности органических веществ; ознакомить с понятием валентности; раскрыть значение органических веществ в жизни общества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Воспитательные: </a:t>
            </a: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продолжить формирование познавательного интереса к предмету через использование нестандартных форм обучения и создания ситуации успеха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  <a:p>
            <a:pPr marL="335880" indent="-335880" algn="just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3300"/>
                </a:solidFill>
                <a:latin typeface="Times New Roman"/>
              </a:rPr>
              <a:t>Развивающие: </a:t>
            </a:r>
            <a:r>
              <a:rPr b="0" lang="ru-RU" sz="2200" spc="-1" strike="noStrike">
                <a:solidFill>
                  <a:srgbClr val="663300"/>
                </a:solidFill>
                <a:latin typeface="Times New Roman"/>
              </a:rPr>
              <a:t>развивать учебно-интеллектуальные умения выделять главное и существенное, устанавливать причинно-следственные связи (развивать логическое мышление); продолжить развитие учебно-организационных умений, направленных на выполнение поставленной задачи, осуществление самоконтроля и самоанализа учебной деятельности, развитие критического мышления.</a:t>
            </a:r>
            <a:endParaRPr b="0" lang="en-US" sz="2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Times New Roman"/>
              </a:rPr>
              <a:t>Валентность и степень окисления углерода в органических веществах не совпадают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Определите в них степени окисления всех атомов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e2e01"/>
                </a:solidFill>
                <a:latin typeface="Times New Roman"/>
              </a:rPr>
              <a:t>2 урок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94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Определение органической химии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Какие химические элементы  входят в состав органических веществ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Признаки органических веществ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тепень окисления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Валентност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Валентность атома углерода в органических веществах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2e01"/>
                </a:solidFill>
                <a:latin typeface="Times New Roman"/>
              </a:rPr>
              <a:t>Определить степени окисления химических элементов и составить полную и краткую структурную формулу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33160" y="2666880"/>
            <a:ext cx="8381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5Н1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5Н10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e2e01"/>
                </a:solidFill>
                <a:latin typeface="Times New Roman"/>
              </a:rPr>
              <a:t>С5Н8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Times New Roman"/>
              </a:rPr>
              <a:t>3. ТХС органических соединений А.М.Бутлерова  1861г</a:t>
            </a: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имическое строение вещества – это определенный порядок, последовательность соединения атомов в молекулы. Атомы в молекулах соединяются согласно их валентности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-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   Н-О-Н,     О=О,     Н-Н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3049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ы углерода обладают исключительной способностью соединяться с друг другом в разнообразные цепи: прямые, разветвленные и циклические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-С-С-С- прямая углеродная цеп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С-С-С-С- разветвленная углеродная цеп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—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—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|       |   циклическая (замкнутая) углеродная цеп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— С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сновные положения ТХС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томы в молекулах органических веществ связаны друг с другом согласно их валентности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 веществ зависят не только от состава их молекул, но и от их строения.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4Н10 молекулярная формула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3-СН2-СН2-СН3 краткая структурная формула (бутан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3-СН-СН3 (изобутан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Н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щества имеющие одинаковый качественный  и количественный состав, но разное строение называются изомерами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Значение органических веществ в жизни общества</a:t>
            </a:r>
            <a:endParaRPr b="0" lang="en-US" sz="2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439" name="Picture 4" descr="ovc9ssjj8bdrxlxnbi8agke7xerofuqi_1"/>
          <p:cNvPicPr/>
          <p:nvPr/>
        </p:nvPicPr>
        <p:blipFill>
          <a:blip r:embed="rId1"/>
          <a:stretch/>
        </p:blipFill>
        <p:spPr>
          <a:xfrm>
            <a:off x="152280" y="838080"/>
            <a:ext cx="2051280" cy="153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ch11_27_06"/>
          <p:cNvPicPr/>
          <p:nvPr/>
        </p:nvPicPr>
        <p:blipFill>
          <a:blip r:embed="rId2"/>
          <a:stretch/>
        </p:blipFill>
        <p:spPr>
          <a:xfrm>
            <a:off x="6019920" y="4343400"/>
            <a:ext cx="2946240" cy="22096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Documents and Settings\Admin\Рабочий стол\smallpromo23_4VinsAuto4.jpg"/>
          <p:cNvPicPr/>
          <p:nvPr/>
        </p:nvPicPr>
        <p:blipFill>
          <a:blip r:embed="rId3"/>
          <a:stretch/>
        </p:blipFill>
        <p:spPr>
          <a:xfrm>
            <a:off x="6781680" y="990720"/>
            <a:ext cx="2244960" cy="2057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47648"/>
          <p:cNvPicPr/>
          <p:nvPr/>
        </p:nvPicPr>
        <p:blipFill>
          <a:blip r:embed="rId4"/>
          <a:stretch/>
        </p:blipFill>
        <p:spPr>
          <a:xfrm>
            <a:off x="3352680" y="4800600"/>
            <a:ext cx="2291040" cy="1717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58579"/>
          <p:cNvPicPr/>
          <p:nvPr/>
        </p:nvPicPr>
        <p:blipFill>
          <a:blip r:embed="rId5"/>
          <a:stretch/>
        </p:blipFill>
        <p:spPr>
          <a:xfrm>
            <a:off x="5105520" y="1371600"/>
            <a:ext cx="1636560" cy="156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1687"/>
          <p:cNvPicPr/>
          <p:nvPr/>
        </p:nvPicPr>
        <p:blipFill>
          <a:blip r:embed="rId6"/>
          <a:stretch/>
        </p:blipFill>
        <p:spPr>
          <a:xfrm>
            <a:off x="304920" y="4495680"/>
            <a:ext cx="2447640" cy="1943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main"/>
          <p:cNvPicPr/>
          <p:nvPr/>
        </p:nvPicPr>
        <p:blipFill>
          <a:blip r:embed="rId7"/>
          <a:stretch/>
        </p:blipFill>
        <p:spPr>
          <a:xfrm>
            <a:off x="3124080" y="838080"/>
            <a:ext cx="1370160" cy="18208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Картинка 14 из 1457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33520" y="2590920"/>
            <a:ext cx="2590560" cy="1734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C:\Documents and Settings\Анжей\Мои документы\Мои рисунки\c_html_418.jpg"/>
          <p:cNvPicPr/>
          <p:nvPr/>
        </p:nvPicPr>
        <p:blipFill>
          <a:blip r:embed="rId10"/>
          <a:stretch/>
        </p:blipFill>
        <p:spPr>
          <a:xfrm>
            <a:off x="3276720" y="2743200"/>
            <a:ext cx="2133360" cy="18907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11"/>
          <a:stretch/>
        </p:blipFill>
        <p:spPr>
          <a:xfrm>
            <a:off x="5486400" y="3124080"/>
            <a:ext cx="1581120" cy="860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"/>
          <p:cNvPicPr/>
          <p:nvPr/>
        </p:nvPicPr>
        <p:blipFill>
          <a:blip r:embed="rId12"/>
          <a:stretch/>
        </p:blipFill>
        <p:spPr>
          <a:xfrm>
            <a:off x="6934320" y="3002040"/>
            <a:ext cx="2209680" cy="13222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ovc9ssjj8bdrxlxnbi8agke7xerofuqi_1"/>
          <p:cNvPicPr/>
          <p:nvPr/>
        </p:nvPicPr>
        <p:blipFill>
          <a:blip r:embed="rId13"/>
          <a:stretch/>
        </p:blipFill>
        <p:spPr>
          <a:xfrm>
            <a:off x="228600" y="838080"/>
            <a:ext cx="2050920" cy="15382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main"/>
          <p:cNvPicPr/>
          <p:nvPr/>
        </p:nvPicPr>
        <p:blipFill>
          <a:blip r:embed="rId14"/>
          <a:stretch/>
        </p:blipFill>
        <p:spPr>
          <a:xfrm>
            <a:off x="3200400" y="838080"/>
            <a:ext cx="13701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e2e01"/>
                </a:solidFill>
                <a:latin typeface="Times New Roman"/>
              </a:rPr>
              <a:t>Составить формулы изомеров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5Н12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С6Н14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55" name="Овал 2"/>
          <p:cNvSpPr/>
          <p:nvPr/>
        </p:nvSpPr>
        <p:spPr>
          <a:xfrm>
            <a:off x="2666880" y="2666880"/>
            <a:ext cx="3886200" cy="1067040"/>
          </a:xfrm>
          <a:prstGeom prst="ellipse">
            <a:avLst/>
          </a:prstGeom>
          <a:solidFill>
            <a:srgbClr val="babe90"/>
          </a:solidFill>
          <a:ln w="31680">
            <a:solidFill>
              <a:srgbClr val="fefed6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Химические вещества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ьте структурные полные и краткие формулы для следующих молекулярных формул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3 урок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Вопросы по 2 уроку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лассификация углеводород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Классификация кислородсодержащих соединени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Закрепле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5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объем воздуха содержащего   кислорода  21%, если в реакцию с ним вступает  250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ана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акие химические вещества относятся к неорганически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Какие химические вещества мы с вами еще не изучали? Назовите их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ганические веществ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1" name="Picture 4" descr="1"/>
          <p:cNvPicPr/>
          <p:nvPr/>
        </p:nvPicPr>
        <p:blipFill>
          <a:blip r:embed="rId1"/>
          <a:stretch/>
        </p:blipFill>
        <p:spPr>
          <a:xfrm>
            <a:off x="3429000" y="3048120"/>
            <a:ext cx="2693880" cy="18288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6"/>
          <p:cNvPicPr/>
          <p:nvPr/>
        </p:nvPicPr>
        <p:blipFill>
          <a:blip r:embed="rId2"/>
          <a:stretch/>
        </p:blipFill>
        <p:spPr>
          <a:xfrm>
            <a:off x="6095880" y="3309840"/>
            <a:ext cx="2895840" cy="33307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J0254477"/>
          <p:cNvPicPr/>
          <p:nvPr/>
        </p:nvPicPr>
        <p:blipFill>
          <a:blip r:embed="rId3"/>
          <a:stretch/>
        </p:blipFill>
        <p:spPr>
          <a:xfrm>
            <a:off x="914400" y="5105520"/>
            <a:ext cx="1473120" cy="1182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P1040635"/>
          <p:cNvPicPr/>
          <p:nvPr/>
        </p:nvPicPr>
        <p:blipFill>
          <a:blip r:embed="rId4"/>
          <a:stretch/>
        </p:blipFill>
        <p:spPr>
          <a:xfrm>
            <a:off x="304920" y="762120"/>
            <a:ext cx="3124080" cy="2628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5"/>
          <a:stretch/>
        </p:blipFill>
        <p:spPr>
          <a:xfrm>
            <a:off x="6400800" y="838080"/>
            <a:ext cx="2077920" cy="198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1"/>
          <p:cNvPicPr/>
          <p:nvPr/>
        </p:nvPicPr>
        <p:blipFill>
          <a:blip r:embed="rId6"/>
          <a:stretch/>
        </p:blipFill>
        <p:spPr>
          <a:xfrm>
            <a:off x="3581280" y="3090960"/>
            <a:ext cx="2694240" cy="1828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6"/>
          <p:cNvPicPr/>
          <p:nvPr/>
        </p:nvPicPr>
        <p:blipFill>
          <a:blip r:embed="rId7"/>
          <a:stretch/>
        </p:blipFill>
        <p:spPr>
          <a:xfrm>
            <a:off x="6248520" y="3352680"/>
            <a:ext cx="2895480" cy="3330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P1040635"/>
          <p:cNvPicPr/>
          <p:nvPr/>
        </p:nvPicPr>
        <p:blipFill>
          <a:blip r:embed="rId8"/>
          <a:stretch/>
        </p:blipFill>
        <p:spPr>
          <a:xfrm>
            <a:off x="457200" y="804960"/>
            <a:ext cx="3124080" cy="2628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9"/>
          <a:stretch/>
        </p:blipFill>
        <p:spPr>
          <a:xfrm>
            <a:off x="6553080" y="880920"/>
            <a:ext cx="2078280" cy="1989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6"/>
          <p:cNvPicPr/>
          <p:nvPr/>
        </p:nvPicPr>
        <p:blipFill>
          <a:blip r:embed="rId10"/>
          <a:stretch/>
        </p:blipFill>
        <p:spPr>
          <a:xfrm>
            <a:off x="6248520" y="3276720"/>
            <a:ext cx="2895480" cy="3330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P1040635"/>
          <p:cNvPicPr/>
          <p:nvPr/>
        </p:nvPicPr>
        <p:blipFill>
          <a:blip r:embed="rId11"/>
          <a:stretch/>
        </p:blipFill>
        <p:spPr>
          <a:xfrm>
            <a:off x="457200" y="728640"/>
            <a:ext cx="3124080" cy="262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12"/>
          <a:stretch/>
        </p:blipFill>
        <p:spPr>
          <a:xfrm>
            <a:off x="6553080" y="804960"/>
            <a:ext cx="2078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-514440" algn="ctr">
              <a:lnSpc>
                <a:spcPct val="100000"/>
              </a:lnSpc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  <a:ea typeface="Arial"/>
              </a:rPr>
              <a:t>Понятие об органических веществах. Определение органической химии.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endParaRPr b="0" lang="en-US" sz="4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Times New Roman"/>
              </a:rPr>
              <a:t>Что вам известно по данной тем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e2e01"/>
                </a:solidFill>
                <a:latin typeface="Times New Roman"/>
              </a:rPr>
              <a:t>Что нового вы узнали по данной тем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Молекулярные формулы органических веществ</a:t>
            </a:r>
            <a:endParaRPr b="0" lang="en-US" sz="28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1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сахар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– глюкоз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0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- крахмал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3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-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уротропин (сухое горючее)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Н – этиловый спирт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О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лимон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х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en-US" sz="2800" spc="-1" strike="noStrike" baseline="-25000">
                <a:solidFill>
                  <a:srgbClr val="663300"/>
                </a:solidFill>
                <a:latin typeface="Times New Roman"/>
              </a:rPr>
              <a:t>y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– парафиновая свеча, нефть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Н</a:t>
            </a:r>
            <a:r>
              <a:rPr b="1" lang="ru-RU" sz="28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СООН – аминоуксусная кислота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3-01-13T02:56:23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