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14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A1BF-7B74-4C39-BB4F-7C23572330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1273-FAFD-44E8-BC33-516C43B7E5E8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44C-AEBF-4822-A80D-156DB7B5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1C2-ECCE-4CDC-B4AE-7F432990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B94-D8C8-4B3F-B1A0-7A7C9541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5E7-D818-4128-8D4A-DFFC53DE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2152-C650-48D7-9918-4E7257D2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79CF-AF53-4CA3-9CA1-3219D7BB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82FD-1389-47FB-82ED-18C21753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8837-DE1C-46AF-AA09-CF66A378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DF9A-B034-409D-931D-85684D72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DA50-780B-4AB9-90F7-50D3E9C6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7E4F-2FB2-404A-A910-F6654D72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124-DEA6-472A-AA4C-7F2C7418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EA42-C923-4BAA-85DD-80C4D428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38DB-146C-4935-8D36-DFAA045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1730-B0F2-4DA5-B829-7E494DFA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1558-6137-4086-AECA-CD0A566C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8360-9B2C-43F3-9D8E-993A67F7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E49-A667-4043-8428-9A3CCC6A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726-82DC-4BB3-8E54-4F946BF4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528-AC41-40C3-A6B8-73B75939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B8C-C107-400E-BC09-05D126CC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F76-84E3-402C-A1C1-BA6DF910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010-1B4E-404E-82B6-95815CD7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68D-1893-4123-B64C-84F84808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D078-A148-4BF8-A53C-A8FAA7420E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832A-5717-4CE0-B70F-141AF15043A6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hyperlink" Target="http://www.realchina.ru/wp-content/uploads/2009/12/&#1054;&#1076;&#1077;&#1078;&#1076;&#1072;.JPG" TargetMode="External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5.jpe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ПРЕДМЕТ ОРГАНИЧЕСКОЙ ХИМИИ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9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Органических веществ 27 млн. причем каждый год их число увеличивается на 200-300 тысяч. Общее количество неорганических веществ не превышает 1 млн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Какие химические элементы помимо углерода входят в состав органических веществ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Органическая химия – это химия соединений углерода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Молекулярные формулы органических веществ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– сахароз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– глюкоз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(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- крахма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ООН – уксусная кисло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N-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уротропин (сухое горючее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Н – этиловый спир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– лимонная кисло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en-US" sz="2800" spc="-1" strike="noStrike" baseline="-25000">
                <a:solidFill>
                  <a:srgbClr val="663300"/>
                </a:solidFill>
                <a:latin typeface="Times New Roman"/>
              </a:rPr>
              <a:t>y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– парафиновая свеча, нефт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ООН – аминоуксусная кисло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Понятие об органических веществах. 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Признаки  органических веществ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Содержат углерод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Горят и (или) разлагаются с образованием углеродсодержащих продуктов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Связь в молекулах органических веществ ковалентная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Кристаллические решетки в молекулах органических веществ молекулярны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.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Валентность химических элементов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апишите формулы следующих веществ и определите степени окисления химических элементов: С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, С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, С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10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3200" spc="-1" strike="noStrike" baseline="30000">
                <a:solidFill>
                  <a:srgbClr val="663300"/>
                </a:solidFill>
                <a:latin typeface="Times New Roman"/>
              </a:rPr>
              <a:t>-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3200" spc="-1" strike="noStrike" baseline="30000">
                <a:solidFill>
                  <a:srgbClr val="663300"/>
                </a:solidFill>
                <a:latin typeface="Times New Roman"/>
              </a:rPr>
              <a:t>+1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        С</a:t>
            </a:r>
            <a:r>
              <a:rPr b="1" lang="ru-RU" sz="3200" spc="-1" strike="noStrike" baseline="30000">
                <a:solidFill>
                  <a:srgbClr val="663300"/>
                </a:solidFill>
                <a:latin typeface="Times New Roman"/>
              </a:rPr>
              <a:t>-8/3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3200" spc="-1" strike="noStrike" baseline="30000">
                <a:solidFill>
                  <a:srgbClr val="663300"/>
                </a:solidFill>
                <a:latin typeface="Times New Roman"/>
              </a:rPr>
              <a:t>+1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      С</a:t>
            </a:r>
            <a:r>
              <a:rPr b="1" lang="ru-RU" sz="3200" spc="-1" strike="noStrike" baseline="30000">
                <a:solidFill>
                  <a:srgbClr val="663300"/>
                </a:solidFill>
                <a:latin typeface="Times New Roman"/>
              </a:rPr>
              <a:t>-10/4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3200" spc="-1" strike="noStrike" baseline="30000">
                <a:solidFill>
                  <a:srgbClr val="663300"/>
                </a:solidFill>
                <a:latin typeface="Times New Roman"/>
              </a:rPr>
              <a:t>+1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х + (+1)х4=0     3х +(+1)*8=0     4х +(+1)*10=0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х = - 4                х = -8/3                 х = -10/4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ХІХ в. не было такого понятия, как степень окисления, т.к. не было еще известно строение атома.  Поэтому химики пользовались понятием валентности химических элементов. А что такое валентность?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Фридрих Август Кекуле, немецкий химик-органик, в 1857 г. первый высказал идею о валентности как о целом числе «единиц сродства», которым обладает атом, и установил валентность серы, кислорода и углерод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Валентность и степень окисления химических элементов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0" y="1295280"/>
          <a:ext cx="9144000" cy="5435640"/>
        </p:xfrm>
        <a:graphic>
          <a:graphicData uri="http://schemas.openxmlformats.org/drawingml/2006/table">
            <a:tbl>
              <a:tblPr/>
              <a:tblGrid>
                <a:gridCol w="2438280"/>
                <a:gridCol w="2971800"/>
                <a:gridCol w="3733920"/>
              </a:tblGrid>
              <a:tr h="55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няти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ущность понятия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</a:tr>
              <a:tr h="2572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алентность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казывает число химических связей, соединяющих данный атом с другими атомами в молекул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алентность водорода І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О: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О-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алентность водорода  І, валентность кислорода ІІ,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20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І</a:t>
                      </a:r>
                      <a:r>
                        <a:rPr b="1" lang="ru-RU" sz="2000" spc="-1" strike="noStrike" baseline="-25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20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ІІ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</a:tr>
              <a:tr h="23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тепень окислен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казывает смещение общих электронных пар между атомами элемента в молекул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2000" spc="-1" strike="noStrike" baseline="-25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 ,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О: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О-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20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+1</a:t>
                      </a:r>
                      <a:r>
                        <a:rPr b="1" lang="ru-RU" sz="2000" spc="-1" strike="noStrike" baseline="-25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20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рямоугольник 14"/>
          <p:cNvSpPr/>
          <p:nvPr/>
        </p:nvSpPr>
        <p:spPr>
          <a:xfrm>
            <a:off x="4714920" y="5286240"/>
            <a:ext cx="428760" cy="428760"/>
          </a:xfrm>
          <a:prstGeom prst="rect">
            <a:avLst/>
          </a:prstGeom>
          <a:solidFill>
            <a:srgbClr val="babe90"/>
          </a:solidFill>
          <a:ln w="19080">
            <a:solidFill>
              <a:srgbClr val="3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392" name="Прямая со стрелкой 15"/>
          <p:cNvCxnSpPr/>
          <p:nvPr/>
        </p:nvCxnSpPr>
        <p:spPr>
          <a:xfrm flipH="1" flipV="1">
            <a:off x="4857480" y="5285520"/>
            <a:ext cx="21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Прямая со стрелкой 16"/>
          <p:cNvCxnSpPr/>
          <p:nvPr/>
        </p:nvCxnSpPr>
        <p:spPr>
          <a:xfrm flipH="1">
            <a:off x="5000400" y="5285880"/>
            <a:ext cx="21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Прямоугольник 17"/>
          <p:cNvSpPr/>
          <p:nvPr/>
        </p:nvSpPr>
        <p:spPr>
          <a:xfrm>
            <a:off x="4714920" y="492912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4d"/>
                </a:solidFill>
                <a:latin typeface="Times New Roman"/>
              </a:rPr>
              <a:t>1 </a:t>
            </a:r>
            <a:r>
              <a:rPr b="0" lang="en-US" sz="1600" spc="-1" strike="noStrike">
                <a:solidFill>
                  <a:srgbClr val="33334d"/>
                </a:solidFill>
                <a:latin typeface="Times New Roman"/>
              </a:rPr>
              <a:t>s</a:t>
            </a:r>
            <a:r>
              <a:rPr b="0" lang="en-US" sz="1600" spc="-1" strike="noStrike" baseline="30000">
                <a:solidFill>
                  <a:srgbClr val="33334d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Прямоугольник 20"/>
          <p:cNvSpPr/>
          <p:nvPr/>
        </p:nvSpPr>
        <p:spPr>
          <a:xfrm>
            <a:off x="6858000" y="4143240"/>
            <a:ext cx="428760" cy="428760"/>
          </a:xfrm>
          <a:prstGeom prst="rect">
            <a:avLst/>
          </a:prstGeom>
          <a:solidFill>
            <a:srgbClr val="babe90"/>
          </a:solidFill>
          <a:ln w="19080">
            <a:solidFill>
              <a:srgbClr val="3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Прямоугольник 21"/>
          <p:cNvSpPr/>
          <p:nvPr/>
        </p:nvSpPr>
        <p:spPr>
          <a:xfrm>
            <a:off x="6429240" y="4143240"/>
            <a:ext cx="428760" cy="428760"/>
          </a:xfrm>
          <a:prstGeom prst="rect">
            <a:avLst/>
          </a:prstGeom>
          <a:solidFill>
            <a:srgbClr val="babe90"/>
          </a:solidFill>
          <a:ln w="19080">
            <a:solidFill>
              <a:srgbClr val="3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Прямоугольник 22"/>
          <p:cNvSpPr/>
          <p:nvPr/>
        </p:nvSpPr>
        <p:spPr>
          <a:xfrm>
            <a:off x="6000840" y="4143240"/>
            <a:ext cx="428400" cy="428760"/>
          </a:xfrm>
          <a:prstGeom prst="rect">
            <a:avLst/>
          </a:prstGeom>
          <a:solidFill>
            <a:srgbClr val="babe90"/>
          </a:solidFill>
          <a:ln w="19080">
            <a:solidFill>
              <a:srgbClr val="3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Прямоугольник 23"/>
          <p:cNvSpPr/>
          <p:nvPr/>
        </p:nvSpPr>
        <p:spPr>
          <a:xfrm>
            <a:off x="5572080" y="4500720"/>
            <a:ext cx="428760" cy="428400"/>
          </a:xfrm>
          <a:prstGeom prst="rect">
            <a:avLst/>
          </a:prstGeom>
          <a:solidFill>
            <a:srgbClr val="babe90"/>
          </a:solidFill>
          <a:ln w="19080">
            <a:solidFill>
              <a:srgbClr val="3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399" name="Прямая со стрелкой 24"/>
          <p:cNvCxnSpPr/>
          <p:nvPr/>
        </p:nvCxnSpPr>
        <p:spPr>
          <a:xfrm>
            <a:off x="5857920" y="4500720"/>
            <a:ext cx="216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Прямая со стрелкой 25"/>
          <p:cNvCxnSpPr/>
          <p:nvPr/>
        </p:nvCxnSpPr>
        <p:spPr>
          <a:xfrm flipV="1">
            <a:off x="5715000" y="4500360"/>
            <a:ext cx="216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1" name="Прямая со стрелкой 27"/>
          <p:cNvCxnSpPr/>
          <p:nvPr/>
        </p:nvCxnSpPr>
        <p:spPr>
          <a:xfrm flipH="1" flipV="1">
            <a:off x="6143400" y="4142520"/>
            <a:ext cx="21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2" name="Прямая со стрелкой 29"/>
          <p:cNvCxnSpPr/>
          <p:nvPr/>
        </p:nvCxnSpPr>
        <p:spPr>
          <a:xfrm flipH="1" flipV="1">
            <a:off x="6571440" y="4142520"/>
            <a:ext cx="252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3" name="Прямоугольник 32"/>
          <p:cNvSpPr/>
          <p:nvPr/>
        </p:nvSpPr>
        <p:spPr>
          <a:xfrm>
            <a:off x="5572080" y="4143240"/>
            <a:ext cx="500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4d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4d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4d"/>
                </a:solidFill>
                <a:latin typeface="Times New Roman"/>
              </a:rPr>
              <a:t>s</a:t>
            </a:r>
            <a:r>
              <a:rPr b="0" lang="en-US" sz="1600" spc="-1" strike="noStrike" baseline="30000">
                <a:solidFill>
                  <a:srgbClr val="33334d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Прямоугольник 33"/>
          <p:cNvSpPr/>
          <p:nvPr/>
        </p:nvSpPr>
        <p:spPr>
          <a:xfrm>
            <a:off x="6357960" y="3786120"/>
            <a:ext cx="500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4d"/>
                </a:solidFill>
                <a:latin typeface="Times New Roman"/>
              </a:rPr>
              <a:t>2p</a:t>
            </a:r>
            <a:r>
              <a:rPr b="0" lang="ru-RU" sz="1600" spc="-1" strike="noStrike" baseline="30000">
                <a:solidFill>
                  <a:srgbClr val="33334d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05" name="Группа 40"/>
          <p:cNvGrpSpPr/>
          <p:nvPr/>
        </p:nvGrpSpPr>
        <p:grpSpPr>
          <a:xfrm>
            <a:off x="785880" y="2786040"/>
            <a:ext cx="2741400" cy="2001960"/>
            <a:chOff x="785880" y="2786040"/>
            <a:chExt cx="2741400" cy="2001960"/>
          </a:xfrm>
        </p:grpSpPr>
        <p:pic>
          <p:nvPicPr>
            <p:cNvPr id="40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85880" y="2786040"/>
              <a:ext cx="2601360" cy="20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Прямоугольник 5"/>
            <p:cNvSpPr/>
            <p:nvPr/>
          </p:nvSpPr>
          <p:spPr>
            <a:xfrm>
              <a:off x="1220760" y="3168360"/>
              <a:ext cx="5853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6693e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8" name="Прямоугольник 6"/>
            <p:cNvSpPr/>
            <p:nvPr/>
          </p:nvSpPr>
          <p:spPr>
            <a:xfrm>
              <a:off x="2435760" y="3167640"/>
              <a:ext cx="446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693e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9" name="Дуга 7"/>
            <p:cNvSpPr/>
            <p:nvPr/>
          </p:nvSpPr>
          <p:spPr>
            <a:xfrm>
              <a:off x="2435760" y="3210840"/>
              <a:ext cx="744480" cy="947160"/>
            </a:xfrm>
            <a:custGeom>
              <a:avLst/>
              <a:gdLst/>
              <a:ahLst/>
              <a:rect l="l" t="t" r="r" b="b"/>
              <a:pathLst>
                <a:path stroke="0" w="861926" h="1529025">
                  <a:moveTo>
                    <a:pt x="430963" y="0"/>
                  </a:moveTo>
                  <a:cubicBezTo>
                    <a:pt x="618134" y="0"/>
                    <a:pt x="783907" y="214319"/>
                    <a:pt x="841223" y="530404"/>
                  </a:cubicBezTo>
                  <a:cubicBezTo>
                    <a:pt x="869292" y="685201"/>
                    <a:pt x="868808" y="851842"/>
                    <a:pt x="839840" y="1006117"/>
                  </a:cubicBezTo>
                  <a:cubicBezTo>
                    <a:pt x="779857" y="1325570"/>
                    <a:pt x="609121" y="1537797"/>
                    <a:pt x="419384" y="1528750"/>
                  </a:cubicBezTo>
                  <a:lnTo>
                    <a:pt x="430963" y="764513"/>
                  </a:lnTo>
                  <a:lnTo>
                    <a:pt x="430963" y="0"/>
                  </a:lnTo>
                  <a:close/>
                </a:path>
                <a:path fill="none" w="861926" h="1529025">
                  <a:moveTo>
                    <a:pt x="430963" y="0"/>
                  </a:moveTo>
                  <a:cubicBezTo>
                    <a:pt x="618134" y="0"/>
                    <a:pt x="783907" y="214319"/>
                    <a:pt x="841223" y="530404"/>
                  </a:cubicBezTo>
                  <a:cubicBezTo>
                    <a:pt x="869292" y="685201"/>
                    <a:pt x="868808" y="851842"/>
                    <a:pt x="839840" y="1006117"/>
                  </a:cubicBezTo>
                  <a:cubicBezTo>
                    <a:pt x="779857" y="1325570"/>
                    <a:pt x="609121" y="1537797"/>
                    <a:pt x="419384" y="1528750"/>
                  </a:cubicBezTo>
                </a:path>
              </a:pathLst>
            </a:custGeom>
            <a:noFill/>
            <a:ln w="38160">
              <a:solidFill>
                <a:srgbClr val="6669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0" name="Дуга 8"/>
            <p:cNvSpPr/>
            <p:nvPr/>
          </p:nvSpPr>
          <p:spPr>
            <a:xfrm>
              <a:off x="2782800" y="3210840"/>
              <a:ext cx="744480" cy="947160"/>
            </a:xfrm>
            <a:custGeom>
              <a:avLst/>
              <a:gdLst/>
              <a:ahLst/>
              <a:rect l="l" t="t" r="r" b="b"/>
              <a:pathLst>
                <a:path stroke="0" w="861925" h="1529025">
                  <a:moveTo>
                    <a:pt x="430962" y="0"/>
                  </a:moveTo>
                  <a:cubicBezTo>
                    <a:pt x="618284" y="0"/>
                    <a:pt x="784154" y="214658"/>
                    <a:pt x="841347" y="531093"/>
                  </a:cubicBezTo>
                  <a:cubicBezTo>
                    <a:pt x="869377" y="686179"/>
                    <a:pt x="868757" y="853091"/>
                    <a:pt x="839577" y="1007508"/>
                  </a:cubicBezTo>
                  <a:cubicBezTo>
                    <a:pt x="778969" y="1328238"/>
                    <a:pt x="606750" y="1540182"/>
                    <a:pt x="416176" y="1528576"/>
                  </a:cubicBezTo>
                  <a:lnTo>
                    <a:pt x="430963" y="764513"/>
                  </a:lnTo>
                  <a:cubicBezTo>
                    <a:pt x="430963" y="509675"/>
                    <a:pt x="430962" y="254838"/>
                    <a:pt x="430962" y="0"/>
                  </a:cubicBezTo>
                  <a:close/>
                </a:path>
                <a:path fill="none" w="861925" h="1529025">
                  <a:moveTo>
                    <a:pt x="430962" y="0"/>
                  </a:moveTo>
                  <a:cubicBezTo>
                    <a:pt x="618284" y="0"/>
                    <a:pt x="784154" y="214658"/>
                    <a:pt x="841347" y="531093"/>
                  </a:cubicBezTo>
                  <a:cubicBezTo>
                    <a:pt x="869377" y="686179"/>
                    <a:pt x="868757" y="853091"/>
                    <a:pt x="839577" y="1007508"/>
                  </a:cubicBezTo>
                  <a:cubicBezTo>
                    <a:pt x="778969" y="1328238"/>
                    <a:pt x="606750" y="1540182"/>
                    <a:pt x="416176" y="1528576"/>
                  </a:cubicBezTo>
                </a:path>
              </a:pathLst>
            </a:custGeom>
            <a:noFill/>
            <a:ln w="38160">
              <a:solidFill>
                <a:srgbClr val="6669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1" name="Прямоугольник 10"/>
            <p:cNvSpPr/>
            <p:nvPr/>
          </p:nvSpPr>
          <p:spPr>
            <a:xfrm>
              <a:off x="2585160" y="4158360"/>
              <a:ext cx="2876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693e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2" name="Прямоугольник 11"/>
            <p:cNvSpPr/>
            <p:nvPr/>
          </p:nvSpPr>
          <p:spPr>
            <a:xfrm>
              <a:off x="2932200" y="4158360"/>
              <a:ext cx="2876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693e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3" name="Прямоугольник 36"/>
            <p:cNvSpPr/>
            <p:nvPr/>
          </p:nvSpPr>
          <p:spPr>
            <a:xfrm>
              <a:off x="1159200" y="3743280"/>
              <a:ext cx="7898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693e"/>
                  </a:solidFill>
                  <a:latin typeface="Times New Roman"/>
                </a:rPr>
                <a:t>+</a:t>
              </a:r>
              <a:r>
                <a:rPr b="0" lang="ru-RU" sz="2800" spc="-1" strike="noStrike">
                  <a:solidFill>
                    <a:srgbClr val="66693e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414" name="Заголовок 37" descr=""/>
          <p:cNvPicPr/>
          <p:nvPr/>
        </p:nvPicPr>
        <p:blipFill>
          <a:blip r:embed="rId2"/>
          <a:stretch/>
        </p:blipFill>
        <p:spPr>
          <a:xfrm>
            <a:off x="457200" y="18252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415" name="Схема 38" descr=""/>
          <p:cNvPicPr/>
          <p:nvPr/>
        </p:nvPicPr>
        <p:blipFill>
          <a:blip r:embed="rId3"/>
          <a:stretch/>
        </p:blipFill>
        <p:spPr>
          <a:xfrm>
            <a:off x="920880" y="1427040"/>
            <a:ext cx="6705360" cy="9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00504 0.01295 C -0.00695 0.06036 -0.0066 0.04209 -0.00504 0.09644 C 0.0184 0.0939 0.03489 0.09829 0.06302 0.09644 C 0.08559 0.09829 0.10573 0.09459 0.12969 0.09644 C 0.12847 0.02729 0.1309 0.0754 0.1309 -0.06151 E">
                                      <p:cBhvr>
                                        <p:cTn id="99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Валентность атома углерода в органических веществах равна четырём.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Валентность и степень окисления химических элементов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52280" y="762120"/>
          <a:ext cx="8763120" cy="5927760"/>
        </p:xfrm>
        <a:graphic>
          <a:graphicData uri="http://schemas.openxmlformats.org/drawingml/2006/table">
            <a:tbl>
              <a:tblPr/>
              <a:tblGrid>
                <a:gridCol w="1981440"/>
                <a:gridCol w="3025800"/>
                <a:gridCol w="3755880"/>
              </a:tblGrid>
              <a:tr h="48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няти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ущность понятия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</a:tr>
              <a:tr h="2819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казывает число химических связей, соединяющих данный атом с другими атомами в молекул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алентность водорода І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О: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О-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алентность водорода  І, валентность кислорода ІІ,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22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І</a:t>
                      </a:r>
                      <a:r>
                        <a:rPr b="1" lang="ru-RU" sz="2200" spc="-1" strike="noStrike" baseline="-25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22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ІІ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</a:tr>
              <a:tr h="2530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тепень окисления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казывает смещение общих электронных пар между атомами элемента в молекул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2200" spc="-1" strike="noStrike" baseline="-25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2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 ,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О: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О-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22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+1</a:t>
                      </a:r>
                      <a:r>
                        <a:rPr b="1" lang="ru-RU" sz="2200" spc="-1" strike="noStrike" baseline="-25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22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-2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апишите структурные формулы следующих веществ и определите степени окисления химических элементов: С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, С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, С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Задачи урока: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228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Образовательные: </a:t>
            </a:r>
            <a:r>
              <a:rPr b="0" lang="ru-RU" sz="2200" spc="-1" strike="noStrike">
                <a:solidFill>
                  <a:srgbClr val="663300"/>
                </a:solidFill>
                <a:latin typeface="Times New Roman"/>
              </a:rPr>
              <a:t>сформировать понятие о предмете органической химии, рассмотреть особенности органических веществ; ознакомить с понятием валентности; раскрыть значение органических веществ в жизни общества.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 algn="just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Воспитательные: </a:t>
            </a:r>
            <a:r>
              <a:rPr b="0" lang="ru-RU" sz="2200" spc="-1" strike="noStrike">
                <a:solidFill>
                  <a:srgbClr val="663300"/>
                </a:solidFill>
                <a:latin typeface="Times New Roman"/>
              </a:rPr>
              <a:t>продолжить формирование познавательного интереса к предмету через использование нестандартных форм обучения и создания ситуации успеха.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 algn="just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Развивающие: </a:t>
            </a:r>
            <a:r>
              <a:rPr b="0" lang="ru-RU" sz="2200" spc="-1" strike="noStrike">
                <a:solidFill>
                  <a:srgbClr val="663300"/>
                </a:solidFill>
                <a:latin typeface="Times New Roman"/>
              </a:rPr>
              <a:t>развивать учебно-интеллектуальные умения выделять главное и существенное, устанавливать причинно-следственные связи (развивать логическое мышление); продолжить развитие учебно-организационных умений, направленных на выполнение поставленной задачи, осуществление самоконтроля и самоанализа учебной деятельности, развитие критического мышления.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Times New Roman"/>
              </a:rPr>
              <a:t>Валентность и степень окисления углерода в органических веществах не совпадают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Определите в них степени окисления всех атомов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2e01"/>
                </a:solidFill>
                <a:latin typeface="Times New Roman"/>
              </a:rPr>
              <a:t>2 урок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Определение органической хими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Какие химические элементы  входят в состав органических веществ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Признаки органических веществ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Степень окислени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Валентность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Валентность атома углерода в органических веществах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1"/>
                </a:solidFill>
                <a:latin typeface="Times New Roman"/>
              </a:rPr>
              <a:t>Определить степени окисления химических элементов и составить полную и краткую структурную формулу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33160" y="2666880"/>
            <a:ext cx="83818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С5Н12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С5Н10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С5Н8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3. ТХС органических соединений А.М.Бутлерова  1861г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имическое строение вещества – это определенный порядок, последовательность соединения атомов в молекулы. Атомы в молекулах соединяются согласно их валентност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-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  Н-О-Н,     О=О,     Н-Н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30492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омы углерода обладают исключительной способностью соединяться с друг другом в разнообразные цепи: прямые, разветвленные и циклически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-С-С-С- прямая углеродная цеп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-С-С-С- разветвленная углеродная цеп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—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—С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|       |   циклическая (замкнутая) углеродная цеп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— С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сновные положения ТХС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2860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томы в молекулах органических веществ связаны друг с другом согласно их валентности.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йства веществ зависят не только от состава их молекул, но и от их строения.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28600" y="6091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4Н10 молекулярная формул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Н3-СН2-СН2-СН3 краткая структурная формула (бутан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Н3-СН-СН3 (изобутан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Н3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щества имеющие одинаковый качественный  и количественный состав, но разное строение называются изомерами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Значение органических веществ в жизни общества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39" name="Picture 4" descr="ovc9ssjj8bdrxlxnbi8agke7xerofuqi_1"/>
          <p:cNvPicPr/>
          <p:nvPr/>
        </p:nvPicPr>
        <p:blipFill>
          <a:blip r:embed="rId1"/>
          <a:stretch/>
        </p:blipFill>
        <p:spPr>
          <a:xfrm>
            <a:off x="152280" y="838080"/>
            <a:ext cx="2051280" cy="1538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ch11_27_06"/>
          <p:cNvPicPr/>
          <p:nvPr/>
        </p:nvPicPr>
        <p:blipFill>
          <a:blip r:embed="rId2"/>
          <a:stretch/>
        </p:blipFill>
        <p:spPr>
          <a:xfrm>
            <a:off x="6019920" y="4343400"/>
            <a:ext cx="2946240" cy="2209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C:\Documents and Settings\Admin\Рабочий стол\smallpromo23_4VinsAuto4.jpg"/>
          <p:cNvPicPr/>
          <p:nvPr/>
        </p:nvPicPr>
        <p:blipFill>
          <a:blip r:embed="rId3"/>
          <a:stretch/>
        </p:blipFill>
        <p:spPr>
          <a:xfrm>
            <a:off x="6781680" y="990720"/>
            <a:ext cx="2244960" cy="20574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9" descr="47648"/>
          <p:cNvPicPr/>
          <p:nvPr/>
        </p:nvPicPr>
        <p:blipFill>
          <a:blip r:embed="rId4"/>
          <a:stretch/>
        </p:blipFill>
        <p:spPr>
          <a:xfrm>
            <a:off x="3352680" y="4800600"/>
            <a:ext cx="2291040" cy="17175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58579"/>
          <p:cNvPicPr/>
          <p:nvPr/>
        </p:nvPicPr>
        <p:blipFill>
          <a:blip r:embed="rId5"/>
          <a:stretch/>
        </p:blipFill>
        <p:spPr>
          <a:xfrm>
            <a:off x="5105520" y="1371600"/>
            <a:ext cx="1636560" cy="1560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1687"/>
          <p:cNvPicPr/>
          <p:nvPr/>
        </p:nvPicPr>
        <p:blipFill>
          <a:blip r:embed="rId6"/>
          <a:stretch/>
        </p:blipFill>
        <p:spPr>
          <a:xfrm>
            <a:off x="304920" y="4495680"/>
            <a:ext cx="2447640" cy="1943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main"/>
          <p:cNvPicPr/>
          <p:nvPr/>
        </p:nvPicPr>
        <p:blipFill>
          <a:blip r:embed="rId7"/>
          <a:stretch/>
        </p:blipFill>
        <p:spPr>
          <a:xfrm>
            <a:off x="3124080" y="838080"/>
            <a:ext cx="1370160" cy="18208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Картинка 14 из 145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3520" y="2590920"/>
            <a:ext cx="2590560" cy="17348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C:\Documents and Settings\Анжей\Мои документы\Мои рисунки\c_html_418.jpg"/>
          <p:cNvPicPr/>
          <p:nvPr/>
        </p:nvPicPr>
        <p:blipFill>
          <a:blip r:embed="rId10"/>
          <a:stretch/>
        </p:blipFill>
        <p:spPr>
          <a:xfrm>
            <a:off x="3276720" y="2743200"/>
            <a:ext cx="2133360" cy="18907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11"/>
          <a:stretch/>
        </p:blipFill>
        <p:spPr>
          <a:xfrm>
            <a:off x="5486400" y="3124080"/>
            <a:ext cx="1581120" cy="8604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"/>
          <p:cNvPicPr/>
          <p:nvPr/>
        </p:nvPicPr>
        <p:blipFill>
          <a:blip r:embed="rId12"/>
          <a:stretch/>
        </p:blipFill>
        <p:spPr>
          <a:xfrm>
            <a:off x="6934320" y="3002040"/>
            <a:ext cx="2209680" cy="1322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ovc9ssjj8bdrxlxnbi8agke7xerofuqi_1"/>
          <p:cNvPicPr/>
          <p:nvPr/>
        </p:nvPicPr>
        <p:blipFill>
          <a:blip r:embed="rId13"/>
          <a:stretch/>
        </p:blipFill>
        <p:spPr>
          <a:xfrm>
            <a:off x="228600" y="83808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main"/>
          <p:cNvPicPr/>
          <p:nvPr/>
        </p:nvPicPr>
        <p:blipFill>
          <a:blip r:embed="rId14"/>
          <a:stretch/>
        </p:blipFill>
        <p:spPr>
          <a:xfrm>
            <a:off x="3200400" y="838080"/>
            <a:ext cx="13701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e2e01"/>
                </a:solidFill>
                <a:latin typeface="Times New Roman"/>
              </a:rPr>
              <a:t>Составить формулы изомеров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5Н12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6Н14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Овал 2"/>
          <p:cNvSpPr/>
          <p:nvPr/>
        </p:nvSpPr>
        <p:spPr>
          <a:xfrm>
            <a:off x="2666880" y="2666880"/>
            <a:ext cx="3886200" cy="1067040"/>
          </a:xfrm>
          <a:prstGeom prst="ellipse">
            <a:avLst/>
          </a:prstGeom>
          <a:solidFill>
            <a:srgbClr val="babe90"/>
          </a:solidFill>
          <a:ln w="31680">
            <a:solidFill>
              <a:srgbClr val="fefed6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Химические веществ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структурные полные и краткие формулы для следующих молекулярных формул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3 урок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Вопросы по 2 уроку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Классификация углеводород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Классификация кислородсодержащих соединени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Закреплени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56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объем воздуха содержащего   кислорода  21%, если в реакцию с ним вступает  250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ан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акие химические вещества относятся к неорганическим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акие химические вещества мы с вами еще не изучали? Назовите и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веществ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1" name="Picture 4" descr="1"/>
          <p:cNvPicPr/>
          <p:nvPr/>
        </p:nvPicPr>
        <p:blipFill>
          <a:blip r:embed="rId1"/>
          <a:stretch/>
        </p:blipFill>
        <p:spPr>
          <a:xfrm>
            <a:off x="3429000" y="3048120"/>
            <a:ext cx="2693880" cy="1828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6"/>
          <p:cNvPicPr/>
          <p:nvPr/>
        </p:nvPicPr>
        <p:blipFill>
          <a:blip r:embed="rId2"/>
          <a:stretch/>
        </p:blipFill>
        <p:spPr>
          <a:xfrm>
            <a:off x="6095880" y="3309840"/>
            <a:ext cx="2895840" cy="3330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J0254477"/>
          <p:cNvPicPr/>
          <p:nvPr/>
        </p:nvPicPr>
        <p:blipFill>
          <a:blip r:embed="rId3"/>
          <a:stretch/>
        </p:blipFill>
        <p:spPr>
          <a:xfrm>
            <a:off x="914400" y="5105520"/>
            <a:ext cx="1473120" cy="1182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P1040635"/>
          <p:cNvPicPr/>
          <p:nvPr/>
        </p:nvPicPr>
        <p:blipFill>
          <a:blip r:embed="rId4"/>
          <a:stretch/>
        </p:blipFill>
        <p:spPr>
          <a:xfrm>
            <a:off x="304920" y="762120"/>
            <a:ext cx="3124080" cy="2628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5"/>
          <a:stretch/>
        </p:blipFill>
        <p:spPr>
          <a:xfrm>
            <a:off x="6400800" y="838080"/>
            <a:ext cx="2077920" cy="1989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1"/>
          <p:cNvPicPr/>
          <p:nvPr/>
        </p:nvPicPr>
        <p:blipFill>
          <a:blip r:embed="rId6"/>
          <a:stretch/>
        </p:blipFill>
        <p:spPr>
          <a:xfrm>
            <a:off x="3581280" y="3090960"/>
            <a:ext cx="2694240" cy="1828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6"/>
          <p:cNvPicPr/>
          <p:nvPr/>
        </p:nvPicPr>
        <p:blipFill>
          <a:blip r:embed="rId7"/>
          <a:stretch/>
        </p:blipFill>
        <p:spPr>
          <a:xfrm>
            <a:off x="6248520" y="3352680"/>
            <a:ext cx="2895480" cy="3330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P1040635"/>
          <p:cNvPicPr/>
          <p:nvPr/>
        </p:nvPicPr>
        <p:blipFill>
          <a:blip r:embed="rId8"/>
          <a:stretch/>
        </p:blipFill>
        <p:spPr>
          <a:xfrm>
            <a:off x="457200" y="804960"/>
            <a:ext cx="3124080" cy="2628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9"/>
          <a:stretch/>
        </p:blipFill>
        <p:spPr>
          <a:xfrm>
            <a:off x="6553080" y="880920"/>
            <a:ext cx="2078280" cy="1989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6"/>
          <p:cNvPicPr/>
          <p:nvPr/>
        </p:nvPicPr>
        <p:blipFill>
          <a:blip r:embed="rId10"/>
          <a:stretch/>
        </p:blipFill>
        <p:spPr>
          <a:xfrm>
            <a:off x="6248520" y="3276720"/>
            <a:ext cx="2895480" cy="333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P1040635"/>
          <p:cNvPicPr/>
          <p:nvPr/>
        </p:nvPicPr>
        <p:blipFill>
          <a:blip r:embed="rId11"/>
          <a:stretch/>
        </p:blipFill>
        <p:spPr>
          <a:xfrm>
            <a:off x="457200" y="728640"/>
            <a:ext cx="3124080" cy="262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12"/>
          <a:stretch/>
        </p:blipFill>
        <p:spPr>
          <a:xfrm>
            <a:off x="6553080" y="804960"/>
            <a:ext cx="2078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 algn="ctr">
              <a:lnSpc>
                <a:spcPct val="100000"/>
              </a:lnSpc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Понятие об органических веществах. Определение органической химии.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Times New Roman"/>
              </a:rPr>
              <a:t>Что вам известно по данной теме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Times New Roman"/>
              </a:rPr>
              <a:t>Что нового вы узнали по данной теме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Молекулярные формулы органических веществ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– сахароз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– глюкоз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(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- крахма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ООН – уксусная кисло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N-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уротропин (сухое горючее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Н – этиловый спир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– лимонная кисло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en-US" sz="2800" spc="-1" strike="noStrike" baseline="-25000">
                <a:solidFill>
                  <a:srgbClr val="663300"/>
                </a:solidFill>
                <a:latin typeface="Times New Roman"/>
              </a:rPr>
              <a:t>y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– парафиновая свеча, нефт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ООН – аминоуксусная кисло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23-01-13T02:56:23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