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jpeg" ContentType="image/jpeg"/>
  <Override PartName="/ppt/media/image56.gif" ContentType="image/gif"/>
  <Override PartName="/ppt/media/image16.wmf" ContentType="image/x-wmf"/>
  <Override PartName="/ppt/media/image52.wmf" ContentType="image/x-wmf"/>
  <Override PartName="/ppt/media/image50.jpeg" ContentType="image/jpeg"/>
  <Override PartName="/ppt/media/image60.png" ContentType="image/png"/>
  <Override PartName="/ppt/media/image25.gif" ContentType="image/gif"/>
  <Override PartName="/ppt/media/image28.png" ContentType="image/png"/>
  <Override PartName="/ppt/media/image53.wmf" ContentType="image/x-wmf"/>
  <Override PartName="/ppt/media/image20.gif" ContentType="image/gif"/>
  <Override PartName="/ppt/media/image57.gif" ContentType="image/gif"/>
  <Override PartName="/ppt/media/image29.png" ContentType="image/png"/>
  <Override PartName="/ppt/media/image18.png" ContentType="image/png"/>
  <Override PartName="/ppt/media/image3.gif" ContentType="image/gif"/>
  <Override PartName="/ppt/media/image63.gif" ContentType="image/gif"/>
  <Override PartName="/ppt/media/image2.gif" ContentType="image/gif"/>
  <Override PartName="/ppt/media/image62.gif" ContentType="image/gif"/>
  <Override PartName="/ppt/media/image21.png" ContentType="image/png"/>
  <Override PartName="/ppt/media/image1.jpeg" ContentType="image/jpeg"/>
  <Override PartName="/ppt/media/image15.wmf" ContentType="image/x-wmf"/>
  <Override PartName="/ppt/media/image4.gif" ContentType="image/gif"/>
  <Override PartName="/ppt/media/image34.gif" ContentType="image/gif"/>
  <Override PartName="/ppt/media/image22.gif" ContentType="image/gif"/>
  <Override PartName="/ppt/media/image59.gif" ContentType="image/gif"/>
  <Override PartName="/ppt/media/image55.wmf" ContentType="image/x-wmf"/>
  <Override PartName="/ppt/media/image61.jpeg" ContentType="image/jpeg"/>
  <Override PartName="/ppt/media/image40.png" ContentType="image/png"/>
  <Override PartName="/ppt/media/image26.png" ContentType="image/png"/>
  <Override PartName="/ppt/media/image23.gif" ContentType="image/gif"/>
  <Override PartName="/ppt/media/image27.png" ContentType="image/png"/>
  <Override PartName="/ppt/media/image24.gif" ContentType="image/gif"/>
  <Override PartName="/ppt/media/image32.jpeg" ContentType="image/jpeg"/>
  <Override PartName="/ppt/media/image17.gif" ContentType="image/gif"/>
  <Override PartName="/ppt/media/image5.gif" ContentType="image/gif"/>
  <Override PartName="/ppt/media/image8.png" ContentType="image/png"/>
  <Override PartName="/ppt/media/image35.gif" ContentType="image/gif"/>
  <Override PartName="/ppt/media/image38.png" ContentType="image/png"/>
  <Override PartName="/ppt/media/image13.png" ContentType="image/png"/>
  <Override PartName="/ppt/media/image10.gif" ContentType="image/gif"/>
  <Override PartName="/ppt/media/image47.gif" ContentType="image/gif"/>
  <Override PartName="/ppt/media/image6.gif" ContentType="image/gif"/>
  <Override PartName="/ppt/media/image9.png" ContentType="image/png"/>
  <Override PartName="/ppt/media/image46.gif" ContentType="image/gif"/>
  <Override PartName="/ppt/media/image54.wmf" ContentType="image/x-wmf"/>
  <Override PartName="/ppt/media/image14.png" ContentType="image/png"/>
  <Override PartName="/ppt/media/image11.gif" ContentType="image/gif"/>
  <Override PartName="/ppt/media/image48.gif" ContentType="image/gif"/>
  <Override PartName="/ppt/media/image19.gif" ContentType="image/gif"/>
  <Override PartName="/ppt/media/image7.gif" ContentType="image/gif"/>
  <Override PartName="/ppt/media/image37.gif" ContentType="image/gif"/>
  <Override PartName="/ppt/media/image12.gif" ContentType="image/gif"/>
  <Override PartName="/ppt/media/image49.gif" ContentType="image/gif"/>
  <Override PartName="/ppt/media/image30.png" ContentType="image/png"/>
  <Override PartName="/ppt/media/image31.png" ContentType="image/png"/>
  <Override PartName="/ppt/media/image33.png" ContentType="image/png"/>
  <Override PartName="/ppt/media/image36.png" ContentType="image/png"/>
  <Override PartName="/ppt/media/image39.gif" ContentType="image/gif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E37-FE7F-4CE0-B3E8-38669E189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3F6-2211-4A82-A230-E8D9EB31E4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AEF-82D5-45CD-832D-D00B7B60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F4E-0A73-420F-A34D-D970253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4F1-45E2-4F93-BB15-65F2E9F4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56D-EDC7-4F1E-8B4B-1F4E0FF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2B2-85F0-442D-B053-55713E61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E36-777A-441D-96D0-D119855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DFFF-CCB3-4142-94BC-AF531243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3B6-6BA7-4F28-B6CC-5B3F064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2CB4-A9F7-4803-8E7F-485EA7B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55DA-9A5A-4C8A-B112-A958C370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7290-C86F-4F61-A449-FEA8CE8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18D-44D9-444E-B070-332E551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3E3-0E04-486C-B040-E1EF14D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F88B-3EF2-4856-A382-12E4DA9D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C46-5106-4215-9958-39E3E6F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97AE-8BEB-4A7E-8369-F39E374B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85C-D760-4913-9277-BAC19C03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C5ED-3D47-4A2F-8302-F15509EA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1B44-8B8B-49F3-A475-CD3BE298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D0B4-5ED0-48B4-AF00-1BF56F0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4EB5-620B-4114-BBDD-025AC8BC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63E9-7081-44E1-B50C-12ABEBB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1CE-8116-4154-AAF9-BAD6FBC2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46F7-F446-429E-88EB-E04987B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FD7A-A133-4000-9838-C8E0928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C2F8-95D0-4153-8282-64E4614D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2325-72AF-4D33-B870-5391C7C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0831-66EA-4003-A1CC-3F60F41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83B5-BE7A-4D10-8BE5-D3996463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69E3-D471-41D6-A3F3-98E17AF3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D7F-F93E-4304-B928-BD7F5559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137-E3E3-4102-90D8-258A3BB7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061-FFF1-4609-8904-970E3BD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B41-47D9-46A6-A5F3-ED10AF3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463-9E4A-4104-BFB9-16B2128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06A-D451-4430-9B5B-68A956E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F7FF-2020-469E-AD4E-DE723CA83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257-AEF8-49F3-8FDD-E67698E66A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6D6-C5AC-40C6-A65D-5A712413BDD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4.xml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gif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99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1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1"/>
          <p:cNvSpPr/>
          <p:nvPr/>
        </p:nvSpPr>
        <p:spPr>
          <a:xfrm>
            <a:off x="468360" y="0"/>
            <a:ext cx="840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Monotype Corsiva"/>
              </a:rPr>
              <a:t>Своя игра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43" descr="сова"/>
          <p:cNvPicPr/>
          <p:nvPr/>
        </p:nvPicPr>
        <p:blipFill>
          <a:blip r:embed="rId1"/>
          <a:stretch/>
        </p:blipFill>
        <p:spPr>
          <a:xfrm>
            <a:off x="468360" y="1844640"/>
            <a:ext cx="2135160" cy="302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4"/>
          <p:cNvSpPr/>
          <p:nvPr/>
        </p:nvSpPr>
        <p:spPr>
          <a:xfrm>
            <a:off x="5938920" y="5950080"/>
            <a:ext cx="3205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45"/>
          <p:cNvSpPr/>
          <p:nvPr/>
        </p:nvSpPr>
        <p:spPr>
          <a:xfrm>
            <a:off x="826920" y="189000"/>
            <a:ext cx="7345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6"/>
          <p:cNvSpPr/>
          <p:nvPr/>
        </p:nvSpPr>
        <p:spPr>
          <a:xfrm>
            <a:off x="2603520" y="2295360"/>
            <a:ext cx="64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«мир профессий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49"/>
          <p:cNvSpPr/>
          <p:nvPr/>
        </p:nvSpPr>
        <p:spPr>
          <a:xfrm>
            <a:off x="3564000" y="6381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50"/>
          <p:cNvSpPr/>
          <p:nvPr/>
        </p:nvSpPr>
        <p:spPr>
          <a:xfrm>
            <a:off x="3708360" y="6524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1143000" y="107172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От меня зависит работа целого коллектива. Эта профессия требует постоянного движения и крепких нервов. Не всегда меня знают в лицо, так как чаще встречаются с моей спиной. Назовите мою професси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>
            <a:hlinkClick r:id="rId1" action="ppaction://hlinksldjump"/>
          </p:cNvPr>
          <p:cNvSpPr/>
          <p:nvPr/>
        </p:nvSpPr>
        <p:spPr>
          <a:xfrm>
            <a:off x="1792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50920" y="333360"/>
            <a:ext cx="36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721200" y="5929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ри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ext Box 4" descr=""/>
          <p:cNvPicPr/>
          <p:nvPr/>
        </p:nvPicPr>
        <p:blipFill>
          <a:blip r:embed="rId2"/>
          <a:stretch/>
        </p:blipFill>
        <p:spPr>
          <a:xfrm>
            <a:off x="324000" y="401760"/>
            <a:ext cx="822240" cy="5170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258920" y="105264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9">
            <a:hlinkClick r:id="rId3" action="ppaction://hlinksldjump"/>
          </p:cNvPr>
          <p:cNvSpPr/>
          <p:nvPr/>
        </p:nvSpPr>
        <p:spPr>
          <a:xfrm>
            <a:off x="324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3" descr="baby155"/>
          <p:cNvPicPr/>
          <p:nvPr/>
        </p:nvPicPr>
        <p:blipFill>
          <a:blip r:embed="rId4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79280" y="476280"/>
            <a:ext cx="5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55640" y="333360"/>
            <a:ext cx="8209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имательность, ответственность, отзывчивость, общительность, терпеливость (11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>
            <a:hlinkClick r:id="rId2" action="ppaction://hlinksldjump"/>
          </p:cNvPr>
          <p:cNvSpPr/>
          <p:nvPr/>
        </p:nvSpPr>
        <p:spPr>
          <a:xfrm>
            <a:off x="25092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654280" y="54705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питател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24000" y="404640"/>
            <a:ext cx="39024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профессион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7" descr="BALLOON4.GIF"/>
          <p:cNvPicPr/>
          <p:nvPr/>
        </p:nvPicPr>
        <p:blipFill>
          <a:blip r:embed="rId3"/>
          <a:stretch/>
        </p:blipFill>
        <p:spPr>
          <a:xfrm>
            <a:off x="8143920" y="1714680"/>
            <a:ext cx="485640" cy="283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50920" y="476280"/>
            <a:ext cx="43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1640" y="692280"/>
            <a:ext cx="78483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ая физическая выносливость, тренированность, честность, принципиальность, коммуникабельность, устойчивость к стрессу, собранность (10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863640" cy="64908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8736" h="21600">
                <a:moveTo>
                  <a:pt x="0" y="0"/>
                </a:moveTo>
                <a:lnTo>
                  <a:pt x="28736" y="0"/>
                </a:lnTo>
                <a:lnTo>
                  <a:pt x="28736" y="21600"/>
                </a:lnTo>
                <a:lnTo>
                  <a:pt x="0" y="21600"/>
                </a:lnTo>
                <a:close/>
              </a:path>
              <a:path fill="lightenLess" w="28736" h="21600">
                <a:moveTo>
                  <a:pt x="0" y="0"/>
                </a:moveTo>
                <a:lnTo>
                  <a:pt x="28736" y="0"/>
                </a:lnTo>
                <a:lnTo>
                  <a:pt x="27336" y="1400"/>
                </a:lnTo>
                <a:lnTo>
                  <a:pt x="1400" y="1400"/>
                </a:lnTo>
                <a:close/>
              </a:path>
              <a:path fill="darken" w="28736" h="21600">
                <a:moveTo>
                  <a:pt x="28736" y="0"/>
                </a:moveTo>
                <a:lnTo>
                  <a:pt x="28736" y="21600"/>
                </a:lnTo>
                <a:lnTo>
                  <a:pt x="27336" y="20200"/>
                </a:lnTo>
                <a:lnTo>
                  <a:pt x="27336" y="1400"/>
                </a:lnTo>
                <a:close/>
              </a:path>
              <a:path fill="darkenLess" w="28736" h="21600">
                <a:moveTo>
                  <a:pt x="28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36" y="20200"/>
                </a:lnTo>
                <a:close/>
              </a:path>
              <a:path fill="lighten" w="28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36" h="21600">
                <a:moveTo>
                  <a:pt x="7362" y="10800"/>
                </a:moveTo>
                <a:lnTo>
                  <a:pt x="21375" y="3794"/>
                </a:lnTo>
                <a:lnTo>
                  <a:pt x="2137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708360" y="57340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ицион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24000" y="404640"/>
            <a:ext cx="3603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профессиона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250920" y="476280"/>
            <a:ext cx="50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71640" y="692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143000" y="1857240"/>
            <a:ext cx="7272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куратность, ответственность, сосредоточенность, усидчивость, способность к монотонной работе, внимательность (9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8">
            <a:hlinkClick r:id="rId2" action="ppaction://hlinksldjump"/>
          </p:cNvPr>
          <p:cNvSpPr/>
          <p:nvPr/>
        </p:nvSpPr>
        <p:spPr>
          <a:xfrm>
            <a:off x="25092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857240" y="58579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хгал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chud026"/>
          <p:cNvPicPr/>
          <p:nvPr/>
        </p:nvPicPr>
        <p:blipFill>
          <a:blip r:embed="rId3"/>
          <a:stretch/>
        </p:blipFill>
        <p:spPr>
          <a:xfrm>
            <a:off x="7174080" y="333360"/>
            <a:ext cx="173988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Text Box 12" descr=""/>
          <p:cNvPicPr/>
          <p:nvPr/>
        </p:nvPicPr>
        <p:blipFill>
          <a:blip r:embed="rId4"/>
          <a:stretch/>
        </p:blipFill>
        <p:spPr>
          <a:xfrm>
            <a:off x="324000" y="426960"/>
            <a:ext cx="82224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79280" y="4046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71640" y="476280"/>
            <a:ext cx="770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уиция, наблюдательность, эмоциональная устойчивость, коммуникативные способ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4 бук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7">
            <a:hlinkClick r:id="rId2" action="ppaction://hlinksldjump"/>
          </p:cNvPr>
          <p:cNvSpPr/>
          <p:nvPr/>
        </p:nvSpPr>
        <p:spPr>
          <a:xfrm>
            <a:off x="324000" y="595008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10800"/>
                </a:moveTo>
                <a:lnTo>
                  <a:pt x="20183" y="3794"/>
                </a:lnTo>
                <a:lnTo>
                  <a:pt x="2018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240160" y="5429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Monotype Corsiva"/>
              </a:rPr>
              <a:t>Врач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Text Box 9" descr=""/>
          <p:cNvPicPr/>
          <p:nvPr/>
        </p:nvPicPr>
        <p:blipFill>
          <a:blip r:embed="rId3"/>
          <a:stretch/>
        </p:blipFill>
        <p:spPr>
          <a:xfrm>
            <a:off x="324000" y="401760"/>
            <a:ext cx="82224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50920" y="260280"/>
            <a:ext cx="49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85880" y="0"/>
            <a:ext cx="792144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На свете много ……….. разны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И все они людям нуж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т самых простых и до самых важны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е они в жизни важ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от, например, профессия …….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 жили люди без нее на св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рачи нужны повсюду и всег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Чтоб росли здоровеньким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714840" y="564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eorgia"/>
              </a:rPr>
              <a:t>Профессий, врач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6" descr="j0440424.wmf"/>
          <p:cNvPicPr/>
          <p:nvPr/>
        </p:nvPicPr>
        <p:blipFill>
          <a:blip r:embed="rId2"/>
          <a:stretch/>
        </p:blipFill>
        <p:spPr>
          <a:xfrm>
            <a:off x="7000920" y="35712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214200" y="3571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900000" y="112536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, птицы, все кто 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здоровьем не довол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 зовет ……………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яжет, даст от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>
            <a:hlinkClick r:id="rId1" action="ppaction://hlinksldjump"/>
          </p:cNvPr>
          <p:cNvSpPr/>
          <p:nvPr/>
        </p:nvSpPr>
        <p:spPr>
          <a:xfrm>
            <a:off x="250920" y="5805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786200" y="5715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eorgia"/>
              </a:rPr>
              <a:t>Болен, ветерин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Рисунок 6" descr="j0430009.wmf"/>
          <p:cNvPicPr/>
          <p:nvPr/>
        </p:nvPicPr>
        <p:blipFill>
          <a:blip r:embed="rId2"/>
          <a:stretch/>
        </p:blipFill>
        <p:spPr>
          <a:xfrm>
            <a:off x="7286760" y="714240"/>
            <a:ext cx="1672920" cy="185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928800" y="92880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1" descr="cow"/>
          <p:cNvPicPr/>
          <p:nvPr/>
        </p:nvPicPr>
        <p:blipFill>
          <a:blip r:embed="rId1"/>
          <a:stretch/>
        </p:blipFill>
        <p:spPr>
          <a:xfrm>
            <a:off x="3924360" y="299736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2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3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7"/>
          <p:cNvSpPr/>
          <p:nvPr/>
        </p:nvSpPr>
        <p:spPr>
          <a:xfrm>
            <a:off x="218520" y="3571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4" descr="37R5.GIF"/>
          <p:cNvPicPr/>
          <p:nvPr/>
        </p:nvPicPr>
        <p:blipFill>
          <a:blip r:embed="rId1"/>
          <a:stretch/>
        </p:blipFill>
        <p:spPr>
          <a:xfrm>
            <a:off x="3286080" y="0"/>
            <a:ext cx="2735280" cy="1857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714240" y="-528480"/>
            <a:ext cx="817272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 кочегары мы, не плотни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о сожалений горьких нет, как н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 мы монтажники, высотники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с высоты вам шлем при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репал нам кудри ветер выс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целовали облака слег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а высоту такую милая 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ж не посмотришь с выс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24000" y="602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1">
            <a:hlinkClick r:id="rId2" action="ppaction://hlinksldjump"/>
          </p:cNvPr>
          <p:cNvSpPr/>
          <p:nvPr/>
        </p:nvSpPr>
        <p:spPr>
          <a:xfrm>
            <a:off x="1792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7577640" y="42876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n.ribnikov_-_ne_kochegari_mi_ne_plotniki_iz_k.f._visota.mp3" descr=""/>
          <p:cNvPicPr/>
          <p:nvPr/>
        </p:nvPicPr>
        <p:blipFill>
          <a:blip r:embed="rId3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53R2.GIF"/>
          <p:cNvPicPr/>
          <p:nvPr/>
        </p:nvPicPr>
        <p:blipFill>
          <a:blip r:embed="rId4"/>
          <a:stretch/>
        </p:blipFill>
        <p:spPr>
          <a:xfrm>
            <a:off x="-357120" y="714240"/>
            <a:ext cx="2500200" cy="54295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3" descr="HOUSE7.GIF"/>
          <p:cNvPicPr/>
          <p:nvPr/>
        </p:nvPicPr>
        <p:blipFill>
          <a:blip r:embed="rId5"/>
          <a:stretch/>
        </p:blipFill>
        <p:spPr>
          <a:xfrm>
            <a:off x="7072200" y="442908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2143080" y="6499080"/>
            <a:ext cx="31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ётч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23264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просы –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сюрпризы</a:t>
            </a: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частлив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получает число бал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казанных в данном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счастн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- команда штрафуется на указ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количеств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т в мешке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вопрос можно отдать команде – соперн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прос-аукцио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одна команда может перекупить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ругой вопрос, назначив более высокую це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воя игр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имеет право уменьшить или увел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чить число баллов з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узыкальный экспромт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может взять помощ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971640" y="765000"/>
            <a:ext cx="7777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Если вы в беду поп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Телефон …… набр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К вам ………….. при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Всем поможет, всех спасё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8">
            <a:hlinkClick r:id="rId1" action="ppaction://hlinksldjump"/>
          </p:cNvPr>
          <p:cNvSpPr/>
          <p:nvPr/>
        </p:nvSpPr>
        <p:spPr>
          <a:xfrm>
            <a:off x="324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995640" y="551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eorgia"/>
              </a:rPr>
              <a:t>02, милиц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218520" y="2142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7" descr="j0434864.gif"/>
          <p:cNvPicPr/>
          <p:nvPr/>
        </p:nvPicPr>
        <p:blipFill>
          <a:blip r:embed="rId2"/>
          <a:stretch/>
        </p:blipFill>
        <p:spPr>
          <a:xfrm>
            <a:off x="7358040" y="285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611280" y="189000"/>
            <a:ext cx="770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. Я грузы кранами вож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В высокой будке я ……..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Я не привык ходить пеш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Меня зовут ………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8">
            <a:hlinkClick r:id="rId1" action="ppaction://hlinksldjump"/>
          </p:cNvPr>
          <p:cNvSpPr/>
          <p:nvPr/>
        </p:nvSpPr>
        <p:spPr>
          <a:xfrm>
            <a:off x="250920" y="587700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780000" y="5589720"/>
            <a:ext cx="47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Сижу, крановщиком  </a:t>
            </a: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28"/>
          <p:cNvPicPr/>
          <p:nvPr/>
        </p:nvPicPr>
        <p:blipFill>
          <a:blip r:embed="rId2"/>
          <a:stretch/>
        </p:blipFill>
        <p:spPr>
          <a:xfrm>
            <a:off x="6715080" y="214200"/>
            <a:ext cx="1986120" cy="244800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8"/>
          <p:cNvSpPr/>
          <p:nvPr/>
        </p:nvSpPr>
        <p:spPr>
          <a:xfrm>
            <a:off x="147240" y="2142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118"/>
          <p:cNvSpPr/>
          <p:nvPr/>
        </p:nvSpPr>
        <p:spPr>
          <a:xfrm>
            <a:off x="1692360" y="0"/>
            <a:ext cx="5472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19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20">
            <a:hlinkClick r:id="" action="ppaction://hlinkshowjump?jump=nextslide"/>
          </p:cNvPr>
          <p:cNvSpPr/>
          <p:nvPr/>
        </p:nvSpPr>
        <p:spPr>
          <a:xfrm>
            <a:off x="8001000" y="60008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21"/>
          <p:cNvSpPr/>
          <p:nvPr/>
        </p:nvSpPr>
        <p:spPr>
          <a:xfrm>
            <a:off x="539640" y="2492280"/>
            <a:ext cx="813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Arial"/>
              </a:rPr>
              <a:t>«Всякая работа мастера хвалит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6" descr="61R2.GIF"/>
          <p:cNvPicPr/>
          <p:nvPr/>
        </p:nvPicPr>
        <p:blipFill>
          <a:blip r:embed="rId1"/>
          <a:stretch/>
        </p:blipFill>
        <p:spPr>
          <a:xfrm>
            <a:off x="285840" y="4643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293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ословиц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спознай-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награмм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 Box 199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00">
            <a:hlinkClick r:id="rId16" action="ppaction://hlinksldjump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/>
            <a:ahLst/>
            <a:rect l="l" t="t" r="r" b="b"/>
            <a:pathLst>
              <a:path w="649288" h="576263">
                <a:moveTo>
                  <a:pt x="1" y="220112"/>
                </a:moveTo>
                <a:lnTo>
                  <a:pt x="248007" y="220114"/>
                </a:lnTo>
                <a:lnTo>
                  <a:pt x="324644" y="0"/>
                </a:lnTo>
                <a:lnTo>
                  <a:pt x="401281" y="220114"/>
                </a:lnTo>
                <a:lnTo>
                  <a:pt x="649287" y="220112"/>
                </a:lnTo>
                <a:lnTo>
                  <a:pt x="448645" y="356149"/>
                </a:lnTo>
                <a:lnTo>
                  <a:pt x="525285" y="576262"/>
                </a:lnTo>
                <a:lnTo>
                  <a:pt x="324644" y="440223"/>
                </a:lnTo>
                <a:lnTo>
                  <a:pt x="124003" y="576262"/>
                </a:lnTo>
                <a:lnTo>
                  <a:pt x="200643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11600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50920" y="1268280"/>
            <a:ext cx="871380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5050"/>
                </a:solidFill>
                <a:latin typeface="Arial"/>
              </a:rPr>
              <a:t>Глазам страшно, 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9">
            <a:hlinkClick r:id="rId2" action="ppaction://hlinksldjump"/>
          </p:cNvPr>
          <p:cNvSpPr/>
          <p:nvPr/>
        </p:nvSpPr>
        <p:spPr>
          <a:xfrm>
            <a:off x="25092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7301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5456" y="3821"/>
                </a:lnTo>
                <a:lnTo>
                  <a:pt x="5456" y="17834"/>
                </a:lnTo>
                <a:lnTo>
                  <a:pt x="3794" y="1783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627280" y="5734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Руки сдел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6" descr="nature33.gif"/>
          <p:cNvPicPr/>
          <p:nvPr/>
        </p:nvPicPr>
        <p:blipFill>
          <a:blip r:embed="rId3"/>
          <a:stretch/>
        </p:blipFill>
        <p:spPr>
          <a:xfrm>
            <a:off x="7072200" y="642960"/>
            <a:ext cx="128592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324000" y="333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0" y="1268280"/>
            <a:ext cx="8964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5050"/>
                </a:solidFill>
                <a:latin typeface="Arial"/>
              </a:rPr>
              <a:t>Какие труды,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8">
            <a:hlinkClick r:id="rId2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448000" y="5950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кие и пл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103640" y="5940360"/>
            <a:ext cx="50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7" descr="BALLOON4.GIF"/>
          <p:cNvPicPr/>
          <p:nvPr/>
        </p:nvPicPr>
        <p:blipFill>
          <a:blip r:embed="rId3"/>
          <a:stretch/>
        </p:blipFill>
        <p:spPr>
          <a:xfrm>
            <a:off x="7358040" y="2214720"/>
            <a:ext cx="485640" cy="283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324000" y="333360"/>
            <a:ext cx="82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395280" y="1197000"/>
            <a:ext cx="8424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9" descr="baby94"/>
          <p:cNvPicPr/>
          <p:nvPr/>
        </p:nvPicPr>
        <p:blipFill>
          <a:blip r:embed="rId3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24000" y="40464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79280" y="1268280"/>
            <a:ext cx="871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Arial"/>
              </a:rPr>
              <a:t>Землю красит солнце, 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8">
            <a:hlinkClick r:id="rId2" action="ppaction://hlinksldjump"/>
          </p:cNvPr>
          <p:cNvSpPr/>
          <p:nvPr/>
        </p:nvSpPr>
        <p:spPr>
          <a:xfrm>
            <a:off x="2509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143000" y="542916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Человека тру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7" descr="37R5.GIF"/>
          <p:cNvPicPr/>
          <p:nvPr/>
        </p:nvPicPr>
        <p:blipFill>
          <a:blip r:embed="rId3"/>
          <a:stretch/>
        </p:blipFill>
        <p:spPr>
          <a:xfrm>
            <a:off x="6572160" y="0"/>
            <a:ext cx="225108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324000" y="333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11280" y="1052640"/>
            <a:ext cx="80643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от в меш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28760" y="38577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Arial"/>
              </a:rPr>
              <a:t>Без труда жить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8">
            <a:hlinkClick r:id="rId2" action="ppaction://hlinksldjump"/>
          </p:cNvPr>
          <p:cNvSpPr/>
          <p:nvPr/>
        </p:nvSpPr>
        <p:spPr>
          <a:xfrm>
            <a:off x="25092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0013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8168" y="3794"/>
                </a:lnTo>
                <a:lnTo>
                  <a:pt x="8168" y="17806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3929040" y="550080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только небо копт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1" descr="pic"/>
          <p:cNvPicPr/>
          <p:nvPr/>
        </p:nvPicPr>
        <p:blipFill>
          <a:blip r:embed="rId3"/>
          <a:stretch/>
        </p:blipFill>
        <p:spPr>
          <a:xfrm>
            <a:off x="395280" y="765000"/>
            <a:ext cx="1952640" cy="155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214200" y="214200"/>
            <a:ext cx="30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619280" y="692280"/>
            <a:ext cx="62658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2" descr="ia"/>
          <p:cNvPicPr/>
          <p:nvPr/>
        </p:nvPicPr>
        <p:blipFill>
          <a:blip r:embed="rId1"/>
          <a:stretch/>
        </p:blipFill>
        <p:spPr>
          <a:xfrm>
            <a:off x="3419640" y="4292640"/>
            <a:ext cx="2374560" cy="2293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44" name="Text Box 13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4">
            <a:hlinkClick r:id="rId2" action="ppaction://hlinksldjump"/>
          </p:cNvPr>
          <p:cNvSpPr/>
          <p:nvPr/>
        </p:nvSpPr>
        <p:spPr>
          <a:xfrm>
            <a:off x="539640" y="5805360"/>
            <a:ext cx="719280" cy="576360"/>
          </a:xfrm>
          <a:prstGeom prst="leftArrow">
            <a:avLst>
              <a:gd name="adj1" fmla="val 50000"/>
              <a:gd name="adj2" fmla="val 31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1835280" y="0"/>
            <a:ext cx="532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395280" y="2852640"/>
            <a:ext cx="8353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8" descr="93"/>
          <p:cNvPicPr/>
          <p:nvPr/>
        </p:nvPicPr>
        <p:blipFill>
          <a:blip r:embed="rId1"/>
          <a:stretch/>
        </p:blipFill>
        <p:spPr>
          <a:xfrm>
            <a:off x="395280" y="549360"/>
            <a:ext cx="295272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/>
          <p:cNvSpPr/>
          <p:nvPr/>
        </p:nvSpPr>
        <p:spPr>
          <a:xfrm>
            <a:off x="500040" y="321480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«Все работы хороши –  выбирай на вкус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5"/>
          <p:cNvSpPr/>
          <p:nvPr/>
        </p:nvSpPr>
        <p:spPr>
          <a:xfrm>
            <a:off x="900000" y="0"/>
            <a:ext cx="77756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3143160" y="60008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Lucida Console"/>
              </a:rPr>
              <a:t>Пекар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580000" y="18446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218520" y="21420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4076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3"/>
          <p:cNvSpPr/>
          <p:nvPr/>
        </p:nvSpPr>
        <p:spPr>
          <a:xfrm>
            <a:off x="611280" y="0"/>
            <a:ext cx="820872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2500200" y="60721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Журнали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223200" y="2142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9" descr=""/>
          <p:cNvPicPr/>
          <p:nvPr/>
        </p:nvPicPr>
        <p:blipFill>
          <a:blip r:embed="rId2"/>
          <a:stretch/>
        </p:blipFill>
        <p:spPr>
          <a:xfrm>
            <a:off x="2214720" y="2143080"/>
            <a:ext cx="476244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755640" y="0"/>
            <a:ext cx="74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857160" y="60008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варщи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223200" y="2142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857160" y="857160"/>
            <a:ext cx="7429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10" descr=""/>
          <p:cNvPicPr/>
          <p:nvPr/>
        </p:nvPicPr>
        <p:blipFill>
          <a:blip r:embed="rId2"/>
          <a:stretch/>
        </p:blipFill>
        <p:spPr>
          <a:xfrm>
            <a:off x="2857680" y="200016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1357200" y="0"/>
            <a:ext cx="6048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0 балло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6836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5214960" y="60008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Шахтёр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2">
            <a:hlinkClick r:id="rId1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0"/>
          <p:cNvSpPr/>
          <p:nvPr/>
        </p:nvSpPr>
        <p:spPr>
          <a:xfrm>
            <a:off x="223200" y="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1"/>
          <p:cNvSpPr/>
          <p:nvPr/>
        </p:nvSpPr>
        <p:spPr>
          <a:xfrm>
            <a:off x="428760" y="1357200"/>
            <a:ext cx="8358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1" descr=""/>
          <p:cNvPicPr/>
          <p:nvPr/>
        </p:nvPicPr>
        <p:blipFill>
          <a:blip r:embed="rId2"/>
          <a:stretch/>
        </p:blipFill>
        <p:spPr>
          <a:xfrm>
            <a:off x="2000160" y="2500200"/>
            <a:ext cx="497700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1042920" y="1557360"/>
            <a:ext cx="7489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7547"/>
                </a:solidFill>
                <a:latin typeface="Arial"/>
              </a:rPr>
              <a:t>икотпл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95280" y="57340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>
            <a:hlinkClick r:id="rId2" action="ppaction://hlinksldjump"/>
          </p:cNvPr>
          <p:cNvSpPr/>
          <p:nvPr/>
        </p:nvSpPr>
        <p:spPr>
          <a:xfrm>
            <a:off x="250920" y="5950080"/>
            <a:ext cx="576000" cy="28728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85840" y="56437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Плот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награм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Рисунок 7" descr="j0305589.gif"/>
          <p:cNvPicPr/>
          <p:nvPr/>
        </p:nvPicPr>
        <p:blipFill>
          <a:blip r:embed="rId3"/>
          <a:stretch/>
        </p:blipFill>
        <p:spPr>
          <a:xfrm>
            <a:off x="428760" y="2858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5"/>
          <p:cNvSpPr/>
          <p:nvPr/>
        </p:nvSpPr>
        <p:spPr>
          <a:xfrm>
            <a:off x="324000" y="765000"/>
            <a:ext cx="7561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79280" y="6165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502920" cy="289080"/>
          </a:xfrm>
          <a:prstGeom prst="leftArrow">
            <a:avLst>
              <a:gd name="adj1" fmla="val 50000"/>
              <a:gd name="adj2" fmla="val 43493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9" descr="135"/>
          <p:cNvPicPr/>
          <p:nvPr/>
        </p:nvPicPr>
        <p:blipFill>
          <a:blip r:embed="rId3"/>
          <a:stretch/>
        </p:blipFill>
        <p:spPr>
          <a:xfrm>
            <a:off x="6286680" y="3429000"/>
            <a:ext cx="2584440" cy="2897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0"/>
          <p:cNvSpPr/>
          <p:nvPr/>
        </p:nvSpPr>
        <p:spPr>
          <a:xfrm>
            <a:off x="2124000" y="33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ограм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2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23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428760" y="1785960"/>
            <a:ext cx="828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астюдес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50920" y="602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5">
            <a:hlinkClick r:id="rId2" action="ppaction://hlinksldjump"/>
          </p:cNvPr>
          <p:cNvSpPr/>
          <p:nvPr/>
        </p:nvSpPr>
        <p:spPr>
          <a:xfrm>
            <a:off x="324000" y="6237360"/>
            <a:ext cx="502920" cy="216000"/>
          </a:xfrm>
          <a:prstGeom prst="leftArrow">
            <a:avLst>
              <a:gd name="adj1" fmla="val 50000"/>
              <a:gd name="adj2" fmla="val 5820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5805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юарде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310560" y="3571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6" descr="j0356784.gif"/>
          <p:cNvPicPr/>
          <p:nvPr/>
        </p:nvPicPr>
        <p:blipFill>
          <a:blip r:embed="rId3"/>
          <a:stretch/>
        </p:blipFill>
        <p:spPr>
          <a:xfrm>
            <a:off x="214200" y="3571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3"/>
          <p:cNvSpPr/>
          <p:nvPr/>
        </p:nvSpPr>
        <p:spPr>
          <a:xfrm>
            <a:off x="0" y="476280"/>
            <a:ext cx="7777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14200" y="328608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рикермахп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>
            <a:hlinkClick r:id="rId2" action="ppaction://hlinksldjump"/>
          </p:cNvPr>
          <p:cNvSpPr/>
          <p:nvPr/>
        </p:nvSpPr>
        <p:spPr>
          <a:xfrm>
            <a:off x="179280" y="6308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5254560" y="58579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Парикмахе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9" descr="1108"/>
          <p:cNvPicPr/>
          <p:nvPr/>
        </p:nvPicPr>
        <p:blipFill>
          <a:blip r:embed="rId3"/>
          <a:stretch/>
        </p:blipFill>
        <p:spPr>
          <a:xfrm>
            <a:off x="6738840" y="476280"/>
            <a:ext cx="220824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0"/>
          <p:cNvSpPr/>
          <p:nvPr/>
        </p:nvSpPr>
        <p:spPr>
          <a:xfrm>
            <a:off x="3444120" y="189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7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0" y="1857240"/>
            <a:ext cx="89298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заерйн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5092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24000" y="6093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431640" cy="21600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3564000" y="56610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Дизайн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310560" y="2142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7" descr="FLOWER7.GIF"/>
          <p:cNvPicPr/>
          <p:nvPr/>
        </p:nvPicPr>
        <p:blipFill>
          <a:blip r:embed="rId3"/>
          <a:stretch/>
        </p:blipFill>
        <p:spPr>
          <a:xfrm>
            <a:off x="7143840" y="571680"/>
            <a:ext cx="163332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1835280" y="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3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187280" y="119700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Monotype Corsiva"/>
              </a:rPr>
              <a:t>Ералаш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7" descr="baby134"/>
          <p:cNvPicPr/>
          <p:nvPr/>
        </p:nvPicPr>
        <p:blipFill>
          <a:blip r:embed="rId2"/>
          <a:stretch/>
        </p:blipFill>
        <p:spPr>
          <a:xfrm>
            <a:off x="3643200" y="4071960"/>
            <a:ext cx="217332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1080"/>
                <a:gridCol w="1150920"/>
                <a:gridCol w="1225440"/>
                <a:gridCol w="12589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Загад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фессиональные качества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иф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4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custGeom>
            <a:avLst/>
            <a:gdLst/>
            <a:ahLst/>
            <a:rect l="l" t="t" r="r" b="b"/>
            <a:pathLst>
              <a:path w="576263" h="482600">
                <a:moveTo>
                  <a:pt x="1" y="184336"/>
                </a:moveTo>
                <a:lnTo>
                  <a:pt x="220114" y="184338"/>
                </a:lnTo>
                <a:lnTo>
                  <a:pt x="288132" y="0"/>
                </a:lnTo>
                <a:lnTo>
                  <a:pt x="356149" y="184338"/>
                </a:lnTo>
                <a:lnTo>
                  <a:pt x="576262" y="184336"/>
                </a:lnTo>
                <a:lnTo>
                  <a:pt x="398186" y="298262"/>
                </a:lnTo>
                <a:lnTo>
                  <a:pt x="466206" y="482599"/>
                </a:lnTo>
                <a:lnTo>
                  <a:pt x="288132" y="368671"/>
                </a:lnTo>
                <a:lnTo>
                  <a:pt x="110057" y="482599"/>
                </a:lnTo>
                <a:lnTo>
                  <a:pt x="178077" y="298262"/>
                </a:lnTo>
                <a:lnTo>
                  <a:pt x="1" y="184336"/>
                </a:lnTo>
                <a:close/>
              </a:path>
            </a:pathLst>
          </a:custGeom>
          <a:solidFill>
            <a:srgbClr val="aaf4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drawingml/2006/table">
            <a:tbl>
              <a:tblPr/>
              <a:tblGrid>
                <a:gridCol w="2627280"/>
                <a:gridCol w="1440000"/>
                <a:gridCol w="1368360"/>
                <a:gridCol w="1224000"/>
                <a:gridCol w="1297080"/>
                <a:gridCol w="1187280"/>
              </a:tblGrid>
              <a:tr h="228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рудия тру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ебус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Text Box 113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14"/>
          <p:cNvSpPr/>
          <p:nvPr/>
        </p:nvSpPr>
        <p:spPr>
          <a:xfrm>
            <a:off x="179280" y="6093000"/>
            <a:ext cx="611280" cy="580680"/>
          </a:xfrm>
          <a:custGeom>
            <a:avLst/>
            <a:gdLst/>
            <a:ahLst/>
            <a:rect l="l" t="t" r="r" b="b"/>
            <a:pathLst>
              <a:path w="611187" h="581025">
                <a:moveTo>
                  <a:pt x="1" y="221931"/>
                </a:moveTo>
                <a:lnTo>
                  <a:pt x="233454" y="221933"/>
                </a:lnTo>
                <a:lnTo>
                  <a:pt x="305594" y="0"/>
                </a:lnTo>
                <a:lnTo>
                  <a:pt x="377733" y="221933"/>
                </a:lnTo>
                <a:lnTo>
                  <a:pt x="611186" y="221931"/>
                </a:lnTo>
                <a:lnTo>
                  <a:pt x="422318" y="359092"/>
                </a:lnTo>
                <a:lnTo>
                  <a:pt x="494460" y="581024"/>
                </a:lnTo>
                <a:lnTo>
                  <a:pt x="305594" y="443861"/>
                </a:lnTo>
                <a:lnTo>
                  <a:pt x="116727" y="581024"/>
                </a:lnTo>
                <a:lnTo>
                  <a:pt x="188869" y="359092"/>
                </a:lnTo>
                <a:lnTo>
                  <a:pt x="1" y="221931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5"/>
          <p:cNvSpPr/>
          <p:nvPr/>
        </p:nvSpPr>
        <p:spPr>
          <a:xfrm>
            <a:off x="179280" y="26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перамен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285920" y="114300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4143240" y="55008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42e"/>
                </a:solidFill>
                <a:latin typeface="Arial"/>
              </a:rPr>
              <a:t>Холерик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250920" y="587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1500120" y="2286000"/>
            <a:ext cx="625788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79280" y="47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WordArt 7"/>
          <p:cNvSpPr txBox="1"/>
          <p:nvPr/>
        </p:nvSpPr>
        <p:spPr>
          <a:xfrm rot="5400000">
            <a:off x="-2376360" y="2816280"/>
            <a:ext cx="547200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1619280" y="260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4356000" y="551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742e"/>
                </a:solidFill>
                <a:latin typeface="Arial"/>
              </a:rPr>
              <a:t>Сангви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24000" y="60213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12"/>
          <p:cNvSpPr/>
          <p:nvPr/>
        </p:nvSpPr>
        <p:spPr>
          <a:xfrm>
            <a:off x="179280" y="6093000"/>
            <a:ext cx="647640" cy="504720"/>
          </a:xfrm>
          <a:custGeom>
            <a:avLst/>
            <a:gdLst>
              <a:gd name="textAreaLeft" fmla="*/ 147600 w 647640"/>
              <a:gd name="textAreaRight" fmla="*/ 500040 w 64764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2"/>
          <a:stretch/>
        </p:blipFill>
        <p:spPr>
          <a:xfrm>
            <a:off x="1000080" y="2571840"/>
            <a:ext cx="7143840" cy="24289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9"/>
          <p:cNvSpPr/>
          <p:nvPr/>
        </p:nvSpPr>
        <p:spPr>
          <a:xfrm>
            <a:off x="928800" y="12859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3"/>
          <p:cNvSpPr txBox="1"/>
          <p:nvPr/>
        </p:nvSpPr>
        <p:spPr>
          <a:xfrm rot="5400000">
            <a:off x="-2286000" y="2786040"/>
            <a:ext cx="540072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332000" y="4046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1071720" y="1285920"/>
            <a:ext cx="778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6437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742e"/>
                </a:solidFill>
                <a:latin typeface="Arial"/>
              </a:rPr>
              <a:t>Меланхолик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2400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250920" y="6021360"/>
            <a:ext cx="649080" cy="57636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1428840" y="2071800"/>
            <a:ext cx="666756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3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90000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85880" y="2428920"/>
            <a:ext cx="741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Счастливый случай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250920" y="595008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solnze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2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258920" y="333360"/>
            <a:ext cx="734544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Несчастный случа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9" descr="baby94"/>
          <p:cNvPicPr/>
          <p:nvPr/>
        </p:nvPicPr>
        <p:blipFill>
          <a:blip r:embed="rId2"/>
          <a:stretch/>
        </p:blipFill>
        <p:spPr>
          <a:xfrm>
            <a:off x="3571920" y="392904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8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116000" y="476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95280" y="5805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7"/>
          <p:cNvSpPr/>
          <p:nvPr/>
        </p:nvSpPr>
        <p:spPr>
          <a:xfrm>
            <a:off x="928800" y="2000160"/>
            <a:ext cx="82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«Несчаст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случа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" descr="baby94"/>
          <p:cNvPicPr/>
          <p:nvPr/>
        </p:nvPicPr>
        <p:blipFill>
          <a:blip r:embed="rId2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476360" y="333360"/>
            <a:ext cx="698328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 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Кот в мешк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95280" y="5877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7">
            <a:hlinkClick r:id="" action="ppaction://hlinkshowjump?jump=nextslide"/>
          </p:cNvPr>
          <p:cNvSpPr/>
          <p:nvPr/>
        </p:nvSpPr>
        <p:spPr>
          <a:xfrm>
            <a:off x="2509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9" descr="baby20"/>
          <p:cNvPicPr/>
          <p:nvPr/>
        </p:nvPicPr>
        <p:blipFill>
          <a:blip r:embed="rId2"/>
          <a:stretch/>
        </p:blipFill>
        <p:spPr>
          <a:xfrm>
            <a:off x="1403280" y="3357720"/>
            <a:ext cx="2281320" cy="3240000"/>
          </a:xfrm>
          <a:prstGeom prst="rect">
            <a:avLst/>
          </a:prstGeom>
          <a:ln w="0">
            <a:noFill/>
          </a:ln>
        </p:spPr>
      </p:pic>
      <p:sp>
        <p:nvSpPr>
          <p:cNvPr id="462" name="WordArt 10"/>
          <p:cNvSpPr txBox="1"/>
          <p:nvPr/>
        </p:nvSpPr>
        <p:spPr>
          <a:xfrm rot="5400000">
            <a:off x="-1844280" y="2862000"/>
            <a:ext cx="4895640" cy="27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547640" y="0"/>
            <a:ext cx="619308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Он не сеет и не пашет, но отвечает за урожай. Кто он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924360" y="5661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Агрон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95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179280" y="6165720"/>
            <a:ext cx="720720" cy="503280"/>
          </a:xfrm>
          <a:custGeom>
            <a:avLst/>
            <a:gdLst>
              <a:gd name="textAreaLeft" fmla="*/ 164520 w 720720"/>
              <a:gd name="textAreaRight" fmla="*/ 556200 w 720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WordArt 9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69" name="Рисунок 7" descr="wfall00002.gif"/>
          <p:cNvPicPr/>
          <p:nvPr/>
        </p:nvPicPr>
        <p:blipFill>
          <a:blip r:embed="rId2"/>
          <a:stretch/>
        </p:blipFill>
        <p:spPr>
          <a:xfrm>
            <a:off x="2928960" y="3786120"/>
            <a:ext cx="285732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28840" y="1285920"/>
            <a:ext cx="65516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Кто первый – мужчины или женщины – начали вязать на спиц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429000" y="57862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Мужч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79280" y="580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179280" y="6165720"/>
            <a:ext cx="505080" cy="505080"/>
          </a:xfrm>
          <a:custGeom>
            <a:avLst/>
            <a:gdLst>
              <a:gd name="textAreaLeft" fmla="*/ 115200 w 505080"/>
              <a:gd name="textAreaRight" fmla="*/ 389880 w 50508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WordArt 8"/>
          <p:cNvSpPr txBox="1"/>
          <p:nvPr/>
        </p:nvSpPr>
        <p:spPr>
          <a:xfrm rot="5400000">
            <a:off x="-1764720" y="2925000"/>
            <a:ext cx="489600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76" name="Рисунок 7" descr="003.GIF"/>
          <p:cNvPicPr/>
          <p:nvPr/>
        </p:nvPicPr>
        <p:blipFill>
          <a:blip r:embed="rId2"/>
          <a:stretch/>
        </p:blipFill>
        <p:spPr>
          <a:xfrm rot="3051000">
            <a:off x="3252960" y="44672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8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47840" y="285840"/>
            <a:ext cx="96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55640" y="522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&lt;&lt;&lt;&lt;&lt;&lt;&lt;&lt;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317080" y="26028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2286000" y="21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по профессии был А. П. Чех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6297120" y="592920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рач, пис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8" descr="sunflower1.gif"/>
          <p:cNvPicPr/>
          <p:nvPr/>
        </p:nvPicPr>
        <p:blipFill>
          <a:blip r:embed="rId2"/>
          <a:stretch/>
        </p:blipFill>
        <p:spPr>
          <a:xfrm>
            <a:off x="357120" y="1714680"/>
            <a:ext cx="149544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1116000" y="549360"/>
            <a:ext cx="727236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Кто из царей знал 14 ремесел? Назовите царя и не менее 6 ремесел, которыми он влад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429000" y="4857840"/>
            <a:ext cx="53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660"/>
                </a:solidFill>
                <a:latin typeface="Arial"/>
              </a:rPr>
              <a:t>Петр I – плотник, кораблестроитель, кузнец, токарь, оружейник, моряк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468360" y="59500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WordArt 10"/>
          <p:cNvSpPr txBox="1"/>
          <p:nvPr/>
        </p:nvSpPr>
        <p:spPr>
          <a:xfrm rot="5400000">
            <a:off x="-1773360" y="2933640"/>
            <a:ext cx="4896000" cy="27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радуг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83" name="Рисунок 7" descr="JACK1.GIF"/>
          <p:cNvPicPr/>
          <p:nvPr/>
        </p:nvPicPr>
        <p:blipFill>
          <a:blip r:embed="rId2"/>
          <a:stretch/>
        </p:blipFill>
        <p:spPr>
          <a:xfrm rot="1501200">
            <a:off x="1877760" y="3838680"/>
            <a:ext cx="1384200" cy="209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258920" y="476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9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радуг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89" name="Прямоугольник 7"/>
          <p:cNvSpPr/>
          <p:nvPr/>
        </p:nvSpPr>
        <p:spPr>
          <a:xfrm>
            <a:off x="1500120" y="1714680"/>
            <a:ext cx="598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13" descr="baby155"/>
          <p:cNvPicPr/>
          <p:nvPr/>
        </p:nvPicPr>
        <p:blipFill>
          <a:blip r:embed="rId2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47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9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1042920" y="260280"/>
            <a:ext cx="7850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2429280" y="2990880"/>
            <a:ext cx="15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10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Рисунок 1" descr="j0432617"/>
          <p:cNvPicPr/>
          <p:nvPr/>
        </p:nvPicPr>
        <p:blipFill>
          <a:blip r:embed="rId2"/>
          <a:stretch/>
        </p:blipFill>
        <p:spPr>
          <a:xfrm>
            <a:off x="4000680" y="314316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1"/>
          <p:cNvSpPr/>
          <p:nvPr/>
        </p:nvSpPr>
        <p:spPr>
          <a:xfrm>
            <a:off x="4923720" y="277632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7070040" y="5362200"/>
            <a:ext cx="189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Calibri"/>
                <a:ea typeface="Calibri"/>
              </a:rPr>
              <a:t>сто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1"/>
          <p:cNvSpPr/>
          <p:nvPr/>
        </p:nvSpPr>
        <p:spPr>
          <a:xfrm>
            <a:off x="1143000" y="1214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рабочее место представителей некоторых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258920" y="476280"/>
            <a:ext cx="734544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объект, который ремонт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42960" y="578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Кр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WordArt 10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9" name="Picture 9" descr=""/>
          <p:cNvPicPr/>
          <p:nvPr/>
        </p:nvPicPr>
        <p:blipFill>
          <a:blip r:embed="rId2"/>
          <a:stretch/>
        </p:blipFill>
        <p:spPr>
          <a:xfrm>
            <a:off x="1530360" y="2600280"/>
            <a:ext cx="1676520" cy="18576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0"/>
          <p:cNvSpPr/>
          <p:nvPr/>
        </p:nvSpPr>
        <p:spPr>
          <a:xfrm>
            <a:off x="3209400" y="270504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5066640" y="270504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12" descr=""/>
          <p:cNvPicPr/>
          <p:nvPr/>
        </p:nvPicPr>
        <p:blipFill>
          <a:blip r:embed="rId3"/>
          <a:stretch/>
        </p:blipFill>
        <p:spPr>
          <a:xfrm>
            <a:off x="5715000" y="2857680"/>
            <a:ext cx="1752480" cy="1409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332000" y="105264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324000" y="59500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WordArt 10"/>
          <p:cNvSpPr txBox="1"/>
          <p:nvPr/>
        </p:nvSpPr>
        <p:spPr>
          <a:xfrm rot="5400000">
            <a:off x="-2162160" y="266220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Прямоугольник 16"/>
          <p:cNvSpPr/>
          <p:nvPr/>
        </p:nvSpPr>
        <p:spPr>
          <a:xfrm>
            <a:off x="6646320" y="5643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1451520" y="257184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3" descr="baby155"/>
          <p:cNvPicPr/>
          <p:nvPr/>
        </p:nvPicPr>
        <p:blipFill>
          <a:blip r:embed="rId2"/>
          <a:stretch/>
        </p:blipFill>
        <p:spPr>
          <a:xfrm>
            <a:off x="2786040" y="3571920"/>
            <a:ext cx="3994200" cy="276552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12"/>
          <p:cNvSpPr/>
          <p:nvPr/>
        </p:nvSpPr>
        <p:spPr>
          <a:xfrm>
            <a:off x="285840" y="5929200"/>
            <a:ext cx="647640" cy="621000"/>
          </a:xfrm>
          <a:custGeom>
            <a:avLst/>
            <a:gdLst>
              <a:gd name="textAreaLeft" fmla="*/ 147600 w 647640"/>
              <a:gd name="textAreaRight" fmla="*/ 500040 w 647640"/>
              <a:gd name="textAreaTop" fmla="*/ 141840 h 621000"/>
              <a:gd name="textAreaBottom" fmla="*/ 479160 h 62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92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1403280" y="40464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WordArt 9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1500120" y="2071800"/>
            <a:ext cx="70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«Несчастный случай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baby94"/>
          <p:cNvPicPr/>
          <p:nvPr/>
        </p:nvPicPr>
        <p:blipFill>
          <a:blip r:embed="rId2"/>
          <a:stretch/>
        </p:blipFill>
        <p:spPr>
          <a:xfrm>
            <a:off x="3214800" y="2928960"/>
            <a:ext cx="3108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179280" y="6165720"/>
            <a:ext cx="50508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285920" y="0"/>
            <a:ext cx="727236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3276720" y="5661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Тос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WordArt 10"/>
          <p:cNvSpPr txBox="1"/>
          <p:nvPr/>
        </p:nvSpPr>
        <p:spPr>
          <a:xfrm rot="5400000">
            <a:off x="-2162160" y="266220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2"/>
          <a:stretch/>
        </p:blipFill>
        <p:spPr>
          <a:xfrm>
            <a:off x="1500120" y="2571840"/>
            <a:ext cx="1895400" cy="1695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3"/>
          <a:stretch/>
        </p:blipFill>
        <p:spPr>
          <a:xfrm>
            <a:off x="3857760" y="2428920"/>
            <a:ext cx="1571400" cy="180036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10"/>
          <p:cNvSpPr/>
          <p:nvPr/>
        </p:nvSpPr>
        <p:spPr>
          <a:xfrm>
            <a:off x="5384160" y="2000160"/>
            <a:ext cx="7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  <a:ea typeface="Calibri"/>
              </a:rPr>
              <a:t>̕̕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11"/>
          <p:cNvSpPr/>
          <p:nvPr/>
        </p:nvSpPr>
        <p:spPr>
          <a:xfrm>
            <a:off x="3308040" y="1928880"/>
            <a:ext cx="84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Calibri"/>
              </a:rPr>
              <a:t>̕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6223320" y="2286000"/>
            <a:ext cx="144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  <a:ea typeface="Calibri"/>
              </a:rPr>
              <a:t>е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3"/>
          <p:cNvSpPr/>
          <p:nvPr/>
        </p:nvSpPr>
        <p:spPr>
          <a:xfrm>
            <a:off x="1214280" y="92880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предмет, который облегчает 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1071720" y="214200"/>
            <a:ext cx="7462800" cy="594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шает каждый 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 жизнь игра, и все мы в ней акт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 каждого своя есть ро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ерой, преступник иль свято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шаем сами мы пор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ем быть, кем с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удьбу верш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ль просто по теченью плы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сти или ведомым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 каждый может изме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сторию своей судьб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существить свои меч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 выбрать верный пу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ы  также будешь выбира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дь дело каждого реш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ем дальше в жизни ему стат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6572160" y="6286680"/>
            <a:ext cx="23050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Швецова 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7" descr="blest11"/>
          <p:cNvPicPr/>
          <p:nvPr/>
        </p:nvPicPr>
        <p:blipFill>
          <a:blip r:embed="rId1"/>
          <a:stretch/>
        </p:blipFill>
        <p:spPr>
          <a:xfrm>
            <a:off x="6877080" y="3532320"/>
            <a:ext cx="1727280" cy="1542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blest40"/>
          <p:cNvPicPr/>
          <p:nvPr/>
        </p:nvPicPr>
        <p:blipFill>
          <a:blip r:embed="rId2"/>
          <a:stretch/>
        </p:blipFill>
        <p:spPr>
          <a:xfrm rot="2768400">
            <a:off x="-142560" y="3931920"/>
            <a:ext cx="2712960" cy="2427120"/>
          </a:xfrm>
          <a:prstGeom prst="rect">
            <a:avLst/>
          </a:prstGeom>
          <a:ln w="0">
            <a:noFill/>
          </a:ln>
        </p:spPr>
      </p:pic>
      <p:pic>
        <p:nvPicPr>
          <p:cNvPr id="548" name="iz_kinofilmov-karnavalnaja_noch-o_horoshem_nastroenii.mp3" descr=""/>
          <p:cNvPicPr/>
          <p:nvPr/>
        </p:nvPicPr>
        <p:blipFill>
          <a:blip r:embed="rId3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0" dur="5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blest47"/>
          <p:cNvPicPr/>
          <p:nvPr/>
        </p:nvPicPr>
        <p:blipFill>
          <a:blip r:embed="rId2"/>
          <a:stretch/>
        </p:blipFill>
        <p:spPr>
          <a:xfrm>
            <a:off x="611280" y="189000"/>
            <a:ext cx="6337080" cy="5715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3780000" y="5877000"/>
            <a:ext cx="129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8"/>
          <p:cNvSpPr txBox="1"/>
          <p:nvPr/>
        </p:nvSpPr>
        <p:spPr>
          <a:xfrm>
            <a:off x="395280" y="3068640"/>
            <a:ext cx="83534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победой!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4"/>
          <p:cNvSpPr txBox="1"/>
          <p:nvPr/>
        </p:nvSpPr>
        <p:spPr>
          <a:xfrm>
            <a:off x="684360" y="907920"/>
            <a:ext cx="676728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3" name="Picture 13" descr="236"/>
          <p:cNvPicPr/>
          <p:nvPr/>
        </p:nvPicPr>
        <p:blipFill>
          <a:blip r:embed="rId2"/>
          <a:stretch/>
        </p:blipFill>
        <p:spPr>
          <a:xfrm rot="21051000">
            <a:off x="2158560" y="3754080"/>
            <a:ext cx="2482920" cy="2190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238"/>
          <p:cNvPicPr/>
          <p:nvPr/>
        </p:nvPicPr>
        <p:blipFill>
          <a:blip r:embed="rId3"/>
          <a:stretch/>
        </p:blipFill>
        <p:spPr>
          <a:xfrm rot="2317800">
            <a:off x="5613120" y="3660840"/>
            <a:ext cx="14493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39640" y="907920"/>
            <a:ext cx="860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6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24000" y="404640"/>
            <a:ext cx="57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2286000" y="2071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ем бы мог работать в наши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лк из сказки «Волк и семеро козлят»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6286680" y="6000840"/>
            <a:ext cx="22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ародистом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7" descr="p2.gif"/>
          <p:cNvPicPr/>
          <p:nvPr/>
        </p:nvPicPr>
        <p:blipFill>
          <a:blip r:embed="rId2"/>
          <a:stretch/>
        </p:blipFill>
        <p:spPr>
          <a:xfrm>
            <a:off x="285840" y="2571840"/>
            <a:ext cx="18208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71680" y="285840"/>
            <a:ext cx="799272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балло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>
            <a:hlinkClick r:id="rId1" action="ppaction://hlinksldjump"/>
          </p:cNvPr>
          <p:cNvSpPr/>
          <p:nvPr/>
        </p:nvSpPr>
        <p:spPr>
          <a:xfrm>
            <a:off x="500040" y="6000840"/>
            <a:ext cx="1081080" cy="215640"/>
          </a:xfrm>
          <a:prstGeom prst="leftArrow">
            <a:avLst>
              <a:gd name="adj1" fmla="val 50000"/>
              <a:gd name="adj2" fmla="val 12533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260280"/>
            <a:ext cx="72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714920" y="60008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циальным работ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2357280" y="2071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ем бы могла работать в наши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расная Шапочк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7" descr="r2.gif"/>
          <p:cNvPicPr/>
          <p:nvPr/>
        </p:nvPicPr>
        <p:blipFill>
          <a:blip r:embed="rId2"/>
          <a:stretch/>
        </p:blipFill>
        <p:spPr>
          <a:xfrm>
            <a:off x="0" y="250020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7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000080" y="500040"/>
            <a:ext cx="72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>
            <a:hlinkClick r:id="rId1" action="ppaction://hlinksldjump"/>
          </p:cNvPr>
          <p:cNvSpPr/>
          <p:nvPr/>
        </p:nvSpPr>
        <p:spPr>
          <a:xfrm>
            <a:off x="179280" y="595008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6176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24000" y="40464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2357280" y="16430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ем бы мог работать в наши д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т Матроскин из мультфильма «Каникулы в Простоквашин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6214680" y="5143680"/>
            <a:ext cx="26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мерсан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вотново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рмер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7" descr="37R5.GIF"/>
          <p:cNvPicPr/>
          <p:nvPr/>
        </p:nvPicPr>
        <p:blipFill>
          <a:blip r:embed="rId2"/>
          <a:stretch/>
        </p:blipFill>
        <p:spPr>
          <a:xfrm>
            <a:off x="6572160" y="0"/>
            <a:ext cx="208908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0" y="0"/>
            <a:ext cx="914400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24000" y="33336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8m5"/>
          <p:cNvPicPr/>
          <p:nvPr/>
        </p:nvPicPr>
        <p:blipFill>
          <a:blip r:embed="rId1"/>
          <a:stretch/>
        </p:blipFill>
        <p:spPr>
          <a:xfrm>
            <a:off x="7236000" y="260280"/>
            <a:ext cx="16729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Григорьев Б.Т.</dc:creator>
  <dc:description/>
  <dc:language>en-US</dc:language>
  <cp:lastModifiedBy>Дмитрий Каленюк</cp:lastModifiedBy>
  <dcterms:modified xsi:type="dcterms:W3CDTF">2021-03-13T10:55:47Z</dcterms:modified>
  <cp:revision>165</cp:revision>
  <dc:subject/>
  <dc:title>Своя игра</dc:title>
</cp:coreProperties>
</file>