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8.jpeg" ContentType="image/jpeg"/>
  <Override PartName="/ppt/media/image56.gif" ContentType="image/gif"/>
  <Override PartName="/ppt/media/image16.wmf" ContentType="image/x-wmf"/>
  <Override PartName="/ppt/media/image52.wmf" ContentType="image/x-wmf"/>
  <Override PartName="/ppt/media/image50.jpeg" ContentType="image/jpeg"/>
  <Override PartName="/ppt/media/image60.png" ContentType="image/png"/>
  <Override PartName="/ppt/media/image25.gif" ContentType="image/gif"/>
  <Override PartName="/ppt/media/image28.png" ContentType="image/png"/>
  <Override PartName="/ppt/media/image53.wmf" ContentType="image/x-wmf"/>
  <Override PartName="/ppt/media/image20.gif" ContentType="image/gif"/>
  <Override PartName="/ppt/media/image57.gif" ContentType="image/gif"/>
  <Override PartName="/ppt/media/image29.png" ContentType="image/png"/>
  <Override PartName="/ppt/media/image18.png" ContentType="image/png"/>
  <Override PartName="/ppt/media/image3.gif" ContentType="image/gif"/>
  <Override PartName="/ppt/media/image63.gif" ContentType="image/gif"/>
  <Override PartName="/ppt/media/image2.gif" ContentType="image/gif"/>
  <Override PartName="/ppt/media/image62.gif" ContentType="image/gif"/>
  <Override PartName="/ppt/media/image21.png" ContentType="image/png"/>
  <Override PartName="/ppt/media/image1.jpeg" ContentType="image/jpeg"/>
  <Override PartName="/ppt/media/image15.wmf" ContentType="image/x-wmf"/>
  <Override PartName="/ppt/media/image4.gif" ContentType="image/gif"/>
  <Override PartName="/ppt/media/image34.gif" ContentType="image/gif"/>
  <Override PartName="/ppt/media/image22.gif" ContentType="image/gif"/>
  <Override PartName="/ppt/media/image59.gif" ContentType="image/gif"/>
  <Override PartName="/ppt/media/image55.wmf" ContentType="image/x-wmf"/>
  <Override PartName="/ppt/media/image61.jpeg" ContentType="image/jpeg"/>
  <Override PartName="/ppt/media/image40.png" ContentType="image/png"/>
  <Override PartName="/ppt/media/image26.png" ContentType="image/png"/>
  <Override PartName="/ppt/media/image23.gif" ContentType="image/gif"/>
  <Override PartName="/ppt/media/image27.png" ContentType="image/png"/>
  <Override PartName="/ppt/media/image24.gif" ContentType="image/gif"/>
  <Override PartName="/ppt/media/image32.jpeg" ContentType="image/jpeg"/>
  <Override PartName="/ppt/media/image17.gif" ContentType="image/gif"/>
  <Override PartName="/ppt/media/image5.gif" ContentType="image/gif"/>
  <Override PartName="/ppt/media/image8.png" ContentType="image/png"/>
  <Override PartName="/ppt/media/image35.gif" ContentType="image/gif"/>
  <Override PartName="/ppt/media/image38.png" ContentType="image/png"/>
  <Override PartName="/ppt/media/image13.png" ContentType="image/png"/>
  <Override PartName="/ppt/media/image10.gif" ContentType="image/gif"/>
  <Override PartName="/ppt/media/image47.gif" ContentType="image/gif"/>
  <Override PartName="/ppt/media/image6.gif" ContentType="image/gif"/>
  <Override PartName="/ppt/media/image9.png" ContentType="image/png"/>
  <Override PartName="/ppt/media/image46.gif" ContentType="image/gif"/>
  <Override PartName="/ppt/media/image54.wmf" ContentType="image/x-wmf"/>
  <Override PartName="/ppt/media/image14.png" ContentType="image/png"/>
  <Override PartName="/ppt/media/image11.gif" ContentType="image/gif"/>
  <Override PartName="/ppt/media/image48.gif" ContentType="image/gif"/>
  <Override PartName="/ppt/media/image19.gif" ContentType="image/gif"/>
  <Override PartName="/ppt/media/image7.gif" ContentType="image/gif"/>
  <Override PartName="/ppt/media/image37.gif" ContentType="image/gif"/>
  <Override PartName="/ppt/media/image12.gif" ContentType="image/gif"/>
  <Override PartName="/ppt/media/image49.gif" ContentType="image/gif"/>
  <Override PartName="/ppt/media/image30.png" ContentType="image/png"/>
  <Override PartName="/ppt/media/image31.png" ContentType="image/png"/>
  <Override PartName="/ppt/media/image33.png" ContentType="image/png"/>
  <Override PartName="/ppt/media/image36.png" ContentType="image/png"/>
  <Override PartName="/ppt/media/image39.gif" ContentType="image/gif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EE6B-931F-4110-93B7-22CA3C9524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8DD1-DD2E-41AB-8BD7-57ABD65228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7E69-CB92-4F2B-96D7-899FE081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100B-DE89-47B9-8BEB-D03EFE26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C4EC-EE70-4D4A-9723-ABF3744B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5BF7-1F63-47A6-8F32-56548D64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CE2A-FF8B-4638-9E62-3A95C93D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65D6-72AD-4653-85C3-6F1F017B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524E-84DF-4A56-8698-5597871C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3655-7C5C-43C3-9825-92C46FB3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FC29-9CFB-4CF4-AFC0-1381E09B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DC2E-DD1B-4BA9-A034-986BD1DD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3014-5831-4052-BDEB-BF8F667E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6C33-AA35-4BE3-B9F1-F9710BDE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B3AB-B03E-479E-A363-F5ADC153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D5CE-E0DB-4D7E-BF39-762B7FA1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3A7F-9DB4-41FA-94DF-D5EC46FE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063D-A4B1-4210-97E8-5D372D4B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405F-AA15-49C7-8F92-346D2584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2E8E4-BCFF-4B0C-8532-B87F2FAD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D57DA-D86D-4133-A67F-B6B6AF98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547BC-B584-4095-B093-3F555C07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7E557-6E2A-4289-9ED7-D8B31485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473F9-8746-40B3-8A4E-BF966BCB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81F3-6B79-40E5-B14F-3F38CEB5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68CE0-ABA1-41CF-AE96-908F4AFB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7946A-CC6B-41C5-BECE-879F89AF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09808-0F8F-4F83-A182-2E8FD277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40689-186E-4215-9203-CCB8486E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274EB-DE77-4048-8F28-331B8E3D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2EA49-3E04-45F4-BCF2-F05DA3E6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E38D3-7F21-4C74-93A3-9A407CC6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C27A-519F-412E-B87F-29C18648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45F6-B274-4C47-8ED4-04215674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CCAA-FB01-431F-B51B-CB7679F4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C2DA-1F3D-4CD7-B31F-53521360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A940-AA1B-440A-A357-AB958387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E21C-E9E7-4028-BA5F-35158497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09D2-BF12-47A8-9FD8-C9B278A9E0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4BE4-30EA-48CA-9FB5-F53E3B381FF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D708-730C-4A7B-8D8C-40BEEAD649D1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" Target="slide4.xml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.xm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.xml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4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4.xml"/><Relationship Id="rId3" Type="http://schemas.openxmlformats.org/officeDocument/2006/relationships/image" Target="../media/image18.png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slide" Target="slide28.xml"/><Relationship Id="rId6" Type="http://schemas.openxmlformats.org/officeDocument/2006/relationships/slide" Target="slide29.xml"/><Relationship Id="rId7" Type="http://schemas.openxmlformats.org/officeDocument/2006/relationships/slide" Target="slide30.xml"/><Relationship Id="rId8" Type="http://schemas.openxmlformats.org/officeDocument/2006/relationships/slide" Target="slide31.xml"/><Relationship Id="rId9" Type="http://schemas.openxmlformats.org/officeDocument/2006/relationships/slide" Target="slide32.xml"/><Relationship Id="rId10" Type="http://schemas.openxmlformats.org/officeDocument/2006/relationships/slide" Target="slide33.xml"/><Relationship Id="rId11" Type="http://schemas.openxmlformats.org/officeDocument/2006/relationships/slide" Target="slide34.xml"/><Relationship Id="rId12" Type="http://schemas.openxmlformats.org/officeDocument/2006/relationships/slide" Target="slide35.xml"/><Relationship Id="rId13" Type="http://schemas.openxmlformats.org/officeDocument/2006/relationships/slide" Target="slide36.xml"/><Relationship Id="rId14" Type="http://schemas.openxmlformats.org/officeDocument/2006/relationships/slide" Target="slide37.xml"/><Relationship Id="rId15" Type="http://schemas.openxmlformats.org/officeDocument/2006/relationships/slide" Target="slide38.xml"/><Relationship Id="rId16" Type="http://schemas.openxmlformats.org/officeDocument/2006/relationships/slide" Target="slide39.xml"/><Relationship Id="rId1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3.xml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3.xm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3.xml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3.xm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3.xml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3.xml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3.xml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3.xml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3.xml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3.xml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20.xml"/><Relationship Id="rId15" Type="http://schemas.openxmlformats.org/officeDocument/2006/relationships/slide" Target="slide21.xml"/><Relationship Id="rId16" Type="http://schemas.openxmlformats.org/officeDocument/2006/relationships/slide" Target="slide22.xml"/><Relationship Id="rId1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" Target="slide44.xml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gi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9.gi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image" Target="../media/image5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gif"/><Relationship Id="rId3" Type="http://schemas.openxmlformats.org/officeDocument/2006/relationships/image" Target="../media/image60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gif"/><Relationship Id="rId3" Type="http://schemas.openxmlformats.org/officeDocument/2006/relationships/image" Target="../media/image63.gi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7676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99"/>
          <p:cNvSpPr/>
          <p:nvPr/>
        </p:nvSpPr>
        <p:spPr>
          <a:xfrm>
            <a:off x="324000" y="616572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01"/>
          <p:cNvSpPr/>
          <p:nvPr/>
        </p:nvSpPr>
        <p:spPr>
          <a:xfrm>
            <a:off x="324000" y="6093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41"/>
          <p:cNvSpPr/>
          <p:nvPr/>
        </p:nvSpPr>
        <p:spPr>
          <a:xfrm>
            <a:off x="468360" y="0"/>
            <a:ext cx="840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cc"/>
                </a:solidFill>
                <a:latin typeface="Monotype Corsiva"/>
              </a:rPr>
              <a:t>Своя игра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43" descr="сова"/>
          <p:cNvPicPr/>
          <p:nvPr/>
        </p:nvPicPr>
        <p:blipFill>
          <a:blip r:embed="rId1"/>
          <a:stretch/>
        </p:blipFill>
        <p:spPr>
          <a:xfrm>
            <a:off x="468360" y="1844640"/>
            <a:ext cx="2135160" cy="302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44"/>
          <p:cNvSpPr/>
          <p:nvPr/>
        </p:nvSpPr>
        <p:spPr>
          <a:xfrm>
            <a:off x="5938920" y="5950080"/>
            <a:ext cx="3205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45"/>
          <p:cNvSpPr/>
          <p:nvPr/>
        </p:nvSpPr>
        <p:spPr>
          <a:xfrm>
            <a:off x="826920" y="189000"/>
            <a:ext cx="7345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46"/>
          <p:cNvSpPr/>
          <p:nvPr/>
        </p:nvSpPr>
        <p:spPr>
          <a:xfrm>
            <a:off x="2603520" y="2295360"/>
            <a:ext cx="644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«мир профессий»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49"/>
          <p:cNvSpPr/>
          <p:nvPr/>
        </p:nvSpPr>
        <p:spPr>
          <a:xfrm>
            <a:off x="3564000" y="638172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50"/>
          <p:cNvSpPr/>
          <p:nvPr/>
        </p:nvSpPr>
        <p:spPr>
          <a:xfrm>
            <a:off x="3708360" y="652464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1143000" y="1071720"/>
            <a:ext cx="7488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«От меня зависит работа целого коллектива. Эта профессия требует постоянного движения и крепких нервов. Не всегда меня знают в лицо, так как чаще встречаются с моей спиной. Назовите мою профессию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468360" y="573408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6">
            <a:hlinkClick r:id="rId1" action="ppaction://hlinksldjump"/>
          </p:cNvPr>
          <p:cNvSpPr/>
          <p:nvPr/>
        </p:nvSpPr>
        <p:spPr>
          <a:xfrm>
            <a:off x="179280" y="587700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10800"/>
                </a:moveTo>
                <a:lnTo>
                  <a:pt x="19947" y="3794"/>
                </a:lnTo>
                <a:lnTo>
                  <a:pt x="19947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50920" y="333360"/>
            <a:ext cx="3603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З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7"/>
          <p:cNvSpPr/>
          <p:nvPr/>
        </p:nvSpPr>
        <p:spPr>
          <a:xfrm>
            <a:off x="6721200" y="592920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дириж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ext Box 4" descr=""/>
          <p:cNvPicPr/>
          <p:nvPr/>
        </p:nvPicPr>
        <p:blipFill>
          <a:blip r:embed="rId2"/>
          <a:stretch/>
        </p:blipFill>
        <p:spPr>
          <a:xfrm>
            <a:off x="324000" y="401760"/>
            <a:ext cx="822240" cy="51703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1332000" y="62064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1258920" y="1052640"/>
            <a:ext cx="705816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«Счастливый случай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611280" y="573408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9">
            <a:hlinkClick r:id="rId3" action="ppaction://hlinksldjump"/>
          </p:cNvPr>
          <p:cNvSpPr/>
          <p:nvPr/>
        </p:nvSpPr>
        <p:spPr>
          <a:xfrm>
            <a:off x="324000" y="587700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13" descr="baby155"/>
          <p:cNvPicPr/>
          <p:nvPr/>
        </p:nvPicPr>
        <p:blipFill>
          <a:blip r:embed="rId4"/>
          <a:stretch/>
        </p:blipFill>
        <p:spPr>
          <a:xfrm>
            <a:off x="2987640" y="4292640"/>
            <a:ext cx="3168720" cy="2193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11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118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4"/>
          <p:cNvSpPr/>
          <p:nvPr/>
        </p:nvSpPr>
        <p:spPr>
          <a:xfrm>
            <a:off x="179280" y="476280"/>
            <a:ext cx="50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755640" y="333360"/>
            <a:ext cx="820908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ловек какой профессии должен обладать следующими качествам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имательность, ответственность, отзывчивость, общительность, терпеливость (11 бук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250920" y="580536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7">
            <a:hlinkClick r:id="rId2" action="ppaction://hlinksldjump"/>
          </p:cNvPr>
          <p:cNvSpPr/>
          <p:nvPr/>
        </p:nvSpPr>
        <p:spPr>
          <a:xfrm>
            <a:off x="250920" y="587700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4861" y="10800"/>
                </a:moveTo>
                <a:lnTo>
                  <a:pt x="18874" y="3794"/>
                </a:lnTo>
                <a:lnTo>
                  <a:pt x="1887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654280" y="547056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оспитатель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324000" y="404640"/>
            <a:ext cx="390240" cy="62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Каче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профессиона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Рисунок 7" descr="BALLOON4.GIF"/>
          <p:cNvPicPr/>
          <p:nvPr/>
        </p:nvPicPr>
        <p:blipFill>
          <a:blip r:embed="rId3"/>
          <a:stretch/>
        </p:blipFill>
        <p:spPr>
          <a:xfrm>
            <a:off x="8143920" y="1714680"/>
            <a:ext cx="485640" cy="2838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250920" y="476280"/>
            <a:ext cx="43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971640" y="692280"/>
            <a:ext cx="7848360" cy="57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ловек какой профессии должен обладать следующими качествам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рошая физическая выносливость, тренированность, честность, принципиальность, коммуникабельность, устойчивость к стрессу, собранность (10 бук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395280" y="5516640"/>
            <a:ext cx="12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7">
            <a:hlinkClick r:id="rId2" action="ppaction://hlinksldjump"/>
          </p:cNvPr>
          <p:cNvSpPr/>
          <p:nvPr/>
        </p:nvSpPr>
        <p:spPr>
          <a:xfrm>
            <a:off x="250920" y="5950080"/>
            <a:ext cx="863640" cy="649080"/>
          </a:xfrm>
          <a:custGeom>
            <a:avLst/>
            <a:gdLst>
              <a:gd name="textAreaLeft" fmla="*/ 41760 w 863640"/>
              <a:gd name="textAreaRight" fmla="*/ 821880 w 863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8736" h="21600">
                <a:moveTo>
                  <a:pt x="0" y="0"/>
                </a:moveTo>
                <a:lnTo>
                  <a:pt x="28736" y="0"/>
                </a:lnTo>
                <a:lnTo>
                  <a:pt x="28736" y="21600"/>
                </a:lnTo>
                <a:lnTo>
                  <a:pt x="0" y="21600"/>
                </a:lnTo>
                <a:close/>
              </a:path>
              <a:path fill="lightenLess" w="28736" h="21600">
                <a:moveTo>
                  <a:pt x="0" y="0"/>
                </a:moveTo>
                <a:lnTo>
                  <a:pt x="28736" y="0"/>
                </a:lnTo>
                <a:lnTo>
                  <a:pt x="27336" y="1400"/>
                </a:lnTo>
                <a:lnTo>
                  <a:pt x="1400" y="1400"/>
                </a:lnTo>
                <a:close/>
              </a:path>
              <a:path fill="darken" w="28736" h="21600">
                <a:moveTo>
                  <a:pt x="28736" y="0"/>
                </a:moveTo>
                <a:lnTo>
                  <a:pt x="28736" y="21600"/>
                </a:lnTo>
                <a:lnTo>
                  <a:pt x="27336" y="20200"/>
                </a:lnTo>
                <a:lnTo>
                  <a:pt x="27336" y="1400"/>
                </a:lnTo>
                <a:close/>
              </a:path>
              <a:path fill="darkenLess" w="28736" h="21600">
                <a:moveTo>
                  <a:pt x="28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36" y="20200"/>
                </a:lnTo>
                <a:close/>
              </a:path>
              <a:path fill="lighten" w="28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36" h="21600">
                <a:moveTo>
                  <a:pt x="7362" y="10800"/>
                </a:moveTo>
                <a:lnTo>
                  <a:pt x="21375" y="3794"/>
                </a:lnTo>
                <a:lnTo>
                  <a:pt x="21375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3708360" y="573408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илиционер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324000" y="404640"/>
            <a:ext cx="360360" cy="58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Каче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профессионал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250920" y="476280"/>
            <a:ext cx="50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971640" y="69228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143000" y="1857240"/>
            <a:ext cx="727236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ловек какой профессии должен обладать следующими качествам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куратность, ответственность, сосредоточенность, усидчивость, способность к монотонной работе, внимательность (9 бук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395280" y="551664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8">
            <a:hlinkClick r:id="rId2" action="ppaction://hlinksldjump"/>
          </p:cNvPr>
          <p:cNvSpPr/>
          <p:nvPr/>
        </p:nvSpPr>
        <p:spPr>
          <a:xfrm>
            <a:off x="250920" y="58053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  <a:path fill="darken" w="21600" h="21611">
                <a:moveTo>
                  <a:pt x="3794" y="10805"/>
                </a:moveTo>
                <a:lnTo>
                  <a:pt x="17806" y="3799"/>
                </a:lnTo>
                <a:lnTo>
                  <a:pt x="17806" y="17812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1857240" y="585792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Бухгалте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11" descr="chud026"/>
          <p:cNvPicPr/>
          <p:nvPr/>
        </p:nvPicPr>
        <p:blipFill>
          <a:blip r:embed="rId3"/>
          <a:stretch/>
        </p:blipFill>
        <p:spPr>
          <a:xfrm>
            <a:off x="7174080" y="333360"/>
            <a:ext cx="1739880" cy="1800360"/>
          </a:xfrm>
          <a:prstGeom prst="rect">
            <a:avLst/>
          </a:prstGeom>
          <a:ln w="0">
            <a:noFill/>
          </a:ln>
        </p:spPr>
      </p:pic>
      <p:pic>
        <p:nvPicPr>
          <p:cNvPr id="248" name="Text Box 12" descr=""/>
          <p:cNvPicPr/>
          <p:nvPr/>
        </p:nvPicPr>
        <p:blipFill>
          <a:blip r:embed="rId4"/>
          <a:stretch/>
        </p:blipFill>
        <p:spPr>
          <a:xfrm>
            <a:off x="324000" y="426960"/>
            <a:ext cx="822240" cy="5145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179280" y="404640"/>
            <a:ext cx="72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971640" y="476280"/>
            <a:ext cx="77040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ловек какой профессии должен обладать следующими качествам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туиция, наблюдательность, эмоциональная устойчивость, коммуникативные способ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4 букв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395280" y="537372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7">
            <a:hlinkClick r:id="rId2" action="ppaction://hlinksldjump"/>
          </p:cNvPr>
          <p:cNvSpPr/>
          <p:nvPr/>
        </p:nvSpPr>
        <p:spPr>
          <a:xfrm>
            <a:off x="324000" y="5950080"/>
            <a:ext cx="792000" cy="64908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53" h="21600">
                <a:moveTo>
                  <a:pt x="0" y="0"/>
                </a:moveTo>
                <a:lnTo>
                  <a:pt x="26353" y="0"/>
                </a:lnTo>
                <a:lnTo>
                  <a:pt x="26353" y="21600"/>
                </a:lnTo>
                <a:lnTo>
                  <a:pt x="0" y="21600"/>
                </a:lnTo>
                <a:close/>
              </a:path>
              <a:path fill="lightenLess" w="26353" h="21600">
                <a:moveTo>
                  <a:pt x="0" y="0"/>
                </a:moveTo>
                <a:lnTo>
                  <a:pt x="26353" y="0"/>
                </a:lnTo>
                <a:lnTo>
                  <a:pt x="24953" y="1400"/>
                </a:lnTo>
                <a:lnTo>
                  <a:pt x="1400" y="1400"/>
                </a:lnTo>
                <a:close/>
              </a:path>
              <a:path fill="darken" w="26353" h="21600">
                <a:moveTo>
                  <a:pt x="26353" y="0"/>
                </a:moveTo>
                <a:lnTo>
                  <a:pt x="26353" y="21600"/>
                </a:lnTo>
                <a:lnTo>
                  <a:pt x="24953" y="20200"/>
                </a:lnTo>
                <a:lnTo>
                  <a:pt x="24953" y="1400"/>
                </a:lnTo>
                <a:close/>
              </a:path>
              <a:path fill="darkenLess" w="26353" h="21600">
                <a:moveTo>
                  <a:pt x="26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53" y="20200"/>
                </a:lnTo>
                <a:close/>
              </a:path>
              <a:path fill="lighten" w="26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53" h="21600">
                <a:moveTo>
                  <a:pt x="6170" y="10800"/>
                </a:moveTo>
                <a:lnTo>
                  <a:pt x="20183" y="3794"/>
                </a:lnTo>
                <a:lnTo>
                  <a:pt x="20183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5240160" y="54291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Monotype Corsiva"/>
              </a:rPr>
              <a:t>Врач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Text Box 9" descr=""/>
          <p:cNvPicPr/>
          <p:nvPr/>
        </p:nvPicPr>
        <p:blipFill>
          <a:blip r:embed="rId3"/>
          <a:stretch/>
        </p:blipFill>
        <p:spPr>
          <a:xfrm>
            <a:off x="324000" y="401760"/>
            <a:ext cx="822240" cy="5383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5"/>
          <p:cNvSpPr/>
          <p:nvPr/>
        </p:nvSpPr>
        <p:spPr>
          <a:xfrm>
            <a:off x="250920" y="260280"/>
            <a:ext cx="49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Риф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785880" y="0"/>
            <a:ext cx="7921440" cy="68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 балл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На свете много ……….. разных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И все они людям нужн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От самых простых и до самых важных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Все они в жизни важ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Вот, например, профессия ……..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Как жили люди без нее на свет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Врачи нужны повсюду и всегд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Arial"/>
              </a:rPr>
              <a:t>Чтоб росли здоровенькими де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24000" y="57340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8">
            <a:hlinkClick r:id="rId1" action="ppaction://hlinksldjump"/>
          </p:cNvPr>
          <p:cNvSpPr/>
          <p:nvPr/>
        </p:nvSpPr>
        <p:spPr>
          <a:xfrm>
            <a:off x="250920" y="5805360"/>
            <a:ext cx="865080" cy="720720"/>
          </a:xfrm>
          <a:custGeom>
            <a:avLst/>
            <a:gdLst>
              <a:gd name="textAreaLeft" fmla="*/ 46440 w 865080"/>
              <a:gd name="textAreaRight" fmla="*/ 818640 w 865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3714840" y="564372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Georgia"/>
              </a:rPr>
              <a:t>Профессий, врач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Рисунок 6" descr="j0440424.wmf"/>
          <p:cNvPicPr/>
          <p:nvPr/>
        </p:nvPicPr>
        <p:blipFill>
          <a:blip r:embed="rId2"/>
          <a:stretch/>
        </p:blipFill>
        <p:spPr>
          <a:xfrm>
            <a:off x="7000920" y="357120"/>
            <a:ext cx="1827000" cy="15066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6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214200" y="3571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иф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900000" y="1125360"/>
            <a:ext cx="7848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 бал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вери, птицы, все кто …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 здоровьем не доволе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с зовет ……………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евяжет, даст отв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24000" y="573408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7">
            <a:hlinkClick r:id="rId1" action="ppaction://hlinksldjump"/>
          </p:cNvPr>
          <p:cNvSpPr/>
          <p:nvPr/>
        </p:nvSpPr>
        <p:spPr>
          <a:xfrm>
            <a:off x="250920" y="580536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4861" y="10800"/>
                </a:moveTo>
                <a:lnTo>
                  <a:pt x="18874" y="3794"/>
                </a:lnTo>
                <a:lnTo>
                  <a:pt x="1887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4786200" y="571500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Georgia"/>
              </a:rPr>
              <a:t>Болен, ветерина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Рисунок 6" descr="j0430009.wmf"/>
          <p:cNvPicPr/>
          <p:nvPr/>
        </p:nvPicPr>
        <p:blipFill>
          <a:blip r:embed="rId2"/>
          <a:stretch/>
        </p:blipFill>
        <p:spPr>
          <a:xfrm>
            <a:off x="7286760" y="714240"/>
            <a:ext cx="1672920" cy="1854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5"/>
          <p:cNvSpPr/>
          <p:nvPr/>
        </p:nvSpPr>
        <p:spPr>
          <a:xfrm>
            <a:off x="928800" y="928800"/>
            <a:ext cx="799308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Arial"/>
              </a:rPr>
              <a:t>«Музыкальный экспромт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24000" y="602136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11" descr="cow"/>
          <p:cNvPicPr/>
          <p:nvPr/>
        </p:nvPicPr>
        <p:blipFill>
          <a:blip r:embed="rId1"/>
          <a:stretch/>
        </p:blipFill>
        <p:spPr>
          <a:xfrm>
            <a:off x="3924360" y="2997360"/>
            <a:ext cx="2592360" cy="33573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2"/>
          <p:cNvSpPr/>
          <p:nvPr/>
        </p:nvSpPr>
        <p:spPr>
          <a:xfrm>
            <a:off x="468360" y="580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13">
            <a:hlinkClick r:id="" action="ppaction://hlinkshowjump?jump=nextslide"/>
          </p:cNvPr>
          <p:cNvSpPr/>
          <p:nvPr/>
        </p:nvSpPr>
        <p:spPr>
          <a:xfrm>
            <a:off x="324000" y="5950080"/>
            <a:ext cx="576000" cy="57600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оугольник 7"/>
          <p:cNvSpPr/>
          <p:nvPr/>
        </p:nvSpPr>
        <p:spPr>
          <a:xfrm>
            <a:off x="218520" y="35712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иф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14" descr="37R5.GIF"/>
          <p:cNvPicPr/>
          <p:nvPr/>
        </p:nvPicPr>
        <p:blipFill>
          <a:blip r:embed="rId1"/>
          <a:stretch/>
        </p:blipFill>
        <p:spPr>
          <a:xfrm>
            <a:off x="3286080" y="0"/>
            <a:ext cx="2735280" cy="185724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3"/>
          <p:cNvSpPr/>
          <p:nvPr/>
        </p:nvSpPr>
        <p:spPr>
          <a:xfrm>
            <a:off x="714240" y="-528480"/>
            <a:ext cx="8172720" cy="82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 баллов.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Не кочегары мы, не плотник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Но сожалений горьких нет, как н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А мы монтажники, высотники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И с высоты вам шлем прив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Трепал нам кудри ветер высот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И целовали облака слег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На высоту такую милая т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            </a:t>
            </a: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Уж не посмотришь с высо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324000" y="6021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468360" y="580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50920" y="6021360"/>
            <a:ext cx="93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324000" y="60930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11">
            <a:hlinkClick r:id="rId2" action="ppaction://hlinksldjump"/>
          </p:cNvPr>
          <p:cNvSpPr/>
          <p:nvPr/>
        </p:nvSpPr>
        <p:spPr>
          <a:xfrm>
            <a:off x="17928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7577640" y="428760"/>
            <a:ext cx="15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Рифм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n.ribnikov_-_ne_kochegari_mi_ne_plotniki_iz_k.f._visota.mp3" descr=""/>
          <p:cNvPicPr/>
          <p:nvPr/>
        </p:nvPicPr>
        <p:blipFill>
          <a:blip r:embed="rId3"/>
          <a:stretch/>
        </p:blipFill>
        <p:spPr>
          <a:xfrm>
            <a:off x="8572680" y="6357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1" descr="53R2.GIF"/>
          <p:cNvPicPr/>
          <p:nvPr/>
        </p:nvPicPr>
        <p:blipFill>
          <a:blip r:embed="rId4"/>
          <a:stretch/>
        </p:blipFill>
        <p:spPr>
          <a:xfrm>
            <a:off x="-357120" y="714240"/>
            <a:ext cx="2500200" cy="542952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3" descr="HOUSE7.GIF"/>
          <p:cNvPicPr/>
          <p:nvPr/>
        </p:nvPicPr>
        <p:blipFill>
          <a:blip r:embed="rId5"/>
          <a:stretch/>
        </p:blipFill>
        <p:spPr>
          <a:xfrm>
            <a:off x="7072200" y="4429080"/>
            <a:ext cx="2071800" cy="2071800"/>
          </a:xfrm>
          <a:prstGeom prst="rect">
            <a:avLst/>
          </a:prstGeom>
          <a:ln w="0">
            <a:noFill/>
          </a:ln>
        </p:spPr>
      </p:pic>
      <p:sp>
        <p:nvSpPr>
          <p:cNvPr id="284" name="TextBox 1"/>
          <p:cNvSpPr/>
          <p:nvPr/>
        </p:nvSpPr>
        <p:spPr>
          <a:xfrm>
            <a:off x="2143080" y="6499080"/>
            <a:ext cx="31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лётч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23264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2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324000" y="616572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24000" y="6093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0" y="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Вопросы – </a:t>
            </a:r>
            <a:r>
              <a:rPr b="1" lang="ru-RU" sz="3200" spc="-1" strike="noStrike">
                <a:solidFill>
                  <a:srgbClr val="cc0000"/>
                </a:solidFill>
                <a:latin typeface="Monotype Corsiva"/>
              </a:rPr>
              <a:t>сюрпризы</a:t>
            </a:r>
            <a:r>
              <a:rPr b="1" lang="ru-RU" sz="3200" spc="-1" strike="noStrike">
                <a:solidFill>
                  <a:srgbClr val="80008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Счастливый случай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- команда получает число балло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указанных в данном вопро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Несчастный случай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- команда штрафуется на указан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количество бал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Кот в мешке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- вопрос можно отдать команде – соперни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Вопрос-аукцион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- одна команда может перекупить 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другой вопрос, назначив более высокую цен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Своя игра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- команда имеет право уменьшить или увели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чить число баллов за вопр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</a:rPr>
              <a:t>Музыкальный экспромт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»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- команда может взять помощ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за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4"/>
          <p:cNvSpPr/>
          <p:nvPr/>
        </p:nvSpPr>
        <p:spPr>
          <a:xfrm>
            <a:off x="250920" y="333360"/>
            <a:ext cx="3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971640" y="765000"/>
            <a:ext cx="77770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Arial"/>
              </a:rPr>
              <a:t>Если вы в беду попал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Arial"/>
              </a:rPr>
              <a:t>Телефон …… набрал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Arial"/>
              </a:rPr>
              <a:t>К вам ………….. придё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cc"/>
                </a:solidFill>
                <a:latin typeface="Arial"/>
              </a:rPr>
              <a:t>Всем поможет, всех спасё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95280" y="573408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8">
            <a:hlinkClick r:id="rId1" action="ppaction://hlinksldjump"/>
          </p:cNvPr>
          <p:cNvSpPr/>
          <p:nvPr/>
        </p:nvSpPr>
        <p:spPr>
          <a:xfrm>
            <a:off x="324000" y="587700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4861" y="10800"/>
                </a:moveTo>
                <a:lnTo>
                  <a:pt x="18874" y="3794"/>
                </a:lnTo>
                <a:lnTo>
                  <a:pt x="1887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3995640" y="551664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Georgia"/>
              </a:rPr>
              <a:t>02, милици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Прямоугольник 7"/>
          <p:cNvSpPr/>
          <p:nvPr/>
        </p:nvSpPr>
        <p:spPr>
          <a:xfrm>
            <a:off x="218520" y="2142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иф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Рисунок 7" descr="j0434864.gif"/>
          <p:cNvPicPr/>
          <p:nvPr/>
        </p:nvPicPr>
        <p:blipFill>
          <a:blip r:embed="rId2"/>
          <a:stretch/>
        </p:blipFill>
        <p:spPr>
          <a:xfrm>
            <a:off x="7358040" y="285840"/>
            <a:ext cx="150012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6"/>
          <p:cNvSpPr/>
          <p:nvPr/>
        </p:nvSpPr>
        <p:spPr>
          <a:xfrm>
            <a:off x="611280" y="189000"/>
            <a:ext cx="7704000" cy="53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0 бал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Вопрос - аукцион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. Я грузы кранами вожу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В высокой будке я ……..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Я не привык ходить пешко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Меня зовут ………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324000" y="5950080"/>
            <a:ext cx="28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8">
            <a:hlinkClick r:id="rId1" action="ppaction://hlinksldjump"/>
          </p:cNvPr>
          <p:cNvSpPr/>
          <p:nvPr/>
        </p:nvSpPr>
        <p:spPr>
          <a:xfrm>
            <a:off x="250920" y="5877000"/>
            <a:ext cx="792000" cy="7189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795" h="21600">
                <a:moveTo>
                  <a:pt x="0" y="0"/>
                </a:moveTo>
                <a:lnTo>
                  <a:pt x="23795" y="0"/>
                </a:lnTo>
                <a:lnTo>
                  <a:pt x="23795" y="21600"/>
                </a:lnTo>
                <a:lnTo>
                  <a:pt x="0" y="21600"/>
                </a:lnTo>
                <a:close/>
              </a:path>
              <a:path fill="lightenLess" w="23795" h="21600">
                <a:moveTo>
                  <a:pt x="0" y="0"/>
                </a:moveTo>
                <a:lnTo>
                  <a:pt x="23795" y="0"/>
                </a:lnTo>
                <a:lnTo>
                  <a:pt x="22395" y="1400"/>
                </a:lnTo>
                <a:lnTo>
                  <a:pt x="1400" y="1400"/>
                </a:lnTo>
                <a:close/>
              </a:path>
              <a:path fill="darken" w="23795" h="21600">
                <a:moveTo>
                  <a:pt x="23795" y="0"/>
                </a:moveTo>
                <a:lnTo>
                  <a:pt x="23795" y="21600"/>
                </a:lnTo>
                <a:lnTo>
                  <a:pt x="22395" y="20200"/>
                </a:lnTo>
                <a:lnTo>
                  <a:pt x="22395" y="1400"/>
                </a:lnTo>
                <a:close/>
              </a:path>
              <a:path fill="darkenLess" w="23795" h="21600">
                <a:moveTo>
                  <a:pt x="23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95" y="20200"/>
                </a:lnTo>
                <a:close/>
              </a:path>
              <a:path fill="lighten" w="23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95" h="21600">
                <a:moveTo>
                  <a:pt x="4891" y="10800"/>
                </a:moveTo>
                <a:lnTo>
                  <a:pt x="18904" y="3794"/>
                </a:lnTo>
                <a:lnTo>
                  <a:pt x="1890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3780000" y="5589720"/>
            <a:ext cx="475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Сижу, крановщиком  </a:t>
            </a:r>
            <a:r>
              <a:rPr b="1" lang="ru-RU" sz="3200" spc="-1" strike="noStrike">
                <a:solidFill>
                  <a:srgbClr val="cc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13" descr="28"/>
          <p:cNvPicPr/>
          <p:nvPr/>
        </p:nvPicPr>
        <p:blipFill>
          <a:blip r:embed="rId2"/>
          <a:stretch/>
        </p:blipFill>
        <p:spPr>
          <a:xfrm>
            <a:off x="6715080" y="214200"/>
            <a:ext cx="1986120" cy="2448000"/>
          </a:xfrm>
          <a:prstGeom prst="rect">
            <a:avLst/>
          </a:prstGeom>
          <a:ln w="0">
            <a:noFill/>
          </a:ln>
        </p:spPr>
      </p:pic>
      <p:sp>
        <p:nvSpPr>
          <p:cNvPr id="297" name="Прямоугольник 8"/>
          <p:cNvSpPr/>
          <p:nvPr/>
        </p:nvSpPr>
        <p:spPr>
          <a:xfrm>
            <a:off x="147240" y="21420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Риф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843280"/>
                <a:gridCol w="1224000"/>
                <a:gridCol w="1296720"/>
                <a:gridCol w="1224000"/>
                <a:gridCol w="1297080"/>
                <a:gridCol w="125892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Text Box 118"/>
          <p:cNvSpPr/>
          <p:nvPr/>
        </p:nvSpPr>
        <p:spPr>
          <a:xfrm>
            <a:off x="1692360" y="0"/>
            <a:ext cx="547200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3300"/>
                </a:solidFill>
                <a:latin typeface="Monotype Corsiva"/>
              </a:rPr>
              <a:t>2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Monotype Corsiva"/>
              </a:rPr>
              <a:t>РАУН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19"/>
          <p:cNvSpPr/>
          <p:nvPr/>
        </p:nvSpPr>
        <p:spPr>
          <a:xfrm>
            <a:off x="395280" y="5445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120">
            <a:hlinkClick r:id="" action="ppaction://hlinkshowjump?jump=nextslide"/>
          </p:cNvPr>
          <p:cNvSpPr/>
          <p:nvPr/>
        </p:nvSpPr>
        <p:spPr>
          <a:xfrm>
            <a:off x="8001000" y="600084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6505" y="3794"/>
                </a:moveTo>
                <a:lnTo>
                  <a:pt x="20518" y="10800"/>
                </a:lnTo>
                <a:lnTo>
                  <a:pt x="6505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21"/>
          <p:cNvSpPr/>
          <p:nvPr/>
        </p:nvSpPr>
        <p:spPr>
          <a:xfrm>
            <a:off x="539640" y="2492280"/>
            <a:ext cx="813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00cc"/>
                </a:solidFill>
                <a:latin typeface="Arial"/>
              </a:rPr>
              <a:t>«Всякая работа мастера хвалит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Рисунок 6" descr="61R2.GIF"/>
          <p:cNvPicPr/>
          <p:nvPr/>
        </p:nvPicPr>
        <p:blipFill>
          <a:blip r:embed="rId1"/>
          <a:stretch/>
        </p:blipFill>
        <p:spPr>
          <a:xfrm>
            <a:off x="285840" y="464328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d293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843280"/>
                <a:gridCol w="1224000"/>
                <a:gridCol w="1296720"/>
                <a:gridCol w="1224000"/>
                <a:gridCol w="1297080"/>
                <a:gridCol w="1258920"/>
              </a:tblGrid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Пословиц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5c1f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22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Распознай-к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228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Анаграмм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6600"/>
                      </a:solidFill>
                    </a:lnL>
                    <a:lnR w="28080">
                      <a:solidFill>
                        <a:srgbClr val="006600"/>
                      </a:solidFill>
                    </a:lnR>
                    <a:lnT w="28080">
                      <a:solidFill>
                        <a:srgbClr val="006600"/>
                      </a:solidFill>
                    </a:lnT>
                    <a:lnB w="2808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5" name="Text Box 199"/>
          <p:cNvSpPr/>
          <p:nvPr/>
        </p:nvSpPr>
        <p:spPr>
          <a:xfrm>
            <a:off x="179280" y="60930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200">
            <a:hlinkClick r:id="rId16" action="ppaction://hlinksldjump"/>
          </p:cNvPr>
          <p:cNvSpPr/>
          <p:nvPr/>
        </p:nvSpPr>
        <p:spPr>
          <a:xfrm>
            <a:off x="250920" y="6093000"/>
            <a:ext cx="649080" cy="576000"/>
          </a:xfrm>
          <a:custGeom>
            <a:avLst/>
            <a:gdLst/>
            <a:ahLst/>
            <a:rect l="l" t="t" r="r" b="b"/>
            <a:pathLst>
              <a:path w="649288" h="576263">
                <a:moveTo>
                  <a:pt x="1" y="220112"/>
                </a:moveTo>
                <a:lnTo>
                  <a:pt x="248007" y="220114"/>
                </a:lnTo>
                <a:lnTo>
                  <a:pt x="324644" y="0"/>
                </a:lnTo>
                <a:lnTo>
                  <a:pt x="401281" y="220114"/>
                </a:lnTo>
                <a:lnTo>
                  <a:pt x="649287" y="220112"/>
                </a:lnTo>
                <a:lnTo>
                  <a:pt x="448645" y="356149"/>
                </a:lnTo>
                <a:lnTo>
                  <a:pt x="525285" y="576262"/>
                </a:lnTo>
                <a:lnTo>
                  <a:pt x="324644" y="440223"/>
                </a:lnTo>
                <a:lnTo>
                  <a:pt x="124003" y="576262"/>
                </a:lnTo>
                <a:lnTo>
                  <a:pt x="200643" y="356149"/>
                </a:lnTo>
                <a:lnTo>
                  <a:pt x="1" y="220112"/>
                </a:lnTo>
                <a:close/>
              </a:path>
            </a:pathLst>
          </a:cu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5"/>
          <p:cNvSpPr/>
          <p:nvPr/>
        </p:nvSpPr>
        <p:spPr>
          <a:xfrm>
            <a:off x="1116000" y="260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Пословиц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250920" y="1268280"/>
            <a:ext cx="8713800" cy="24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5050"/>
                </a:solidFill>
                <a:latin typeface="Arial"/>
              </a:rPr>
              <a:t>Глазам страшно, а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250920" y="573408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9">
            <a:hlinkClick r:id="rId2" action="ppaction://hlinksldjump"/>
          </p:cNvPr>
          <p:cNvSpPr/>
          <p:nvPr/>
        </p:nvSpPr>
        <p:spPr>
          <a:xfrm>
            <a:off x="250920" y="5877000"/>
            <a:ext cx="718920" cy="7207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54">
                <a:moveTo>
                  <a:pt x="0" y="0"/>
                </a:moveTo>
                <a:lnTo>
                  <a:pt x="21600" y="0"/>
                </a:lnTo>
                <a:lnTo>
                  <a:pt x="21600" y="21654"/>
                </a:lnTo>
                <a:lnTo>
                  <a:pt x="0" y="21654"/>
                </a:lnTo>
                <a:close/>
              </a:path>
              <a:path fill="lightenLess" w="21600" h="216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4">
                <a:moveTo>
                  <a:pt x="21600" y="0"/>
                </a:moveTo>
                <a:lnTo>
                  <a:pt x="21600" y="21654"/>
                </a:lnTo>
                <a:lnTo>
                  <a:pt x="20200" y="20254"/>
                </a:lnTo>
                <a:lnTo>
                  <a:pt x="20200" y="1400"/>
                </a:lnTo>
                <a:close/>
              </a:path>
              <a:path fill="darkenLess" w="21600" h="21654">
                <a:moveTo>
                  <a:pt x="21600" y="21654"/>
                </a:moveTo>
                <a:lnTo>
                  <a:pt x="0" y="21654"/>
                </a:lnTo>
                <a:lnTo>
                  <a:pt x="1400" y="20254"/>
                </a:lnTo>
                <a:lnTo>
                  <a:pt x="20200" y="20254"/>
                </a:lnTo>
                <a:close/>
              </a:path>
              <a:path fill="lighten" w="21600" h="21654">
                <a:moveTo>
                  <a:pt x="0" y="216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4"/>
                </a:lnTo>
                <a:close/>
              </a:path>
              <a:path fill="darken" w="21600" h="21654">
                <a:moveTo>
                  <a:pt x="7301" y="10827"/>
                </a:moveTo>
                <a:lnTo>
                  <a:pt x="17806" y="3821"/>
                </a:lnTo>
                <a:lnTo>
                  <a:pt x="17806" y="17834"/>
                </a:lnTo>
                <a:close/>
              </a:path>
              <a:path fill="darken" w="21600" h="21654">
                <a:moveTo>
                  <a:pt x="3794" y="3821"/>
                </a:moveTo>
                <a:lnTo>
                  <a:pt x="5456" y="3821"/>
                </a:lnTo>
                <a:lnTo>
                  <a:pt x="5456" y="17834"/>
                </a:lnTo>
                <a:lnTo>
                  <a:pt x="3794" y="17834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2627280" y="573408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Руки сделаю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Рисунок 6" descr="nature33.gif"/>
          <p:cNvPicPr/>
          <p:nvPr/>
        </p:nvPicPr>
        <p:blipFill>
          <a:blip r:embed="rId3"/>
          <a:stretch/>
        </p:blipFill>
        <p:spPr>
          <a:xfrm>
            <a:off x="7072200" y="642960"/>
            <a:ext cx="1285920" cy="1671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4"/>
          <p:cNvSpPr/>
          <p:nvPr/>
        </p:nvSpPr>
        <p:spPr>
          <a:xfrm>
            <a:off x="324000" y="333360"/>
            <a:ext cx="842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Пословиц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0" y="1268280"/>
            <a:ext cx="8964720" cy="24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5050"/>
                </a:solidFill>
                <a:latin typeface="Arial"/>
              </a:rPr>
              <a:t>Какие труды, 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324000" y="580536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8">
            <a:hlinkClick r:id="rId2" action="ppaction://hlinksldjump"/>
          </p:cNvPr>
          <p:cNvSpPr/>
          <p:nvPr/>
        </p:nvSpPr>
        <p:spPr>
          <a:xfrm>
            <a:off x="250920" y="59500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2448000" y="59500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Такие и плод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4103640" y="5940360"/>
            <a:ext cx="504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Рисунок 7" descr="BALLOON4.GIF"/>
          <p:cNvPicPr/>
          <p:nvPr/>
        </p:nvPicPr>
        <p:blipFill>
          <a:blip r:embed="rId3"/>
          <a:stretch/>
        </p:blipFill>
        <p:spPr>
          <a:xfrm>
            <a:off x="7358040" y="2214720"/>
            <a:ext cx="485640" cy="2838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4"/>
          <p:cNvSpPr/>
          <p:nvPr/>
        </p:nvSpPr>
        <p:spPr>
          <a:xfrm>
            <a:off x="324000" y="333360"/>
            <a:ext cx="820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Пословиц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395280" y="1197000"/>
            <a:ext cx="842472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«Несчастный случай»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250920" y="5445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7">
            <a:hlinkClick r:id="rId2" action="ppaction://hlinksldjump"/>
          </p:cNvPr>
          <p:cNvSpPr/>
          <p:nvPr/>
        </p:nvSpPr>
        <p:spPr>
          <a:xfrm>
            <a:off x="250920" y="595008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9707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  <a:path fill="darken" w="26412" h="21600">
                <a:moveTo>
                  <a:pt x="6200" y="3794"/>
                </a:moveTo>
                <a:lnTo>
                  <a:pt x="7862" y="3794"/>
                </a:lnTo>
                <a:lnTo>
                  <a:pt x="7862" y="17806"/>
                </a:lnTo>
                <a:lnTo>
                  <a:pt x="6200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9" descr="baby94"/>
          <p:cNvPicPr/>
          <p:nvPr/>
        </p:nvPicPr>
        <p:blipFill>
          <a:blip r:embed="rId3"/>
          <a:stretch/>
        </p:blipFill>
        <p:spPr>
          <a:xfrm>
            <a:off x="3635280" y="4221000"/>
            <a:ext cx="2200320" cy="2427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4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3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5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4"/>
          <p:cNvSpPr/>
          <p:nvPr/>
        </p:nvSpPr>
        <p:spPr>
          <a:xfrm>
            <a:off x="1692360" y="40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324000" y="404640"/>
            <a:ext cx="835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Пословиц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179280" y="1268280"/>
            <a:ext cx="8713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99"/>
                </a:solidFill>
                <a:latin typeface="Arial"/>
              </a:rPr>
              <a:t>Землю красит солнце, 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324000" y="566100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8">
            <a:hlinkClick r:id="rId2" action="ppaction://hlinksldjump"/>
          </p:cNvPr>
          <p:cNvSpPr/>
          <p:nvPr/>
        </p:nvSpPr>
        <p:spPr>
          <a:xfrm>
            <a:off x="250920" y="6021360"/>
            <a:ext cx="718920" cy="5763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6939" h="21600">
                <a:moveTo>
                  <a:pt x="0" y="0"/>
                </a:moveTo>
                <a:lnTo>
                  <a:pt x="26939" y="0"/>
                </a:lnTo>
                <a:lnTo>
                  <a:pt x="26939" y="21600"/>
                </a:lnTo>
                <a:lnTo>
                  <a:pt x="0" y="21600"/>
                </a:lnTo>
                <a:close/>
              </a:path>
              <a:path fill="lightenLess" w="26939" h="21600">
                <a:moveTo>
                  <a:pt x="0" y="0"/>
                </a:moveTo>
                <a:lnTo>
                  <a:pt x="26939" y="0"/>
                </a:lnTo>
                <a:lnTo>
                  <a:pt x="25539" y="1400"/>
                </a:lnTo>
                <a:lnTo>
                  <a:pt x="1400" y="1400"/>
                </a:lnTo>
                <a:close/>
              </a:path>
              <a:path fill="darken" w="26939" h="21600">
                <a:moveTo>
                  <a:pt x="26939" y="0"/>
                </a:moveTo>
                <a:lnTo>
                  <a:pt x="26939" y="21600"/>
                </a:lnTo>
                <a:lnTo>
                  <a:pt x="25539" y="20200"/>
                </a:lnTo>
                <a:lnTo>
                  <a:pt x="25539" y="1400"/>
                </a:lnTo>
                <a:close/>
              </a:path>
              <a:path fill="darkenLess" w="26939" h="21600">
                <a:moveTo>
                  <a:pt x="269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9" y="20200"/>
                </a:lnTo>
                <a:close/>
              </a:path>
              <a:path fill="lighten" w="269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9" h="21600">
                <a:moveTo>
                  <a:pt x="9971" y="10800"/>
                </a:moveTo>
                <a:lnTo>
                  <a:pt x="20476" y="3794"/>
                </a:lnTo>
                <a:lnTo>
                  <a:pt x="20476" y="17806"/>
                </a:lnTo>
                <a:close/>
              </a:path>
              <a:path fill="darken" w="26939" h="21600">
                <a:moveTo>
                  <a:pt x="6463" y="3794"/>
                </a:moveTo>
                <a:lnTo>
                  <a:pt x="8126" y="3794"/>
                </a:lnTo>
                <a:lnTo>
                  <a:pt x="8126" y="17806"/>
                </a:lnTo>
                <a:lnTo>
                  <a:pt x="6463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1143000" y="5429160"/>
            <a:ext cx="76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Arial"/>
              </a:rPr>
              <a:t>Человека тру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Рисунок 7" descr="37R5.GIF"/>
          <p:cNvPicPr/>
          <p:nvPr/>
        </p:nvPicPr>
        <p:blipFill>
          <a:blip r:embed="rId3"/>
          <a:stretch/>
        </p:blipFill>
        <p:spPr>
          <a:xfrm>
            <a:off x="6572160" y="0"/>
            <a:ext cx="2251080" cy="20001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4"/>
          <p:cNvSpPr/>
          <p:nvPr/>
        </p:nvSpPr>
        <p:spPr>
          <a:xfrm>
            <a:off x="324000" y="333360"/>
            <a:ext cx="842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Пословиц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611280" y="1052640"/>
            <a:ext cx="806436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«Кот в мешк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 бал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428760" y="385776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99"/>
                </a:solidFill>
                <a:latin typeface="Arial"/>
              </a:rPr>
              <a:t>Без труда жить 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324000" y="5734080"/>
            <a:ext cx="24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AutoShape 8">
            <a:hlinkClick r:id="rId2" action="ppaction://hlinksldjump"/>
          </p:cNvPr>
          <p:cNvSpPr/>
          <p:nvPr/>
        </p:nvSpPr>
        <p:spPr>
          <a:xfrm>
            <a:off x="250920" y="6093000"/>
            <a:ext cx="720720" cy="57600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10013" y="10800"/>
                </a:moveTo>
                <a:lnTo>
                  <a:pt x="20518" y="3794"/>
                </a:lnTo>
                <a:lnTo>
                  <a:pt x="20518" y="17806"/>
                </a:lnTo>
                <a:close/>
              </a:path>
              <a:path fill="darken" w="27024" h="21600">
                <a:moveTo>
                  <a:pt x="6505" y="3794"/>
                </a:moveTo>
                <a:lnTo>
                  <a:pt x="8168" y="3794"/>
                </a:lnTo>
                <a:lnTo>
                  <a:pt x="8168" y="17806"/>
                </a:lnTo>
                <a:lnTo>
                  <a:pt x="6505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3929040" y="5500800"/>
            <a:ext cx="47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Arial"/>
              </a:rPr>
              <a:t>только небо копти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11" descr="pic"/>
          <p:cNvPicPr/>
          <p:nvPr/>
        </p:nvPicPr>
        <p:blipFill>
          <a:blip r:embed="rId3"/>
          <a:stretch/>
        </p:blipFill>
        <p:spPr>
          <a:xfrm>
            <a:off x="395280" y="765000"/>
            <a:ext cx="1952640" cy="1554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3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5"/>
          <p:cNvSpPr/>
          <p:nvPr/>
        </p:nvSpPr>
        <p:spPr>
          <a:xfrm>
            <a:off x="214200" y="214200"/>
            <a:ext cx="303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спознай-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1619280" y="692280"/>
            <a:ext cx="626580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 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«Несчастный случай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468360" y="58770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250920" y="5950080"/>
            <a:ext cx="20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12" descr="ia"/>
          <p:cNvPicPr/>
          <p:nvPr/>
        </p:nvPicPr>
        <p:blipFill>
          <a:blip r:embed="rId1"/>
          <a:stretch/>
        </p:blipFill>
        <p:spPr>
          <a:xfrm>
            <a:off x="3419640" y="4292640"/>
            <a:ext cx="2374560" cy="229392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sp>
        <p:nvSpPr>
          <p:cNvPr id="344" name="Text Box 13"/>
          <p:cNvSpPr/>
          <p:nvPr/>
        </p:nvSpPr>
        <p:spPr>
          <a:xfrm>
            <a:off x="324000" y="5805360"/>
            <a:ext cx="158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14">
            <a:hlinkClick r:id="rId2" action="ppaction://hlinksldjump"/>
          </p:cNvPr>
          <p:cNvSpPr/>
          <p:nvPr/>
        </p:nvSpPr>
        <p:spPr>
          <a:xfrm>
            <a:off x="539640" y="5805360"/>
            <a:ext cx="719280" cy="576360"/>
          </a:xfrm>
          <a:prstGeom prst="leftArrow">
            <a:avLst>
              <a:gd name="adj1" fmla="val 50000"/>
              <a:gd name="adj2" fmla="val 31199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2"/>
          <p:cNvSpPr/>
          <p:nvPr/>
        </p:nvSpPr>
        <p:spPr>
          <a:xfrm>
            <a:off x="324000" y="616572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33"/>
          <p:cNvSpPr/>
          <p:nvPr/>
        </p:nvSpPr>
        <p:spPr>
          <a:xfrm>
            <a:off x="324000" y="6093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35"/>
          <p:cNvSpPr/>
          <p:nvPr/>
        </p:nvSpPr>
        <p:spPr>
          <a:xfrm>
            <a:off x="1835280" y="0"/>
            <a:ext cx="532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e7960"/>
                </a:solidFill>
                <a:latin typeface="Monotype Corsiv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e7960"/>
                </a:solidFill>
                <a:latin typeface="Monotype Corsiva"/>
              </a:rPr>
              <a:t>РАУН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6"/>
          <p:cNvSpPr/>
          <p:nvPr/>
        </p:nvSpPr>
        <p:spPr>
          <a:xfrm>
            <a:off x="395280" y="2852640"/>
            <a:ext cx="8353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38" descr="93"/>
          <p:cNvPicPr/>
          <p:nvPr/>
        </p:nvPicPr>
        <p:blipFill>
          <a:blip r:embed="rId1"/>
          <a:stretch/>
        </p:blipFill>
        <p:spPr>
          <a:xfrm>
            <a:off x="395280" y="549360"/>
            <a:ext cx="2952720" cy="247176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8"/>
          <p:cNvSpPr/>
          <p:nvPr/>
        </p:nvSpPr>
        <p:spPr>
          <a:xfrm>
            <a:off x="500040" y="3214800"/>
            <a:ext cx="80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«Все работы хороши –  выбирай на вкус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5"/>
          <p:cNvSpPr/>
          <p:nvPr/>
        </p:nvSpPr>
        <p:spPr>
          <a:xfrm>
            <a:off x="900000" y="0"/>
            <a:ext cx="777564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Как называется представитель этой професс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79280" y="6237360"/>
            <a:ext cx="14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3143160" y="600084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050"/>
                </a:solidFill>
                <a:latin typeface="Lucida Console"/>
              </a:rPr>
              <a:t>Пекарь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250920" y="602136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10">
            <a:hlinkClick r:id="rId1" action="ppaction://hlinksldjump"/>
          </p:cNvPr>
          <p:cNvSpPr/>
          <p:nvPr/>
        </p:nvSpPr>
        <p:spPr>
          <a:xfrm>
            <a:off x="395280" y="6093000"/>
            <a:ext cx="792000" cy="431640"/>
          </a:xfrm>
          <a:prstGeom prst="leftArrow">
            <a:avLst>
              <a:gd name="adj1" fmla="val 50000"/>
              <a:gd name="adj2" fmla="val 45872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5580000" y="184464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Прямоугольник 9"/>
          <p:cNvSpPr/>
          <p:nvPr/>
        </p:nvSpPr>
        <p:spPr>
          <a:xfrm>
            <a:off x="218520" y="214200"/>
            <a:ext cx="187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спознай-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Picture 10" descr=""/>
          <p:cNvPicPr/>
          <p:nvPr/>
        </p:nvPicPr>
        <p:blipFill>
          <a:blip r:embed="rId2"/>
          <a:stretch/>
        </p:blipFill>
        <p:spPr>
          <a:xfrm>
            <a:off x="2286000" y="2071800"/>
            <a:ext cx="407664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3"/>
          <p:cNvSpPr/>
          <p:nvPr/>
        </p:nvSpPr>
        <p:spPr>
          <a:xfrm>
            <a:off x="611280" y="0"/>
            <a:ext cx="8208720" cy="26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Как называется представитель этой професс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122400" y="6453360"/>
            <a:ext cx="70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2500200" y="607212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5050"/>
                </a:solidFill>
                <a:latin typeface="Arial"/>
              </a:rPr>
              <a:t>Журналис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250920" y="6165720"/>
            <a:ext cx="122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8">
            <a:hlinkClick r:id="rId1" action="ppaction://hlinksldjump"/>
          </p:cNvPr>
          <p:cNvSpPr/>
          <p:nvPr/>
        </p:nvSpPr>
        <p:spPr>
          <a:xfrm>
            <a:off x="468360" y="6021360"/>
            <a:ext cx="790560" cy="432000"/>
          </a:xfrm>
          <a:prstGeom prst="leftArrow">
            <a:avLst>
              <a:gd name="adj1" fmla="val 50000"/>
              <a:gd name="adj2" fmla="val 45750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Прямоугольник 8"/>
          <p:cNvSpPr/>
          <p:nvPr/>
        </p:nvSpPr>
        <p:spPr>
          <a:xfrm>
            <a:off x="223200" y="21420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спознай-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9" descr=""/>
          <p:cNvPicPr/>
          <p:nvPr/>
        </p:nvPicPr>
        <p:blipFill>
          <a:blip r:embed="rId2"/>
          <a:stretch/>
        </p:blipFill>
        <p:spPr>
          <a:xfrm>
            <a:off x="2214720" y="2143080"/>
            <a:ext cx="4762440" cy="3648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5"/>
          <p:cNvSpPr/>
          <p:nvPr/>
        </p:nvSpPr>
        <p:spPr>
          <a:xfrm>
            <a:off x="755640" y="0"/>
            <a:ext cx="7488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0 балл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324000" y="5877000"/>
            <a:ext cx="107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857160" y="60008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Сварщик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395280" y="595008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AutoShape 10">
            <a:hlinkClick r:id="rId1" action="ppaction://hlinksldjump"/>
          </p:cNvPr>
          <p:cNvSpPr/>
          <p:nvPr/>
        </p:nvSpPr>
        <p:spPr>
          <a:xfrm>
            <a:off x="250920" y="6308640"/>
            <a:ext cx="792000" cy="360360"/>
          </a:xfrm>
          <a:prstGeom prst="leftArrow">
            <a:avLst>
              <a:gd name="adj1" fmla="val 50000"/>
              <a:gd name="adj2" fmla="val 54945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8"/>
          <p:cNvSpPr/>
          <p:nvPr/>
        </p:nvSpPr>
        <p:spPr>
          <a:xfrm>
            <a:off x="223200" y="21420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спознай-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оугольник 11"/>
          <p:cNvSpPr/>
          <p:nvPr/>
        </p:nvSpPr>
        <p:spPr>
          <a:xfrm>
            <a:off x="857160" y="857160"/>
            <a:ext cx="7429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Как называется представитель этой професс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10" descr=""/>
          <p:cNvPicPr/>
          <p:nvPr/>
        </p:nvPicPr>
        <p:blipFill>
          <a:blip r:embed="rId2"/>
          <a:stretch/>
        </p:blipFill>
        <p:spPr>
          <a:xfrm>
            <a:off x="2857680" y="2000160"/>
            <a:ext cx="3286080" cy="4381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3"/>
          <p:cNvSpPr/>
          <p:nvPr/>
        </p:nvSpPr>
        <p:spPr>
          <a:xfrm>
            <a:off x="1357200" y="0"/>
            <a:ext cx="604836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0 баллов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воя игра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684360" y="558972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468360" y="5589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8"/>
          <p:cNvSpPr/>
          <p:nvPr/>
        </p:nvSpPr>
        <p:spPr>
          <a:xfrm>
            <a:off x="5214960" y="600084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5050"/>
                </a:solidFill>
                <a:latin typeface="Comic Sans MS"/>
              </a:rPr>
              <a:t>Шахтёр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1"/>
          <p:cNvSpPr/>
          <p:nvPr/>
        </p:nvSpPr>
        <p:spPr>
          <a:xfrm>
            <a:off x="250920" y="616572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AutoShape 12">
            <a:hlinkClick r:id="rId1" action="ppaction://hlinksldjump"/>
          </p:cNvPr>
          <p:cNvSpPr/>
          <p:nvPr/>
        </p:nvSpPr>
        <p:spPr>
          <a:xfrm>
            <a:off x="468360" y="6237360"/>
            <a:ext cx="718920" cy="360360"/>
          </a:xfrm>
          <a:prstGeom prst="leftArrow">
            <a:avLst>
              <a:gd name="adj1" fmla="val 50000"/>
              <a:gd name="adj2" fmla="val 49875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Прямоугольник 10"/>
          <p:cNvSpPr/>
          <p:nvPr/>
        </p:nvSpPr>
        <p:spPr>
          <a:xfrm>
            <a:off x="223200" y="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спознай-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11"/>
          <p:cNvSpPr/>
          <p:nvPr/>
        </p:nvSpPr>
        <p:spPr>
          <a:xfrm>
            <a:off x="428760" y="1357200"/>
            <a:ext cx="83581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Как называется представитель этой професс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11" descr=""/>
          <p:cNvPicPr/>
          <p:nvPr/>
        </p:nvPicPr>
        <p:blipFill>
          <a:blip r:embed="rId2"/>
          <a:stretch/>
        </p:blipFill>
        <p:spPr>
          <a:xfrm>
            <a:off x="2000160" y="2500200"/>
            <a:ext cx="4977000" cy="39816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5"/>
          <p:cNvSpPr/>
          <p:nvPr/>
        </p:nvSpPr>
        <p:spPr>
          <a:xfrm>
            <a:off x="1042920" y="1557360"/>
            <a:ext cx="7489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7547"/>
                </a:solidFill>
                <a:latin typeface="Arial"/>
              </a:rPr>
              <a:t>икотплн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250920" y="5950080"/>
            <a:ext cx="18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395280" y="573408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9">
            <a:hlinkClick r:id="rId2" action="ppaction://hlinksldjump"/>
          </p:cNvPr>
          <p:cNvSpPr/>
          <p:nvPr/>
        </p:nvSpPr>
        <p:spPr>
          <a:xfrm>
            <a:off x="250920" y="5950080"/>
            <a:ext cx="576000" cy="287280"/>
          </a:xfrm>
          <a:prstGeom prst="leftArrow">
            <a:avLst>
              <a:gd name="adj1" fmla="val 50000"/>
              <a:gd name="adj2" fmla="val 50125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285840" y="564372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Плотник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1619280" y="333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Анаграмм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Рисунок 7" descr="j0305589.gif"/>
          <p:cNvPicPr/>
          <p:nvPr/>
        </p:nvPicPr>
        <p:blipFill>
          <a:blip r:embed="rId3"/>
          <a:stretch/>
        </p:blipFill>
        <p:spPr>
          <a:xfrm>
            <a:off x="428760" y="28584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5"/>
          <p:cNvSpPr/>
          <p:nvPr/>
        </p:nvSpPr>
        <p:spPr>
          <a:xfrm>
            <a:off x="324000" y="765000"/>
            <a:ext cx="756108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«Счастливый случай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179280" y="6165720"/>
            <a:ext cx="16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utoShape 7">
            <a:hlinkClick r:id="rId2" action="ppaction://hlinksldjump"/>
          </p:cNvPr>
          <p:cNvSpPr/>
          <p:nvPr/>
        </p:nvSpPr>
        <p:spPr>
          <a:xfrm>
            <a:off x="324000" y="6308640"/>
            <a:ext cx="502920" cy="289080"/>
          </a:xfrm>
          <a:prstGeom prst="leftArrow">
            <a:avLst>
              <a:gd name="adj1" fmla="val 50000"/>
              <a:gd name="adj2" fmla="val 43493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Picture 9" descr="135"/>
          <p:cNvPicPr/>
          <p:nvPr/>
        </p:nvPicPr>
        <p:blipFill>
          <a:blip r:embed="rId3"/>
          <a:stretch/>
        </p:blipFill>
        <p:spPr>
          <a:xfrm>
            <a:off x="6286680" y="3429000"/>
            <a:ext cx="2584440" cy="289728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10"/>
          <p:cNvSpPr/>
          <p:nvPr/>
        </p:nvSpPr>
        <p:spPr>
          <a:xfrm>
            <a:off x="2124000" y="333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Анограмм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1500" autoRev="1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animClr clrSpc="rgb">
                                      <p:cBhvr>
                                        <p:cTn id="322" dur="1500" autoRev="1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  <p:set>
                                      <p:cBhvr>
                                        <p:cTn id="323" dur="1500" autoRev="1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3"/>
          <p:cNvSpPr/>
          <p:nvPr/>
        </p:nvSpPr>
        <p:spPr>
          <a:xfrm>
            <a:off x="428760" y="1785960"/>
            <a:ext cx="82818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састюдеса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250920" y="602136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5">
            <a:hlinkClick r:id="rId2" action="ppaction://hlinksldjump"/>
          </p:cNvPr>
          <p:cNvSpPr/>
          <p:nvPr/>
        </p:nvSpPr>
        <p:spPr>
          <a:xfrm>
            <a:off x="324000" y="6237360"/>
            <a:ext cx="502920" cy="216000"/>
          </a:xfrm>
          <a:prstGeom prst="leftArrow">
            <a:avLst>
              <a:gd name="adj1" fmla="val 50000"/>
              <a:gd name="adj2" fmla="val 58208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1619280" y="580536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Стюардес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3310560" y="3571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Анаграммы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Рисунок 6" descr="j0356784.gif"/>
          <p:cNvPicPr/>
          <p:nvPr/>
        </p:nvPicPr>
        <p:blipFill>
          <a:blip r:embed="rId3"/>
          <a:stretch/>
        </p:blipFill>
        <p:spPr>
          <a:xfrm>
            <a:off x="214200" y="35712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3"/>
          <p:cNvSpPr/>
          <p:nvPr/>
        </p:nvSpPr>
        <p:spPr>
          <a:xfrm>
            <a:off x="0" y="476280"/>
            <a:ext cx="7777080" cy="19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«Кот в мешке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214200" y="3286080"/>
            <a:ext cx="83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Arial"/>
              </a:rPr>
              <a:t>рикермахп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53964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6">
            <a:hlinkClick r:id="rId2" action="ppaction://hlinksldjump"/>
          </p:cNvPr>
          <p:cNvSpPr/>
          <p:nvPr/>
        </p:nvSpPr>
        <p:spPr>
          <a:xfrm>
            <a:off x="179280" y="6308640"/>
            <a:ext cx="505080" cy="216000"/>
          </a:xfrm>
          <a:prstGeom prst="leftArrow">
            <a:avLst>
              <a:gd name="adj1" fmla="val 50000"/>
              <a:gd name="adj2" fmla="val 58458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5254560" y="585792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ff"/>
                </a:solidFill>
                <a:latin typeface="Arial"/>
              </a:rPr>
              <a:t>Парикмахер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9" descr="1108"/>
          <p:cNvPicPr/>
          <p:nvPr/>
        </p:nvPicPr>
        <p:blipFill>
          <a:blip r:embed="rId3"/>
          <a:stretch/>
        </p:blipFill>
        <p:spPr>
          <a:xfrm>
            <a:off x="6738840" y="476280"/>
            <a:ext cx="2208240" cy="223200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10"/>
          <p:cNvSpPr/>
          <p:nvPr/>
        </p:nvSpPr>
        <p:spPr>
          <a:xfrm>
            <a:off x="3444120" y="189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Анаграммы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3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7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8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3"/>
          <p:cNvSpPr/>
          <p:nvPr/>
        </p:nvSpPr>
        <p:spPr>
          <a:xfrm>
            <a:off x="0" y="1857240"/>
            <a:ext cx="8929800" cy="18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заерйнд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250920" y="609300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324000" y="6093000"/>
            <a:ext cx="107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AutoShape 7">
            <a:hlinkClick r:id="rId2" action="ppaction://hlinksldjump"/>
          </p:cNvPr>
          <p:cNvSpPr/>
          <p:nvPr/>
        </p:nvSpPr>
        <p:spPr>
          <a:xfrm>
            <a:off x="324000" y="6308640"/>
            <a:ext cx="431640" cy="216000"/>
          </a:xfrm>
          <a:prstGeom prst="leftArrow">
            <a:avLst>
              <a:gd name="adj1" fmla="val 50000"/>
              <a:gd name="adj2" fmla="val 49958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3564000" y="5661000"/>
            <a:ext cx="52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Дизайнер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3310560" y="214200"/>
            <a:ext cx="23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Анаграмм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Рисунок 7" descr="FLOWER7.GIF"/>
          <p:cNvPicPr/>
          <p:nvPr/>
        </p:nvPicPr>
        <p:blipFill>
          <a:blip r:embed="rId3"/>
          <a:stretch/>
        </p:blipFill>
        <p:spPr>
          <a:xfrm>
            <a:off x="7143840" y="571680"/>
            <a:ext cx="1633320" cy="1428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4"/>
          <p:cNvSpPr/>
          <p:nvPr/>
        </p:nvSpPr>
        <p:spPr>
          <a:xfrm>
            <a:off x="1835280" y="0"/>
            <a:ext cx="61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Monotype Corsiva"/>
              </a:rPr>
              <a:t>3</a:t>
            </a:r>
            <a:r>
              <a:rPr b="1" lang="ru-RU" sz="3200" spc="-1" strike="noStrike">
                <a:solidFill>
                  <a:srgbClr val="cc0000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cc0000"/>
                </a:solidFill>
                <a:latin typeface="Monotype Corsiva"/>
              </a:rPr>
              <a:t>РАУН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1187280" y="1197000"/>
            <a:ext cx="705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6600"/>
                </a:solidFill>
                <a:latin typeface="Monotype Corsiva"/>
              </a:rPr>
              <a:t>Ералаш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7" descr="baby134"/>
          <p:cNvPicPr/>
          <p:nvPr/>
        </p:nvPicPr>
        <p:blipFill>
          <a:blip r:embed="rId2"/>
          <a:stretch/>
        </p:blipFill>
        <p:spPr>
          <a:xfrm>
            <a:off x="3643200" y="4071960"/>
            <a:ext cx="2173320" cy="2511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drawingml/2006/table">
            <a:tbl>
              <a:tblPr/>
              <a:tblGrid>
                <a:gridCol w="3276720"/>
                <a:gridCol w="1150920"/>
                <a:gridCol w="1081080"/>
                <a:gridCol w="1150920"/>
                <a:gridCol w="1225440"/>
                <a:gridCol w="1258920"/>
              </a:tblGrid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61616"/>
                          </a:solidFill>
                          <a:latin typeface="Arial"/>
                        </a:rPr>
                        <a:t>Загадк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Профессиональные качества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Рифм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Text Box 32"/>
          <p:cNvSpPr/>
          <p:nvPr/>
        </p:nvSpPr>
        <p:spPr>
          <a:xfrm>
            <a:off x="324000" y="616572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33"/>
          <p:cNvSpPr/>
          <p:nvPr/>
        </p:nvSpPr>
        <p:spPr>
          <a:xfrm>
            <a:off x="324000" y="609300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34">
            <a:hlinkClick r:id="rId16" action="ppaction://hlinksldjump"/>
          </p:cNvPr>
          <p:cNvSpPr/>
          <p:nvPr/>
        </p:nvSpPr>
        <p:spPr>
          <a:xfrm>
            <a:off x="250920" y="6021360"/>
            <a:ext cx="576000" cy="482760"/>
          </a:xfrm>
          <a:custGeom>
            <a:avLst/>
            <a:gdLst/>
            <a:ahLst/>
            <a:rect l="l" t="t" r="r" b="b"/>
            <a:pathLst>
              <a:path w="576263" h="482600">
                <a:moveTo>
                  <a:pt x="1" y="184336"/>
                </a:moveTo>
                <a:lnTo>
                  <a:pt x="220114" y="184338"/>
                </a:lnTo>
                <a:lnTo>
                  <a:pt x="288132" y="0"/>
                </a:lnTo>
                <a:lnTo>
                  <a:pt x="356149" y="184338"/>
                </a:lnTo>
                <a:lnTo>
                  <a:pt x="576262" y="184336"/>
                </a:lnTo>
                <a:lnTo>
                  <a:pt x="398186" y="298262"/>
                </a:lnTo>
                <a:lnTo>
                  <a:pt x="466206" y="482599"/>
                </a:lnTo>
                <a:lnTo>
                  <a:pt x="288132" y="368671"/>
                </a:lnTo>
                <a:lnTo>
                  <a:pt x="110057" y="482599"/>
                </a:lnTo>
                <a:lnTo>
                  <a:pt x="178077" y="298262"/>
                </a:lnTo>
                <a:lnTo>
                  <a:pt x="1" y="184336"/>
                </a:lnTo>
                <a:close/>
              </a:path>
            </a:pathLst>
          </a:custGeom>
          <a:solidFill>
            <a:srgbClr val="aaf4b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0" y="0"/>
          <a:ext cx="9144000" cy="6846840"/>
        </p:xfrm>
        <a:graphic>
          <a:graphicData uri="http://schemas.openxmlformats.org/drawingml/2006/table">
            <a:tbl>
              <a:tblPr/>
              <a:tblGrid>
                <a:gridCol w="2627280"/>
                <a:gridCol w="1440000"/>
                <a:gridCol w="1368360"/>
                <a:gridCol w="1224000"/>
                <a:gridCol w="1297080"/>
                <a:gridCol w="1187280"/>
              </a:tblGrid>
              <a:tr h="228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Темперамен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ffff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228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Орудия тру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3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  <a:tr h="228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Ребусы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33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3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6600"/>
                      </a:solidFill>
                    </a:lnL>
                    <a:lnR w="18720">
                      <a:solidFill>
                        <a:srgbClr val="006600"/>
                      </a:solidFill>
                    </a:lnR>
                    <a:lnT w="18720">
                      <a:solidFill>
                        <a:srgbClr val="006600"/>
                      </a:solidFill>
                    </a:lnT>
                    <a:lnB w="18720">
                      <a:solidFill>
                        <a:srgbClr val="00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Text Box 113"/>
          <p:cNvSpPr/>
          <p:nvPr/>
        </p:nvSpPr>
        <p:spPr>
          <a:xfrm>
            <a:off x="0" y="6093000"/>
            <a:ext cx="11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14"/>
          <p:cNvSpPr/>
          <p:nvPr/>
        </p:nvSpPr>
        <p:spPr>
          <a:xfrm>
            <a:off x="179280" y="6093000"/>
            <a:ext cx="611280" cy="580680"/>
          </a:xfrm>
          <a:custGeom>
            <a:avLst/>
            <a:gdLst/>
            <a:ahLst/>
            <a:rect l="l" t="t" r="r" b="b"/>
            <a:pathLst>
              <a:path w="611187" h="581025">
                <a:moveTo>
                  <a:pt x="1" y="221931"/>
                </a:moveTo>
                <a:lnTo>
                  <a:pt x="233454" y="221933"/>
                </a:lnTo>
                <a:lnTo>
                  <a:pt x="305594" y="0"/>
                </a:lnTo>
                <a:lnTo>
                  <a:pt x="377733" y="221933"/>
                </a:lnTo>
                <a:lnTo>
                  <a:pt x="611186" y="221931"/>
                </a:lnTo>
                <a:lnTo>
                  <a:pt x="422318" y="359092"/>
                </a:lnTo>
                <a:lnTo>
                  <a:pt x="494460" y="581024"/>
                </a:lnTo>
                <a:lnTo>
                  <a:pt x="305594" y="443861"/>
                </a:lnTo>
                <a:lnTo>
                  <a:pt x="116727" y="581024"/>
                </a:lnTo>
                <a:lnTo>
                  <a:pt x="188869" y="359092"/>
                </a:lnTo>
                <a:lnTo>
                  <a:pt x="1" y="221931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5"/>
          <p:cNvSpPr/>
          <p:nvPr/>
        </p:nvSpPr>
        <p:spPr>
          <a:xfrm>
            <a:off x="179280" y="260280"/>
            <a:ext cx="4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WordArt 6"/>
          <p:cNvSpPr txBox="1"/>
          <p:nvPr/>
        </p:nvSpPr>
        <p:spPr>
          <a:xfrm rot="5400000">
            <a:off x="-2340720" y="2853360"/>
            <a:ext cx="525636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емперамен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8" name="Text Box 9"/>
          <p:cNvSpPr/>
          <p:nvPr/>
        </p:nvSpPr>
        <p:spPr>
          <a:xfrm>
            <a:off x="1908000" y="260280"/>
            <a:ext cx="57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Arial"/>
              </a:rPr>
              <a:t>1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10"/>
          <p:cNvSpPr/>
          <p:nvPr/>
        </p:nvSpPr>
        <p:spPr>
          <a:xfrm>
            <a:off x="1285920" y="1143000"/>
            <a:ext cx="669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Определите к какому типу темперамента относится персона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4143240" y="550080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742e"/>
                </a:solidFill>
                <a:latin typeface="Arial"/>
              </a:rPr>
              <a:t>Холерик </a:t>
            </a:r>
            <a:r>
              <a:rPr b="1" lang="ru-RU" sz="4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12"/>
          <p:cNvSpPr/>
          <p:nvPr/>
        </p:nvSpPr>
        <p:spPr>
          <a:xfrm>
            <a:off x="250920" y="5877000"/>
            <a:ext cx="144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AutoShape 13"/>
          <p:cNvSpPr/>
          <p:nvPr/>
        </p:nvSpPr>
        <p:spPr>
          <a:xfrm>
            <a:off x="250920" y="6093000"/>
            <a:ext cx="504720" cy="502920"/>
          </a:xfrm>
          <a:custGeom>
            <a:avLst/>
            <a:gdLst>
              <a:gd name="textAreaLeft" fmla="*/ 115200 w 504720"/>
              <a:gd name="textAreaRight" fmla="*/ 389520 w 504720"/>
              <a:gd name="textAreaTop" fmla="*/ 114840 h 502920"/>
              <a:gd name="textAreaBottom" fmla="*/ 388080 h 50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9" descr=""/>
          <p:cNvPicPr/>
          <p:nvPr/>
        </p:nvPicPr>
        <p:blipFill>
          <a:blip r:embed="rId2"/>
          <a:stretch/>
        </p:blipFill>
        <p:spPr>
          <a:xfrm>
            <a:off x="1500120" y="2286000"/>
            <a:ext cx="6257880" cy="3228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1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1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1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179280" y="47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WordArt 7"/>
          <p:cNvSpPr txBox="1"/>
          <p:nvPr/>
        </p:nvSpPr>
        <p:spPr>
          <a:xfrm rot="5400000">
            <a:off x="-2376360" y="2816280"/>
            <a:ext cx="5472000" cy="217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а будет с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6" name="Text Box 8"/>
          <p:cNvSpPr/>
          <p:nvPr/>
        </p:nvSpPr>
        <p:spPr>
          <a:xfrm>
            <a:off x="1619280" y="260280"/>
            <a:ext cx="590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2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4356000" y="5516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742e"/>
                </a:solidFill>
                <a:latin typeface="Arial"/>
              </a:rPr>
              <a:t>Сангвини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324000" y="6021360"/>
            <a:ext cx="86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AutoShape 12"/>
          <p:cNvSpPr/>
          <p:nvPr/>
        </p:nvSpPr>
        <p:spPr>
          <a:xfrm>
            <a:off x="179280" y="6093000"/>
            <a:ext cx="647640" cy="504720"/>
          </a:xfrm>
          <a:custGeom>
            <a:avLst/>
            <a:gdLst>
              <a:gd name="textAreaLeft" fmla="*/ 147600 w 647640"/>
              <a:gd name="textAreaRight" fmla="*/ 500040 w 64764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Picture 9" descr=""/>
          <p:cNvPicPr/>
          <p:nvPr/>
        </p:nvPicPr>
        <p:blipFill>
          <a:blip r:embed="rId2"/>
          <a:stretch/>
        </p:blipFill>
        <p:spPr>
          <a:xfrm>
            <a:off x="1000080" y="2571840"/>
            <a:ext cx="7143840" cy="242892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9"/>
          <p:cNvSpPr/>
          <p:nvPr/>
        </p:nvSpPr>
        <p:spPr>
          <a:xfrm>
            <a:off x="928800" y="128592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Определите к какому типу темперамента относится персона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WordArt 3"/>
          <p:cNvSpPr txBox="1"/>
          <p:nvPr/>
        </p:nvSpPr>
        <p:spPr>
          <a:xfrm rot="5400000">
            <a:off x="-2286000" y="2786040"/>
            <a:ext cx="5400720" cy="257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а будет с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33" name="Text Box 4"/>
          <p:cNvSpPr/>
          <p:nvPr/>
        </p:nvSpPr>
        <p:spPr>
          <a:xfrm>
            <a:off x="1332000" y="40464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3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5"/>
          <p:cNvSpPr/>
          <p:nvPr/>
        </p:nvSpPr>
        <p:spPr>
          <a:xfrm>
            <a:off x="1071720" y="1285920"/>
            <a:ext cx="7786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Определите к какому типу темперамента относится персона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3214800" y="564372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742e"/>
                </a:solidFill>
                <a:latin typeface="Arial"/>
              </a:rPr>
              <a:t>Меланхолик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324000" y="5877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8"/>
          <p:cNvSpPr/>
          <p:nvPr/>
        </p:nvSpPr>
        <p:spPr>
          <a:xfrm>
            <a:off x="250920" y="6021360"/>
            <a:ext cx="649080" cy="576360"/>
          </a:xfrm>
          <a:custGeom>
            <a:avLst/>
            <a:gdLst>
              <a:gd name="textAreaLeft" fmla="*/ 147960 w 649080"/>
              <a:gd name="textAreaRight" fmla="*/ 501120 w 64908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8" descr=""/>
          <p:cNvPicPr/>
          <p:nvPr/>
        </p:nvPicPr>
        <p:blipFill>
          <a:blip r:embed="rId2"/>
          <a:stretch/>
        </p:blipFill>
        <p:spPr>
          <a:xfrm>
            <a:off x="1428840" y="2071800"/>
            <a:ext cx="6667560" cy="33606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WordArt 3"/>
          <p:cNvSpPr txBox="1"/>
          <p:nvPr/>
        </p:nvSpPr>
        <p:spPr>
          <a:xfrm rot="5400000">
            <a:off x="-2448720" y="2817000"/>
            <a:ext cx="547200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а будет с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900000" y="54936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4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785880" y="2428920"/>
            <a:ext cx="741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Arial"/>
              </a:rPr>
              <a:t>Счастливый случай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250920" y="595008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AutoShape 8"/>
          <p:cNvSpPr/>
          <p:nvPr/>
        </p:nvSpPr>
        <p:spPr>
          <a:xfrm>
            <a:off x="179280" y="6165720"/>
            <a:ext cx="720720" cy="432000"/>
          </a:xfrm>
          <a:custGeom>
            <a:avLst/>
            <a:gdLst>
              <a:gd name="textAreaLeft" fmla="*/ 164520 w 720720"/>
              <a:gd name="textAreaRight" fmla="*/ 556200 w 720720"/>
              <a:gd name="textAreaTop" fmla="*/ 98640 h 432000"/>
              <a:gd name="textAreaBottom" fmla="*/ 333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10" descr="solnze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24433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WordArt 2"/>
          <p:cNvSpPr txBox="1"/>
          <p:nvPr/>
        </p:nvSpPr>
        <p:spPr>
          <a:xfrm rot="5400000">
            <a:off x="-2448720" y="2817000"/>
            <a:ext cx="5472000" cy="2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а будет св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1258920" y="333360"/>
            <a:ext cx="734544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Arial"/>
              </a:rPr>
              <a:t>5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</a:rPr>
              <a:t>Несчастный случай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AutoShape 6"/>
          <p:cNvSpPr/>
          <p:nvPr/>
        </p:nvSpPr>
        <p:spPr>
          <a:xfrm>
            <a:off x="179280" y="6165720"/>
            <a:ext cx="576360" cy="503280"/>
          </a:xfrm>
          <a:custGeom>
            <a:avLst/>
            <a:gdLst>
              <a:gd name="textAreaLeft" fmla="*/ 131400 w 576360"/>
              <a:gd name="textAreaRight" fmla="*/ 444960 w 57636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9" descr="baby94"/>
          <p:cNvPicPr/>
          <p:nvPr/>
        </p:nvPicPr>
        <p:blipFill>
          <a:blip r:embed="rId2"/>
          <a:stretch/>
        </p:blipFill>
        <p:spPr>
          <a:xfrm>
            <a:off x="3571920" y="3929040"/>
            <a:ext cx="2200320" cy="2427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9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9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7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8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5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WordArt 8"/>
          <p:cNvSpPr txBox="1"/>
          <p:nvPr/>
        </p:nvSpPr>
        <p:spPr>
          <a:xfrm rot="5400000">
            <a:off x="-1989360" y="2862360"/>
            <a:ext cx="4895640" cy="26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Franklin Gothic Medium"/>
              </a:rPr>
              <a:t>Орудия труда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452" name="Text Box 9"/>
          <p:cNvSpPr/>
          <p:nvPr/>
        </p:nvSpPr>
        <p:spPr>
          <a:xfrm>
            <a:off x="1116000" y="47628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1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11"/>
          <p:cNvSpPr/>
          <p:nvPr/>
        </p:nvSpPr>
        <p:spPr>
          <a:xfrm>
            <a:off x="395280" y="5805360"/>
            <a:ext cx="151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AutoShape 12"/>
          <p:cNvSpPr/>
          <p:nvPr/>
        </p:nvSpPr>
        <p:spPr>
          <a:xfrm>
            <a:off x="179280" y="6237360"/>
            <a:ext cx="647640" cy="431640"/>
          </a:xfrm>
          <a:custGeom>
            <a:avLst/>
            <a:gdLst>
              <a:gd name="textAreaLeft" fmla="*/ 147600 w 647640"/>
              <a:gd name="textAreaRight" fmla="*/ 500040 w 647640"/>
              <a:gd name="textAreaTop" fmla="*/ 98280 h 431640"/>
              <a:gd name="textAreaBottom" fmla="*/ 3333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Прямоугольник 7"/>
          <p:cNvSpPr/>
          <p:nvPr/>
        </p:nvSpPr>
        <p:spPr>
          <a:xfrm>
            <a:off x="928800" y="2000160"/>
            <a:ext cx="8215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00"/>
                </a:solidFill>
                <a:latin typeface="Arial"/>
              </a:rPr>
              <a:t>«Несчастный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00"/>
                </a:solidFill>
                <a:latin typeface="Arial"/>
              </a:rPr>
              <a:t>случай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Picture 9" descr="baby94"/>
          <p:cNvPicPr/>
          <p:nvPr/>
        </p:nvPicPr>
        <p:blipFill>
          <a:blip r:embed="rId2"/>
          <a:stretch/>
        </p:blipFill>
        <p:spPr>
          <a:xfrm>
            <a:off x="3635280" y="4221000"/>
            <a:ext cx="2200320" cy="2427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0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0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1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1476360" y="333360"/>
            <a:ext cx="698328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20 баллов </a:t>
            </a: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«Кот в мешке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395280" y="587700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AutoShape 7">
            <a:hlinkClick r:id="" action="ppaction://hlinkshowjump?jump=nextslide"/>
          </p:cNvPr>
          <p:cNvSpPr/>
          <p:nvPr/>
        </p:nvSpPr>
        <p:spPr>
          <a:xfrm>
            <a:off x="25092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10800" y="14810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13">
                <a:moveTo>
                  <a:pt x="11905" y="14288"/>
                </a:moveTo>
                <a:lnTo>
                  <a:pt x="11905" y="12330"/>
                </a:lnTo>
                <a:cubicBezTo>
                  <a:pt x="11905" y="11503"/>
                  <a:pt x="12236" y="10807"/>
                  <a:pt x="12837" y="10807"/>
                </a:cubicBezTo>
                <a:cubicBezTo>
                  <a:pt x="13968" y="10807"/>
                  <a:pt x="14865" y="9440"/>
                  <a:pt x="14865" y="7856"/>
                </a:cubicBezTo>
                <a:cubicBezTo>
                  <a:pt x="14865" y="5541"/>
                  <a:pt x="13011" y="3800"/>
                  <a:pt x="10800" y="3800"/>
                </a:cubicBezTo>
                <a:cubicBezTo>
                  <a:pt x="8589" y="3800"/>
                  <a:pt x="6918" y="5541"/>
                  <a:pt x="6918" y="7856"/>
                </a:cubicBezTo>
                <a:lnTo>
                  <a:pt x="8772" y="7856"/>
                </a:lnTo>
                <a:cubicBezTo>
                  <a:pt x="8772" y="6716"/>
                  <a:pt x="9695" y="5828"/>
                  <a:pt x="10800" y="5828"/>
                </a:cubicBezTo>
                <a:cubicBezTo>
                  <a:pt x="11905" y="5828"/>
                  <a:pt x="12837" y="6716"/>
                  <a:pt x="12837" y="7856"/>
                </a:cubicBezTo>
                <a:cubicBezTo>
                  <a:pt x="12837" y="8596"/>
                  <a:pt x="12367" y="9327"/>
                  <a:pt x="11905" y="9327"/>
                </a:cubicBezTo>
                <a:cubicBezTo>
                  <a:pt x="10800" y="9327"/>
                  <a:pt x="9695" y="10807"/>
                  <a:pt x="9695" y="12330"/>
                </a:cubicBezTo>
                <a:lnTo>
                  <a:pt x="9695" y="14288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1" name="Picture 9" descr="baby20"/>
          <p:cNvPicPr/>
          <p:nvPr/>
        </p:nvPicPr>
        <p:blipFill>
          <a:blip r:embed="rId2"/>
          <a:stretch/>
        </p:blipFill>
        <p:spPr>
          <a:xfrm>
            <a:off x="1403280" y="3357720"/>
            <a:ext cx="2281320" cy="3240000"/>
          </a:xfrm>
          <a:prstGeom prst="rect">
            <a:avLst/>
          </a:prstGeom>
          <a:ln w="0">
            <a:noFill/>
          </a:ln>
        </p:spPr>
      </p:pic>
      <p:sp>
        <p:nvSpPr>
          <p:cNvPr id="462" name="WordArt 10"/>
          <p:cNvSpPr txBox="1"/>
          <p:nvPr/>
        </p:nvSpPr>
        <p:spPr>
          <a:xfrm rot="5400000">
            <a:off x="-1844280" y="2862000"/>
            <a:ext cx="4895640" cy="27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Franklin Gothic Medium"/>
              </a:rPr>
              <a:t>Орудия труда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</p:spTree>
  </p:cSld>
  <p:transition spd="slow"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1547640" y="0"/>
            <a:ext cx="6193080" cy="32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2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99"/>
                </a:solidFill>
                <a:latin typeface="Arial"/>
              </a:rPr>
              <a:t>Он не сеет и не пашет, но отвечает за урожай. Кто он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3924360" y="566100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99"/>
                </a:solidFill>
                <a:latin typeface="Arial"/>
              </a:rPr>
              <a:t>Агроном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395280" y="609300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8"/>
          <p:cNvSpPr/>
          <p:nvPr/>
        </p:nvSpPr>
        <p:spPr>
          <a:xfrm>
            <a:off x="179280" y="6165720"/>
            <a:ext cx="720720" cy="503280"/>
          </a:xfrm>
          <a:custGeom>
            <a:avLst/>
            <a:gdLst>
              <a:gd name="textAreaLeft" fmla="*/ 164520 w 720720"/>
              <a:gd name="textAreaRight" fmla="*/ 556200 w 72072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WordArt 9"/>
          <p:cNvSpPr txBox="1"/>
          <p:nvPr/>
        </p:nvSpPr>
        <p:spPr>
          <a:xfrm rot="5400000">
            <a:off x="-1989360" y="2862360"/>
            <a:ext cx="4895640" cy="26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Franklin Gothic Medium"/>
              </a:rPr>
              <a:t>Орудия труда 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pic>
        <p:nvPicPr>
          <p:cNvPr id="469" name="Рисунок 7" descr="wfall00002.gif"/>
          <p:cNvPicPr/>
          <p:nvPr/>
        </p:nvPicPr>
        <p:blipFill>
          <a:blip r:embed="rId2"/>
          <a:stretch/>
        </p:blipFill>
        <p:spPr>
          <a:xfrm>
            <a:off x="2928960" y="3786120"/>
            <a:ext cx="2857320" cy="2228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3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1428840" y="1285920"/>
            <a:ext cx="65516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3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99"/>
                </a:solidFill>
                <a:latin typeface="Arial"/>
              </a:rPr>
              <a:t>Кто первый – мужчины или женщины – начали вязать на спицах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3429000" y="5786280"/>
            <a:ext cx="51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99"/>
                </a:solidFill>
                <a:latin typeface="Arial"/>
              </a:rPr>
              <a:t>Мужчин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179280" y="580536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AutoShape 7"/>
          <p:cNvSpPr/>
          <p:nvPr/>
        </p:nvSpPr>
        <p:spPr>
          <a:xfrm>
            <a:off x="179280" y="6165720"/>
            <a:ext cx="505080" cy="505080"/>
          </a:xfrm>
          <a:custGeom>
            <a:avLst/>
            <a:gdLst>
              <a:gd name="textAreaLeft" fmla="*/ 115200 w 505080"/>
              <a:gd name="textAreaRight" fmla="*/ 389880 w 505080"/>
              <a:gd name="textAreaTop" fmla="*/ 115200 h 505080"/>
              <a:gd name="textAreaBottom" fmla="*/ 38988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WordArt 8"/>
          <p:cNvSpPr txBox="1"/>
          <p:nvPr/>
        </p:nvSpPr>
        <p:spPr>
          <a:xfrm rot="5400000">
            <a:off x="-1764720" y="2925000"/>
            <a:ext cx="4896000" cy="2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Franklin Gothic Medium"/>
              </a:rPr>
              <a:t>Орудия труда 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pic>
        <p:nvPicPr>
          <p:cNvPr id="476" name="Рисунок 7" descr="003.GIF"/>
          <p:cNvPicPr/>
          <p:nvPr/>
        </p:nvPicPr>
        <p:blipFill>
          <a:blip r:embed="rId2"/>
          <a:stretch/>
        </p:blipFill>
        <p:spPr>
          <a:xfrm rot="3051000">
            <a:off x="3252960" y="446724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3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8"/>
          <p:cNvSpPr/>
          <p:nvPr/>
        </p:nvSpPr>
        <p:spPr>
          <a:xfrm>
            <a:off x="447840" y="568440"/>
            <a:ext cx="844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447840" y="285840"/>
            <a:ext cx="96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10 баллов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755640" y="5229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99"/>
                </a:solidFill>
                <a:uFillTx/>
                <a:latin typeface="Arial"/>
                <a:hlinkClick r:id="rId1" action="ppaction://hlinksldjump"/>
              </a:rPr>
              <a:t>&lt;&lt;&lt;&lt;&lt;&lt;&lt;&lt;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8317080" y="260280"/>
            <a:ext cx="43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З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10"/>
          <p:cNvSpPr/>
          <p:nvPr/>
        </p:nvSpPr>
        <p:spPr>
          <a:xfrm>
            <a:off x="2286000" y="2143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то по профессии был А. П. Чехов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11"/>
          <p:cNvSpPr/>
          <p:nvPr/>
        </p:nvSpPr>
        <p:spPr>
          <a:xfrm>
            <a:off x="6297120" y="5929200"/>
            <a:ext cx="24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рач, писа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Рисунок 8" descr="sunflower1.gif"/>
          <p:cNvPicPr/>
          <p:nvPr/>
        </p:nvPicPr>
        <p:blipFill>
          <a:blip r:embed="rId2"/>
          <a:stretch/>
        </p:blipFill>
        <p:spPr>
          <a:xfrm>
            <a:off x="357120" y="1714680"/>
            <a:ext cx="1495440" cy="31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1116000" y="549360"/>
            <a:ext cx="7272360" cy="26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4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</a:rPr>
              <a:t>Кто из царей знал 14 ремесел? Назовите царя и не менее 6 ремесел, которыми он владе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7"/>
          <p:cNvSpPr/>
          <p:nvPr/>
        </p:nvSpPr>
        <p:spPr>
          <a:xfrm>
            <a:off x="3429000" y="4857840"/>
            <a:ext cx="5308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96660"/>
                </a:solidFill>
                <a:latin typeface="Arial"/>
              </a:rPr>
              <a:t>Петр I – плотник, кораблестроитель, кузнец, токарь, оружейник, моряк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8"/>
          <p:cNvSpPr/>
          <p:nvPr/>
        </p:nvSpPr>
        <p:spPr>
          <a:xfrm>
            <a:off x="468360" y="5950080"/>
            <a:ext cx="57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179280" y="6237360"/>
            <a:ext cx="647640" cy="431640"/>
          </a:xfrm>
          <a:custGeom>
            <a:avLst/>
            <a:gdLst>
              <a:gd name="textAreaLeft" fmla="*/ 147600 w 647640"/>
              <a:gd name="textAreaRight" fmla="*/ 500040 w 647640"/>
              <a:gd name="textAreaTop" fmla="*/ 98280 h 431640"/>
              <a:gd name="textAreaBottom" fmla="*/ 3333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WordArt 10"/>
          <p:cNvSpPr txBox="1"/>
          <p:nvPr/>
        </p:nvSpPr>
        <p:spPr>
          <a:xfrm rot="5400000">
            <a:off x="-1773360" y="2933640"/>
            <a:ext cx="4896000" cy="27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Franklin Gothic Medium"/>
              </a:rPr>
              <a:t>радуга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pic>
        <p:nvPicPr>
          <p:cNvPr id="483" name="Рисунок 7" descr="JACK1.GIF"/>
          <p:cNvPicPr/>
          <p:nvPr/>
        </p:nvPicPr>
        <p:blipFill>
          <a:blip r:embed="rId2"/>
          <a:stretch/>
        </p:blipFill>
        <p:spPr>
          <a:xfrm rot="1501200">
            <a:off x="1877760" y="3838680"/>
            <a:ext cx="1384200" cy="2090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3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3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1258920" y="47628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Arial"/>
              </a:rPr>
              <a:t>5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324000" y="566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AutoShape 8"/>
          <p:cNvSpPr/>
          <p:nvPr/>
        </p:nvSpPr>
        <p:spPr>
          <a:xfrm>
            <a:off x="179280" y="6165720"/>
            <a:ext cx="576360" cy="503280"/>
          </a:xfrm>
          <a:custGeom>
            <a:avLst/>
            <a:gdLst>
              <a:gd name="textAreaLeft" fmla="*/ 131400 w 576360"/>
              <a:gd name="textAreaRight" fmla="*/ 444960 w 57636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WordArt 9"/>
          <p:cNvSpPr txBox="1"/>
          <p:nvPr/>
        </p:nvSpPr>
        <p:spPr>
          <a:xfrm rot="5400000">
            <a:off x="-1989360" y="2862360"/>
            <a:ext cx="4895640" cy="26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Franklin Gothic Medium"/>
              </a:rPr>
              <a:t>радуга</a:t>
            </a:r>
            <a:endParaRPr b="0" lang="en-US" sz="12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489" name="Прямоугольник 7"/>
          <p:cNvSpPr/>
          <p:nvPr/>
        </p:nvSpPr>
        <p:spPr>
          <a:xfrm>
            <a:off x="1500120" y="1714680"/>
            <a:ext cx="598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«Счастливый случай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0" name="Picture 13" descr="baby155"/>
          <p:cNvPicPr/>
          <p:nvPr/>
        </p:nvPicPr>
        <p:blipFill>
          <a:blip r:embed="rId2"/>
          <a:stretch/>
        </p:blipFill>
        <p:spPr>
          <a:xfrm>
            <a:off x="2987640" y="4292640"/>
            <a:ext cx="3168720" cy="2193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44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447" dur="3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4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324000" y="566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WordArt 9"/>
          <p:cNvSpPr txBox="1"/>
          <p:nvPr/>
        </p:nvSpPr>
        <p:spPr>
          <a:xfrm rot="5400000">
            <a:off x="-2197080" y="2636640"/>
            <a:ext cx="518472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бусы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4" name="Text Box 10"/>
          <p:cNvSpPr/>
          <p:nvPr/>
        </p:nvSpPr>
        <p:spPr>
          <a:xfrm>
            <a:off x="395280" y="587700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11"/>
          <p:cNvSpPr/>
          <p:nvPr/>
        </p:nvSpPr>
        <p:spPr>
          <a:xfrm>
            <a:off x="179280" y="6165720"/>
            <a:ext cx="576360" cy="50796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12"/>
          <p:cNvSpPr/>
          <p:nvPr/>
        </p:nvSpPr>
        <p:spPr>
          <a:xfrm>
            <a:off x="1042920" y="260280"/>
            <a:ext cx="78501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1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10"/>
          <p:cNvSpPr/>
          <p:nvPr/>
        </p:nvSpPr>
        <p:spPr>
          <a:xfrm>
            <a:off x="2429280" y="2990880"/>
            <a:ext cx="157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  <a:ea typeface="Calibri"/>
              </a:rPr>
              <a:t>100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Рисунок 1" descr="j0432617"/>
          <p:cNvPicPr/>
          <p:nvPr/>
        </p:nvPicPr>
        <p:blipFill>
          <a:blip r:embed="rId2"/>
          <a:stretch/>
        </p:blipFill>
        <p:spPr>
          <a:xfrm>
            <a:off x="4000680" y="3143160"/>
            <a:ext cx="857160" cy="85752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11"/>
          <p:cNvSpPr/>
          <p:nvPr/>
        </p:nvSpPr>
        <p:spPr>
          <a:xfrm>
            <a:off x="4923720" y="2776320"/>
            <a:ext cx="7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  <a:ea typeface="Calibri"/>
              </a:rPr>
              <a:t>̕̕̕̕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13"/>
          <p:cNvSpPr/>
          <p:nvPr/>
        </p:nvSpPr>
        <p:spPr>
          <a:xfrm>
            <a:off x="7070040" y="5362200"/>
            <a:ext cx="189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8000"/>
                </a:solidFill>
                <a:latin typeface="Calibri"/>
                <a:ea typeface="Calibri"/>
              </a:rPr>
              <a:t>сто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Прямоугольник 11"/>
          <p:cNvSpPr/>
          <p:nvPr/>
        </p:nvSpPr>
        <p:spPr>
          <a:xfrm>
            <a:off x="1143000" y="121428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25140"/>
                </a:solidFill>
                <a:latin typeface="Arial"/>
              </a:rPr>
              <a:t>Разгадайте ребус и назовите рабочее место представителей некоторых професс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324000" y="566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395280" y="587700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AutoShape 6"/>
          <p:cNvSpPr/>
          <p:nvPr/>
        </p:nvSpPr>
        <p:spPr>
          <a:xfrm>
            <a:off x="179280" y="6165720"/>
            <a:ext cx="576360" cy="50796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7"/>
          <p:cNvSpPr/>
          <p:nvPr/>
        </p:nvSpPr>
        <p:spPr>
          <a:xfrm>
            <a:off x="1258920" y="476280"/>
            <a:ext cx="7345440" cy="18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2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25140"/>
                </a:solidFill>
                <a:latin typeface="Arial"/>
              </a:rPr>
              <a:t>Разгадайте ребус и назовите объект, который ремонтирую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642960" y="5786280"/>
            <a:ext cx="78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Кран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WordArt 10"/>
          <p:cNvSpPr txBox="1"/>
          <p:nvPr/>
        </p:nvSpPr>
        <p:spPr>
          <a:xfrm rot="5400000">
            <a:off x="-2197080" y="2636640"/>
            <a:ext cx="518472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бусы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9" name="Picture 9" descr=""/>
          <p:cNvPicPr/>
          <p:nvPr/>
        </p:nvPicPr>
        <p:blipFill>
          <a:blip r:embed="rId2"/>
          <a:stretch/>
        </p:blipFill>
        <p:spPr>
          <a:xfrm>
            <a:off x="1530360" y="2600280"/>
            <a:ext cx="1676520" cy="185760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10"/>
          <p:cNvSpPr/>
          <p:nvPr/>
        </p:nvSpPr>
        <p:spPr>
          <a:xfrm>
            <a:off x="3209400" y="2705040"/>
            <a:ext cx="7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  <a:ea typeface="Calibri"/>
              </a:rPr>
              <a:t>̕̕̕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1"/>
          <p:cNvSpPr/>
          <p:nvPr/>
        </p:nvSpPr>
        <p:spPr>
          <a:xfrm>
            <a:off x="5066640" y="2705040"/>
            <a:ext cx="7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  <a:ea typeface="Calibri"/>
              </a:rPr>
              <a:t>̕̕̕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12" descr=""/>
          <p:cNvPicPr/>
          <p:nvPr/>
        </p:nvPicPr>
        <p:blipFill>
          <a:blip r:embed="rId3"/>
          <a:stretch/>
        </p:blipFill>
        <p:spPr>
          <a:xfrm>
            <a:off x="5715000" y="2857680"/>
            <a:ext cx="1752480" cy="1409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324000" y="566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395280" y="587700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1332000" y="1052640"/>
            <a:ext cx="7416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3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8"/>
          <p:cNvSpPr/>
          <p:nvPr/>
        </p:nvSpPr>
        <p:spPr>
          <a:xfrm>
            <a:off x="324000" y="5950080"/>
            <a:ext cx="93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WordArt 10"/>
          <p:cNvSpPr txBox="1"/>
          <p:nvPr/>
        </p:nvSpPr>
        <p:spPr>
          <a:xfrm rot="5400000">
            <a:off x="-2162160" y="2662200"/>
            <a:ext cx="518472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бусы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9" name="Прямоугольник 16"/>
          <p:cNvSpPr/>
          <p:nvPr/>
        </p:nvSpPr>
        <p:spPr>
          <a:xfrm>
            <a:off x="6646320" y="564372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Прямоугольник 17"/>
          <p:cNvSpPr/>
          <p:nvPr/>
        </p:nvSpPr>
        <p:spPr>
          <a:xfrm>
            <a:off x="1451520" y="2571840"/>
            <a:ext cx="659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«Счастливый случай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13" descr="baby155"/>
          <p:cNvPicPr/>
          <p:nvPr/>
        </p:nvPicPr>
        <p:blipFill>
          <a:blip r:embed="rId2"/>
          <a:stretch/>
        </p:blipFill>
        <p:spPr>
          <a:xfrm>
            <a:off x="2786040" y="3571920"/>
            <a:ext cx="3994200" cy="2765520"/>
          </a:xfrm>
          <a:prstGeom prst="rect">
            <a:avLst/>
          </a:prstGeom>
          <a:ln w="0">
            <a:noFill/>
          </a:ln>
        </p:spPr>
      </p:pic>
      <p:sp>
        <p:nvSpPr>
          <p:cNvPr id="522" name="AutoShape 12"/>
          <p:cNvSpPr/>
          <p:nvPr/>
        </p:nvSpPr>
        <p:spPr>
          <a:xfrm>
            <a:off x="285840" y="5929200"/>
            <a:ext cx="647640" cy="621000"/>
          </a:xfrm>
          <a:custGeom>
            <a:avLst/>
            <a:gdLst>
              <a:gd name="textAreaLeft" fmla="*/ 147600 w 647640"/>
              <a:gd name="textAreaRight" fmla="*/ 500040 w 647640"/>
              <a:gd name="textAreaTop" fmla="*/ 141840 h 621000"/>
              <a:gd name="textAreaBottom" fmla="*/ 479160 h 621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animClr clrSpc="rgb">
                                      <p:cBhvr>
                                        <p:cTn id="49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492" dur="3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9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3"/>
          <p:cNvSpPr/>
          <p:nvPr/>
        </p:nvSpPr>
        <p:spPr>
          <a:xfrm>
            <a:off x="324000" y="566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395280" y="587700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AutoShape 6"/>
          <p:cNvSpPr/>
          <p:nvPr/>
        </p:nvSpPr>
        <p:spPr>
          <a:xfrm>
            <a:off x="179280" y="6165720"/>
            <a:ext cx="576360" cy="50796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7"/>
          <p:cNvSpPr/>
          <p:nvPr/>
        </p:nvSpPr>
        <p:spPr>
          <a:xfrm>
            <a:off x="1403280" y="404640"/>
            <a:ext cx="7561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4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WordArt 9"/>
          <p:cNvSpPr txBox="1"/>
          <p:nvPr/>
        </p:nvSpPr>
        <p:spPr>
          <a:xfrm rot="5400000">
            <a:off x="-2197080" y="2636640"/>
            <a:ext cx="518472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бусы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9" name="Прямоугольник 15"/>
          <p:cNvSpPr/>
          <p:nvPr/>
        </p:nvSpPr>
        <p:spPr>
          <a:xfrm>
            <a:off x="1500120" y="2071800"/>
            <a:ext cx="703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«Несчастный случай»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9" descr="baby94"/>
          <p:cNvPicPr/>
          <p:nvPr/>
        </p:nvPicPr>
        <p:blipFill>
          <a:blip r:embed="rId2"/>
          <a:stretch/>
        </p:blipFill>
        <p:spPr>
          <a:xfrm>
            <a:off x="3214800" y="2928960"/>
            <a:ext cx="310824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4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5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324000" y="573408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324000" y="5661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395280" y="5877000"/>
            <a:ext cx="50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utoShape 6"/>
          <p:cNvSpPr/>
          <p:nvPr/>
        </p:nvSpPr>
        <p:spPr>
          <a:xfrm>
            <a:off x="179280" y="6165720"/>
            <a:ext cx="505080" cy="50796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1285920" y="0"/>
            <a:ext cx="7272360" cy="38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50 баллов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8"/>
          <p:cNvSpPr/>
          <p:nvPr/>
        </p:nvSpPr>
        <p:spPr>
          <a:xfrm>
            <a:off x="3276720" y="5661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Тосте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WordArt 10"/>
          <p:cNvSpPr txBox="1"/>
          <p:nvPr/>
        </p:nvSpPr>
        <p:spPr>
          <a:xfrm rot="5400000">
            <a:off x="-2162160" y="2662200"/>
            <a:ext cx="518472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бусы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8" name="Picture 9" descr=""/>
          <p:cNvPicPr/>
          <p:nvPr/>
        </p:nvPicPr>
        <p:blipFill>
          <a:blip r:embed="rId2"/>
          <a:stretch/>
        </p:blipFill>
        <p:spPr>
          <a:xfrm>
            <a:off x="1500120" y="2571840"/>
            <a:ext cx="1895400" cy="16952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9" descr=""/>
          <p:cNvPicPr/>
          <p:nvPr/>
        </p:nvPicPr>
        <p:blipFill>
          <a:blip r:embed="rId3"/>
          <a:stretch/>
        </p:blipFill>
        <p:spPr>
          <a:xfrm>
            <a:off x="3857760" y="2428920"/>
            <a:ext cx="1571400" cy="1800360"/>
          </a:xfrm>
          <a:prstGeom prst="rect">
            <a:avLst/>
          </a:prstGeom>
          <a:ln w="0">
            <a:noFill/>
          </a:ln>
        </p:spPr>
      </p:pic>
      <p:sp>
        <p:nvSpPr>
          <p:cNvPr id="540" name="Прямоугольник 10"/>
          <p:cNvSpPr/>
          <p:nvPr/>
        </p:nvSpPr>
        <p:spPr>
          <a:xfrm>
            <a:off x="5384160" y="2000160"/>
            <a:ext cx="78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  <a:ea typeface="Calibri"/>
              </a:rPr>
              <a:t>̕̕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Прямоугольник 11"/>
          <p:cNvSpPr/>
          <p:nvPr/>
        </p:nvSpPr>
        <p:spPr>
          <a:xfrm>
            <a:off x="3308040" y="1928880"/>
            <a:ext cx="84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  <a:ea typeface="Calibri"/>
              </a:rPr>
              <a:t>̕̕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Прямоугольник 13"/>
          <p:cNvSpPr/>
          <p:nvPr/>
        </p:nvSpPr>
        <p:spPr>
          <a:xfrm>
            <a:off x="6223320" y="2286000"/>
            <a:ext cx="144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  <a:ea typeface="Calibri"/>
              </a:rPr>
              <a:t>ер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Прямоугольник 13"/>
          <p:cNvSpPr/>
          <p:nvPr/>
        </p:nvSpPr>
        <p:spPr>
          <a:xfrm>
            <a:off x="1214280" y="928800"/>
            <a:ext cx="75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25140"/>
                </a:solidFill>
                <a:latin typeface="Arial"/>
              </a:rPr>
              <a:t>Разгадайте ребус и назовите предмет, который облегчает тру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3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3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5"/>
          <p:cNvSpPr/>
          <p:nvPr/>
        </p:nvSpPr>
        <p:spPr>
          <a:xfrm>
            <a:off x="1071720" y="214200"/>
            <a:ext cx="7462800" cy="5946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Решает каждый с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И жизнь игра, и все мы в ней акт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У каждого своя есть рол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Герой, преступник иль святой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Решаем сами мы поро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Кем быть, кем ста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Судьбу верш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Иль просто по теченью плы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Вести или ведомым бы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Но каждый может измени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Историю своей судьб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Осуществить свои меч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И выбрать верный пу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Ты  также будешь выбирать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Ведь дело каждого реша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Кем дальше в жизни ему стать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6572160" y="6286680"/>
            <a:ext cx="230508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Швецова Ма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7" descr="blest11"/>
          <p:cNvPicPr/>
          <p:nvPr/>
        </p:nvPicPr>
        <p:blipFill>
          <a:blip r:embed="rId1"/>
          <a:stretch/>
        </p:blipFill>
        <p:spPr>
          <a:xfrm>
            <a:off x="6877080" y="3532320"/>
            <a:ext cx="1727280" cy="15429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blest40"/>
          <p:cNvPicPr/>
          <p:nvPr/>
        </p:nvPicPr>
        <p:blipFill>
          <a:blip r:embed="rId2"/>
          <a:stretch/>
        </p:blipFill>
        <p:spPr>
          <a:xfrm rot="2768400">
            <a:off x="-142560" y="3931920"/>
            <a:ext cx="2712960" cy="2427120"/>
          </a:xfrm>
          <a:prstGeom prst="rect">
            <a:avLst/>
          </a:prstGeom>
          <a:ln w="0">
            <a:noFill/>
          </a:ln>
        </p:spPr>
      </p:pic>
      <p:pic>
        <p:nvPicPr>
          <p:cNvPr id="548" name="iz_kinofilmov-karnavalnaja_noch-o_horoshem_nastroenii.mp3" descr=""/>
          <p:cNvPicPr/>
          <p:nvPr/>
        </p:nvPicPr>
        <p:blipFill>
          <a:blip r:embed="rId3"/>
          <a:stretch/>
        </p:blipFill>
        <p:spPr>
          <a:xfrm>
            <a:off x="428760" y="61437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0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5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5" dur="5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9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0" dur="50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6" descr="blest47"/>
          <p:cNvPicPr/>
          <p:nvPr/>
        </p:nvPicPr>
        <p:blipFill>
          <a:blip r:embed="rId2"/>
          <a:stretch/>
        </p:blipFill>
        <p:spPr>
          <a:xfrm>
            <a:off x="611280" y="189000"/>
            <a:ext cx="6337080" cy="571500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7"/>
          <p:cNvSpPr/>
          <p:nvPr/>
        </p:nvSpPr>
        <p:spPr>
          <a:xfrm>
            <a:off x="3780000" y="5877000"/>
            <a:ext cx="1296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WordArt 8"/>
          <p:cNvSpPr txBox="1"/>
          <p:nvPr/>
        </p:nvSpPr>
        <p:spPr>
          <a:xfrm>
            <a:off x="395280" y="3068640"/>
            <a:ext cx="8353440" cy="37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33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С победой!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WordArt 4"/>
          <p:cNvSpPr txBox="1"/>
          <p:nvPr/>
        </p:nvSpPr>
        <p:spPr>
          <a:xfrm>
            <a:off x="684360" y="907920"/>
            <a:ext cx="6767280" cy="251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асибо за игру!</a:t>
            </a:r>
            <a:endParaRPr b="0" lang="en-US" sz="6000" spc="1" strike="noStrike">
              <a:ln w="9360">
                <a:solidFill>
                  <a:srgbClr val="339966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53" name="Picture 13" descr="236"/>
          <p:cNvPicPr/>
          <p:nvPr/>
        </p:nvPicPr>
        <p:blipFill>
          <a:blip r:embed="rId2"/>
          <a:stretch/>
        </p:blipFill>
        <p:spPr>
          <a:xfrm rot="21051000">
            <a:off x="2158560" y="3754080"/>
            <a:ext cx="2482920" cy="21906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4" descr="238"/>
          <p:cNvPicPr/>
          <p:nvPr/>
        </p:nvPicPr>
        <p:blipFill>
          <a:blip r:embed="rId3"/>
          <a:stretch/>
        </p:blipFill>
        <p:spPr>
          <a:xfrm rot="2317800">
            <a:off x="5613120" y="3660840"/>
            <a:ext cx="144936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539640" y="907920"/>
            <a:ext cx="8604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аллов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971640" y="544500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6">
            <a:hlinkClick r:id="rId1" action="ppaction://hlinksldjump"/>
          </p:cNvPr>
          <p:cNvSpPr/>
          <p:nvPr/>
        </p:nvSpPr>
        <p:spPr>
          <a:xfrm>
            <a:off x="971640" y="5516640"/>
            <a:ext cx="1008000" cy="217440"/>
          </a:xfrm>
          <a:prstGeom prst="leftArrow">
            <a:avLst>
              <a:gd name="adj1" fmla="val 50000"/>
              <a:gd name="adj2" fmla="val 115894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324000" y="404640"/>
            <a:ext cx="576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З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8"/>
          <p:cNvSpPr/>
          <p:nvPr/>
        </p:nvSpPr>
        <p:spPr>
          <a:xfrm>
            <a:off x="2286000" y="20718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ем бы мог работать в наши д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олк из сказки «Волк и семеро козлят»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9"/>
          <p:cNvSpPr/>
          <p:nvPr/>
        </p:nvSpPr>
        <p:spPr>
          <a:xfrm>
            <a:off x="6286680" y="6000840"/>
            <a:ext cx="22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ародистом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Рисунок 7" descr="p2.gif"/>
          <p:cNvPicPr/>
          <p:nvPr/>
        </p:nvPicPr>
        <p:blipFill>
          <a:blip r:embed="rId2"/>
          <a:stretch/>
        </p:blipFill>
        <p:spPr>
          <a:xfrm>
            <a:off x="285840" y="2571840"/>
            <a:ext cx="182088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571680" y="285840"/>
            <a:ext cx="7992720" cy="22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30 баллов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042920" y="530064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6">
            <a:hlinkClick r:id="rId1" action="ppaction://hlinksldjump"/>
          </p:cNvPr>
          <p:cNvSpPr/>
          <p:nvPr/>
        </p:nvSpPr>
        <p:spPr>
          <a:xfrm>
            <a:off x="500040" y="6000840"/>
            <a:ext cx="1081080" cy="215640"/>
          </a:xfrm>
          <a:prstGeom prst="leftArrow">
            <a:avLst>
              <a:gd name="adj1" fmla="val 50000"/>
              <a:gd name="adj2" fmla="val 125334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79280" y="260280"/>
            <a:ext cx="7207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З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4714920" y="600084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оциальным работник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2357280" y="20718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ем бы могла работать в наши д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расная Шапочка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Рисунок 7" descr="r2.gif"/>
          <p:cNvPicPr/>
          <p:nvPr/>
        </p:nvPicPr>
        <p:blipFill>
          <a:blip r:embed="rId2"/>
          <a:stretch/>
        </p:blipFill>
        <p:spPr>
          <a:xfrm>
            <a:off x="0" y="2500200"/>
            <a:ext cx="228600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7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1000080" y="500040"/>
            <a:ext cx="7201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4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95280" y="6093000"/>
            <a:ext cx="187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>
            <a:hlinkClick r:id="rId1" action="ppaction://hlinksldjump"/>
          </p:cNvPr>
          <p:cNvSpPr/>
          <p:nvPr/>
        </p:nvSpPr>
        <p:spPr>
          <a:xfrm>
            <a:off x="179280" y="5950080"/>
            <a:ext cx="792360" cy="64908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65" h="21600">
                <a:moveTo>
                  <a:pt x="0" y="0"/>
                </a:moveTo>
                <a:lnTo>
                  <a:pt x="26365" y="0"/>
                </a:lnTo>
                <a:lnTo>
                  <a:pt x="26365" y="21600"/>
                </a:lnTo>
                <a:lnTo>
                  <a:pt x="0" y="21600"/>
                </a:lnTo>
                <a:close/>
              </a:path>
              <a:path fill="lightenLess" w="26365" h="21600">
                <a:moveTo>
                  <a:pt x="0" y="0"/>
                </a:moveTo>
                <a:lnTo>
                  <a:pt x="26365" y="0"/>
                </a:lnTo>
                <a:lnTo>
                  <a:pt x="24965" y="1400"/>
                </a:lnTo>
                <a:lnTo>
                  <a:pt x="1400" y="1400"/>
                </a:lnTo>
                <a:close/>
              </a:path>
              <a:path fill="darken" w="26365" h="21600">
                <a:moveTo>
                  <a:pt x="26365" y="0"/>
                </a:moveTo>
                <a:lnTo>
                  <a:pt x="26365" y="21600"/>
                </a:lnTo>
                <a:lnTo>
                  <a:pt x="24965" y="20200"/>
                </a:lnTo>
                <a:lnTo>
                  <a:pt x="24965" y="1400"/>
                </a:lnTo>
                <a:close/>
              </a:path>
              <a:path fill="darkenLess" w="26365" h="21600">
                <a:moveTo>
                  <a:pt x="26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65" y="20200"/>
                </a:lnTo>
                <a:close/>
              </a:path>
              <a:path fill="lighten" w="26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65" h="21600">
                <a:moveTo>
                  <a:pt x="6176" y="10800"/>
                </a:moveTo>
                <a:lnTo>
                  <a:pt x="20189" y="3794"/>
                </a:lnTo>
                <a:lnTo>
                  <a:pt x="20189" y="17806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324000" y="404640"/>
            <a:ext cx="5029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З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Прямоугольник 8"/>
          <p:cNvSpPr/>
          <p:nvPr/>
        </p:nvSpPr>
        <p:spPr>
          <a:xfrm>
            <a:off x="2357280" y="164304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ем бы мог работать в наши д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от Матроскин из мультфильма «Каникулы в Простоквашино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Прямоугольник 9"/>
          <p:cNvSpPr/>
          <p:nvPr/>
        </p:nvSpPr>
        <p:spPr>
          <a:xfrm>
            <a:off x="6214680" y="5143680"/>
            <a:ext cx="262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ммерсант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животновод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фермер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Рисунок 7" descr="37R5.GIF"/>
          <p:cNvPicPr/>
          <p:nvPr/>
        </p:nvPicPr>
        <p:blipFill>
          <a:blip r:embed="rId2"/>
          <a:stretch/>
        </p:blipFill>
        <p:spPr>
          <a:xfrm>
            <a:off x="6572160" y="0"/>
            <a:ext cx="2089080" cy="1857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0" y="0"/>
            <a:ext cx="9144000" cy="36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50 балло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Кот в мешке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468360" y="602136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6">
            <a:hlinkClick r:id="" action="ppaction://hlinkshowjump?jump=nextslide"/>
          </p:cNvPr>
          <p:cNvSpPr/>
          <p:nvPr/>
        </p:nvSpPr>
        <p:spPr>
          <a:xfrm>
            <a:off x="324000" y="595008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1186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735" h="21600">
                <a:moveTo>
                  <a:pt x="12973" y="14281"/>
                </a:moveTo>
                <a:lnTo>
                  <a:pt x="12973" y="12323"/>
                </a:lnTo>
                <a:cubicBezTo>
                  <a:pt x="12973" y="11496"/>
                  <a:pt x="13304" y="10800"/>
                  <a:pt x="13904" y="10800"/>
                </a:cubicBezTo>
                <a:cubicBezTo>
                  <a:pt x="15036" y="10800"/>
                  <a:pt x="15932" y="9434"/>
                  <a:pt x="15932" y="7849"/>
                </a:cubicBezTo>
                <a:cubicBezTo>
                  <a:pt x="15932" y="5534"/>
                  <a:pt x="14078" y="3794"/>
                  <a:pt x="11868" y="3794"/>
                </a:cubicBezTo>
                <a:cubicBezTo>
                  <a:pt x="9657" y="3794"/>
                  <a:pt x="7986" y="5534"/>
                  <a:pt x="7986" y="7849"/>
                </a:cubicBezTo>
                <a:lnTo>
                  <a:pt x="9840" y="7849"/>
                </a:lnTo>
                <a:cubicBezTo>
                  <a:pt x="9840" y="6709"/>
                  <a:pt x="10762" y="5821"/>
                  <a:pt x="11868" y="5821"/>
                </a:cubicBezTo>
                <a:cubicBezTo>
                  <a:pt x="12973" y="5821"/>
                  <a:pt x="13904" y="6709"/>
                  <a:pt x="13904" y="7849"/>
                </a:cubicBezTo>
                <a:cubicBezTo>
                  <a:pt x="13904" y="8589"/>
                  <a:pt x="13434" y="9320"/>
                  <a:pt x="12973" y="9320"/>
                </a:cubicBezTo>
                <a:cubicBezTo>
                  <a:pt x="11868" y="9320"/>
                  <a:pt x="10762" y="10800"/>
                  <a:pt x="10762" y="12323"/>
                </a:cubicBezTo>
                <a:lnTo>
                  <a:pt x="10762" y="14281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324000" y="333360"/>
            <a:ext cx="50292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З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Г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А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Д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К</a:t>
            </a:r>
            <a:br>
              <a:rPr sz="1800"/>
            </a:b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9" descr="8m5"/>
          <p:cNvPicPr/>
          <p:nvPr/>
        </p:nvPicPr>
        <p:blipFill>
          <a:blip r:embed="rId1"/>
          <a:stretch/>
        </p:blipFill>
        <p:spPr>
          <a:xfrm>
            <a:off x="7236000" y="260280"/>
            <a:ext cx="1672920" cy="1673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1:59:52Z</dcterms:created>
  <dc:creator>Григорьев Б.Т.</dc:creator>
  <dc:description/>
  <dc:language>en-US</dc:language>
  <cp:lastModifiedBy>Дмитрий Каленюк</cp:lastModifiedBy>
  <dcterms:modified xsi:type="dcterms:W3CDTF">2021-03-13T10:55:47Z</dcterms:modified>
  <cp:revision>165</cp:revision>
  <dc:subject/>
  <dc:title>Своя игра</dc:title>
</cp:coreProperties>
</file>