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39C-CBA6-46A3-A1F1-615CB4D4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420A-EEFF-4DC6-A341-17672492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4CC-DE10-4D19-BB06-2C1B03CAB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9C8-24B9-46F7-9F56-718F0A4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6BD-2436-4BC3-AAAE-3CC093A3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DB4-DD61-404F-B6C3-FD469B5E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D4D-CB73-4FFD-90E1-F2862EB0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DD9-43A5-4350-95F7-481B4F92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CC2-2EDA-443A-BF5B-512EE53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69E-8469-49D3-9572-FB4D08B5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86A-2556-4400-9538-D3A35F10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AD3C-9E35-4745-8217-BA7AA439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F3BF-5C8D-4DE0-A8B5-D69B352318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E02A-86BC-4E9F-8044-B40C4FC89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ь слова. Однокоренные сло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CB98-863B-4A5E-A70D-CEB744282C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C758-572A-4251-BBBD-393825C35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22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AB28-8D0D-442C-BCD8-CF3C48F5937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731D-6E8A-46E9-91F4-6619F01333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4"/>
          <p:cNvGrpSpPr/>
          <p:nvPr/>
        </p:nvGrpSpPr>
        <p:grpSpPr>
          <a:xfrm>
            <a:off x="5367240" y="1517760"/>
            <a:ext cx="723960" cy="77760"/>
            <a:chOff x="5367240" y="1517760"/>
            <a:chExt cx="723960" cy="77760"/>
          </a:xfrm>
        </p:grpSpPr>
        <p:sp>
          <p:nvSpPr>
            <p:cNvPr id="49" name="Прямая соединительная линия 15"/>
            <p:cNvSpPr/>
            <p:nvPr/>
          </p:nvSpPr>
          <p:spPr>
            <a:xfrm>
              <a:off x="5367240" y="1595520"/>
              <a:ext cx="7239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ая соединительная линия 16"/>
            <p:cNvSpPr/>
            <p:nvPr/>
          </p:nvSpPr>
          <p:spPr>
            <a:xfrm flipV="1">
              <a:off x="53722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Прямая соединительная линия 17"/>
            <p:cNvSpPr/>
            <p:nvPr/>
          </p:nvSpPr>
          <p:spPr>
            <a:xfrm flipV="1">
              <a:off x="609120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Группа 18"/>
          <p:cNvGrpSpPr/>
          <p:nvPr/>
        </p:nvGrpSpPr>
        <p:grpSpPr>
          <a:xfrm>
            <a:off x="1763640" y="1517760"/>
            <a:ext cx="1008000" cy="77760"/>
            <a:chOff x="1763640" y="1517760"/>
            <a:chExt cx="1008000" cy="77760"/>
          </a:xfrm>
        </p:grpSpPr>
        <p:sp>
          <p:nvSpPr>
            <p:cNvPr id="53" name="Прямая соединительная линия 19"/>
            <p:cNvSpPr/>
            <p:nvPr/>
          </p:nvSpPr>
          <p:spPr>
            <a:xfrm>
              <a:off x="1763640" y="1595520"/>
              <a:ext cx="100800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20"/>
            <p:cNvSpPr/>
            <p:nvPr/>
          </p:nvSpPr>
          <p:spPr>
            <a:xfrm flipV="1">
              <a:off x="17708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1"/>
            <p:cNvSpPr/>
            <p:nvPr/>
          </p:nvSpPr>
          <p:spPr>
            <a:xfrm flipV="1">
              <a:off x="27716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Группа 22"/>
          <p:cNvGrpSpPr/>
          <p:nvPr/>
        </p:nvGrpSpPr>
        <p:grpSpPr>
          <a:xfrm>
            <a:off x="2965320" y="1517760"/>
            <a:ext cx="725760" cy="77760"/>
            <a:chOff x="2965320" y="1517760"/>
            <a:chExt cx="725760" cy="77760"/>
          </a:xfrm>
        </p:grpSpPr>
        <p:sp>
          <p:nvSpPr>
            <p:cNvPr id="57" name="Прямая соединительная линия 23"/>
            <p:cNvSpPr/>
            <p:nvPr/>
          </p:nvSpPr>
          <p:spPr>
            <a:xfrm>
              <a:off x="2965320" y="1595520"/>
              <a:ext cx="7257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24"/>
            <p:cNvSpPr/>
            <p:nvPr/>
          </p:nvSpPr>
          <p:spPr>
            <a:xfrm flipV="1">
              <a:off x="297036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Прямая соединительная линия 25"/>
            <p:cNvSpPr/>
            <p:nvPr/>
          </p:nvSpPr>
          <p:spPr>
            <a:xfrm flipV="1">
              <a:off x="36910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26"/>
          <p:cNvSpPr/>
          <p:nvPr/>
        </p:nvSpPr>
        <p:spPr>
          <a:xfrm>
            <a:off x="3492360" y="198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щ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3842-B665-4521-9B57-9C5A80BDD2A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4D0-FAEC-48AE-8630-06A1456B2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Группа 14"/>
          <p:cNvGrpSpPr/>
          <p:nvPr/>
        </p:nvGrpSpPr>
        <p:grpSpPr>
          <a:xfrm>
            <a:off x="5367240" y="1517760"/>
            <a:ext cx="723960" cy="77760"/>
            <a:chOff x="5367240" y="1517760"/>
            <a:chExt cx="723960" cy="77760"/>
          </a:xfrm>
        </p:grpSpPr>
        <p:sp>
          <p:nvSpPr>
            <p:cNvPr id="65" name="Прямая соединительная линия 15"/>
            <p:cNvSpPr/>
            <p:nvPr/>
          </p:nvSpPr>
          <p:spPr>
            <a:xfrm>
              <a:off x="5367240" y="1595520"/>
              <a:ext cx="7239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Прямая соединительная линия 16"/>
            <p:cNvSpPr/>
            <p:nvPr/>
          </p:nvSpPr>
          <p:spPr>
            <a:xfrm flipV="1">
              <a:off x="53722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Прямая соединительная линия 17"/>
            <p:cNvSpPr/>
            <p:nvPr/>
          </p:nvSpPr>
          <p:spPr>
            <a:xfrm flipV="1">
              <a:off x="609120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18"/>
          <p:cNvGrpSpPr/>
          <p:nvPr/>
        </p:nvGrpSpPr>
        <p:grpSpPr>
          <a:xfrm>
            <a:off x="1763640" y="1517760"/>
            <a:ext cx="1008000" cy="77760"/>
            <a:chOff x="1763640" y="1517760"/>
            <a:chExt cx="1008000" cy="77760"/>
          </a:xfrm>
        </p:grpSpPr>
        <p:sp>
          <p:nvSpPr>
            <p:cNvPr id="69" name="Прямая соединительная линия 19"/>
            <p:cNvSpPr/>
            <p:nvPr/>
          </p:nvSpPr>
          <p:spPr>
            <a:xfrm>
              <a:off x="1763640" y="1595520"/>
              <a:ext cx="100800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20"/>
            <p:cNvSpPr/>
            <p:nvPr/>
          </p:nvSpPr>
          <p:spPr>
            <a:xfrm flipV="1">
              <a:off x="17708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21"/>
            <p:cNvSpPr/>
            <p:nvPr/>
          </p:nvSpPr>
          <p:spPr>
            <a:xfrm flipV="1">
              <a:off x="27716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Группа 22"/>
          <p:cNvGrpSpPr/>
          <p:nvPr/>
        </p:nvGrpSpPr>
        <p:grpSpPr>
          <a:xfrm>
            <a:off x="2965320" y="1517760"/>
            <a:ext cx="725760" cy="77760"/>
            <a:chOff x="2965320" y="1517760"/>
            <a:chExt cx="725760" cy="77760"/>
          </a:xfrm>
        </p:grpSpPr>
        <p:sp>
          <p:nvSpPr>
            <p:cNvPr id="73" name="Прямая соединительная линия 23"/>
            <p:cNvSpPr/>
            <p:nvPr/>
          </p:nvSpPr>
          <p:spPr>
            <a:xfrm>
              <a:off x="2965320" y="1595520"/>
              <a:ext cx="7257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24"/>
            <p:cNvSpPr/>
            <p:nvPr/>
          </p:nvSpPr>
          <p:spPr>
            <a:xfrm flipV="1">
              <a:off x="297036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25"/>
            <p:cNvSpPr/>
            <p:nvPr/>
          </p:nvSpPr>
          <p:spPr>
            <a:xfrm flipV="1">
              <a:off x="36910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26"/>
          <p:cNvSpPr/>
          <p:nvPr/>
        </p:nvSpPr>
        <p:spPr>
          <a:xfrm>
            <a:off x="3492360" y="198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щая част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уга 1"/>
          <p:cNvSpPr/>
          <p:nvPr/>
        </p:nvSpPr>
        <p:spPr>
          <a:xfrm rot="18179400">
            <a:off x="1740240" y="864000"/>
            <a:ext cx="922320" cy="955800"/>
          </a:xfrm>
          <a:custGeom>
            <a:avLst/>
            <a:gdLst/>
            <a:ahLst/>
            <a:rect l="l" t="t" r="r" b="b"/>
            <a:pathLst>
              <a:path stroke="0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  <a:lnTo>
                  <a:pt x="460660" y="477604"/>
                </a:lnTo>
                <a:lnTo>
                  <a:pt x="305795" y="27798"/>
                </a:lnTo>
                <a:close/>
              </a:path>
              <a:path fill="none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Дуга 27"/>
          <p:cNvSpPr/>
          <p:nvPr/>
        </p:nvSpPr>
        <p:spPr>
          <a:xfrm rot="18179400">
            <a:off x="2899080" y="889560"/>
            <a:ext cx="789120" cy="80964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Дуга 28"/>
          <p:cNvSpPr/>
          <p:nvPr/>
        </p:nvSpPr>
        <p:spPr>
          <a:xfrm rot="18179400">
            <a:off x="5288040" y="937800"/>
            <a:ext cx="788760" cy="80820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9"/>
          <p:cNvSpPr/>
          <p:nvPr/>
        </p:nvSpPr>
        <p:spPr>
          <a:xfrm>
            <a:off x="3889440" y="26398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, ветряный, безветр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6870-B1E8-4920-AA23-8A6A8D0698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61FC-C1A8-4226-9095-823D0F6AE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4"/>
          <p:cNvGrpSpPr/>
          <p:nvPr/>
        </p:nvGrpSpPr>
        <p:grpSpPr>
          <a:xfrm>
            <a:off x="5367240" y="1517760"/>
            <a:ext cx="723960" cy="77760"/>
            <a:chOff x="5367240" y="1517760"/>
            <a:chExt cx="723960" cy="77760"/>
          </a:xfrm>
        </p:grpSpPr>
        <p:sp>
          <p:nvSpPr>
            <p:cNvPr id="85" name="Прямая соединительная линия 15"/>
            <p:cNvSpPr/>
            <p:nvPr/>
          </p:nvSpPr>
          <p:spPr>
            <a:xfrm>
              <a:off x="5367240" y="1595520"/>
              <a:ext cx="7239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Прямая соединительная линия 16"/>
            <p:cNvSpPr/>
            <p:nvPr/>
          </p:nvSpPr>
          <p:spPr>
            <a:xfrm flipV="1">
              <a:off x="53722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Прямая соединительная линия 17"/>
            <p:cNvSpPr/>
            <p:nvPr/>
          </p:nvSpPr>
          <p:spPr>
            <a:xfrm flipV="1">
              <a:off x="609120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Группа 18"/>
          <p:cNvGrpSpPr/>
          <p:nvPr/>
        </p:nvGrpSpPr>
        <p:grpSpPr>
          <a:xfrm>
            <a:off x="1763640" y="1517760"/>
            <a:ext cx="1008000" cy="77760"/>
            <a:chOff x="1763640" y="1517760"/>
            <a:chExt cx="1008000" cy="77760"/>
          </a:xfrm>
        </p:grpSpPr>
        <p:sp>
          <p:nvSpPr>
            <p:cNvPr id="89" name="Прямая соединительная линия 19"/>
            <p:cNvSpPr/>
            <p:nvPr/>
          </p:nvSpPr>
          <p:spPr>
            <a:xfrm>
              <a:off x="1763640" y="1595520"/>
              <a:ext cx="100800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20"/>
            <p:cNvSpPr/>
            <p:nvPr/>
          </p:nvSpPr>
          <p:spPr>
            <a:xfrm flipV="1">
              <a:off x="17708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Прямая соединительная линия 21"/>
            <p:cNvSpPr/>
            <p:nvPr/>
          </p:nvSpPr>
          <p:spPr>
            <a:xfrm flipV="1">
              <a:off x="277164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Группа 22"/>
          <p:cNvGrpSpPr/>
          <p:nvPr/>
        </p:nvGrpSpPr>
        <p:grpSpPr>
          <a:xfrm>
            <a:off x="2965320" y="1517760"/>
            <a:ext cx="725760" cy="77760"/>
            <a:chOff x="2965320" y="1517760"/>
            <a:chExt cx="725760" cy="77760"/>
          </a:xfrm>
        </p:grpSpPr>
        <p:sp>
          <p:nvSpPr>
            <p:cNvPr id="93" name="Прямая соединительная линия 23"/>
            <p:cNvSpPr/>
            <p:nvPr/>
          </p:nvSpPr>
          <p:spPr>
            <a:xfrm>
              <a:off x="2965320" y="1595520"/>
              <a:ext cx="725760" cy="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Прямая соединительная линия 24"/>
            <p:cNvSpPr/>
            <p:nvPr/>
          </p:nvSpPr>
          <p:spPr>
            <a:xfrm flipV="1">
              <a:off x="297036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25"/>
            <p:cNvSpPr/>
            <p:nvPr/>
          </p:nvSpPr>
          <p:spPr>
            <a:xfrm flipV="1">
              <a:off x="3691080" y="1517760"/>
              <a:ext cx="0" cy="77760"/>
            </a:xfrm>
            <a:prstGeom prst="line">
              <a:avLst/>
            </a:prstGeom>
            <a:ln w="381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26"/>
          <p:cNvSpPr/>
          <p:nvPr/>
        </p:nvSpPr>
        <p:spPr>
          <a:xfrm>
            <a:off x="3492360" y="1989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Общая часть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уга 1"/>
          <p:cNvSpPr/>
          <p:nvPr/>
        </p:nvSpPr>
        <p:spPr>
          <a:xfrm rot="18179400">
            <a:off x="1740240" y="864000"/>
            <a:ext cx="922320" cy="955800"/>
          </a:xfrm>
          <a:custGeom>
            <a:avLst/>
            <a:gdLst/>
            <a:ahLst/>
            <a:rect l="l" t="t" r="r" b="b"/>
            <a:pathLst>
              <a:path stroke="0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  <a:lnTo>
                  <a:pt x="460660" y="477604"/>
                </a:lnTo>
                <a:lnTo>
                  <a:pt x="305795" y="27798"/>
                </a:lnTo>
                <a:close/>
              </a:path>
              <a:path fill="none" w="921320" h="955208">
                <a:moveTo>
                  <a:pt x="305795" y="27798"/>
                </a:moveTo>
                <a:cubicBezTo>
                  <a:pt x="514068" y="-49281"/>
                  <a:pt x="745784" y="37959"/>
                  <a:pt x="857823" y="235634"/>
                </a:cubicBezTo>
                <a:cubicBezTo>
                  <a:pt x="964516" y="423877"/>
                  <a:pt x="934499" y="663167"/>
                  <a:pt x="784912" y="816853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Дуга 27"/>
          <p:cNvSpPr/>
          <p:nvPr/>
        </p:nvSpPr>
        <p:spPr>
          <a:xfrm rot="18179400">
            <a:off x="2899080" y="889560"/>
            <a:ext cx="789120" cy="80964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Дуга 28"/>
          <p:cNvSpPr/>
          <p:nvPr/>
        </p:nvSpPr>
        <p:spPr>
          <a:xfrm rot="18179400">
            <a:off x="5288040" y="937800"/>
            <a:ext cx="788760" cy="808200"/>
          </a:xfrm>
          <a:custGeom>
            <a:avLst/>
            <a:gdLst/>
            <a:ahLst/>
            <a:rect l="l" t="t" r="r" b="b"/>
            <a:pathLst>
              <a:path stroke="0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  <a:lnTo>
                  <a:pt x="394643" y="404625"/>
                </a:lnTo>
                <a:lnTo>
                  <a:pt x="263278" y="23075"/>
                </a:lnTo>
                <a:close/>
              </a:path>
              <a:path fill="none" w="789285" h="809249">
                <a:moveTo>
                  <a:pt x="263278" y="23075"/>
                </a:moveTo>
                <a:cubicBezTo>
                  <a:pt x="440751" y="-41158"/>
                  <a:pt x="637767" y="32040"/>
                  <a:pt x="733909" y="197928"/>
                </a:cubicBezTo>
                <a:cubicBezTo>
                  <a:pt x="826856" y="358303"/>
                  <a:pt x="800814" y="563046"/>
                  <a:pt x="670861" y="693617"/>
                </a:cubicBezTo>
              </a:path>
            </a:pathLst>
          </a:custGeom>
          <a:noFill/>
          <a:ln w="38160">
            <a:solidFill>
              <a:srgbClr val="98b95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9"/>
          <p:cNvSpPr/>
          <p:nvPr/>
        </p:nvSpPr>
        <p:spPr>
          <a:xfrm>
            <a:off x="3889440" y="26398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0"/>
          <p:cNvSpPr/>
          <p:nvPr/>
        </p:nvSpPr>
        <p:spPr>
          <a:xfrm>
            <a:off x="2455920" y="3257640"/>
            <a:ext cx="553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КОРЕН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484360" y="90792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-74520" y="398520"/>
            <a:ext cx="61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Ёж, ежонок, ежи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http://logoped-lip.ru/wp-content/uploads/2013/04/IMG20130418_007.jpg"/>
          <p:cNvPicPr/>
          <p:nvPr/>
        </p:nvPicPr>
        <p:blipFill>
          <a:blip r:embed="rId1"/>
          <a:stretch/>
        </p:blipFill>
        <p:spPr>
          <a:xfrm>
            <a:off x="6084720" y="189000"/>
            <a:ext cx="2859120" cy="2144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2519280" y="3887640"/>
            <a:ext cx="662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, слонёнок, слониха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http://www.tepid.ru/images/asian-elephant7.jpg"/>
          <p:cNvPicPr/>
          <p:nvPr/>
        </p:nvPicPr>
        <p:blipFill>
          <a:blip r:embed="rId2"/>
          <a:stretch/>
        </p:blipFill>
        <p:spPr>
          <a:xfrm>
            <a:off x="200160" y="1733400"/>
            <a:ext cx="3135240" cy="2089440"/>
          </a:xfrm>
          <a:prstGeom prst="rect">
            <a:avLst/>
          </a:prstGeom>
          <a:ln w="0">
            <a:noFill/>
          </a:ln>
        </p:spPr>
      </p:pic>
      <p:sp>
        <p:nvSpPr>
          <p:cNvPr id="107" name="Арка 5"/>
          <p:cNvSpPr/>
          <p:nvPr/>
        </p:nvSpPr>
        <p:spPr>
          <a:xfrm>
            <a:off x="122400" y="546120"/>
            <a:ext cx="755640" cy="149040"/>
          </a:xfrm>
          <a:custGeom>
            <a:avLst/>
            <a:gdLst/>
            <a:ahLst/>
            <a:rect l="l" t="t" r="r" b="b"/>
            <a:pathLst>
              <a:path w="755650" h="149225">
                <a:moveTo>
                  <a:pt x="0" y="74613"/>
                </a:moveTo>
                <a:cubicBezTo>
                  <a:pt x="0" y="33405"/>
                  <a:pt x="169158" y="0"/>
                  <a:pt x="377825" y="0"/>
                </a:cubicBezTo>
                <a:cubicBezTo>
                  <a:pt x="586492" y="0"/>
                  <a:pt x="755650" y="33405"/>
                  <a:pt x="755650" y="74613"/>
                </a:cubicBezTo>
                <a:lnTo>
                  <a:pt x="718344" y="74613"/>
                </a:lnTo>
                <a:cubicBezTo>
                  <a:pt x="718344" y="54009"/>
                  <a:pt x="565888" y="37307"/>
                  <a:pt x="377825" y="37307"/>
                </a:cubicBezTo>
                <a:cubicBezTo>
                  <a:pt x="189762" y="37307"/>
                  <a:pt x="37306" y="54009"/>
                  <a:pt x="37306" y="74613"/>
                </a:cubicBezTo>
                <a:lnTo>
                  <a:pt x="0" y="746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Арка 13"/>
          <p:cNvSpPr/>
          <p:nvPr/>
        </p:nvSpPr>
        <p:spPr>
          <a:xfrm>
            <a:off x="1073160" y="546120"/>
            <a:ext cx="755640" cy="149040"/>
          </a:xfrm>
          <a:custGeom>
            <a:avLst/>
            <a:gdLst/>
            <a:ahLst/>
            <a:rect l="l" t="t" r="r" b="b"/>
            <a:pathLst>
              <a:path w="755650" h="149225">
                <a:moveTo>
                  <a:pt x="0" y="74613"/>
                </a:moveTo>
                <a:cubicBezTo>
                  <a:pt x="0" y="33405"/>
                  <a:pt x="169158" y="0"/>
                  <a:pt x="377825" y="0"/>
                </a:cubicBezTo>
                <a:cubicBezTo>
                  <a:pt x="586492" y="0"/>
                  <a:pt x="755650" y="33405"/>
                  <a:pt x="755650" y="74613"/>
                </a:cubicBezTo>
                <a:lnTo>
                  <a:pt x="718344" y="74613"/>
                </a:lnTo>
                <a:cubicBezTo>
                  <a:pt x="718344" y="54009"/>
                  <a:pt x="565888" y="37307"/>
                  <a:pt x="377825" y="37307"/>
                </a:cubicBezTo>
                <a:cubicBezTo>
                  <a:pt x="189762" y="37307"/>
                  <a:pt x="37306" y="54009"/>
                  <a:pt x="37306" y="74613"/>
                </a:cubicBezTo>
                <a:lnTo>
                  <a:pt x="0" y="746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Арка 14"/>
          <p:cNvSpPr/>
          <p:nvPr/>
        </p:nvSpPr>
        <p:spPr>
          <a:xfrm>
            <a:off x="3328920" y="579600"/>
            <a:ext cx="755640" cy="149040"/>
          </a:xfrm>
          <a:custGeom>
            <a:avLst/>
            <a:gdLst/>
            <a:ahLst/>
            <a:rect l="l" t="t" r="r" b="b"/>
            <a:pathLst>
              <a:path w="755650" h="149225">
                <a:moveTo>
                  <a:pt x="0" y="74613"/>
                </a:moveTo>
                <a:cubicBezTo>
                  <a:pt x="0" y="33405"/>
                  <a:pt x="169158" y="0"/>
                  <a:pt x="377825" y="0"/>
                </a:cubicBezTo>
                <a:cubicBezTo>
                  <a:pt x="586492" y="0"/>
                  <a:pt x="755650" y="33405"/>
                  <a:pt x="755650" y="74613"/>
                </a:cubicBezTo>
                <a:lnTo>
                  <a:pt x="718344" y="74613"/>
                </a:lnTo>
                <a:cubicBezTo>
                  <a:pt x="718344" y="54009"/>
                  <a:pt x="565888" y="37307"/>
                  <a:pt x="377825" y="37307"/>
                </a:cubicBezTo>
                <a:cubicBezTo>
                  <a:pt x="189762" y="37307"/>
                  <a:pt x="37306" y="54009"/>
                  <a:pt x="37306" y="74613"/>
                </a:cubicBezTo>
                <a:lnTo>
                  <a:pt x="0" y="746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Арка 15"/>
          <p:cNvSpPr/>
          <p:nvPr/>
        </p:nvSpPr>
        <p:spPr>
          <a:xfrm>
            <a:off x="2657520" y="4040280"/>
            <a:ext cx="1260360" cy="152280"/>
          </a:xfrm>
          <a:custGeom>
            <a:avLst/>
            <a:gdLst/>
            <a:ahLst/>
            <a:rect l="l" t="t" r="r" b="b"/>
            <a:pathLst>
              <a:path w="1260475" h="150813">
                <a:moveTo>
                  <a:pt x="0" y="75407"/>
                </a:moveTo>
                <a:cubicBezTo>
                  <a:pt x="0" y="33761"/>
                  <a:pt x="282167" y="0"/>
                  <a:pt x="630238" y="0"/>
                </a:cubicBezTo>
                <a:cubicBezTo>
                  <a:pt x="978309" y="0"/>
                  <a:pt x="1260476" y="33761"/>
                  <a:pt x="1260476" y="75407"/>
                </a:cubicBezTo>
                <a:lnTo>
                  <a:pt x="1222772" y="75407"/>
                </a:lnTo>
                <a:cubicBezTo>
                  <a:pt x="1222772" y="54584"/>
                  <a:pt x="957485" y="37704"/>
                  <a:pt x="630238" y="37704"/>
                </a:cubicBezTo>
                <a:cubicBezTo>
                  <a:pt x="302991" y="37704"/>
                  <a:pt x="37704" y="54584"/>
                  <a:pt x="37704" y="75407"/>
                </a:cubicBezTo>
                <a:lnTo>
                  <a:pt x="0" y="75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Арка 16"/>
          <p:cNvSpPr/>
          <p:nvPr/>
        </p:nvSpPr>
        <p:spPr>
          <a:xfrm>
            <a:off x="4124160" y="4046400"/>
            <a:ext cx="1163880" cy="150840"/>
          </a:xfrm>
          <a:custGeom>
            <a:avLst/>
            <a:gdLst/>
            <a:ahLst/>
            <a:rect l="l" t="t" r="r" b="b"/>
            <a:pathLst>
              <a:path w="1164202" h="150813">
                <a:moveTo>
                  <a:pt x="0" y="75407"/>
                </a:moveTo>
                <a:cubicBezTo>
                  <a:pt x="0" y="33761"/>
                  <a:pt x="260615" y="0"/>
                  <a:pt x="582101" y="0"/>
                </a:cubicBezTo>
                <a:cubicBezTo>
                  <a:pt x="903587" y="0"/>
                  <a:pt x="1164202" y="33761"/>
                  <a:pt x="1164202" y="75407"/>
                </a:cubicBezTo>
                <a:lnTo>
                  <a:pt x="1126499" y="75407"/>
                </a:lnTo>
                <a:cubicBezTo>
                  <a:pt x="1126499" y="54584"/>
                  <a:pt x="882764" y="37704"/>
                  <a:pt x="582101" y="37704"/>
                </a:cubicBezTo>
                <a:cubicBezTo>
                  <a:pt x="281438" y="37704"/>
                  <a:pt x="37703" y="54584"/>
                  <a:pt x="37703" y="75407"/>
                </a:cubicBezTo>
                <a:lnTo>
                  <a:pt x="0" y="75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Арка 17"/>
          <p:cNvSpPr/>
          <p:nvPr/>
        </p:nvSpPr>
        <p:spPr>
          <a:xfrm>
            <a:off x="6689880" y="4040280"/>
            <a:ext cx="1163520" cy="152280"/>
          </a:xfrm>
          <a:custGeom>
            <a:avLst/>
            <a:gdLst/>
            <a:ahLst/>
            <a:rect l="l" t="t" r="r" b="b"/>
            <a:pathLst>
              <a:path w="1164202" h="150813">
                <a:moveTo>
                  <a:pt x="0" y="75407"/>
                </a:moveTo>
                <a:cubicBezTo>
                  <a:pt x="0" y="33761"/>
                  <a:pt x="260615" y="0"/>
                  <a:pt x="582101" y="0"/>
                </a:cubicBezTo>
                <a:cubicBezTo>
                  <a:pt x="903587" y="0"/>
                  <a:pt x="1164202" y="33761"/>
                  <a:pt x="1164202" y="75407"/>
                </a:cubicBezTo>
                <a:lnTo>
                  <a:pt x="1126499" y="75407"/>
                </a:lnTo>
                <a:cubicBezTo>
                  <a:pt x="1126499" y="54584"/>
                  <a:pt x="882764" y="37704"/>
                  <a:pt x="582101" y="37704"/>
                </a:cubicBezTo>
                <a:cubicBezTo>
                  <a:pt x="281438" y="37704"/>
                  <a:pt x="37703" y="54584"/>
                  <a:pt x="37703" y="75407"/>
                </a:cubicBezTo>
                <a:lnTo>
                  <a:pt x="0" y="754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6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, лисёнок, лисица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56000" y="4220640"/>
            <a:ext cx="584352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ь, гусёнок, гусыня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http://rweek.ru/wp-content/uploads/2014/07/%D0%BB%D0%B8%D1%81%D0%B0-730x455.jpg"/>
          <p:cNvPicPr/>
          <p:nvPr/>
        </p:nvPicPr>
        <p:blipFill>
          <a:blip r:embed="rId1"/>
          <a:stretch/>
        </p:blipFill>
        <p:spPr>
          <a:xfrm>
            <a:off x="5651640" y="1052640"/>
            <a:ext cx="3306600" cy="206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wiki.kubg.edu.ua/images/thumb/6/63/%D0%93%D0%B5%D0%BB%D0%B3%D0%BE%D1%82%D0%B0%D0%BD%D0%BD%D1%8F_1.jpg/800px-%D0%93%D0%B5%D0%BB%D0%B3%D0%BE%D1%82%D0%B0%D0%BD%D0%BD%D1%8F_1.jpg"/>
          <p:cNvPicPr/>
          <p:nvPr/>
        </p:nvPicPr>
        <p:blipFill>
          <a:blip r:embed="rId2"/>
          <a:stretch/>
        </p:blipFill>
        <p:spPr>
          <a:xfrm>
            <a:off x="395280" y="165420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7" name="Арка 5"/>
          <p:cNvSpPr/>
          <p:nvPr/>
        </p:nvSpPr>
        <p:spPr>
          <a:xfrm>
            <a:off x="506520" y="549360"/>
            <a:ext cx="969840" cy="98280"/>
          </a:xfrm>
          <a:custGeom>
            <a:avLst/>
            <a:gdLst/>
            <a:ahLst/>
            <a:rect l="l" t="t" r="r" b="b"/>
            <a:pathLst>
              <a:path w="969962" h="98425">
                <a:moveTo>
                  <a:pt x="0" y="49213"/>
                </a:moveTo>
                <a:cubicBezTo>
                  <a:pt x="0" y="22033"/>
                  <a:pt x="217133" y="0"/>
                  <a:pt x="484981" y="0"/>
                </a:cubicBezTo>
                <a:cubicBezTo>
                  <a:pt x="752829" y="0"/>
                  <a:pt x="969962" y="22033"/>
                  <a:pt x="969962" y="49213"/>
                </a:cubicBezTo>
                <a:lnTo>
                  <a:pt x="945356" y="49213"/>
                </a:lnTo>
                <a:cubicBezTo>
                  <a:pt x="945356" y="35623"/>
                  <a:pt x="739239" y="24607"/>
                  <a:pt x="484981" y="24607"/>
                </a:cubicBezTo>
                <a:cubicBezTo>
                  <a:pt x="230723" y="24607"/>
                  <a:pt x="24606" y="35623"/>
                  <a:pt x="24606" y="49213"/>
                </a:cubicBezTo>
                <a:lnTo>
                  <a:pt x="0" y="492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Арка 6"/>
          <p:cNvSpPr/>
          <p:nvPr/>
        </p:nvSpPr>
        <p:spPr>
          <a:xfrm>
            <a:off x="1728720" y="546120"/>
            <a:ext cx="898560" cy="98280"/>
          </a:xfrm>
          <a:custGeom>
            <a:avLst/>
            <a:gdLst/>
            <a:ahLst/>
            <a:rect l="l" t="t" r="r" b="b"/>
            <a:pathLst>
              <a:path w="898525" h="98425">
                <a:moveTo>
                  <a:pt x="0" y="49213"/>
                </a:moveTo>
                <a:cubicBezTo>
                  <a:pt x="0" y="22033"/>
                  <a:pt x="201142" y="0"/>
                  <a:pt x="449263" y="0"/>
                </a:cubicBezTo>
                <a:cubicBezTo>
                  <a:pt x="697384" y="0"/>
                  <a:pt x="898526" y="22033"/>
                  <a:pt x="898526" y="49213"/>
                </a:cubicBezTo>
                <a:lnTo>
                  <a:pt x="873919" y="49213"/>
                </a:lnTo>
                <a:cubicBezTo>
                  <a:pt x="873919" y="35623"/>
                  <a:pt x="683794" y="24607"/>
                  <a:pt x="449263" y="24607"/>
                </a:cubicBezTo>
                <a:cubicBezTo>
                  <a:pt x="214732" y="24607"/>
                  <a:pt x="24607" y="35623"/>
                  <a:pt x="24607" y="49213"/>
                </a:cubicBezTo>
                <a:lnTo>
                  <a:pt x="0" y="492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Арка 7"/>
          <p:cNvSpPr/>
          <p:nvPr/>
        </p:nvSpPr>
        <p:spPr>
          <a:xfrm>
            <a:off x="4067280" y="511200"/>
            <a:ext cx="792000" cy="133200"/>
          </a:xfrm>
          <a:custGeom>
            <a:avLst/>
            <a:gdLst/>
            <a:ahLst/>
            <a:rect l="l" t="t" r="r" b="b"/>
            <a:pathLst>
              <a:path w="791394" h="132795">
                <a:moveTo>
                  <a:pt x="0" y="66398"/>
                </a:moveTo>
                <a:cubicBezTo>
                  <a:pt x="0" y="29727"/>
                  <a:pt x="177160" y="0"/>
                  <a:pt x="395697" y="0"/>
                </a:cubicBezTo>
                <a:cubicBezTo>
                  <a:pt x="614234" y="0"/>
                  <a:pt x="791394" y="29727"/>
                  <a:pt x="791394" y="66398"/>
                </a:cubicBezTo>
                <a:lnTo>
                  <a:pt x="758195" y="66398"/>
                </a:lnTo>
                <a:cubicBezTo>
                  <a:pt x="758195" y="48063"/>
                  <a:pt x="595899" y="33199"/>
                  <a:pt x="395697" y="33199"/>
                </a:cubicBezTo>
                <a:cubicBezTo>
                  <a:pt x="195495" y="33199"/>
                  <a:pt x="33199" y="48063"/>
                  <a:pt x="33199" y="66398"/>
                </a:cubicBezTo>
                <a:lnTo>
                  <a:pt x="0" y="663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Арка 8"/>
          <p:cNvSpPr/>
          <p:nvPr/>
        </p:nvSpPr>
        <p:spPr>
          <a:xfrm>
            <a:off x="2773440" y="4330800"/>
            <a:ext cx="1077840" cy="218880"/>
          </a:xfrm>
          <a:custGeom>
            <a:avLst/>
            <a:gdLst/>
            <a:ahLst/>
            <a:rect l="l" t="t" r="r" b="b"/>
            <a:pathLst>
              <a:path w="1077912" h="219075">
                <a:moveTo>
                  <a:pt x="0" y="109538"/>
                </a:moveTo>
                <a:cubicBezTo>
                  <a:pt x="0" y="49042"/>
                  <a:pt x="241299" y="0"/>
                  <a:pt x="538956" y="0"/>
                </a:cubicBezTo>
                <a:cubicBezTo>
                  <a:pt x="836613" y="0"/>
                  <a:pt x="1077912" y="49042"/>
                  <a:pt x="1077912" y="109538"/>
                </a:cubicBezTo>
                <a:lnTo>
                  <a:pt x="1023143" y="109538"/>
                </a:lnTo>
                <a:cubicBezTo>
                  <a:pt x="1023143" y="79290"/>
                  <a:pt x="806365" y="54769"/>
                  <a:pt x="538956" y="54769"/>
                </a:cubicBezTo>
                <a:cubicBezTo>
                  <a:pt x="271547" y="54769"/>
                  <a:pt x="54769" y="79290"/>
                  <a:pt x="54769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Арка 9"/>
          <p:cNvSpPr/>
          <p:nvPr/>
        </p:nvSpPr>
        <p:spPr>
          <a:xfrm>
            <a:off x="4140360" y="4330800"/>
            <a:ext cx="790560" cy="218880"/>
          </a:xfrm>
          <a:custGeom>
            <a:avLst/>
            <a:gdLst/>
            <a:ahLst/>
            <a:rect l="l" t="t" r="r" b="b"/>
            <a:pathLst>
              <a:path w="790575" h="219075">
                <a:moveTo>
                  <a:pt x="0" y="109538"/>
                </a:moveTo>
                <a:cubicBezTo>
                  <a:pt x="0" y="49042"/>
                  <a:pt x="176976" y="0"/>
                  <a:pt x="395288" y="0"/>
                </a:cubicBezTo>
                <a:cubicBezTo>
                  <a:pt x="613600" y="0"/>
                  <a:pt x="790576" y="49042"/>
                  <a:pt x="790576" y="109538"/>
                </a:cubicBezTo>
                <a:lnTo>
                  <a:pt x="735806" y="109538"/>
                </a:lnTo>
                <a:cubicBezTo>
                  <a:pt x="735806" y="79290"/>
                  <a:pt x="583350" y="54769"/>
                  <a:pt x="395287" y="54769"/>
                </a:cubicBezTo>
                <a:cubicBezTo>
                  <a:pt x="207224" y="54769"/>
                  <a:pt x="54768" y="79290"/>
                  <a:pt x="54768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Арка 10"/>
          <p:cNvSpPr/>
          <p:nvPr/>
        </p:nvSpPr>
        <p:spPr>
          <a:xfrm>
            <a:off x="6300720" y="4336920"/>
            <a:ext cx="790560" cy="219240"/>
          </a:xfrm>
          <a:custGeom>
            <a:avLst/>
            <a:gdLst/>
            <a:ahLst/>
            <a:rect l="l" t="t" r="r" b="b"/>
            <a:pathLst>
              <a:path w="790575" h="219075">
                <a:moveTo>
                  <a:pt x="0" y="109538"/>
                </a:moveTo>
                <a:cubicBezTo>
                  <a:pt x="0" y="49042"/>
                  <a:pt x="176976" y="0"/>
                  <a:pt x="395288" y="0"/>
                </a:cubicBezTo>
                <a:cubicBezTo>
                  <a:pt x="613600" y="0"/>
                  <a:pt x="790576" y="49042"/>
                  <a:pt x="790576" y="109538"/>
                </a:cubicBezTo>
                <a:lnTo>
                  <a:pt x="735806" y="109538"/>
                </a:lnTo>
                <a:cubicBezTo>
                  <a:pt x="735806" y="79290"/>
                  <a:pt x="583350" y="54769"/>
                  <a:pt x="395287" y="54769"/>
                </a:cubicBezTo>
                <a:cubicBezTo>
                  <a:pt x="207224" y="54769"/>
                  <a:pt x="54768" y="79290"/>
                  <a:pt x="54768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20244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гр, тигрёнок, тигриц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004480" y="4149720"/>
            <a:ext cx="7139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ень, оленёнок, олениха.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http://arctur-1.narod.ru/animals/Wild_animals/images/051_1550.jpg"/>
          <p:cNvPicPr/>
          <p:nvPr/>
        </p:nvPicPr>
        <p:blipFill>
          <a:blip r:embed="rId1"/>
          <a:stretch/>
        </p:blipFill>
        <p:spPr>
          <a:xfrm>
            <a:off x="5292720" y="119700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ttp://kramlandpark.at.ua/visit_center/zveri/Oleni_olenenok.jpg"/>
          <p:cNvPicPr/>
          <p:nvPr/>
        </p:nvPicPr>
        <p:blipFill>
          <a:blip r:embed="rId2"/>
          <a:stretch/>
        </p:blipFill>
        <p:spPr>
          <a:xfrm>
            <a:off x="324000" y="1557360"/>
            <a:ext cx="3402000" cy="2550960"/>
          </a:xfrm>
          <a:prstGeom prst="rect">
            <a:avLst/>
          </a:prstGeom>
          <a:ln w="0">
            <a:noFill/>
          </a:ln>
        </p:spPr>
      </p:pic>
      <p:sp>
        <p:nvSpPr>
          <p:cNvPr id="127" name="Арка 5"/>
          <p:cNvSpPr/>
          <p:nvPr/>
        </p:nvSpPr>
        <p:spPr>
          <a:xfrm>
            <a:off x="617400" y="542880"/>
            <a:ext cx="963720" cy="219240"/>
          </a:xfrm>
          <a:custGeom>
            <a:avLst/>
            <a:gdLst/>
            <a:ahLst/>
            <a:rect l="l" t="t" r="r" b="b"/>
            <a:pathLst>
              <a:path w="963612" h="219075">
                <a:moveTo>
                  <a:pt x="0" y="109538"/>
                </a:moveTo>
                <a:cubicBezTo>
                  <a:pt x="0" y="49042"/>
                  <a:pt x="215712" y="0"/>
                  <a:pt x="481806" y="0"/>
                </a:cubicBezTo>
                <a:cubicBezTo>
                  <a:pt x="747900" y="0"/>
                  <a:pt x="963612" y="49042"/>
                  <a:pt x="963612" y="109538"/>
                </a:cubicBezTo>
                <a:lnTo>
                  <a:pt x="908843" y="109538"/>
                </a:lnTo>
                <a:cubicBezTo>
                  <a:pt x="908843" y="79290"/>
                  <a:pt x="717652" y="54769"/>
                  <a:pt x="481806" y="54769"/>
                </a:cubicBezTo>
                <a:cubicBezTo>
                  <a:pt x="245960" y="54769"/>
                  <a:pt x="54769" y="79290"/>
                  <a:pt x="54769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Арка 6"/>
          <p:cNvSpPr/>
          <p:nvPr/>
        </p:nvSpPr>
        <p:spPr>
          <a:xfrm>
            <a:off x="2023920" y="542880"/>
            <a:ext cx="963720" cy="219240"/>
          </a:xfrm>
          <a:custGeom>
            <a:avLst/>
            <a:gdLst/>
            <a:ahLst/>
            <a:rect l="l" t="t" r="r" b="b"/>
            <a:pathLst>
              <a:path w="963612" h="219075">
                <a:moveTo>
                  <a:pt x="0" y="109538"/>
                </a:moveTo>
                <a:cubicBezTo>
                  <a:pt x="0" y="49042"/>
                  <a:pt x="215712" y="0"/>
                  <a:pt x="481806" y="0"/>
                </a:cubicBezTo>
                <a:cubicBezTo>
                  <a:pt x="747900" y="0"/>
                  <a:pt x="963612" y="49042"/>
                  <a:pt x="963612" y="109538"/>
                </a:cubicBezTo>
                <a:lnTo>
                  <a:pt x="908843" y="109538"/>
                </a:lnTo>
                <a:cubicBezTo>
                  <a:pt x="908843" y="79290"/>
                  <a:pt x="717652" y="54769"/>
                  <a:pt x="481806" y="54769"/>
                </a:cubicBezTo>
                <a:cubicBezTo>
                  <a:pt x="245960" y="54769"/>
                  <a:pt x="54769" y="79290"/>
                  <a:pt x="54769" y="109538"/>
                </a:cubicBezTo>
                <a:lnTo>
                  <a:pt x="0" y="10953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Арка 7"/>
          <p:cNvSpPr/>
          <p:nvPr/>
        </p:nvSpPr>
        <p:spPr>
          <a:xfrm>
            <a:off x="4394160" y="517680"/>
            <a:ext cx="963720" cy="220680"/>
          </a:xfrm>
          <a:custGeom>
            <a:avLst/>
            <a:gdLst/>
            <a:ahLst/>
            <a:rect l="l" t="t" r="r" b="b"/>
            <a:pathLst>
              <a:path w="963613" h="220663">
                <a:moveTo>
                  <a:pt x="0" y="110332"/>
                </a:moveTo>
                <a:cubicBezTo>
                  <a:pt x="0" y="49397"/>
                  <a:pt x="215712" y="0"/>
                  <a:pt x="481807" y="0"/>
                </a:cubicBezTo>
                <a:cubicBezTo>
                  <a:pt x="747902" y="0"/>
                  <a:pt x="963614" y="49397"/>
                  <a:pt x="963614" y="110332"/>
                </a:cubicBezTo>
                <a:lnTo>
                  <a:pt x="908447" y="110332"/>
                </a:lnTo>
                <a:cubicBezTo>
                  <a:pt x="908447" y="79865"/>
                  <a:pt x="717433" y="55166"/>
                  <a:pt x="481806" y="55166"/>
                </a:cubicBezTo>
                <a:cubicBezTo>
                  <a:pt x="246179" y="55166"/>
                  <a:pt x="55165" y="79865"/>
                  <a:pt x="55165" y="110332"/>
                </a:cubicBezTo>
                <a:lnTo>
                  <a:pt x="0" y="110332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Арка 8"/>
          <p:cNvSpPr/>
          <p:nvPr/>
        </p:nvSpPr>
        <p:spPr>
          <a:xfrm>
            <a:off x="2124000" y="4183200"/>
            <a:ext cx="1440000" cy="328320"/>
          </a:xfrm>
          <a:custGeom>
            <a:avLst/>
            <a:gdLst/>
            <a:ahLst/>
            <a:rect l="l" t="t" r="r" b="b"/>
            <a:pathLst>
              <a:path w="1440160" h="328612">
                <a:moveTo>
                  <a:pt x="0" y="164306"/>
                </a:moveTo>
                <a:cubicBezTo>
                  <a:pt x="0" y="73562"/>
                  <a:pt x="322391" y="0"/>
                  <a:pt x="720080" y="0"/>
                </a:cubicBezTo>
                <a:cubicBezTo>
                  <a:pt x="1117769" y="0"/>
                  <a:pt x="1440160" y="73562"/>
                  <a:pt x="1440160" y="164306"/>
                </a:cubicBezTo>
                <a:lnTo>
                  <a:pt x="1358007" y="164306"/>
                </a:lnTo>
                <a:cubicBezTo>
                  <a:pt x="1358007" y="118934"/>
                  <a:pt x="1072397" y="82153"/>
                  <a:pt x="720080" y="82153"/>
                </a:cubicBezTo>
                <a:cubicBezTo>
                  <a:pt x="367763" y="82153"/>
                  <a:pt x="82153" y="118934"/>
                  <a:pt x="82153" y="164306"/>
                </a:cubicBezTo>
                <a:lnTo>
                  <a:pt x="0" y="1643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Арка 9"/>
          <p:cNvSpPr/>
          <p:nvPr/>
        </p:nvSpPr>
        <p:spPr>
          <a:xfrm>
            <a:off x="3814920" y="4264200"/>
            <a:ext cx="1152360" cy="328320"/>
          </a:xfrm>
          <a:custGeom>
            <a:avLst/>
            <a:gdLst/>
            <a:ahLst/>
            <a:rect l="l" t="t" r="r" b="b"/>
            <a:pathLst>
              <a:path w="1152525" h="328613">
                <a:moveTo>
                  <a:pt x="0" y="164307"/>
                </a:moveTo>
                <a:cubicBezTo>
                  <a:pt x="0" y="73563"/>
                  <a:pt x="258002" y="0"/>
                  <a:pt x="576263" y="0"/>
                </a:cubicBezTo>
                <a:cubicBezTo>
                  <a:pt x="894524" y="0"/>
                  <a:pt x="1152526" y="73563"/>
                  <a:pt x="1152526" y="164307"/>
                </a:cubicBezTo>
                <a:lnTo>
                  <a:pt x="1070372" y="164307"/>
                </a:lnTo>
                <a:cubicBezTo>
                  <a:pt x="1070372" y="118935"/>
                  <a:pt x="849152" y="82154"/>
                  <a:pt x="576263" y="82154"/>
                </a:cubicBezTo>
                <a:cubicBezTo>
                  <a:pt x="303374" y="82154"/>
                  <a:pt x="82154" y="118935"/>
                  <a:pt x="82154" y="164307"/>
                </a:cubicBezTo>
                <a:lnTo>
                  <a:pt x="0" y="1643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Арка 10"/>
          <p:cNvSpPr/>
          <p:nvPr/>
        </p:nvSpPr>
        <p:spPr>
          <a:xfrm>
            <a:off x="6372360" y="4264200"/>
            <a:ext cx="1152360" cy="328320"/>
          </a:xfrm>
          <a:custGeom>
            <a:avLst/>
            <a:gdLst/>
            <a:ahLst/>
            <a:rect l="l" t="t" r="r" b="b"/>
            <a:pathLst>
              <a:path w="1152525" h="328613">
                <a:moveTo>
                  <a:pt x="0" y="164307"/>
                </a:moveTo>
                <a:cubicBezTo>
                  <a:pt x="0" y="73563"/>
                  <a:pt x="258002" y="0"/>
                  <a:pt x="576263" y="0"/>
                </a:cubicBezTo>
                <a:cubicBezTo>
                  <a:pt x="894524" y="0"/>
                  <a:pt x="1152526" y="73563"/>
                  <a:pt x="1152526" y="164307"/>
                </a:cubicBezTo>
                <a:lnTo>
                  <a:pt x="1070372" y="164307"/>
                </a:lnTo>
                <a:cubicBezTo>
                  <a:pt x="1070372" y="118935"/>
                  <a:pt x="849152" y="82154"/>
                  <a:pt x="576263" y="82154"/>
                </a:cubicBezTo>
                <a:cubicBezTo>
                  <a:pt x="303374" y="82154"/>
                  <a:pt x="82154" y="118935"/>
                  <a:pt x="82154" y="164307"/>
                </a:cubicBezTo>
                <a:lnTo>
                  <a:pt x="0" y="1643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bbb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1840" y="407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62 упр. 10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3F6-9110-4481-B91D-7CD7BD535A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732-50C1-4D7E-87D4-8B8B52D42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6"/>
          <p:cNvSpPr/>
          <p:nvPr/>
        </p:nvSpPr>
        <p:spPr>
          <a:xfrm>
            <a:off x="2843280" y="1557360"/>
            <a:ext cx="0" cy="36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7"/>
          <p:cNvSpPr/>
          <p:nvPr/>
        </p:nvSpPr>
        <p:spPr>
          <a:xfrm>
            <a:off x="5724360" y="1557360"/>
            <a:ext cx="0" cy="36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1118160" y="14050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3766680" y="141768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6956280" y="140508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09:23:25Z</dcterms:created>
  <dc:creator>1</dc:creator>
  <dc:description/>
  <dc:language>en-US</dc:language>
  <cp:lastModifiedBy>Серик Жумагазиев</cp:lastModifiedBy>
  <dcterms:modified xsi:type="dcterms:W3CDTF">2023-10-23T21:24:14Z</dcterms:modified>
  <cp:revision>62</cp:revision>
  <dc:subject/>
  <dc:title>Слайд 1</dc:title>
</cp:coreProperties>
</file>