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CB7-E34D-4B3F-9759-CFD38B51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E0B-45AE-4154-9B2F-A33A396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745-EAF6-41EA-B6FF-64D75DC5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B18-C091-4C07-8C29-00481483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92D-C317-41DC-9A99-21571D80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63E-3D00-43F5-BF53-961F8318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A76-F181-42A0-A1B7-934824A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68F-4F55-4C7F-993F-D36528D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989-62D7-47DD-8EE6-9D956F99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D44-72A1-4188-87AC-482334C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82B-5E4E-4195-B0CD-5BDA5174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13F-1C3B-4340-B29A-7CAAAFC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ED75-0359-4EDA-9278-3F499EC4A1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BAA1-30C9-4398-AD03-6A3E7D4B6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слова. Однокоренные сл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1F8-755F-41AE-B96A-2E63918CB6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5A5-80A8-422F-A30C-D52906138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2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D37A-E2EC-4CEA-B647-E02A77D64A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8BC8-DFAE-4A3C-BECB-C9471A312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49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53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57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F63-1F11-4966-B2DE-D12EBEE379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38D-AA10-4AC1-8278-489DE8226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65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69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73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"/>
          <p:cNvSpPr/>
          <p:nvPr/>
        </p:nvSpPr>
        <p:spPr>
          <a:xfrm rot="18179400">
            <a:off x="1740240" y="864000"/>
            <a:ext cx="922320" cy="955800"/>
          </a:xfrm>
          <a:custGeom>
            <a:avLst/>
            <a:gdLst/>
            <a:ahLst/>
            <a:rect l="l" t="t" r="r" b="b"/>
            <a:pathLst>
              <a:path stroke="0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  <a:lnTo>
                  <a:pt x="460660" y="477604"/>
                </a:lnTo>
                <a:lnTo>
                  <a:pt x="305795" y="27798"/>
                </a:lnTo>
                <a:close/>
              </a:path>
              <a:path fill="none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27"/>
          <p:cNvSpPr/>
          <p:nvPr/>
        </p:nvSpPr>
        <p:spPr>
          <a:xfrm rot="18179400">
            <a:off x="2899080" y="889560"/>
            <a:ext cx="789120" cy="80964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28"/>
          <p:cNvSpPr/>
          <p:nvPr/>
        </p:nvSpPr>
        <p:spPr>
          <a:xfrm rot="18179400">
            <a:off x="5288040" y="937800"/>
            <a:ext cx="788760" cy="80820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3889440" y="263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AD91-C8BB-4FF5-A7B4-C37C67467C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4FA6-C972-4B87-A9B9-FD8C1BC37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85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89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93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уга 1"/>
          <p:cNvSpPr/>
          <p:nvPr/>
        </p:nvSpPr>
        <p:spPr>
          <a:xfrm rot="18179400">
            <a:off x="1740240" y="864000"/>
            <a:ext cx="922320" cy="955800"/>
          </a:xfrm>
          <a:custGeom>
            <a:avLst/>
            <a:gdLst/>
            <a:ahLst/>
            <a:rect l="l" t="t" r="r" b="b"/>
            <a:pathLst>
              <a:path stroke="0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  <a:lnTo>
                  <a:pt x="460660" y="477604"/>
                </a:lnTo>
                <a:lnTo>
                  <a:pt x="305795" y="27798"/>
                </a:lnTo>
                <a:close/>
              </a:path>
              <a:path fill="none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уга 27"/>
          <p:cNvSpPr/>
          <p:nvPr/>
        </p:nvSpPr>
        <p:spPr>
          <a:xfrm rot="18179400">
            <a:off x="2899080" y="889560"/>
            <a:ext cx="789120" cy="80964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уга 28"/>
          <p:cNvSpPr/>
          <p:nvPr/>
        </p:nvSpPr>
        <p:spPr>
          <a:xfrm rot="18179400">
            <a:off x="5288040" y="937800"/>
            <a:ext cx="788760" cy="80820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3889440" y="263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0"/>
          <p:cNvSpPr/>
          <p:nvPr/>
        </p:nvSpPr>
        <p:spPr>
          <a:xfrm>
            <a:off x="2455920" y="3257640"/>
            <a:ext cx="55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-74520" y="398520"/>
            <a:ext cx="61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, ежонок, ежи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http://logoped-lip.ru/wp-content/uploads/2013/04/IMG20130418_007.jpg"/>
          <p:cNvPicPr/>
          <p:nvPr/>
        </p:nvPicPr>
        <p:blipFill>
          <a:blip r:embed="rId1"/>
          <a:stretch/>
        </p:blipFill>
        <p:spPr>
          <a:xfrm>
            <a:off x="6084720" y="189000"/>
            <a:ext cx="2859120" cy="2144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519280" y="388764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, слонёнок, слониха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http://www.tepid.ru/images/asian-elephant7.jpg"/>
          <p:cNvPicPr/>
          <p:nvPr/>
        </p:nvPicPr>
        <p:blipFill>
          <a:blip r:embed="rId2"/>
          <a:stretch/>
        </p:blipFill>
        <p:spPr>
          <a:xfrm>
            <a:off x="200160" y="1733400"/>
            <a:ext cx="3135240" cy="2089440"/>
          </a:xfrm>
          <a:prstGeom prst="rect">
            <a:avLst/>
          </a:prstGeom>
          <a:ln w="0">
            <a:noFill/>
          </a:ln>
        </p:spPr>
      </p:pic>
      <p:sp>
        <p:nvSpPr>
          <p:cNvPr id="107" name="Арка 5"/>
          <p:cNvSpPr/>
          <p:nvPr/>
        </p:nvSpPr>
        <p:spPr>
          <a:xfrm>
            <a:off x="122400" y="54612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Арка 13"/>
          <p:cNvSpPr/>
          <p:nvPr/>
        </p:nvSpPr>
        <p:spPr>
          <a:xfrm>
            <a:off x="1073160" y="54612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Арка 14"/>
          <p:cNvSpPr/>
          <p:nvPr/>
        </p:nvSpPr>
        <p:spPr>
          <a:xfrm>
            <a:off x="3328920" y="57960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Арка 15"/>
          <p:cNvSpPr/>
          <p:nvPr/>
        </p:nvSpPr>
        <p:spPr>
          <a:xfrm>
            <a:off x="2657520" y="4040280"/>
            <a:ext cx="1260360" cy="152280"/>
          </a:xfrm>
          <a:custGeom>
            <a:avLst/>
            <a:gdLst/>
            <a:ahLst/>
            <a:rect l="l" t="t" r="r" b="b"/>
            <a:pathLst>
              <a:path w="1260475" h="150813">
                <a:moveTo>
                  <a:pt x="0" y="75407"/>
                </a:moveTo>
                <a:cubicBezTo>
                  <a:pt x="0" y="33761"/>
                  <a:pt x="282167" y="0"/>
                  <a:pt x="630238" y="0"/>
                </a:cubicBezTo>
                <a:cubicBezTo>
                  <a:pt x="978309" y="0"/>
                  <a:pt x="1260476" y="33761"/>
                  <a:pt x="1260476" y="75407"/>
                </a:cubicBezTo>
                <a:lnTo>
                  <a:pt x="1222772" y="75407"/>
                </a:lnTo>
                <a:cubicBezTo>
                  <a:pt x="1222772" y="54584"/>
                  <a:pt x="957485" y="37704"/>
                  <a:pt x="630238" y="37704"/>
                </a:cubicBezTo>
                <a:cubicBezTo>
                  <a:pt x="302991" y="37704"/>
                  <a:pt x="37704" y="54584"/>
                  <a:pt x="37704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Арка 16"/>
          <p:cNvSpPr/>
          <p:nvPr/>
        </p:nvSpPr>
        <p:spPr>
          <a:xfrm>
            <a:off x="4124160" y="4046400"/>
            <a:ext cx="1163880" cy="150840"/>
          </a:xfrm>
          <a:custGeom>
            <a:avLst/>
            <a:gdLst/>
            <a:ahLst/>
            <a:rect l="l" t="t" r="r" b="b"/>
            <a:pathLst>
              <a:path w="1164202" h="150813">
                <a:moveTo>
                  <a:pt x="0" y="75407"/>
                </a:moveTo>
                <a:cubicBezTo>
                  <a:pt x="0" y="33761"/>
                  <a:pt x="260615" y="0"/>
                  <a:pt x="582101" y="0"/>
                </a:cubicBezTo>
                <a:cubicBezTo>
                  <a:pt x="903587" y="0"/>
                  <a:pt x="1164202" y="33761"/>
                  <a:pt x="1164202" y="75407"/>
                </a:cubicBezTo>
                <a:lnTo>
                  <a:pt x="1126499" y="75407"/>
                </a:lnTo>
                <a:cubicBezTo>
                  <a:pt x="1126499" y="54584"/>
                  <a:pt x="882764" y="37704"/>
                  <a:pt x="582101" y="37704"/>
                </a:cubicBezTo>
                <a:cubicBezTo>
                  <a:pt x="281438" y="37704"/>
                  <a:pt x="37703" y="54584"/>
                  <a:pt x="37703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Арка 17"/>
          <p:cNvSpPr/>
          <p:nvPr/>
        </p:nvSpPr>
        <p:spPr>
          <a:xfrm>
            <a:off x="6689880" y="4040280"/>
            <a:ext cx="1163520" cy="152280"/>
          </a:xfrm>
          <a:custGeom>
            <a:avLst/>
            <a:gdLst/>
            <a:ahLst/>
            <a:rect l="l" t="t" r="r" b="b"/>
            <a:pathLst>
              <a:path w="1164202" h="150813">
                <a:moveTo>
                  <a:pt x="0" y="75407"/>
                </a:moveTo>
                <a:cubicBezTo>
                  <a:pt x="0" y="33761"/>
                  <a:pt x="260615" y="0"/>
                  <a:pt x="582101" y="0"/>
                </a:cubicBezTo>
                <a:cubicBezTo>
                  <a:pt x="903587" y="0"/>
                  <a:pt x="1164202" y="33761"/>
                  <a:pt x="1164202" y="75407"/>
                </a:cubicBezTo>
                <a:lnTo>
                  <a:pt x="1126499" y="75407"/>
                </a:lnTo>
                <a:cubicBezTo>
                  <a:pt x="1126499" y="54584"/>
                  <a:pt x="882764" y="37704"/>
                  <a:pt x="582101" y="37704"/>
                </a:cubicBezTo>
                <a:cubicBezTo>
                  <a:pt x="281438" y="37704"/>
                  <a:pt x="37703" y="54584"/>
                  <a:pt x="37703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, лисёнок, лисица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4220640"/>
            <a:ext cx="584352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ь, гусёнок, гусыня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http://rweek.ru/wp-content/uploads/2014/07/%D0%BB%D0%B8%D1%81%D0%B0-730x455.jpg"/>
          <p:cNvPicPr/>
          <p:nvPr/>
        </p:nvPicPr>
        <p:blipFill>
          <a:blip r:embed="rId1"/>
          <a:stretch/>
        </p:blipFill>
        <p:spPr>
          <a:xfrm>
            <a:off x="5651640" y="1052640"/>
            <a:ext cx="3306600" cy="206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wiki.kubg.edu.ua/images/thumb/6/63/%D0%93%D0%B5%D0%BB%D0%B3%D0%BE%D1%82%D0%B0%D0%BD%D0%BD%D1%8F_1.jpg/800px-%D0%93%D0%B5%D0%BB%D0%B3%D0%BE%D1%82%D0%B0%D0%BD%D0%BD%D1%8F_1.jpg"/>
          <p:cNvPicPr/>
          <p:nvPr/>
        </p:nvPicPr>
        <p:blipFill>
          <a:blip r:embed="rId2"/>
          <a:stretch/>
        </p:blipFill>
        <p:spPr>
          <a:xfrm>
            <a:off x="395280" y="165420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7" name="Арка 5"/>
          <p:cNvSpPr/>
          <p:nvPr/>
        </p:nvSpPr>
        <p:spPr>
          <a:xfrm>
            <a:off x="506520" y="549360"/>
            <a:ext cx="969840" cy="98280"/>
          </a:xfrm>
          <a:custGeom>
            <a:avLst/>
            <a:gdLst/>
            <a:ahLst/>
            <a:rect l="l" t="t" r="r" b="b"/>
            <a:pathLst>
              <a:path w="969962" h="98425">
                <a:moveTo>
                  <a:pt x="0" y="49213"/>
                </a:moveTo>
                <a:cubicBezTo>
                  <a:pt x="0" y="22033"/>
                  <a:pt x="217133" y="0"/>
                  <a:pt x="484981" y="0"/>
                </a:cubicBezTo>
                <a:cubicBezTo>
                  <a:pt x="752829" y="0"/>
                  <a:pt x="969962" y="22033"/>
                  <a:pt x="969962" y="49213"/>
                </a:cubicBezTo>
                <a:lnTo>
                  <a:pt x="945356" y="49213"/>
                </a:lnTo>
                <a:cubicBezTo>
                  <a:pt x="945356" y="35623"/>
                  <a:pt x="739239" y="24607"/>
                  <a:pt x="484981" y="24607"/>
                </a:cubicBezTo>
                <a:cubicBezTo>
                  <a:pt x="230723" y="24607"/>
                  <a:pt x="24606" y="35623"/>
                  <a:pt x="24606" y="49213"/>
                </a:cubicBezTo>
                <a:lnTo>
                  <a:pt x="0" y="492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Арка 6"/>
          <p:cNvSpPr/>
          <p:nvPr/>
        </p:nvSpPr>
        <p:spPr>
          <a:xfrm>
            <a:off x="1728720" y="546120"/>
            <a:ext cx="898560" cy="98280"/>
          </a:xfrm>
          <a:custGeom>
            <a:avLst/>
            <a:gdLst/>
            <a:ahLst/>
            <a:rect l="l" t="t" r="r" b="b"/>
            <a:pathLst>
              <a:path w="898525" h="98425">
                <a:moveTo>
                  <a:pt x="0" y="49213"/>
                </a:moveTo>
                <a:cubicBezTo>
                  <a:pt x="0" y="22033"/>
                  <a:pt x="201142" y="0"/>
                  <a:pt x="449263" y="0"/>
                </a:cubicBezTo>
                <a:cubicBezTo>
                  <a:pt x="697384" y="0"/>
                  <a:pt x="898526" y="22033"/>
                  <a:pt x="898526" y="49213"/>
                </a:cubicBezTo>
                <a:lnTo>
                  <a:pt x="873919" y="49213"/>
                </a:lnTo>
                <a:cubicBezTo>
                  <a:pt x="873919" y="35623"/>
                  <a:pt x="683794" y="24607"/>
                  <a:pt x="449263" y="24607"/>
                </a:cubicBezTo>
                <a:cubicBezTo>
                  <a:pt x="214732" y="24607"/>
                  <a:pt x="24607" y="35623"/>
                  <a:pt x="24607" y="49213"/>
                </a:cubicBezTo>
                <a:lnTo>
                  <a:pt x="0" y="492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Арка 7"/>
          <p:cNvSpPr/>
          <p:nvPr/>
        </p:nvSpPr>
        <p:spPr>
          <a:xfrm>
            <a:off x="4067280" y="511200"/>
            <a:ext cx="792000" cy="133200"/>
          </a:xfrm>
          <a:custGeom>
            <a:avLst/>
            <a:gdLst/>
            <a:ahLst/>
            <a:rect l="l" t="t" r="r" b="b"/>
            <a:pathLst>
              <a:path w="791394" h="132795">
                <a:moveTo>
                  <a:pt x="0" y="66398"/>
                </a:moveTo>
                <a:cubicBezTo>
                  <a:pt x="0" y="29727"/>
                  <a:pt x="177160" y="0"/>
                  <a:pt x="395697" y="0"/>
                </a:cubicBezTo>
                <a:cubicBezTo>
                  <a:pt x="614234" y="0"/>
                  <a:pt x="791394" y="29727"/>
                  <a:pt x="791394" y="66398"/>
                </a:cubicBezTo>
                <a:lnTo>
                  <a:pt x="758195" y="66398"/>
                </a:lnTo>
                <a:cubicBezTo>
                  <a:pt x="758195" y="48063"/>
                  <a:pt x="595899" y="33199"/>
                  <a:pt x="395697" y="33199"/>
                </a:cubicBezTo>
                <a:cubicBezTo>
                  <a:pt x="195495" y="33199"/>
                  <a:pt x="33199" y="48063"/>
                  <a:pt x="33199" y="66398"/>
                </a:cubicBezTo>
                <a:lnTo>
                  <a:pt x="0" y="663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Арка 8"/>
          <p:cNvSpPr/>
          <p:nvPr/>
        </p:nvSpPr>
        <p:spPr>
          <a:xfrm>
            <a:off x="2773440" y="4330800"/>
            <a:ext cx="1077840" cy="218880"/>
          </a:xfrm>
          <a:custGeom>
            <a:avLst/>
            <a:gdLst/>
            <a:ahLst/>
            <a:rect l="l" t="t" r="r" b="b"/>
            <a:pathLst>
              <a:path w="1077912" h="219075">
                <a:moveTo>
                  <a:pt x="0" y="109538"/>
                </a:moveTo>
                <a:cubicBezTo>
                  <a:pt x="0" y="49042"/>
                  <a:pt x="241299" y="0"/>
                  <a:pt x="538956" y="0"/>
                </a:cubicBezTo>
                <a:cubicBezTo>
                  <a:pt x="836613" y="0"/>
                  <a:pt x="1077912" y="49042"/>
                  <a:pt x="1077912" y="109538"/>
                </a:cubicBezTo>
                <a:lnTo>
                  <a:pt x="1023143" y="109538"/>
                </a:lnTo>
                <a:cubicBezTo>
                  <a:pt x="1023143" y="79290"/>
                  <a:pt x="806365" y="54769"/>
                  <a:pt x="538956" y="54769"/>
                </a:cubicBezTo>
                <a:cubicBezTo>
                  <a:pt x="271547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Арка 9"/>
          <p:cNvSpPr/>
          <p:nvPr/>
        </p:nvSpPr>
        <p:spPr>
          <a:xfrm>
            <a:off x="4140360" y="4330800"/>
            <a:ext cx="790560" cy="218880"/>
          </a:xfrm>
          <a:custGeom>
            <a:avLst/>
            <a:gdLst/>
            <a:ahLst/>
            <a:rect l="l" t="t" r="r" b="b"/>
            <a:pathLst>
              <a:path w="790575" h="219075">
                <a:moveTo>
                  <a:pt x="0" y="109538"/>
                </a:moveTo>
                <a:cubicBezTo>
                  <a:pt x="0" y="49042"/>
                  <a:pt x="176976" y="0"/>
                  <a:pt x="395288" y="0"/>
                </a:cubicBezTo>
                <a:cubicBezTo>
                  <a:pt x="613600" y="0"/>
                  <a:pt x="790576" y="49042"/>
                  <a:pt x="790576" y="109538"/>
                </a:cubicBezTo>
                <a:lnTo>
                  <a:pt x="735806" y="109538"/>
                </a:lnTo>
                <a:cubicBezTo>
                  <a:pt x="735806" y="79290"/>
                  <a:pt x="583350" y="54769"/>
                  <a:pt x="395287" y="54769"/>
                </a:cubicBezTo>
                <a:cubicBezTo>
                  <a:pt x="207224" y="54769"/>
                  <a:pt x="54768" y="79290"/>
                  <a:pt x="54768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Арка 10"/>
          <p:cNvSpPr/>
          <p:nvPr/>
        </p:nvSpPr>
        <p:spPr>
          <a:xfrm>
            <a:off x="6300720" y="4336920"/>
            <a:ext cx="790560" cy="219240"/>
          </a:xfrm>
          <a:custGeom>
            <a:avLst/>
            <a:gdLst/>
            <a:ahLst/>
            <a:rect l="l" t="t" r="r" b="b"/>
            <a:pathLst>
              <a:path w="790575" h="219075">
                <a:moveTo>
                  <a:pt x="0" y="109538"/>
                </a:moveTo>
                <a:cubicBezTo>
                  <a:pt x="0" y="49042"/>
                  <a:pt x="176976" y="0"/>
                  <a:pt x="395288" y="0"/>
                </a:cubicBezTo>
                <a:cubicBezTo>
                  <a:pt x="613600" y="0"/>
                  <a:pt x="790576" y="49042"/>
                  <a:pt x="790576" y="109538"/>
                </a:cubicBezTo>
                <a:lnTo>
                  <a:pt x="735806" y="109538"/>
                </a:lnTo>
                <a:cubicBezTo>
                  <a:pt x="735806" y="79290"/>
                  <a:pt x="583350" y="54769"/>
                  <a:pt x="395287" y="54769"/>
                </a:cubicBezTo>
                <a:cubicBezTo>
                  <a:pt x="207224" y="54769"/>
                  <a:pt x="54768" y="79290"/>
                  <a:pt x="54768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202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гр, тигрёнок, тигриц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04480" y="414972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ь, оленёнок, олениха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arctur-1.narod.ru/animals/Wild_animals/images/051_1550.jpg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kramlandpark.at.ua/visit_center/zveri/Oleni_olenenok.jpg"/>
          <p:cNvPicPr/>
          <p:nvPr/>
        </p:nvPicPr>
        <p:blipFill>
          <a:blip r:embed="rId2"/>
          <a:stretch/>
        </p:blipFill>
        <p:spPr>
          <a:xfrm>
            <a:off x="324000" y="1557360"/>
            <a:ext cx="3402000" cy="2550960"/>
          </a:xfrm>
          <a:prstGeom prst="rect">
            <a:avLst/>
          </a:prstGeom>
          <a:ln w="0">
            <a:noFill/>
          </a:ln>
        </p:spPr>
      </p:pic>
      <p:sp>
        <p:nvSpPr>
          <p:cNvPr id="127" name="Арка 5"/>
          <p:cNvSpPr/>
          <p:nvPr/>
        </p:nvSpPr>
        <p:spPr>
          <a:xfrm>
            <a:off x="617400" y="542880"/>
            <a:ext cx="963720" cy="219240"/>
          </a:xfrm>
          <a:custGeom>
            <a:avLst/>
            <a:gdLst/>
            <a:ahLst/>
            <a:rect l="l" t="t" r="r" b="b"/>
            <a:pathLst>
              <a:path w="963612" h="219075">
                <a:moveTo>
                  <a:pt x="0" y="109538"/>
                </a:moveTo>
                <a:cubicBezTo>
                  <a:pt x="0" y="49042"/>
                  <a:pt x="215712" y="0"/>
                  <a:pt x="481806" y="0"/>
                </a:cubicBezTo>
                <a:cubicBezTo>
                  <a:pt x="747900" y="0"/>
                  <a:pt x="963612" y="49042"/>
                  <a:pt x="963612" y="109538"/>
                </a:cubicBezTo>
                <a:lnTo>
                  <a:pt x="908843" y="109538"/>
                </a:lnTo>
                <a:cubicBezTo>
                  <a:pt x="908843" y="79290"/>
                  <a:pt x="717652" y="54769"/>
                  <a:pt x="481806" y="54769"/>
                </a:cubicBezTo>
                <a:cubicBezTo>
                  <a:pt x="245960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Арка 6"/>
          <p:cNvSpPr/>
          <p:nvPr/>
        </p:nvSpPr>
        <p:spPr>
          <a:xfrm>
            <a:off x="2023920" y="542880"/>
            <a:ext cx="963720" cy="219240"/>
          </a:xfrm>
          <a:custGeom>
            <a:avLst/>
            <a:gdLst/>
            <a:ahLst/>
            <a:rect l="l" t="t" r="r" b="b"/>
            <a:pathLst>
              <a:path w="963612" h="219075">
                <a:moveTo>
                  <a:pt x="0" y="109538"/>
                </a:moveTo>
                <a:cubicBezTo>
                  <a:pt x="0" y="49042"/>
                  <a:pt x="215712" y="0"/>
                  <a:pt x="481806" y="0"/>
                </a:cubicBezTo>
                <a:cubicBezTo>
                  <a:pt x="747900" y="0"/>
                  <a:pt x="963612" y="49042"/>
                  <a:pt x="963612" y="109538"/>
                </a:cubicBezTo>
                <a:lnTo>
                  <a:pt x="908843" y="109538"/>
                </a:lnTo>
                <a:cubicBezTo>
                  <a:pt x="908843" y="79290"/>
                  <a:pt x="717652" y="54769"/>
                  <a:pt x="481806" y="54769"/>
                </a:cubicBezTo>
                <a:cubicBezTo>
                  <a:pt x="245960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Арка 7"/>
          <p:cNvSpPr/>
          <p:nvPr/>
        </p:nvSpPr>
        <p:spPr>
          <a:xfrm>
            <a:off x="4394160" y="517680"/>
            <a:ext cx="963720" cy="220680"/>
          </a:xfrm>
          <a:custGeom>
            <a:avLst/>
            <a:gdLst/>
            <a:ahLst/>
            <a:rect l="l" t="t" r="r" b="b"/>
            <a:pathLst>
              <a:path w="963613" h="220663">
                <a:moveTo>
                  <a:pt x="0" y="110332"/>
                </a:moveTo>
                <a:cubicBezTo>
                  <a:pt x="0" y="49397"/>
                  <a:pt x="215712" y="0"/>
                  <a:pt x="481807" y="0"/>
                </a:cubicBezTo>
                <a:cubicBezTo>
                  <a:pt x="747902" y="0"/>
                  <a:pt x="963614" y="49397"/>
                  <a:pt x="963614" y="110332"/>
                </a:cubicBezTo>
                <a:lnTo>
                  <a:pt x="908447" y="110332"/>
                </a:lnTo>
                <a:cubicBezTo>
                  <a:pt x="908447" y="79865"/>
                  <a:pt x="717433" y="55166"/>
                  <a:pt x="481806" y="55166"/>
                </a:cubicBezTo>
                <a:cubicBezTo>
                  <a:pt x="246179" y="55166"/>
                  <a:pt x="55165" y="79865"/>
                  <a:pt x="55165" y="110332"/>
                </a:cubicBezTo>
                <a:lnTo>
                  <a:pt x="0" y="11033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Арка 8"/>
          <p:cNvSpPr/>
          <p:nvPr/>
        </p:nvSpPr>
        <p:spPr>
          <a:xfrm>
            <a:off x="2124000" y="4183200"/>
            <a:ext cx="1440000" cy="328320"/>
          </a:xfrm>
          <a:custGeom>
            <a:avLst/>
            <a:gdLst/>
            <a:ahLst/>
            <a:rect l="l" t="t" r="r" b="b"/>
            <a:pathLst>
              <a:path w="1440160" h="328612">
                <a:moveTo>
                  <a:pt x="0" y="164306"/>
                </a:moveTo>
                <a:cubicBezTo>
                  <a:pt x="0" y="73562"/>
                  <a:pt x="322391" y="0"/>
                  <a:pt x="720080" y="0"/>
                </a:cubicBezTo>
                <a:cubicBezTo>
                  <a:pt x="1117769" y="0"/>
                  <a:pt x="1440160" y="73562"/>
                  <a:pt x="1440160" y="164306"/>
                </a:cubicBezTo>
                <a:lnTo>
                  <a:pt x="1358007" y="164306"/>
                </a:lnTo>
                <a:cubicBezTo>
                  <a:pt x="1358007" y="118934"/>
                  <a:pt x="1072397" y="82153"/>
                  <a:pt x="720080" y="82153"/>
                </a:cubicBezTo>
                <a:cubicBezTo>
                  <a:pt x="367763" y="82153"/>
                  <a:pt x="82153" y="118934"/>
                  <a:pt x="82153" y="164306"/>
                </a:cubicBezTo>
                <a:lnTo>
                  <a:pt x="0" y="1643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Арка 9"/>
          <p:cNvSpPr/>
          <p:nvPr/>
        </p:nvSpPr>
        <p:spPr>
          <a:xfrm>
            <a:off x="3814920" y="4264200"/>
            <a:ext cx="1152360" cy="328320"/>
          </a:xfrm>
          <a:custGeom>
            <a:avLst/>
            <a:gdLst/>
            <a:ahLst/>
            <a:rect l="l" t="t" r="r" b="b"/>
            <a:pathLst>
              <a:path w="1152525" h="328613">
                <a:moveTo>
                  <a:pt x="0" y="164307"/>
                </a:moveTo>
                <a:cubicBezTo>
                  <a:pt x="0" y="73563"/>
                  <a:pt x="258002" y="0"/>
                  <a:pt x="576263" y="0"/>
                </a:cubicBezTo>
                <a:cubicBezTo>
                  <a:pt x="894524" y="0"/>
                  <a:pt x="1152526" y="73563"/>
                  <a:pt x="1152526" y="164307"/>
                </a:cubicBezTo>
                <a:lnTo>
                  <a:pt x="1070372" y="164307"/>
                </a:lnTo>
                <a:cubicBezTo>
                  <a:pt x="1070372" y="118935"/>
                  <a:pt x="849152" y="82154"/>
                  <a:pt x="576263" y="82154"/>
                </a:cubicBezTo>
                <a:cubicBezTo>
                  <a:pt x="303374" y="82154"/>
                  <a:pt x="82154" y="118935"/>
                  <a:pt x="82154" y="164307"/>
                </a:cubicBezTo>
                <a:lnTo>
                  <a:pt x="0" y="1643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Арка 10"/>
          <p:cNvSpPr/>
          <p:nvPr/>
        </p:nvSpPr>
        <p:spPr>
          <a:xfrm>
            <a:off x="6372360" y="4264200"/>
            <a:ext cx="1152360" cy="328320"/>
          </a:xfrm>
          <a:custGeom>
            <a:avLst/>
            <a:gdLst/>
            <a:ahLst/>
            <a:rect l="l" t="t" r="r" b="b"/>
            <a:pathLst>
              <a:path w="1152525" h="328613">
                <a:moveTo>
                  <a:pt x="0" y="164307"/>
                </a:moveTo>
                <a:cubicBezTo>
                  <a:pt x="0" y="73563"/>
                  <a:pt x="258002" y="0"/>
                  <a:pt x="576263" y="0"/>
                </a:cubicBezTo>
                <a:cubicBezTo>
                  <a:pt x="894524" y="0"/>
                  <a:pt x="1152526" y="73563"/>
                  <a:pt x="1152526" y="164307"/>
                </a:cubicBezTo>
                <a:lnTo>
                  <a:pt x="1070372" y="164307"/>
                </a:lnTo>
                <a:cubicBezTo>
                  <a:pt x="1070372" y="118935"/>
                  <a:pt x="849152" y="82154"/>
                  <a:pt x="576263" y="82154"/>
                </a:cubicBezTo>
                <a:cubicBezTo>
                  <a:pt x="303374" y="82154"/>
                  <a:pt x="82154" y="118935"/>
                  <a:pt x="82154" y="164307"/>
                </a:cubicBezTo>
                <a:lnTo>
                  <a:pt x="0" y="1643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184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62 упр. 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7CF-ACA2-4E86-BD45-C21CDB2538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B28-D387-4B50-856F-888C3F369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6"/>
          <p:cNvSpPr/>
          <p:nvPr/>
        </p:nvSpPr>
        <p:spPr>
          <a:xfrm>
            <a:off x="2843280" y="155736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>
            <a:off x="5724360" y="155736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118160" y="14050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766680" y="14176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6956280" y="140508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Серик Жумагазиев</cp:lastModifiedBy>
  <dcterms:modified xsi:type="dcterms:W3CDTF">2023-10-23T21:24:14Z</dcterms:modified>
  <cp:revision>62</cp:revision>
  <dc:subject/>
  <dc:title>Слайд 1</dc:title>
</cp:coreProperties>
</file>