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8F1-0E05-406E-B9B6-764DFDED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D6B-73B9-4796-ADDE-7BCB9A35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B3C-494A-4EF0-9E0F-16ABBA6A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EB9-BD0D-42F0-8B3C-AB6E8FA7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CCA7-B5D9-4D60-974A-C89A1EAE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BD993-36A3-457F-B33C-2ECECDC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AEB2-911D-43F8-997B-EA066F38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563B5-A9A8-4B22-9DB6-7C0A4819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7583-0216-4900-8BBD-9A890368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61BD-8B96-4A3C-A837-92BE7C1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E2C35-C7B7-47F1-AE8A-4FDEBE48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222-B16C-416B-A5B2-EC8BE8A8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6FE19-BDE3-4D00-AD59-BF3825C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23544-FE73-46B4-9AAC-4AC91C4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5E0FC-BA5D-4957-ACC0-B7429ED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EB432-076B-4579-B6F4-C323A565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10961-7726-4949-A3A4-7BC26FA3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4A41-B40F-466B-8736-6E511B12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2892-A5E1-419E-BA32-83416F35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F6D2-234C-4B45-A34A-61F7F2E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08C4-5781-4065-B62A-39AE74E3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453F-8792-44E3-B0D9-B4F89A0D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14F-071F-4CE9-B4B5-1B28AF93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3F3E-B38D-4BF4-A9E3-131CCD85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8373-22BF-43C0-A826-444696E3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074C-33FC-45C1-9332-F5DCC0E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0DFC-26CA-40F0-BBF8-6E52428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C1B1-2119-4EAF-8174-1BDC2B2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0DB8-05AC-4193-95BB-1448B2C4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98BD-9345-4265-A74B-272627C1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59298-60D4-49D8-ABED-2DB1D629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D8D76-EC73-4E24-A724-D126501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AB068F-CBCC-474C-A4FA-55B7A63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146-1285-47E5-B0FB-02DF5B70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22B79-91AA-4633-B519-104F8C72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F3A56-32EE-4D0B-AFFB-C212CA4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CBFAA-225B-4EAB-8A34-56BD73EB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A64F3-89A6-4971-948B-F5BA461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21C06-6549-4693-8456-3C90AF03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377B3-6E70-41FE-AA70-D5E77E4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393F6-4D59-41F2-85DB-D915C98D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939FD-496A-4F21-8C49-17BE0629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1B761-9FDD-4A38-A078-06250EBB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249-93B2-4B06-AF7F-85B304D5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053-6BA4-41FE-826F-7ECE1BF7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495-6F08-473F-94F4-51C5C33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07F-EBA5-42A7-94CB-CA023A7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889-03F4-40FB-9458-C9304D2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3068-0E89-4F61-9CD2-B6142A4E309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D2B-9A96-473A-BD3A-BB2DBA27758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C7EC-198E-4DC8-A780-E39860C16B6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7DE-27B8-4E63-A28E-F05F19E6400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95280" y="333360"/>
            <a:ext cx="8183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C:\Users\Администратор\Desktop\image.png"/>
          <p:cNvPicPr/>
          <p:nvPr/>
        </p:nvPicPr>
        <p:blipFill>
          <a:blip r:embed="rId1"/>
          <a:stretch/>
        </p:blipFill>
        <p:spPr>
          <a:xfrm>
            <a:off x="5429160" y="1428840"/>
            <a:ext cx="3429000" cy="5143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Администратор\Desktop\scale_1200.jpg"/>
          <p:cNvPicPr/>
          <p:nvPr/>
        </p:nvPicPr>
        <p:blipFill>
          <a:blip r:embed="rId2"/>
          <a:stretch/>
        </p:blipFill>
        <p:spPr>
          <a:xfrm>
            <a:off x="0" y="357120"/>
            <a:ext cx="53625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786200" y="3285720"/>
            <a:ext cx="314352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H:\Школа\Сайт школы\65_files\17.jpg"/>
          <p:cNvPicPr/>
          <p:nvPr/>
        </p:nvPicPr>
        <p:blipFill>
          <a:blip r:embed="rId1"/>
          <a:stretch/>
        </p:blipFill>
        <p:spPr>
          <a:xfrm>
            <a:off x="571680" y="357120"/>
            <a:ext cx="80722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5" descr="H:\Школа\Сайт школы\65_files\18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400" y="1714680"/>
            <a:ext cx="8429400" cy="4714560"/>
          </a:xfrm>
          <a:prstGeom prst="rect">
            <a:avLst/>
          </a:prstGeom>
          <a:solidFill>
            <a:srgbClr val="faf2d4"/>
          </a:solidFill>
          <a:ln w="76320">
            <a:solidFill>
              <a:srgbClr val="8e58b6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одалы готовились к военной службе с ___________________. Они постоянно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пражнялись в _______________, __________________________, __________________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__, _____________________________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___________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детстве к будущим рыцарям приглашали учителей, которые обучали и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редко с семи лет мальчик – сын рыцаря – покидал отцовский замок и служил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 при дворе знатного феодала. Он выполнял различные поручения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еньора и членов его семьи. В 15 лет юноша становился___________________________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олько после длительной службы или воинских подвигов отличившихся посвящали в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. Во время праздника воин становился на колено перед самым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тным из гостей и тот наносил удар __________________________________ -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динственный в жизни удар, который рыцарь мог получить, не ответив на него. Потом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ыцарь надевал _________________________________________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Церемония завершалась показом ловкости рыцар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Багетная рамка 6"/>
          <p:cNvSpPr/>
          <p:nvPr/>
        </p:nvSpPr>
        <p:spPr>
          <a:xfrm>
            <a:off x="785880" y="189000"/>
            <a:ext cx="7858080" cy="1285920"/>
          </a:xfrm>
          <a:prstGeom prst="bevel">
            <a:avLst>
              <a:gd name="adj" fmla="val 12500"/>
            </a:avLst>
          </a:prstGeom>
          <a:solidFill>
            <a:srgbClr val="fdf6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сстановите тек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Багетная рамка 4"/>
          <p:cNvSpPr/>
          <p:nvPr/>
        </p:nvSpPr>
        <p:spPr>
          <a:xfrm>
            <a:off x="785880" y="189000"/>
            <a:ext cx="7858080" cy="1285920"/>
          </a:xfrm>
          <a:prstGeom prst="bevel">
            <a:avLst>
              <a:gd name="adj" fmla="val 12500"/>
            </a:avLst>
          </a:prstGeom>
          <a:solidFill>
            <a:srgbClr val="fdf6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азвлечение рыцар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5" descr="http://forum.arimoya.info/attachments/egerton-book-of-hours-wolfgang-beurer-15thc-et-al-hunting-jpg.6492/"/>
          <p:cNvPicPr/>
          <p:nvPr/>
        </p:nvPicPr>
        <p:blipFill>
          <a:blip r:embed="rId1"/>
          <a:stretch/>
        </p:blipFill>
        <p:spPr>
          <a:xfrm>
            <a:off x="714240" y="1857240"/>
            <a:ext cx="3429000" cy="17859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https://img11.postila.ru/data/1a/d6/5a/b9/1ad65ab93b95599b0c96117b7b3891b7d8d7e0dadbc3c11d16b8391642df7b6b.jpg"/>
          <p:cNvPicPr/>
          <p:nvPr/>
        </p:nvPicPr>
        <p:blipFill>
          <a:blip r:embed="rId2"/>
          <a:stretch/>
        </p:blipFill>
        <p:spPr>
          <a:xfrm>
            <a:off x="642960" y="3857760"/>
            <a:ext cx="357192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https://avatars.mds.yandex.net/get-zen_doc/51182/pub_5d830b194735a600aeafd611_5d83135ff73d9d00ae6098cb/scale_1200"/>
          <p:cNvPicPr/>
          <p:nvPr/>
        </p:nvPicPr>
        <p:blipFill>
          <a:blip r:embed="rId3"/>
          <a:stretch/>
        </p:blipFill>
        <p:spPr>
          <a:xfrm>
            <a:off x="4929120" y="2643120"/>
            <a:ext cx="3286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>
            <a:off x="719280" y="4699080"/>
            <a:ext cx="770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2411280" y="3244680"/>
            <a:ext cx="35402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H:\Школа\Сайт школы\65_files\2.jpg"/>
          <p:cNvPicPr/>
          <p:nvPr/>
        </p:nvPicPr>
        <p:blipFill>
          <a:blip r:embed="rId1"/>
          <a:stretch/>
        </p:blipFill>
        <p:spPr>
          <a:xfrm>
            <a:off x="285840" y="214200"/>
            <a:ext cx="8675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395280" y="333360"/>
            <a:ext cx="8183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H:\Школа\Сайт школы\65_files\3.jpg"/>
          <p:cNvPicPr/>
          <p:nvPr/>
        </p:nvPicPr>
        <p:blipFill>
          <a:blip r:embed="rId1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Рисунок1"/>
          <p:cNvPicPr/>
          <p:nvPr/>
        </p:nvPicPr>
        <p:blipFill>
          <a:blip r:embed="rId1"/>
          <a:stretch/>
        </p:blipFill>
        <p:spPr>
          <a:xfrm>
            <a:off x="349200" y="404640"/>
            <a:ext cx="4392720" cy="5826240"/>
          </a:xfrm>
          <a:prstGeom prst="rect">
            <a:avLst/>
          </a:prstGeom>
          <a:ln w="76320">
            <a:solidFill>
              <a:srgbClr val="fefac9"/>
            </a:solidFill>
            <a:miter/>
          </a:ln>
        </p:spPr>
      </p:pic>
      <p:sp>
        <p:nvSpPr>
          <p:cNvPr id="179" name=""/>
          <p:cNvSpPr txBox="1"/>
          <p:nvPr/>
        </p:nvSpPr>
        <p:spPr>
          <a:xfrm>
            <a:off x="-360" y="-360"/>
            <a:ext cx="360" cy="360"/>
          </a:xfrm>
          <a:prstGeom prst="rect">
            <a:avLst/>
          </a:prstGeom>
          <a:solidFill>
            <a:srgbClr val="999999"/>
          </a:solidFill>
          <a:ln w="12600">
            <a:solidFill>
              <a:srgbClr val="ffffff"/>
            </a:solidFill>
            <a:round/>
          </a:ln>
        </p:spPr>
        <p:txBody>
          <a:bodyPr tIns="-45360" bIns="-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000760" y="428760"/>
            <a:ext cx="396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наряжение рыцар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Воспитание рыцар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Рыцари на досуг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5" descr=""/>
          <p:cNvPicPr/>
          <p:nvPr/>
        </p:nvPicPr>
        <p:blipFill>
          <a:blip r:embed="rId1"/>
          <a:stretch/>
        </p:blipFill>
        <p:spPr>
          <a:xfrm>
            <a:off x="444600" y="139680"/>
            <a:ext cx="82548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00040" y="2571840"/>
          <a:ext cx="8215200" cy="1714320"/>
        </p:xfrm>
        <a:graphic>
          <a:graphicData uri="http://schemas.openxmlformats.org/drawingml/2006/table">
            <a:tbl>
              <a:tblPr/>
              <a:tblGrid>
                <a:gridCol w="1101600"/>
                <a:gridCol w="944640"/>
                <a:gridCol w="811440"/>
                <a:gridCol w="1076040"/>
                <a:gridCol w="852480"/>
                <a:gridCol w="928800"/>
                <a:gridCol w="785880"/>
                <a:gridCol w="801720"/>
                <a:gridCol w="9126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мотровая баш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нжон (главная башн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евые баш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озяйственные построй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Жилые помещ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од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ов с вод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ъёмный мо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епостные ст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7" descr="H:\Школа\Сайт школы\65_files\14.jpg"/>
          <p:cNvPicPr/>
          <p:nvPr/>
        </p:nvPicPr>
        <p:blipFill>
          <a:blip r:embed="rId1"/>
          <a:stretch/>
        </p:blipFill>
        <p:spPr>
          <a:xfrm>
            <a:off x="571680" y="500040"/>
            <a:ext cx="80722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08360" y="2571480"/>
            <a:ext cx="26784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Содержимое 6" descr="H:\Школа\Сайт школы\65_files\15.jpg"/>
          <p:cNvPicPr/>
          <p:nvPr/>
        </p:nvPicPr>
        <p:blipFill>
          <a:blip r:embed="rId1"/>
          <a:stretch/>
        </p:blipFill>
        <p:spPr>
          <a:xfrm>
            <a:off x="571680" y="285840"/>
            <a:ext cx="82152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179280" y="0"/>
            <a:ext cx="389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5" descr="H:\Школа\Сайт школы\65_files\16.jpg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9:00:34Z</dcterms:created>
  <dc:creator>Zver</dc:creator>
  <dc:description/>
  <dc:language>en-US</dc:language>
  <cp:lastModifiedBy>Администратор</cp:lastModifiedBy>
  <dcterms:modified xsi:type="dcterms:W3CDTF">2023-11-06T17:19:28Z</dcterms:modified>
  <cp:revision>56</cp:revision>
  <dc:subject/>
  <dc:title>Слайд 1</dc:title>
</cp:coreProperties>
</file>