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618-16C2-4D47-A537-67E2F509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99A-AB5A-426A-87AF-56FF7E7D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ED3-E453-4F0F-86D4-D4781291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501-78DE-45C2-9159-FC1CBFB9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BE1F11-CAB0-4B79-9449-01FD4B1F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70CFB-6784-4686-94C4-D97C54B5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AB830-A5C1-4628-AF1E-42471E6D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15DB6-8126-4A36-BD40-6A6E75A2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78E8C-62DF-46BE-A01C-20265FE5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1143C-7F14-4589-A984-97C9E5B6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B5395-953F-48EE-B26E-8AD2007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D83-AAC6-4D1C-A205-5DC64BBE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3B620-3790-4132-8ACC-1875B2DB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3D262-0D49-4E3F-914B-C7852ED3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1E3BB-D531-4817-9D97-D2B59319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E59FB-2EA2-4889-BDD0-71450435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6E951-49B0-432A-A265-6D7AC7A4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DB1A-020C-4F7A-825B-9442D0E2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6CEF-0358-416E-84AA-CEE236A4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47658-8BFE-417E-ACF3-F87AAB6C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5823-C7AF-4662-9813-E93C649D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E0ED9-FFE9-4B7A-B66D-06845602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70E-818A-473B-A786-A27862C9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31F2-AC72-4CD6-9AA4-90DCE2E6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CA45F-7DD8-4FD0-9D79-9FE85AB5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C78F-31A1-4B19-A313-FB3AE486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01479-02B3-4A8B-A43D-6BEA5F7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773B-C547-4129-B4B1-903E052E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0D9D0-2357-4591-B7BE-4F5FA5A2D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B9C0-0AF3-47F9-8511-0208DF14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F0EC9B-DFFF-49C9-933F-8D966AED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51BFC-234A-4C38-8D10-8D03B1A8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48C076-9185-4321-9151-5C63F93E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E1DB-E62F-4EA1-8A28-B841CE60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A38396-8378-4211-BB88-4DE41F63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0714F6-2DCB-4CDC-ABC6-22B2ED97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452E9-DF88-46A3-A2DB-DF0B412F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45E7F-4854-49E8-A94A-B510D027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1BB826-E5E7-4617-9AAE-102BA079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EF902A-D1C9-4D4E-9D88-8DE71330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FD6324-2E70-44B5-B789-080F175C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492DC0-3F6D-42F0-B00C-76E6142F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A077C9-C8D2-45A4-9CA2-F81DB0EC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FE9-E023-42D4-BCDD-399CC34D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B177-8199-46D0-AD86-B68D39A8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90C-096B-4514-B3B7-FE3AA5D6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DFE-2CBF-4641-931F-BC503CC4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64A6-6741-4F51-9017-0A7FE9EA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760B-891B-4D90-A579-BD9A1A734B27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F6DB-B644-4B77-AA97-5AF38535867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6FE4-1628-4295-A16B-CD57B920FBAA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EF2F-E679-4935-AD03-16CA83F30F92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95280" y="333360"/>
            <a:ext cx="81835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C:\Users\Администратор\Desktop\image.png"/>
          <p:cNvPicPr/>
          <p:nvPr/>
        </p:nvPicPr>
        <p:blipFill>
          <a:blip r:embed="rId1"/>
          <a:stretch/>
        </p:blipFill>
        <p:spPr>
          <a:xfrm>
            <a:off x="5429160" y="1428840"/>
            <a:ext cx="3429000" cy="5143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Администратор\Desktop\scale_1200.jpg"/>
          <p:cNvPicPr/>
          <p:nvPr/>
        </p:nvPicPr>
        <p:blipFill>
          <a:blip r:embed="rId2"/>
          <a:stretch/>
        </p:blipFill>
        <p:spPr>
          <a:xfrm>
            <a:off x="0" y="357120"/>
            <a:ext cx="53625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786200" y="3285720"/>
            <a:ext cx="314352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5" descr="H:\Школа\Сайт школы\65_files\17.jpg"/>
          <p:cNvPicPr/>
          <p:nvPr/>
        </p:nvPicPr>
        <p:blipFill>
          <a:blip r:embed="rId1"/>
          <a:stretch/>
        </p:blipFill>
        <p:spPr>
          <a:xfrm>
            <a:off x="571680" y="357120"/>
            <a:ext cx="80722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5" descr="H:\Школа\Сайт школы\65_files\18.jpg"/>
          <p:cNvPicPr/>
          <p:nvPr/>
        </p:nvPicPr>
        <p:blipFill>
          <a:blip r:embed="rId1"/>
          <a:stretch/>
        </p:blipFill>
        <p:spPr>
          <a:xfrm>
            <a:off x="428760" y="285840"/>
            <a:ext cx="83581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28400" y="1714680"/>
            <a:ext cx="8429400" cy="4714560"/>
          </a:xfrm>
          <a:prstGeom prst="rect">
            <a:avLst/>
          </a:prstGeom>
          <a:solidFill>
            <a:srgbClr val="faf2d4"/>
          </a:solidFill>
          <a:ln w="76320">
            <a:solidFill>
              <a:srgbClr val="8e58b6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еодалы готовились к военной службе с ___________________. Они постоянно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пражнялись в _______________, __________________________, __________________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______________________, _____________________________,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_______________________________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детстве к будущим рыцарям приглашали учителей, которые обучали и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ередко с семи лет мальчик – сын рыцаря – покидал отцовский замок и служил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____________________ при дворе знатного феодала. Он выполнял различные поручения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еньора и членов его семьи. В 15 лет юноша становился___________________________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олько после длительной службы или воинских подвигов отличившихся посвящали в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___________________. Во время праздника воин становился на колено перед самым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тным из гостей и тот наносил удар __________________________________ -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единственный в жизни удар, который рыцарь мог получить, не ответив на него. Потом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ыцарь надевал _________________________________________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Церемония завершалась показом ловкости рыцар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Багетная рамка 6"/>
          <p:cNvSpPr/>
          <p:nvPr/>
        </p:nvSpPr>
        <p:spPr>
          <a:xfrm>
            <a:off x="785880" y="189000"/>
            <a:ext cx="7858080" cy="1285920"/>
          </a:xfrm>
          <a:prstGeom prst="bevel">
            <a:avLst>
              <a:gd name="adj" fmla="val 12500"/>
            </a:avLst>
          </a:prstGeom>
          <a:solidFill>
            <a:srgbClr val="fdf6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Восстановите текс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Багетная рамка 4"/>
          <p:cNvSpPr/>
          <p:nvPr/>
        </p:nvSpPr>
        <p:spPr>
          <a:xfrm>
            <a:off x="785880" y="189000"/>
            <a:ext cx="7858080" cy="1285920"/>
          </a:xfrm>
          <a:prstGeom prst="bevel">
            <a:avLst>
              <a:gd name="adj" fmla="val 12500"/>
            </a:avLst>
          </a:prstGeom>
          <a:solidFill>
            <a:srgbClr val="fdf69c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Развлечение рыцар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Рисунок 5" descr="http://forum.arimoya.info/attachments/egerton-book-of-hours-wolfgang-beurer-15thc-et-al-hunting-jpg.6492/"/>
          <p:cNvPicPr/>
          <p:nvPr/>
        </p:nvPicPr>
        <p:blipFill>
          <a:blip r:embed="rId1"/>
          <a:stretch/>
        </p:blipFill>
        <p:spPr>
          <a:xfrm>
            <a:off x="714240" y="1857240"/>
            <a:ext cx="3429000" cy="178596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https://img11.postila.ru/data/1a/d6/5a/b9/1ad65ab93b95599b0c96117b7b3891b7d8d7e0dadbc3c11d16b8391642df7b6b.jpg"/>
          <p:cNvPicPr/>
          <p:nvPr/>
        </p:nvPicPr>
        <p:blipFill>
          <a:blip r:embed="rId2"/>
          <a:stretch/>
        </p:blipFill>
        <p:spPr>
          <a:xfrm>
            <a:off x="642960" y="3857760"/>
            <a:ext cx="3571920" cy="200016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https://avatars.mds.yandex.net/get-zen_doc/51182/pub_5d830b194735a600aeafd611_5d83135ff73d9d00ae6098cb/scale_1200"/>
          <p:cNvPicPr/>
          <p:nvPr/>
        </p:nvPicPr>
        <p:blipFill>
          <a:blip r:embed="rId3"/>
          <a:stretch/>
        </p:blipFill>
        <p:spPr>
          <a:xfrm>
            <a:off x="4929120" y="2643120"/>
            <a:ext cx="3286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6"/>
          <p:cNvSpPr txBox="1"/>
          <p:nvPr/>
        </p:nvSpPr>
        <p:spPr>
          <a:xfrm>
            <a:off x="719280" y="4699080"/>
            <a:ext cx="77054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2411280" y="3244680"/>
            <a:ext cx="354024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H:\Школа\Сайт школы\65_files\2.jpg"/>
          <p:cNvPicPr/>
          <p:nvPr/>
        </p:nvPicPr>
        <p:blipFill>
          <a:blip r:embed="rId1"/>
          <a:stretch/>
        </p:blipFill>
        <p:spPr>
          <a:xfrm>
            <a:off x="285840" y="214200"/>
            <a:ext cx="86756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395280" y="333360"/>
            <a:ext cx="818352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2" descr="H:\Школа\Сайт школы\65_files\3.jpg"/>
          <p:cNvPicPr/>
          <p:nvPr/>
        </p:nvPicPr>
        <p:blipFill>
          <a:blip r:embed="rId1"/>
          <a:stretch/>
        </p:blipFill>
        <p:spPr>
          <a:xfrm>
            <a:off x="0" y="0"/>
            <a:ext cx="905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8" descr="Рисунок1"/>
          <p:cNvPicPr/>
          <p:nvPr/>
        </p:nvPicPr>
        <p:blipFill>
          <a:blip r:embed="rId1"/>
          <a:stretch/>
        </p:blipFill>
        <p:spPr>
          <a:xfrm>
            <a:off x="349200" y="404640"/>
            <a:ext cx="4392720" cy="5826240"/>
          </a:xfrm>
          <a:prstGeom prst="rect">
            <a:avLst/>
          </a:prstGeom>
          <a:ln w="76320">
            <a:solidFill>
              <a:srgbClr val="fefac9"/>
            </a:solidFill>
            <a:miter/>
          </a:ln>
        </p:spPr>
      </p:pic>
      <p:sp>
        <p:nvSpPr>
          <p:cNvPr id="179" name=""/>
          <p:cNvSpPr txBox="1"/>
          <p:nvPr/>
        </p:nvSpPr>
        <p:spPr>
          <a:xfrm>
            <a:off x="-360" y="-360"/>
            <a:ext cx="360" cy="360"/>
          </a:xfrm>
          <a:prstGeom prst="rect">
            <a:avLst/>
          </a:prstGeom>
          <a:solidFill>
            <a:srgbClr val="999999"/>
          </a:solidFill>
          <a:ln w="12600">
            <a:solidFill>
              <a:srgbClr val="ffffff"/>
            </a:solidFill>
            <a:round/>
          </a:ln>
        </p:spPr>
        <p:txBody>
          <a:bodyPr tIns="-45360" bIns="-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000760" y="428760"/>
            <a:ext cx="3960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«Мой дом – моя крепость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Снаряжение рыцар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Воспитание рыцаре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Рыцари на досуг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5" descr=""/>
          <p:cNvPicPr/>
          <p:nvPr/>
        </p:nvPicPr>
        <p:blipFill>
          <a:blip r:embed="rId1"/>
          <a:stretch/>
        </p:blipFill>
        <p:spPr>
          <a:xfrm>
            <a:off x="444600" y="139680"/>
            <a:ext cx="8254800" cy="124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500040" y="2571840"/>
          <a:ext cx="8215200" cy="1714320"/>
        </p:xfrm>
        <a:graphic>
          <a:graphicData uri="http://schemas.openxmlformats.org/drawingml/2006/table">
            <a:tbl>
              <a:tblPr/>
              <a:tblGrid>
                <a:gridCol w="1101600"/>
                <a:gridCol w="944640"/>
                <a:gridCol w="811440"/>
                <a:gridCol w="1076040"/>
                <a:gridCol w="852480"/>
                <a:gridCol w="928800"/>
                <a:gridCol w="785880"/>
                <a:gridCol w="801720"/>
                <a:gridCol w="9126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Смотровая башн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нжон (главная башн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Боевые баш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Хозяйственные построй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Жилые помещ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олоде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ов с вод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одъёмный мос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репостные ст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Содержимое 7" descr="H:\Школа\Сайт школы\65_files\14.jpg"/>
          <p:cNvPicPr/>
          <p:nvPr/>
        </p:nvPicPr>
        <p:blipFill>
          <a:blip r:embed="rId1"/>
          <a:stretch/>
        </p:blipFill>
        <p:spPr>
          <a:xfrm>
            <a:off x="571680" y="500040"/>
            <a:ext cx="807228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08360" y="2571480"/>
            <a:ext cx="2678400" cy="35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Содержимое 6" descr="H:\Школа\Сайт школы\65_files\15.jpg"/>
          <p:cNvPicPr/>
          <p:nvPr/>
        </p:nvPicPr>
        <p:blipFill>
          <a:blip r:embed="rId1"/>
          <a:stretch/>
        </p:blipFill>
        <p:spPr>
          <a:xfrm>
            <a:off x="571680" y="285840"/>
            <a:ext cx="82152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2"/>
          <p:cNvSpPr/>
          <p:nvPr/>
        </p:nvSpPr>
        <p:spPr>
          <a:xfrm>
            <a:off x="179280" y="0"/>
            <a:ext cx="3892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Рисунок 5" descr="H:\Школа\Сайт школы\65_files\16.jpg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9:00:34Z</dcterms:created>
  <dc:creator>Zver</dc:creator>
  <dc:description/>
  <dc:language>en-US</dc:language>
  <cp:lastModifiedBy>Администратор</cp:lastModifiedBy>
  <dcterms:modified xsi:type="dcterms:W3CDTF">2023-11-06T17:19:28Z</dcterms:modified>
  <cp:revision>56</cp:revision>
  <dc:subject/>
  <dc:title>Слайд 1</dc:title>
</cp:coreProperties>
</file>