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0F22-202F-4379-9FD3-1D1BB163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CC2A-BB82-4153-B140-BD8D6F1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7B6FA-1D69-4B9D-9D8C-A0025016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09D0-A855-4317-AD41-5638BE23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054F-96D2-49BA-A9EB-F773EC2E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DE31-20AD-4F85-A1C1-4194A19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E722-4E5A-4E03-9887-E1B5DE73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8F04-BF35-4503-B342-DF3D7A25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5772-A59D-41D2-AE71-7BE41772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340C-B32F-4896-8050-CFA3BB6D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4D8-20B0-4B45-9738-C57C994D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924B1-2145-4F5F-8C2F-D9A91D07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B985-BA6A-46A5-9456-69E088AB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1FF-C271-4972-AD4F-18F5E0B1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DDD0-3088-4603-8934-EC0AE541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FD4B-F157-4798-B1A6-C4713AC0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DB2F-F1D1-4D0C-815A-7CF97109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B9F73-3FCA-4D25-BBC7-70B0911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8722-2B38-4C5A-ACA4-ECB7704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B527-8DD3-440E-8B05-85F06776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8D81D-4180-4068-AC47-5A387875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B121-C3B7-4629-90C1-031E2FB0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F94C6-13BD-42A7-9C36-6E2F43B7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9424-EA02-4234-A3CF-AA25D6A6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CECF-C333-4F5C-AC0F-97124BA5D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DF4E-1953-44B3-960D-A209F84EC0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Экскурсия по </a:t>
            </a:r>
            <a:br>
              <a:rPr sz="7200"/>
            </a:br>
            <a:r>
              <a:rPr b="1" lang="en-US" sz="7200" spc="-1" strike="noStrike">
                <a:solidFill>
                  <a:srgbClr val="e5e5ff"/>
                </a:solidFill>
                <a:latin typeface="Garamond"/>
              </a:rPr>
              <a:t>Афинскому Акрополю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5373720"/>
            <a:ext cx="475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околова Г.Д. учитель МХ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ОУ Макаровская СОШ 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 своему плану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арфенон это дорический периптер – 8х17 колонн высотой 10.5 м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Храм гармоничен, благодаря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ъединению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 нём свойств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двух ордеров – дорического и ионическо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аружные колонны были дорического ордера, стены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собственно храмоцеллы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енчал непрерывный ионический фриз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4826160" cy="3227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4843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630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здание разделено на две равные части. В заподном крыле хранилась казна Афинского морского союза, а в восточной части на высоком постаменте стаяла знаменита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Афины Парфенос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Афина Парфенос последняя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атуя работы Фидия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. Работал он над ней 10 ле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сота статуи 12 метров. Она имела деревянную основу, покрытую золотом и слоновой кость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олове Афины был шлем с изображением сфинкса и крылатых коней, на груди – эгида с маской Медузы Гаргоны. В правой руке держала двухметровую богиню Нику, а левой - щит. На щите с наружной стороны была изображена битва греков с амазонками. У ног Афины сова – символ мудрости, а слева змей, олицетворяющий Эрехфея – древнейшее божество Аттики. Величественно ниспадающие складки её одежды напоминали желобки стройных колонн - каннелю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5 в. н.э. статую Афины увёз в Константинополь один византийский император, и там спустя 100 лет она погибла при пожа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5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наружи Парфенон украшали сцены жестоких сражений (из мифологических сюжетов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нутри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рельефный фриз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арфенона огибал всё здание. На мраморной ленте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длинной 160 метров и высотой 1 метр изображалось торжественное шествие жителей Афин в день Великих Панафине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гармоничности, сплавленности форм и красоте ритма он не имел равных в мировом искусств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8323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рехтей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рехтейон – небольшой ионический храм, созданный в 421-405 г. до н.э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Храм посвящён богине Афине и мифическому царю Эрехтею и названый в его че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 легенде именно здесь состоялся спор между Афиной и Посейдоном за право владеть Аттико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мпозиция храма очень сложна.  Он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ыстроен на неровной площадке скалистого склона, имеет три совершенно различных по размеру и форме портик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3629160"/>
            <a:ext cx="4968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4000" y="333360"/>
            <a:ext cx="82087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какой бы стороны мы не подходили к этому храму, отовсюду он встречает нас новой, неожиданной композицией фасада, ассиметрией уг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дном из портиков роль колонн выполняют коры – фигуры девуш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туи кариатид органично сочетаются с архитектурой. Они выполняют конструктивную роль, заменяя колонны, и вместе с тем замечательно смотрятся на фоне мраморной стены хра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18472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Афинский Акрополь 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</a:t>
            </a: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 в. до н.э.)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рополь – верхний гор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финский Акрополь стоял на высоко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отвесной скале, возвышающейся на 150 м. на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уровнем моря. Он является композиционны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центром города, раскинувшегося у ег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однож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Его создателями были зодчие, работавшие  п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руководством скульптора Фидия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Фидий посвят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крополю 16 лет своей жизни. Здесь в полной мер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звернулись его творческие и организаторск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пособности, а талант скульптора достиг зрел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ерик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асцвет главного центра афинской культуры – Акрополя связан с Периклом, который правил в это время в Афина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Это был высокообразованный человек, общепризнанный вождь афинской демократ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ерикл объединил вокруг себя лучшие умы Эллады: его друзьями были философ Анаксагор, художник Поликлет и скульптор Фид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15100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аздник Великих Панафине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мпозиционный замысел ансамбля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Акрополя связан с Панафинейскими торжествами и шествием на Акрополь афиня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последний день Великих Панафиней, праздновавшихся один раз в 4 года, торжественная процессия из граждан города подносила Афине священное покрывало (пеплос), сотканное руками афинских девушек. Этот дар был знаком воскресения богини Афин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Праздник сопровождался конными и гимнастическими соревнованиями, состязаниями певцов и музык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260280"/>
            <a:ext cx="77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33336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онструкция Акропо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8532720" y="6381720"/>
            <a:ext cx="468360" cy="260280"/>
          </a:xfrm>
          <a:custGeom>
            <a:avLst/>
            <a:gdLst>
              <a:gd name="textAreaLeft" fmla="*/ 16560 w 468360"/>
              <a:gd name="textAreaRight" fmla="*/ 451800 w 46836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38844" h="21600">
                <a:moveTo>
                  <a:pt x="0" y="0"/>
                </a:moveTo>
                <a:lnTo>
                  <a:pt x="38844" y="0"/>
                </a:lnTo>
                <a:lnTo>
                  <a:pt x="38844" y="21600"/>
                </a:lnTo>
                <a:lnTo>
                  <a:pt x="0" y="21600"/>
                </a:lnTo>
                <a:close/>
              </a:path>
              <a:path fill="lightenLess" w="38844" h="21600">
                <a:moveTo>
                  <a:pt x="0" y="0"/>
                </a:moveTo>
                <a:lnTo>
                  <a:pt x="38844" y="0"/>
                </a:lnTo>
                <a:lnTo>
                  <a:pt x="37444" y="1400"/>
                </a:lnTo>
                <a:lnTo>
                  <a:pt x="1400" y="1400"/>
                </a:lnTo>
                <a:close/>
              </a:path>
              <a:path fill="darken" w="38844" h="21600">
                <a:moveTo>
                  <a:pt x="38844" y="0"/>
                </a:moveTo>
                <a:lnTo>
                  <a:pt x="38844" y="21600"/>
                </a:lnTo>
                <a:lnTo>
                  <a:pt x="37444" y="20200"/>
                </a:lnTo>
                <a:lnTo>
                  <a:pt x="37444" y="1400"/>
                </a:lnTo>
                <a:close/>
              </a:path>
              <a:path fill="darkenLess" w="38844" h="21600">
                <a:moveTo>
                  <a:pt x="38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4" y="20200"/>
                </a:lnTo>
                <a:close/>
              </a:path>
              <a:path fill="lighten" w="38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44" h="21600">
                <a:moveTo>
                  <a:pt x="12416" y="10800"/>
                </a:moveTo>
                <a:lnTo>
                  <a:pt x="26429" y="3794"/>
                </a:lnTo>
                <a:lnTo>
                  <a:pt x="2642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пиле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опилеи – это торжественный, парадный вх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остроил его архитектор Мнесикл в 437-432 г до н.э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Представляют собой два дорических портика, один из которых обращён к городу, а другой- к вершине Акрополя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лева к пропилеям примыкала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инакотека – картинная галерея, в которой помещались картины, мемориальные мраморные плиты и посвящения к богам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4356000" cy="292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859280" y="3681360"/>
            <a:ext cx="40338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Храм Ники Апте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799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Справа от Пропилей находился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крошечный, изящный, лёгкий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храм Ники Аптерос (бескрылой) – богини Побед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Он сооружён Калликратом в 427-424 г до н.э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5480" y="2708280"/>
            <a:ext cx="2955960" cy="3960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508720" y="2852640"/>
            <a:ext cx="2879640" cy="35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три храма находилась бескрылая статуя богини. Известна легенда, согласно которой эта богиня принесла победу грекам над персами, а потом жителям города не хотелось с ней расставаться. Изобразив её бескрылой, они посчитали, что богиня уже никогда не сможет покинуть их г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Статуя Афины Промахос (воительницы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ойдя Пропилеи, попадаем на вершину выровняной скалы, превращённой в площад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В центре площади возвышалась огромная 17-метровая бронзовая статуя Афины Промахос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покровительствующей Афинам и греческому народу. Суровая и грозная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богиня правой рукой опирается на копьё, а левой держала щит. Эта статуя была хорошо видна со всех сторон города, и даже с мор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ыне площадь пуста, т.к. статую уничтожили в 13 в. суеверные рыцари-крестоносц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арфенон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35164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основе композиции Акрополя лежит принцип ассиметрии, принцип свободной панорамы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этому статую Афины поместили левее главной оси Припилей, а справа сместили знаменитый Парфенон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5111640" cy="354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543640" y="3068640"/>
            <a:ext cx="342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рам Парфенон посвящён Афине Парфенос (дев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архитекторами Иктином и Калликрат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роен из золотисто-розового пентеллийского мрам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6:49:18Z</dcterms:created>
  <dc:creator>Пользователь</dc:creator>
  <dc:description/>
  <dc:language>en-US</dc:language>
  <cp:lastModifiedBy>1</cp:lastModifiedBy>
  <dcterms:modified xsi:type="dcterms:W3CDTF">2011-05-17T10:59:48Z</dcterms:modified>
  <cp:revision>7</cp:revision>
  <dc:subject/>
  <dc:title>Экскурсия по  Афинскому Акрополю</dc:title>
</cp:coreProperties>
</file>