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BD95F-4585-4A1E-9149-57295E54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54FE3-2322-4913-996D-17470FE1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D9484-BF13-4242-A5B9-CFEC9E67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9CFE5-9E0F-486B-B0AA-BACCF052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44EE-C103-4B47-B38B-D049FD9F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2793-D3A0-496A-BB78-A5B1936D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1DB1-8CE1-4C39-A504-B6594742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8884-2D84-40E9-A3D9-1063395C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F55C-F620-443B-98AA-D29BAE56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255C-9570-49E0-A5E4-57A23E11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C11B-5AE7-43BE-A443-FFE16FD0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FE0A8-7339-4DFF-AAD8-36CEE165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2F53-D30E-4C09-82E7-2DD34DC3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1C80-8473-42A9-AEB7-83C9714F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4EE2-6417-4784-9D17-204207DB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DCE2-30C9-42B8-8570-4159D2D0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5CF8-6E4A-4167-93E5-BD12AE91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27553-787C-47B3-B470-E2964E42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AD9CC-4A00-44BE-B59F-C4CB72B2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52992-30A6-475E-ACC4-C2863A59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3C472-AEFB-4A30-ACCF-A832703A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1E966-F7BA-4890-AE7A-04B963A6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1367F-990D-4D0F-B02F-2393968F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C3394-4FF0-4A0E-9E44-31834FAC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959C-3D02-4AE5-9962-56CC30407C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D591-469B-4221-842D-9F5A541826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e5ff"/>
                </a:solidFill>
                <a:latin typeface="Garamond"/>
              </a:rPr>
              <a:t>Экскурсия по </a:t>
            </a:r>
            <a:br>
              <a:rPr sz="7200"/>
            </a:br>
            <a:r>
              <a:rPr b="1" lang="en-US" sz="7200" spc="-1" strike="noStrike">
                <a:solidFill>
                  <a:srgbClr val="e5e5ff"/>
                </a:solidFill>
                <a:latin typeface="Garamond"/>
              </a:rPr>
              <a:t>Афинскому Акрополю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5373720"/>
            <a:ext cx="475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околова Г.Д. учитель МХ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МОУ Макаровская СОШ 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 своему плану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арфенон это дорический периптер – 8х17 колонн высотой 10.5 м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Храм гармоничен, благодаря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ъединению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 нём свойств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вух ордеров – дорического и ионическо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ружные колонны были дорического ордера, стены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обственно храмоцеллы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енчал непрерывный ионический фри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4826160" cy="3227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940360" y="2997360"/>
            <a:ext cx="2484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663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нутри здание разделено на две равные части. В заподном крыле хранилась казна Афинского морского союза, а в восточной части на высоком постаменте стаяла знаменитая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атуя Афины Парфено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фина Парфенос последняя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атуя работы Фидия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 Работал он над ней 10 ле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ысота статуи 12 метров. Она имела деревянную основу, покрытую золотом и слоновой кость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олове Афины был шлем с изображением сфинкса и крылатых коней, на груди – эгида с маской Медузы Гаргоны. В правой руке держала двухметровую богиню Нику, а левой - щит. На щите с наружной стороны была изображена битва греков с амазонками. У ног Афины сова – символ мудрости, а слева змей, олицетворяющий Эрехфея – древнейшее божество Аттики. Величественно ниспадающие складки её одежды напоминали желобки стройных колонн - каннелю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5 в. н.э. статую Афины увёз в Константинополь один византийский император, и там спустя 100 лет она погибла при пожар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456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наружи Парфенон украшали сцены жестоких сражений (из мифологических сюжетов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нутри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льефный фриз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Парфенона огибал всё здание. На мраморной ленте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линной 160 метров и высотой 1 метр изображалось торжественное шествие жителей Афин в день Великих Панафине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 гармоничности, сплавленности форм и красоте ритма он не имел равных в мировом искусств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83236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рехтейо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рехтейон – небольшой ионический храм, созданный в 421-405 г. до н.э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рам посвящён богине Афине и мифическому царю Эрехтею и названый в его че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 легенде именно здесь состоялся спор между Афиной и Посейдоном за право владеть Аттико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мпозиция храма очень сложна.  Он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строен на неровной площадке скалистого склона, имеет три совершенно различных по размеру и форме портик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3629160"/>
            <a:ext cx="49687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4000" y="333360"/>
            <a:ext cx="8208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какой бы стороны мы не подходили к этому храму, отовсюду он встречает нас новой, неожиданной композицией фасада, ассиметрией уг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дном из портиков роль колонн выполняют коры – фигуры девуш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туи кариатид органично сочетаются с архитектурой. Они выполняют конструктивную роль, заменяя колонны, и вместе с тем замечательно смотрятся на фоне мраморной стены хра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51847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финский Акрополь 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V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 в. до н.э.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крополь – верхний гор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Афинский Акрополь стоял на высок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твесной скале, возвышающейся на 150 м. на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ровнем моря. Он является композиционны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центром города, раскинувшегося у е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днож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го создателями были зодчие, работавшие  п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уководством скульптора Фидия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Фидий посвяти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Акрополю 16 лет своей жизни. Здесь в полной мер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азвернулись его творческие и организаторск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пособности, а талант скульптора достиг зрел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ерик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асцвет главного центра афинской культуры – Акрополя связан с Периклом, который правил в это время в Афина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Это был высокообразованный человек, общепризнанный вождь афинской демократ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ерикл объединил вокруг себя лучшие умы Эллады: его друзьями были философ Анаксагор, художник Поликлет и скульптор Фид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151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аздник Великих Панафине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Композиционный замысел ансамбля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крополя связан с Панафинейскими торжествами и шествием на Акрополь афиня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 последний день Великих Панафиней, праздновавшихся один раз в 4 года, торжественная процессия из граждан города подносила Афине священное покрывало (пеплос), сотканное руками афинских девушек. Этот дар был знаком воскресения богини Афи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аздник сопровождался конными и гимнастическими соревнованиями, состязаниями певцов и музык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9640" y="26028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33336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конструкция Акроп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8532720" y="6381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опиле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опилеи – это торжественный, парадный вх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остроил его архитектор Мнесикл в 437-432 г до н.э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редставляют собой два дорических портика, один из которых обращён к городу, а другой- к вершине Акропол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лева к пропилеям примыкала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инакотека – картинная галерея, в которой помещались картины, мемориальные мраморные плиты и посвящения к богам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4356000" cy="2923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859280" y="3681360"/>
            <a:ext cx="40338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Храм Ники Аптеро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7993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права от Пропилей находился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крошечный, изящный, лёгкий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храм Ники Аптерос (бескрылой) – богини Побе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н сооружён Калликратом в 427-424 г до н.э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5480" y="2708280"/>
            <a:ext cx="2955960" cy="3960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508720" y="2852640"/>
            <a:ext cx="2879640" cy="35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и храма находилась бескрылая статуя богини. Известна легенда, согласно которой эта богиня принесла победу грекам над персами, а потом жителям города не хотелось с ней расставаться. Изобразив её бескрылой, они посчитали, что богиня уже никогда не сможет покинуть их г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татуя Афины Промахос (воительницы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йдя Пропилеи, попадаем на вершину выровняной скалы, превращённой в площад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 центре площади возвышалась огромная 17-метровая бронзовая статуя Афины Промахос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покровительствующей Афинам и греческому народу. Суровая и грозная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богиня правой рукой опирается на копьё, а левой держала щит. Эта статуя была хорошо видна со всех сторон города, и даже с мор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ыне площадь пуста, т.к. статую уничтожили в 13 в. суеверные рыцари-крестоносц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7812000" y="6165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арфено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3516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основе композиции Акрополя лежит принцип ассиметрии, принцип свободной панорамы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Поэтому статую Афины поместили левее главной оси Припилей, а справа сместили знаменитый Парфено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5111640" cy="354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543640" y="3068640"/>
            <a:ext cx="3421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ам Парфенон посвящён Афине Парфенос (дев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роен архитекторами Иктином и Калликра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роен из золотисто-розового пентеллийского мрам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6:49:18Z</dcterms:created>
  <dc:creator>Пользователь</dc:creator>
  <dc:description/>
  <dc:language>en-US</dc:language>
  <cp:lastModifiedBy>1</cp:lastModifiedBy>
  <dcterms:modified xsi:type="dcterms:W3CDTF">2011-05-17T10:59:48Z</dcterms:modified>
  <cp:revision>7</cp:revision>
  <dc:subject/>
  <dc:title>Экскурсия по  Афинскому Акрополю</dc:title>
</cp:coreProperties>
</file>