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8.jpeg" ContentType="image/jpeg"/>
  <Override PartName="/ppt/media/image4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5.jpeg" ContentType="image/jpeg"/>
  <Override PartName="/ppt/media/image18.jpeg" ContentType="image/jpeg"/>
  <Override PartName="/ppt/media/image69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25.jpeg" ContentType="image/jpeg"/>
  <Override PartName="/ppt/media/image4.jpeg" ContentType="image/jpeg"/>
  <Override PartName="/ppt/media/image61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49.jpeg" ContentType="image/jpeg"/>
  <Override PartName="/ppt/media/image2.png" ContentType="image/png"/>
  <Override PartName="/ppt/media/image11.gif" ContentType="image/gif"/>
  <Override PartName="/ppt/media/image67.jpeg" ContentType="image/jpeg"/>
  <Override PartName="/ppt/media/image21.png" ContentType="image/png"/>
  <Override PartName="/ppt/media/image42.jpeg" ContentType="image/jpeg"/>
  <Override PartName="/ppt/media/image19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2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10.gif" ContentType="image/gif"/>
  <Override PartName="/ppt/media/image53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739-9528-47D3-9D7D-E39DBD75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1B9-813F-4573-8952-F705DB6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217-5F39-4F88-BA44-B70804BF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D39-106E-4DC0-BB53-3E6C67AB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67F-E6E5-4036-9ABB-6B029F2F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5A2-8719-4D65-ACBD-CD44212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916-A23B-41A0-AACF-07B0126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CEE5-F668-44DE-99D3-EBB32D1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1B09-96BF-4990-9BA8-294E2157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FEE6-1718-4EC1-94FF-F690C16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E02-2FAF-442A-AE38-23A3667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62F-59BE-4938-BF26-EBCF13DD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9047-18D9-4855-BD43-E70F304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2C6-2029-4212-8E7C-2EA1E23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52A0-9F24-4283-9078-C2F3A57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84F-4C44-4375-A265-7639F9A8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5800-57CF-471D-BEB6-964D9844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8EF4-D146-4148-A456-EAA1EF5D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A8A89-4274-48B0-B3CD-D9A1788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D64E-6A32-4395-B4B6-D5CF8E54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0871-6E86-4CC1-871A-53AD384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9E30-4456-4930-99CA-BDF23D44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9D-765A-4EB4-97EF-165E1CB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DBD7-6E4F-463D-A915-ED2247D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D82A-C14D-471A-9676-293A624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3B56-A2FC-45A2-8F4C-DD34442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81E0-BA0A-4741-B185-8CA8CD06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55A8-8789-45AC-AF00-F2289A4C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8648-4673-4189-B9DE-2556F71C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E3B0-6BC8-47AE-AC4C-482E25D2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A7D6-FD32-4404-97EC-4EEF5748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CD97-25EF-4CD6-9CDB-C89D2376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2B0D-3FB6-4F10-959C-83804083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C7D-33F4-4C4F-9D63-C38BC0FE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2E56-5B95-4094-A54D-0125BFB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9915-32B4-4253-BC66-23896F7D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B218-0470-4DD0-87F6-572060DB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1B0C-413F-4ED5-8D78-5E1CE6D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924B-C6D6-43B6-8D14-BAE1830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5C34-5725-4C62-B8C2-3A5F391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E9FA-B7AC-4274-92E7-DE99BDB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C687-6174-459B-ACC7-5CCB0DE1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3C66-03D3-49C5-BC82-62C14BBA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C0E3-B819-4002-B5E0-E3F7D4CC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2C9-4C3D-4917-B581-5F9BFBE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9882-0333-40FC-A3F1-8A8DF9E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9207-A383-488D-99CE-2B5543C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E399-9015-4089-821F-844C7B4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1C09-26B1-4215-B12C-80B0917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A780-EDBA-4BBD-9A85-0B9DBED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593F-D4C8-40F5-B4CE-71A1EC41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90A1-8591-4C99-8F54-9B7D9928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0851-22A5-4A07-AE1D-BC7F36A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B748-612B-4C59-A102-2569BE7B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AF5C-5D8C-474B-A71C-B74A9997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F0A-3E11-4257-9ECD-44CCC27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5444-93FD-4EA5-B5D1-C9C62E78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D0F-C05E-49D6-8EB1-FF0A938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BE1-01CE-4B0A-A445-82C678A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3AF-24F7-416B-8380-B583FFF3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074-CD4F-4C27-950F-A652D9F5F172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FB3E-6428-4E11-B24D-2B6AB051D4E4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CB96-3BE9-47E6-9266-48AA5F10D5E3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4EB5-3446-4914-9684-B11DC4607486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1355-E400-48FC-B857-F053D81499EC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disel.ru/" TargetMode="External"/><Relationship Id="rId4" Type="http://schemas.openxmlformats.org/officeDocument/2006/relationships/hyperlink" Target="http://www.disel.ru/" TargetMode="External"/><Relationship Id="rId5" Type="http://schemas.openxmlformats.org/officeDocument/2006/relationships/image" Target="../media/image63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gif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electrof_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term_para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solar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Источники электрического т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643040" cy="2928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1857240" y="285840"/>
            <a:ext cx="68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Автор: учитель физики и информатики Александрова З.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МОУ СОШ №5 п.Печенга, Мурманская обл.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785880" y="642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Физик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batraz.jpg"/>
          <p:cNvPicPr/>
          <p:nvPr/>
        </p:nvPicPr>
        <p:blipFill>
          <a:blip r:embed="rId1"/>
          <a:stretch/>
        </p:blipFill>
        <p:spPr>
          <a:xfrm>
            <a:off x="2500200" y="1500120"/>
            <a:ext cx="257832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batery.gif"/>
          <p:cNvPicPr/>
          <p:nvPr/>
        </p:nvPicPr>
        <p:blipFill>
          <a:blip r:embed="rId2"/>
          <a:stretch/>
        </p:blipFill>
        <p:spPr>
          <a:xfrm>
            <a:off x="500040" y="171468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2" descr="bateryinside.gif"/>
          <p:cNvPicPr/>
          <p:nvPr/>
        </p:nvPicPr>
        <p:blipFill>
          <a:blip r:embed="rId3"/>
          <a:stretch/>
        </p:blipFill>
        <p:spPr>
          <a:xfrm>
            <a:off x="4929120" y="1000080"/>
            <a:ext cx="3500640" cy="3500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57120" y="457848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1500120" y="64296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4" descr="9294.jpg"/>
          <p:cNvPicPr/>
          <p:nvPr/>
        </p:nvPicPr>
        <p:blipFill>
          <a:blip r:embed="rId1"/>
          <a:stretch/>
        </p:blipFill>
        <p:spPr>
          <a:xfrm>
            <a:off x="1000080" y="300024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5" descr="Duracell_HR6_Ni-MH_2650mAhb.jpg"/>
          <p:cNvPicPr/>
          <p:nvPr/>
        </p:nvPicPr>
        <p:blipFill>
          <a:blip r:embed="rId2"/>
          <a:stretch/>
        </p:blipFill>
        <p:spPr>
          <a:xfrm>
            <a:off x="3286080" y="4357800"/>
            <a:ext cx="2666880" cy="20858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6" descr="il2.jpg"/>
          <p:cNvPicPr/>
          <p:nvPr/>
        </p:nvPicPr>
        <p:blipFill>
          <a:blip r:embed="rId3"/>
          <a:stretch/>
        </p:blipFill>
        <p:spPr>
          <a:xfrm rot="18661200">
            <a:off x="5374440" y="3386520"/>
            <a:ext cx="2468520" cy="14954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7" descr="il3a.jpg"/>
          <p:cNvPicPr/>
          <p:nvPr/>
        </p:nvPicPr>
        <p:blipFill>
          <a:blip r:embed="rId4"/>
          <a:stretch/>
        </p:blipFill>
        <p:spPr>
          <a:xfrm>
            <a:off x="642960" y="4857840"/>
            <a:ext cx="2811600" cy="1285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8" descr="il3c.jpg"/>
          <p:cNvPicPr/>
          <p:nvPr/>
        </p:nvPicPr>
        <p:blipFill>
          <a:blip r:embed="rId5"/>
          <a:stretch/>
        </p:blipFill>
        <p:spPr>
          <a:xfrm>
            <a:off x="5929200" y="4643280"/>
            <a:ext cx="2132280" cy="11941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0" descr="il4b.jpg"/>
          <p:cNvPicPr/>
          <p:nvPr/>
        </p:nvPicPr>
        <p:blipFill>
          <a:blip r:embed="rId6"/>
          <a:stretch/>
        </p:blipFill>
        <p:spPr>
          <a:xfrm>
            <a:off x="3071880" y="264312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1"/>
          <p:cNvSpPr/>
          <p:nvPr/>
        </p:nvSpPr>
        <p:spPr>
          <a:xfrm>
            <a:off x="500040" y="4363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В них заряды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3075480" y="35712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Копия p_3.jpg"/>
          <p:cNvPicPr/>
          <p:nvPr/>
        </p:nvPicPr>
        <p:blipFill>
          <a:blip r:embed="rId1"/>
          <a:stretch/>
        </p:blipFill>
        <p:spPr>
          <a:xfrm>
            <a:off x="1214280" y="857160"/>
            <a:ext cx="1928880" cy="19303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Titan.jpg"/>
          <p:cNvPicPr/>
          <p:nvPr/>
        </p:nvPicPr>
        <p:blipFill>
          <a:blip r:embed="rId2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-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4" descr="32_2.jpg"/>
          <p:cNvPicPr/>
          <p:nvPr/>
        </p:nvPicPr>
        <p:blipFill>
          <a:blip r:embed="rId3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5" descr="Gara_206058.jpg"/>
          <p:cNvPicPr/>
          <p:nvPr/>
        </p:nvPicPr>
        <p:blipFill>
          <a:blip r:embed="rId4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p_7.jpg"/>
          <p:cNvPicPr/>
          <p:nvPr/>
        </p:nvPicPr>
        <p:blipFill>
          <a:blip r:embed="rId5"/>
          <a:stretch/>
        </p:blipFill>
        <p:spPr>
          <a:xfrm>
            <a:off x="3429000" y="17859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8" descr="2.jpg"/>
          <p:cNvPicPr/>
          <p:nvPr/>
        </p:nvPicPr>
        <p:blipFill>
          <a:blip r:embed="rId6"/>
          <a:stretch/>
        </p:blipFill>
        <p:spPr>
          <a:xfrm>
            <a:off x="4714920" y="78588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2"/>
          <p:cNvSpPr/>
          <p:nvPr/>
        </p:nvSpPr>
        <p:spPr>
          <a:xfrm>
            <a:off x="3289680" y="42876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071720" y="457200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ами 1, 2, 3, 4,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28760" y="1214280"/>
          <a:ext cx="8143920" cy="4913640"/>
        </p:xfrm>
        <a:graphic>
          <a:graphicData uri="http://schemas.openxmlformats.org/drawingml/2006/table">
            <a:tbl>
              <a:tblPr/>
              <a:tblGrid>
                <a:gridCol w="2357280"/>
                <a:gridCol w="2286000"/>
                <a:gridCol w="3500640"/>
              </a:tblGrid>
              <a:tr h="7016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. энер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9"/>
          <p:cNvSpPr/>
          <p:nvPr/>
        </p:nvSpPr>
        <p:spPr>
          <a:xfrm>
            <a:off x="357120" y="35712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.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-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643120" y="642960"/>
            <a:ext cx="3857760" cy="32860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4" descr="09g-i3.gif"/>
          <p:cNvPicPr/>
          <p:nvPr/>
        </p:nvPicPr>
        <p:blipFill>
          <a:blip r:embed="rId2"/>
          <a:stretch/>
        </p:blipFill>
        <p:spPr>
          <a:xfrm>
            <a:off x="571680" y="1285920"/>
            <a:ext cx="1785600" cy="2571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" descr="09g-i3.gif"/>
          <p:cNvPicPr/>
          <p:nvPr/>
        </p:nvPicPr>
        <p:blipFill>
          <a:blip r:embed="rId3"/>
          <a:stretch/>
        </p:blipFill>
        <p:spPr>
          <a:xfrm>
            <a:off x="6929280" y="1214280"/>
            <a:ext cx="1785960" cy="26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1528200" y="642960"/>
            <a:ext cx="6375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505880" y="3286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2148840" y="5786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720680" y="5929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4434840" y="4000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5506560" y="3143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220800" y="4857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428760" y="1380600"/>
            <a:ext cx="8286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1057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Что называют электрическим то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Электрическим током называется упорядоченное движение заряженных части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2.   Что может заставить заряженные частицы упорядоченно двиг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Электрическое пол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3.   Как можно создать электрическое п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С помощью электризаци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4.  Можно ли искру, возникшую в электрофорной машине, назвать электрическим то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Да, так как имеет место кратковременное</a:t>
            </a:r>
            <a:br>
              <a:rPr sz="2400"/>
            </a:b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упорядоченное движение заряженных частиц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395640" y="428760"/>
            <a:ext cx="56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крепление материала. </a:t>
            </a: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428760" y="1450440"/>
            <a:ext cx="85010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5.  Что является положительным и отрицательным полюсами источника то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6.   Какие источники тока вы знает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7.   Возникает ли электрический ток при заземлении заряженного металлического шар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8.  Движутся ли заряженные частицы в проводнике, когда по нему идет то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9.  Если вы возьмёте картофелину или яблоко и воткнёте в них медную и цинковую пластинки. Затем подсоедините к этим пластинкам 1,5-В лампочку. Что у вас получитс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467280" y="571680"/>
            <a:ext cx="56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крепление материала. </a:t>
            </a: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7"/>
          <p:cNvSpPr/>
          <p:nvPr/>
        </p:nvSpPr>
        <p:spPr>
          <a:xfrm>
            <a:off x="357120" y="714240"/>
            <a:ext cx="8358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пыта тебе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бумажное полотенце; пищевая фольга; ножницы; медные монеты; поваренная соль; вода; два изолированных медных провода; маленькая лампочка (1,5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0"/>
          <p:cNvSpPr/>
          <p:nvPr/>
        </p:nvSpPr>
        <p:spPr>
          <a:xfrm>
            <a:off x="428760" y="1928880"/>
            <a:ext cx="5572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и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в воде немного со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жь аккуратно бумажное полотенце и фольгу на квадратики чуть крупнее мо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очи бумажные квадратики в солёной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 друг на друга стопкой: медную монету, кусочек фольги, снова монету, и так далее несколько раз. Сверху стопки должна быть бумага, внизу –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ённый конец одного провода подсунь под стопку, второй конец присоедини к лампочке. Один конец второго провода положи на стопку сверху, второй тоже присоедини к лампочке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1143000" y="357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ий проект. Сделай батаре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66" descr="Рисунок1.png"/>
          <p:cNvPicPr/>
          <p:nvPr/>
        </p:nvPicPr>
        <p:blipFill>
          <a:blip r:embed="rId2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500040" y="4071960"/>
            <a:ext cx="578664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ные ресурсы и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Пёрышкин. Физика 8. Дрофа, М.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илин А.Н. Рассказы об электриче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http://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www.disel.r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izi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edu.do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.mari-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iro.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14240" y="864720"/>
            <a:ext cx="78584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2, стр73-77, вопросы 1-8 (устно), Задание 1 (по желани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проект. Сделай батарейку (инструкция выдаётся каждому уче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4" descr="la_essays_s.gif"/>
          <p:cNvPicPr/>
          <p:nvPr/>
        </p:nvPicPr>
        <p:blipFill>
          <a:blip r:embed="rId5"/>
          <a:stretch/>
        </p:blipFill>
        <p:spPr>
          <a:xfrm>
            <a:off x="2928960" y="2357280"/>
            <a:ext cx="283356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6" descr="Рисунок1.png"/>
          <p:cNvPicPr/>
          <p:nvPr/>
        </p:nvPicPr>
        <p:blipFill>
          <a:blip r:embed="rId6"/>
          <a:stretch/>
        </p:blipFill>
        <p:spPr>
          <a:xfrm>
            <a:off x="4572000" y="2714760"/>
            <a:ext cx="15256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Box 1" descr=""/>
          <p:cNvPicPr/>
          <p:nvPr/>
        </p:nvPicPr>
        <p:blipFill>
          <a:blip r:embed="rId1"/>
          <a:stretch/>
        </p:blipFill>
        <p:spPr>
          <a:xfrm>
            <a:off x="689040" y="1706400"/>
            <a:ext cx="7521480" cy="17258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56700.jpg"/>
          <p:cNvPicPr/>
          <p:nvPr/>
        </p:nvPicPr>
        <p:blipFill>
          <a:blip r:embed="rId2"/>
          <a:stretch/>
        </p:blipFill>
        <p:spPr>
          <a:xfrm>
            <a:off x="4143240" y="5715000"/>
            <a:ext cx="785880" cy="6271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22034.jpg"/>
          <p:cNvPicPr/>
          <p:nvPr/>
        </p:nvPicPr>
        <p:blipFill>
          <a:blip r:embed="rId3"/>
          <a:stretch/>
        </p:blipFill>
        <p:spPr>
          <a:xfrm>
            <a:off x="2857680" y="5572080"/>
            <a:ext cx="1071360" cy="824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11780.jpg"/>
          <p:cNvPicPr/>
          <p:nvPr/>
        </p:nvPicPr>
        <p:blipFill>
          <a:blip r:embed="rId4"/>
          <a:stretch/>
        </p:blipFill>
        <p:spPr>
          <a:xfrm>
            <a:off x="2928960" y="3571920"/>
            <a:ext cx="2786040" cy="20080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3714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ц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6" descr="1.gif"/>
          <p:cNvPicPr/>
          <p:nvPr/>
        </p:nvPicPr>
        <p:blipFill>
          <a:blip r:embed="rId5"/>
          <a:stretch/>
        </p:blipFill>
        <p:spPr>
          <a:xfrm>
            <a:off x="5429160" y="3143160"/>
            <a:ext cx="1236600" cy="10954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7" descr="35783.jpg"/>
          <p:cNvPicPr/>
          <p:nvPr/>
        </p:nvPicPr>
        <p:blipFill>
          <a:blip r:embed="rId6"/>
          <a:stretch/>
        </p:blipFill>
        <p:spPr>
          <a:xfrm>
            <a:off x="5143680" y="5643720"/>
            <a:ext cx="78552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1452240" y="500040"/>
            <a:ext cx="60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роводим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357280" y="329796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http://school.ort.spb.ru/library/physics/8class/tema_2/lesson_1/electrof_3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. В результате трения щеток о диски на кондукторах машины накапливаются заряды противоположного зна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- внутренняя энергия преобразуется в электрическую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2" descr="http://school.ort.spb.ru/library/physics/8class/tema_2/lesson_1/term_para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3643200" y="1214280"/>
            <a:ext cx="478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е проволоки из разных металлов необходимо спаять с одного края, затем нагреть место спая, то в них возникает ток. Заряды разделяются при нагревании спа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3316680" y="45576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2" descr="http://school.ort.spb.ru/library/physics/8class/tema_2/lesson_1/solar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786040" cy="30006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3"/>
          <p:cNvSpPr/>
          <p:nvPr/>
        </p:nvSpPr>
        <p:spPr>
          <a:xfrm>
            <a:off x="1650600" y="20718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714840" y="123300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 в них появляется ток, световая энергия превращается в электрическ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Из фотоэлементов составлены солнечные батареи.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336528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-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2478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285920" y="642960"/>
            <a:ext cx="33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6148080" y="4000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с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220440" y="78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3220200" y="7142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642960" y="31431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</dc:creator>
  <dc:description/>
  <dc:language>en-US</dc:language>
  <cp:lastModifiedBy>Billy</cp:lastModifiedBy>
  <dcterms:modified xsi:type="dcterms:W3CDTF">2008-08-02T07:07:08Z</dcterms:modified>
  <cp:revision>60</cp:revision>
  <dc:subject/>
  <dc:title>Источники тока.</dc:title>
</cp:coreProperties>
</file>