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B4D-4539-45FF-9322-053D67AE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CC5-7A48-41A7-89B2-0AA8D01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E8F0-4E49-452C-8F40-B64E12B6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75F-308D-498D-AD91-61D2BBA0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2FFC-47B3-436F-A316-641B80AE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76A8-3E09-4BCC-B44C-3CC3AB60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44E8-05DA-4126-AA7C-38B208E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2176-5CBC-4B04-8140-95A1F7AF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EDEE-9183-4DA6-9FDF-E6132251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C8AC-6AEF-43B8-85F0-316255E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C68F-4C85-47FD-885D-0568249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089-9830-46A7-8F21-1D834B18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D0AB-620F-4FB0-B4E4-09AB130A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D2A7-C499-41F4-8894-DBBC0E37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7BEB-4870-48BB-ACB8-8C63FA4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BCF-7F41-4719-AB03-62E6E8DA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B4FD-A645-4F84-8ECC-6E189449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CCC0-EE08-4432-876C-5EC30511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275-7160-41D7-B7EF-69415C14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2A0D-CF53-47EC-A2C3-FD68C91D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FB5-177F-493A-8F4A-A1E398B3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3C-D553-4C04-8506-9F0637C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F95-B948-438C-852E-A39273B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B6D-48DB-4102-9ED3-758B81AF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8BA-6BB5-4A46-ABBE-4F260B63220F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DB75-9EE8-49F0-A149-BAECD681974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file:///Kuzakova.ppt" TargetMode="External"/><Relationship Id="rId5" Type="http://schemas.openxmlformats.org/officeDocument/2006/relationships/hyperlink" Target="file:///Kostrizki.ppt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Tarahovskai.ppt" TargetMode="External"/><Relationship Id="rId5" Type="http://schemas.openxmlformats.org/officeDocument/2006/relationships/hyperlink" Target="file:///../../student_samples/student_presentation/Krepki.ppt" TargetMode="External"/><Relationship Id="rId6" Type="http://schemas.openxmlformats.org/officeDocument/2006/relationships/hyperlink" Target="file:///Krepki.ppt" TargetMode="External"/><Relationship Id="rId7" Type="http://schemas.openxmlformats.org/officeDocument/2006/relationships/hyperlink" Target="file:///Krepki.ppt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pn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Butakova.ppt" TargetMode="External"/><Relationship Id="rId4" Type="http://schemas.openxmlformats.org/officeDocument/2006/relationships/image" Target="../media/image3.jpeg"/><Relationship Id="rId5" Type="http://schemas.openxmlformats.org/officeDocument/2006/relationships/hyperlink" Target="file:///Starkov.ppt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file:///Romanova.ppt" TargetMode="External"/><Relationship Id="rId5" Type="http://schemas.openxmlformats.org/officeDocument/2006/relationships/hyperlink" Target="file:///Kulikova.ppt" TargetMode="External"/><Relationship Id="rId6" Type="http://schemas.openxmlformats.org/officeDocument/2006/relationships/hyperlink" Target="file:///Kulikova.ppt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file:///Dvornikova.ppt" TargetMode="External"/><Relationship Id="rId4" Type="http://schemas.openxmlformats.org/officeDocument/2006/relationships/hyperlink" Target="file:///Dvornikova.ppt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03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Эти загадочные – теплые, мягкие, пушистые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3789000"/>
            <a:ext cx="5976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Два мира есть у человека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Один, который нас творил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Другой, который мы от века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a6b1c"/>
                </a:solidFill>
                <a:latin typeface="Times New Roman"/>
              </a:rPr>
              <a:t>Творим по мере наших сил</a:t>
            </a:r>
            <a:br>
              <a:rPr sz="2800"/>
            </a:b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                       </a:t>
            </a:r>
            <a:r>
              <a:rPr b="1" lang="ru-RU" sz="2800" spc="-1" strike="noStrike">
                <a:solidFill>
                  <a:srgbClr val="ba6b1c"/>
                </a:solidFill>
                <a:latin typeface="Times New Roman"/>
              </a:rPr>
              <a:t>Н.Заболоцкий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-171720"/>
            <a:ext cx="6696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8000" y="1484280"/>
            <a:ext cx="4608360" cy="34560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345040" y="6206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00720" y="3392640"/>
            <a:ext cx="4464000" cy="33494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235440" y="54198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Существуют ли гиганты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440" y="2637000"/>
            <a:ext cx="35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мы знаем о волках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7640" y="43920"/>
            <a:ext cx="5759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4349880" cy="32637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2483280" y="80640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4530960" cy="339912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55040" y="558972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Как поживаешь, ёжик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720" y="1989000"/>
            <a:ext cx="378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</a:t>
            </a: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А знаете ли вы,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7"/>
              </a:rPr>
              <a:t>кто такие насекомоядны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7640" y="43920"/>
            <a:ext cx="5543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08000" y="1413000"/>
            <a:ext cx="4753080" cy="36590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2410200" y="6206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321440" cy="32418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76560" y="5537160"/>
            <a:ext cx="366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Чем интересен леопард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5440" y="2205000"/>
            <a:ext cx="32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В чем сходство людей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и приматов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45160" cy="35589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79280" y="3395520"/>
            <a:ext cx="4464000" cy="329112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410200" y="76500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9440" y="270828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Кто такие афалины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90160" y="5950080"/>
            <a:ext cx="41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Что особенного в носорог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09120" y="765000"/>
            <a:ext cx="44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бл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rot="21226200">
            <a:off x="323640" y="3212640"/>
            <a:ext cx="4609800" cy="32274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 rot="222600">
            <a:off x="4425480" y="1480680"/>
            <a:ext cx="4394160" cy="31212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324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«Самые, самые, самые…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51847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36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8327"/>
                </a:solidFill>
                <a:latin typeface="Times New Roman"/>
              </a:rPr>
              <a:t>Визитк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f8327"/>
                </a:solidFill>
                <a:latin typeface="Times New Roman"/>
              </a:rPr>
              <a:t>Сайт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езентация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Дидактические материалы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ест (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doc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Тест (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.xls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арточки-зад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ритерии оцени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резент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Публик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3024000" cy="131112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3333960" cy="138096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867280" y="4581360"/>
            <a:ext cx="3025800" cy="1343160"/>
          </a:xfrm>
          <a:prstGeom prst="rect">
            <a:avLst/>
          </a:prstGeom>
          <a:ln w="9360">
            <a:solidFill>
              <a:srgbClr val="df832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Информационные ресурсы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836640"/>
            <a:ext cx="8207280" cy="57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Иорданский Н.И. Развитие жизни на Земле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84 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Константинов В.М., Бабенко В.Г., Кучменко В.С, Биология. Животные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Вентана-Граф, 200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едников Б.М. Биология. Формы и уровни жизни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9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Миррис Р. Тайны живой природы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Росмэн, 1997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Рыков Н.А. Зоология с основами экологии животных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Просвещение, 1990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Школьник Ю.К. Животные. Полная энциклопедия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Эксмо, 2004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Новая Иллюстрированная Энциклопедия.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 М.: ООО Мир Книги, 2003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634"/>
                </a:solidFill>
                <a:latin typeface="Times New Roman"/>
              </a:rPr>
              <a:t>Секреты природы. Ридерз Дайджест, 1990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 rot="21114600">
            <a:off x="4643280" y="620640"/>
            <a:ext cx="1800360" cy="158760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283520" y="1979640"/>
            <a:ext cx="1752480" cy="346536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265120" cy="1698480"/>
          </a:xfrm>
          <a:prstGeom prst="rect">
            <a:avLst/>
          </a:prstGeom>
          <a:ln w="9360">
            <a:solidFill>
              <a:srgbClr val="795241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60000"/>
                </a:solidFill>
                <a:latin typeface="Monotype Corsiva"/>
              </a:rPr>
              <a:t>Наши лица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 rot="21451800">
            <a:off x="2843280" y="2420640"/>
            <a:ext cx="3809880" cy="1859040"/>
          </a:xfrm>
          <a:prstGeom prst="rect">
            <a:avLst/>
          </a:prstGeom>
          <a:ln w="9360">
            <a:solidFill>
              <a:srgbClr val="daca9c"/>
            </a:solidFill>
            <a:miter/>
          </a:ln>
        </p:spPr>
      </p:pic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 rot="21086400">
            <a:off x="246240" y="1576440"/>
            <a:ext cx="2736720" cy="2125440"/>
          </a:xfrm>
          <a:prstGeom prst="rect">
            <a:avLst/>
          </a:prstGeom>
          <a:ln w="6480">
            <a:solidFill>
              <a:srgbClr val="ffffcc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7"/>
          <a:stretch/>
        </p:blipFill>
        <p:spPr>
          <a:xfrm rot="21360600">
            <a:off x="2916360" y="691920"/>
            <a:ext cx="1946160" cy="2666880"/>
          </a:xfrm>
          <a:prstGeom prst="rect">
            <a:avLst/>
          </a:prstGeom>
          <a:ln w="28440">
            <a:solidFill>
              <a:srgbClr val="cc6600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8"/>
          <a:stretch/>
        </p:blipFill>
        <p:spPr>
          <a:xfrm rot="21479400">
            <a:off x="5795640" y="3500280"/>
            <a:ext cx="1685880" cy="17290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9"/>
          <a:stretch/>
        </p:blipFill>
        <p:spPr>
          <a:xfrm rot="258000">
            <a:off x="6877080" y="4724280"/>
            <a:ext cx="1873080" cy="194472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10"/>
          <a:stretch/>
        </p:blipFill>
        <p:spPr>
          <a:xfrm rot="21273600">
            <a:off x="4211280" y="4581000"/>
            <a:ext cx="2376360" cy="1940040"/>
          </a:xfrm>
          <a:prstGeom prst="rect">
            <a:avLst/>
          </a:prstGeom>
          <a:ln w="25560">
            <a:solidFill>
              <a:srgbClr val="0033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 rot="21376800">
            <a:off x="179280" y="3789000"/>
            <a:ext cx="1774800" cy="2448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12"/>
          <a:stretch/>
        </p:blipFill>
        <p:spPr>
          <a:xfrm>
            <a:off x="1836720" y="3429000"/>
            <a:ext cx="2303640" cy="2162160"/>
          </a:xfrm>
          <a:prstGeom prst="rect">
            <a:avLst/>
          </a:prstGeom>
          <a:ln w="28440">
            <a:solidFill>
              <a:srgbClr val="aa947e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13"/>
          <a:stretch/>
        </p:blipFill>
        <p:spPr>
          <a:xfrm rot="21417000">
            <a:off x="1619280" y="5013000"/>
            <a:ext cx="2230560" cy="1673280"/>
          </a:xfrm>
          <a:prstGeom prst="rect">
            <a:avLst/>
          </a:prstGeom>
          <a:ln w="9360">
            <a:solidFill>
              <a:srgbClr val="daca9c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14"/>
          <a:stretch/>
        </p:blipFill>
        <p:spPr>
          <a:xfrm>
            <a:off x="6188040" y="260280"/>
            <a:ext cx="29559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03280" y="-273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Авторы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4000" y="1265400"/>
            <a:ext cx="3497040" cy="504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4067280" y="2133720"/>
            <a:ext cx="45720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ебный предмет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биология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астники: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учащиеся: 7А,</a:t>
            </a:r>
            <a:r>
              <a:rPr b="0" i="1" lang="en-US" sz="2400" spc="-1" strike="noStrike">
                <a:solidFill>
                  <a:srgbClr val="463634"/>
                </a:solidFill>
                <a:latin typeface="Arial"/>
              </a:rPr>
              <a:t> 7</a:t>
            </a: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Б, 8Д классов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МОУ СОШ 57  г. Иркутска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daca9c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Руководитель: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63634"/>
                </a:solidFill>
                <a:latin typeface="Arial"/>
              </a:rPr>
              <a:t>Вовк О.А.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74920" y="-360"/>
            <a:ext cx="6192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560000"/>
                </a:solidFill>
                <a:latin typeface="Times New Roman"/>
              </a:rPr>
              <a:t>Цели и </a:t>
            </a:r>
            <a:r>
              <a:rPr b="0" i="1" lang="en-US" sz="4400" spc="-1" strike="noStrike">
                <a:solidFill>
                  <a:srgbClr val="560000"/>
                </a:solidFill>
                <a:latin typeface="Monotype Corsiva"/>
              </a:rPr>
              <a:t>задачи</a:t>
            </a:r>
            <a:r>
              <a:rPr b="0" i="1" lang="en-US" sz="4400" spc="-1" strike="noStrike">
                <a:solidFill>
                  <a:srgbClr val="560000"/>
                </a:solidFill>
                <a:latin typeface="Times New Roman"/>
              </a:rPr>
              <a:t> работы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41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казать прогрессивные черты организации млекопитающих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Раскрыть особенности размножения и развития млекопитающих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казать их  разнообразие и познакомить с основными отрядами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Рассмотреть приспособленность млекопитающих к жизни в различных условиях среды.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2320" y="2204640"/>
            <a:ext cx="41720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Повышение мотивации к изучению биологии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30b03"/>
                </a:solidFill>
                <a:latin typeface="Arial"/>
              </a:rPr>
              <a:t>Формирование умений узнавать изученных животных, обосновывать их наиболее высокую организацию и принадлежность к определенной систематической группе.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9640" y="117144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00"/>
                </a:solidFill>
                <a:latin typeface="Arial"/>
              </a:rPr>
              <a:t>Дидактические цели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48720" y="1171440"/>
            <a:ext cx="32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0000"/>
                </a:solidFill>
                <a:latin typeface="Arial"/>
              </a:rPr>
              <a:t>Методические задачи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Основной вопрос:</a:t>
            </a:r>
            <a:br>
              <a:rPr sz="5400"/>
            </a:b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Какие они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, </a:t>
            </a:r>
            <a:r>
              <a:rPr b="0" lang="ru-RU" sz="5400" spc="-1" strike="noStrike">
                <a:solidFill>
                  <a:srgbClr val="560000"/>
                </a:solidFill>
                <a:latin typeface="Monotype Corsiva"/>
              </a:rPr>
              <a:t>наши любимцы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029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63634"/>
                </a:solidFill>
                <a:latin typeface="Arial"/>
              </a:rPr>
              <a:t>Вопросы</a:t>
            </a:r>
            <a:r>
              <a:rPr b="0" i="1" lang="en-US" sz="4800" spc="-1" strike="noStrike">
                <a:solidFill>
                  <a:srgbClr val="130b03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463634"/>
                </a:solidFill>
                <a:latin typeface="Arial"/>
              </a:rPr>
              <a:t>исследования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ей камуфляж лучше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скрывается внутри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еобычное начало жизни – миф или реальность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Что было раньше яйцо или зверь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нас многие боятся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знаете ли вы, что…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-27000"/>
            <a:ext cx="7129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2276280"/>
            <a:ext cx="7558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неделя (18-25 марта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бор тем исследо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озговой штурм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рмирование групп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дготовка к проведению эксперимен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неделя (26-2 апреля, каникулы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иск информации по теме из различных источнико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развитием беременности у мыше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00" y="105876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63634"/>
                </a:solidFill>
                <a:latin typeface="Arial"/>
              </a:rPr>
              <a:t>Этапы и сроки проведения проекта</a:t>
            </a:r>
            <a:endParaRPr b="0" lang="en-US" sz="36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-10044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неделя (3-10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должение сбора информации из разных источников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ации (внеурочное врем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поведение мышей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неделя (11-17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чала анализа и структурирование информаци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сультации (внеурочное врем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новорожденными мышам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Что</a:t>
            </a:r>
            <a:r>
              <a:rPr b="1" i="1" lang="en-US" sz="4400" spc="-1" strike="noStrike">
                <a:solidFill>
                  <a:srgbClr val="ef641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560000"/>
                </a:solidFill>
                <a:latin typeface="Monotype Corsiva"/>
              </a:rPr>
              <a:t>же нам предстоит?</a:t>
            </a:r>
            <a:endParaRPr b="0" i="1" lang="en-US" sz="5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7559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неделя (18-25 апрел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работка и оформление результатов исследования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блюдение за изменениями у новорожденных мышей (изменения в росте, весе, появление шерсти и т.д.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неделя (26-1 ма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ыполнение проекта с учетом требования дизайн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троль проекта и корректировка деятельности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неделя (2-13 мая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щита проек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з результата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ценивание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360" y="-27000"/>
            <a:ext cx="619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1558800"/>
            <a:ext cx="4464000" cy="33465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338560" y="6922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4880" y="534816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«Чей камуфляж  лучше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498920" y="3429000"/>
            <a:ext cx="4321080" cy="324000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5254200" y="232416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скрывается внутри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35280" y="44280"/>
            <a:ext cx="59054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480" y="1422360"/>
            <a:ext cx="4601880" cy="345276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554560" y="6922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643280" y="3446640"/>
            <a:ext cx="4392720" cy="329544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74760" y="5373720"/>
            <a:ext cx="39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«Необычное начало жизни – миф или реальность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2400" y="2101680"/>
            <a:ext cx="25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5"/>
              </a:rPr>
              <a:t>«Что было раньше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6"/>
              </a:rPr>
              <a:t>яйцо или зверь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000" y="-27000"/>
            <a:ext cx="62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Результаты</a:t>
            </a:r>
            <a:r>
              <a:rPr b="0" i="1" lang="en-US" sz="4000" spc="-1" strike="noStrike">
                <a:solidFill>
                  <a:srgbClr val="795241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560000"/>
                </a:solidFill>
                <a:latin typeface="Monotype Corsiva"/>
              </a:rPr>
              <a:t>проекта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8920" y="68904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хся</a:t>
            </a:r>
            <a:endParaRPr b="0" lang="en-US" sz="3200" spc="-1" strike="noStrike">
              <a:solidFill>
                <a:srgbClr val="463634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71640" y="1989000"/>
            <a:ext cx="6194520" cy="4646880"/>
          </a:xfrm>
          <a:prstGeom prst="rect">
            <a:avLst/>
          </a:prstGeom>
          <a:ln w="19080">
            <a:solidFill>
              <a:srgbClr val="df8327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80720" y="3716280"/>
            <a:ext cx="241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3"/>
              </a:rPr>
              <a:t>«Почему нас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93a18"/>
                </a:solidFill>
                <a:uFillTx/>
                <a:latin typeface="Times New Roman"/>
                <a:hlinkClick r:id="rId4"/>
              </a:rPr>
              <a:t> многие боятся?»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6:58:53Z</dcterms:created>
  <dc:creator>User</dc:creator>
  <dc:description/>
  <dc:language>en-US</dc:language>
  <cp:lastModifiedBy>Елена</cp:lastModifiedBy>
  <dcterms:modified xsi:type="dcterms:W3CDTF">2006-05-31T15:01:31Z</dcterms:modified>
  <cp:revision>95</cp:revision>
  <dc:subject/>
  <dc:title>Слайд 1</dc:title>
</cp:coreProperties>
</file>