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5E8-DB6C-422C-8AF0-978EDA48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691-DA87-464B-8A7F-716DB81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16F-C497-4DEF-9DF2-474BECBB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E73-0321-435A-B286-A4D976F0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3C9-DBC3-41C3-B9A8-210BF69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2E6-7C3E-4D25-88BD-532F8C6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EBB-EDEB-4E0F-9EDE-C74903B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1EA-2CCE-4BA3-B4AF-E820AAE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103-CBB2-4321-BC75-35A863B3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546-41C1-46B9-AFB0-DDC6702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198-29D5-4F7A-9A27-8BBBB8A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968-A5B5-4C2B-89C3-CF5561C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9956-9CC9-4379-A0C4-E8339051E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знания</cp:lastModifiedBy>
  <dcterms:modified xsi:type="dcterms:W3CDTF">2011-05-06T08:12:07Z</dcterms:modified>
  <cp:revision>5</cp:revision>
  <dc:subject/>
  <dc:title>Презентация по экономике на тему: Рынок земли и природных ресурсов</dc:title>
</cp:coreProperties>
</file>