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3003213" cy="9752013"/>
  <p:notesSz cx="13003213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C42C-63BE-4ACE-B706-E2ACB41C9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31560" y="3406320"/>
            <a:ext cx="1054116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31560" y="5754960"/>
            <a:ext cx="1054116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02B4-BCF8-49E4-843D-A6DF48136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31560" y="3406320"/>
            <a:ext cx="51440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633360" y="3406320"/>
            <a:ext cx="51440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31560" y="5754960"/>
            <a:ext cx="51440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633360" y="5754960"/>
            <a:ext cx="51440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5C77-B3DF-4418-998E-8FEBA9961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31560" y="3406320"/>
            <a:ext cx="339408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95560" y="3406320"/>
            <a:ext cx="339408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59920" y="3406320"/>
            <a:ext cx="339408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31560" y="5754960"/>
            <a:ext cx="339408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795560" y="5754960"/>
            <a:ext cx="339408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359920" y="5754960"/>
            <a:ext cx="339408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E79C-257E-4534-9C47-110395658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31560" y="3406320"/>
            <a:ext cx="1054116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43E6-BF3D-4154-B4F2-66C23BDE8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31560" y="3406320"/>
            <a:ext cx="1054116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4778-532C-496B-A81E-770685AC0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31560" y="3406320"/>
            <a:ext cx="51440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633360" y="3406320"/>
            <a:ext cx="51440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FEF8-0D9A-4922-AAA2-17FC44A82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647B-0246-4D2D-9B4A-893DFEA85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8AA4-E2FF-427D-82FE-9E88B53DD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31560" y="3406320"/>
            <a:ext cx="51440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3360" y="3406320"/>
            <a:ext cx="51440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31560" y="5754960"/>
            <a:ext cx="51440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1A4D-6ACA-4833-B61F-D2A031B6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31560" y="3406320"/>
            <a:ext cx="51440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3360" y="3406320"/>
            <a:ext cx="51440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33360" y="5754960"/>
            <a:ext cx="51440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0452-9414-4E60-B1F8-62F82AAC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31560" y="3406320"/>
            <a:ext cx="51440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633360" y="3406320"/>
            <a:ext cx="514404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31560" y="5754960"/>
            <a:ext cx="10541160" cy="21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61D4-B003-43E4-97FE-DE217654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k object 16"/>
          <p:cNvSpPr/>
          <p:nvPr/>
        </p:nvSpPr>
        <p:spPr>
          <a:xfrm>
            <a:off x="0" y="0"/>
            <a:ext cx="13004640" cy="97534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31560" y="3406320"/>
            <a:ext cx="1054116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421160" y="9070920"/>
            <a:ext cx="416232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50880" y="9070920"/>
            <a:ext cx="299088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9362880" y="9070920"/>
            <a:ext cx="299052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0033D-2106-4525-9888-8CE207823A57}" type="slidenum">
              <a:rPr b="0" lang="de-DE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object 3"/>
          <p:cNvSpPr/>
          <p:nvPr/>
        </p:nvSpPr>
        <p:spPr>
          <a:xfrm>
            <a:off x="304920" y="3657600"/>
            <a:ext cx="304560" cy="3175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object 5"/>
          <p:cNvSpPr/>
          <p:nvPr/>
        </p:nvSpPr>
        <p:spPr>
          <a:xfrm>
            <a:off x="12547440" y="3657600"/>
            <a:ext cx="304920" cy="3175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object 6"/>
          <p:cNvSpPr/>
          <p:nvPr/>
        </p:nvSpPr>
        <p:spPr>
          <a:xfrm>
            <a:off x="158760" y="1395360"/>
            <a:ext cx="12636360" cy="36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600" spc="-1" strike="noStrike">
                <a:solidFill>
                  <a:srgbClr val="ff4013"/>
                </a:solidFill>
                <a:latin typeface="Arial"/>
                <a:ea typeface="Arial"/>
              </a:rPr>
              <a:t>Сила</a:t>
            </a:r>
            <a:r>
              <a:rPr b="0" lang="de-DE" sz="9600" spc="-1" strike="noStrike">
                <a:solidFill>
                  <a:srgbClr val="ff4013"/>
                </a:solidFill>
                <a:latin typeface="Times New Roman"/>
                <a:ea typeface="Times New Roman"/>
              </a:rPr>
              <a:t> </a:t>
            </a:r>
            <a:r>
              <a:rPr b="0" lang="de-DE" sz="9600" spc="-1" strike="noStrike">
                <a:solidFill>
                  <a:srgbClr val="ff4013"/>
                </a:solidFill>
                <a:latin typeface="Arial"/>
                <a:ea typeface="Arial"/>
              </a:rPr>
              <a:t>Достижения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8362"/>
              </a:lnSpc>
              <a:spcBef>
                <a:spcPts val="2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0" spc="-1" strike="noStrike">
                <a:solidFill>
                  <a:srgbClr val="ffffff"/>
                </a:solidFill>
                <a:latin typeface="Arial"/>
                <a:ea typeface="Arial"/>
              </a:rPr>
              <a:t>«Как</a:t>
            </a:r>
            <a:r>
              <a:rPr b="0" lang="de-DE" sz="7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7000" spc="-1" strike="noStrike">
                <a:solidFill>
                  <a:srgbClr val="ffffff"/>
                </a:solidFill>
                <a:latin typeface="Arial"/>
                <a:ea typeface="Arial"/>
              </a:rPr>
              <a:t>выйти</a:t>
            </a:r>
            <a:r>
              <a:rPr b="0" lang="de-DE" sz="7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7000" spc="-1" strike="noStrike">
                <a:solidFill>
                  <a:srgbClr val="ffffff"/>
                </a:solidFill>
                <a:latin typeface="Arial"/>
                <a:ea typeface="Arial"/>
              </a:rPr>
              <a:t>на</a:t>
            </a:r>
            <a:r>
              <a:rPr b="0" lang="de-DE" sz="7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7000" spc="-1" strike="noStrike">
                <a:solidFill>
                  <a:srgbClr val="ffffff"/>
                </a:solidFill>
                <a:latin typeface="Arial"/>
                <a:ea typeface="Arial"/>
              </a:rPr>
              <a:t>Новый</a:t>
            </a:r>
            <a:r>
              <a:rPr b="0" lang="de-DE" sz="7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7000" spc="-1" strike="noStrike">
                <a:solidFill>
                  <a:srgbClr val="ffffff"/>
                </a:solidFill>
                <a:latin typeface="Arial"/>
                <a:ea typeface="Arial"/>
              </a:rPr>
              <a:t>Уровень»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object 7"/>
          <p:cNvSpPr/>
          <p:nvPr/>
        </p:nvSpPr>
        <p:spPr>
          <a:xfrm>
            <a:off x="851040" y="5410080"/>
            <a:ext cx="11302920" cy="1092240"/>
          </a:xfrm>
          <a:custGeom>
            <a:avLst/>
            <a:gdLst/>
            <a:ahLst/>
            <a:rect l="l" t="t" r="r" b="b"/>
            <a:pathLst>
              <a:path w="11303000" h="1092200">
                <a:moveTo>
                  <a:pt x="0" y="1092195"/>
                </a:moveTo>
                <a:lnTo>
                  <a:pt x="11302989" y="1092195"/>
                </a:lnTo>
                <a:lnTo>
                  <a:pt x="11302989" y="0"/>
                </a:lnTo>
                <a:lnTo>
                  <a:pt x="0" y="0"/>
                </a:lnTo>
                <a:lnTo>
                  <a:pt x="0" y="1092195"/>
                </a:lnTo>
                <a:close/>
              </a:path>
            </a:pathLst>
          </a:custGeom>
          <a:solidFill>
            <a:srgbClr val="ff4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825120" y="5532120"/>
            <a:ext cx="1130292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03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500" spc="-1" strike="noStrike">
                <a:solidFill>
                  <a:srgbClr val="ffffff"/>
                </a:solidFill>
                <a:latin typeface="Arial"/>
                <a:ea typeface="Arial"/>
              </a:rPr>
              <a:t>Путь</a:t>
            </a:r>
            <a:r>
              <a:rPr b="0" lang="de-DE" sz="5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5500" spc="-1" strike="noStrike">
                <a:solidFill>
                  <a:srgbClr val="ffffff"/>
                </a:solidFill>
                <a:latin typeface="Arial"/>
                <a:ea typeface="Arial"/>
              </a:rPr>
              <a:t>к</a:t>
            </a:r>
            <a:r>
              <a:rPr b="0" lang="de-DE" sz="5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5500" spc="-1" strike="noStrike">
                <a:solidFill>
                  <a:srgbClr val="ffffff"/>
                </a:solidFill>
                <a:latin typeface="Arial"/>
                <a:ea typeface="Arial"/>
              </a:rPr>
              <a:t>личному</a:t>
            </a:r>
            <a:r>
              <a:rPr b="0" lang="de-DE" sz="5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5500" spc="-1" strike="noStrike">
                <a:solidFill>
                  <a:srgbClr val="ffffff"/>
                </a:solidFill>
                <a:latin typeface="Arial"/>
                <a:ea typeface="Arial"/>
              </a:rPr>
              <a:t>и</a:t>
            </a:r>
            <a:r>
              <a:rPr b="0" lang="de-DE" sz="5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5500" spc="-1" strike="noStrike">
                <a:solidFill>
                  <a:srgbClr val="ffffff"/>
                </a:solidFill>
                <a:latin typeface="Arial"/>
                <a:ea typeface="Arial"/>
              </a:rPr>
              <a:t>бизнес</a:t>
            </a:r>
            <a:r>
              <a:rPr b="0" lang="de-DE" sz="5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5500" spc="-1" strike="noStrike">
                <a:solidFill>
                  <a:srgbClr val="ffffff"/>
                </a:solidFill>
                <a:latin typeface="Arial"/>
                <a:ea typeface="Arial"/>
              </a:rPr>
              <a:t>успеху!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bject 3"/>
          <p:cNvSpPr/>
          <p:nvPr/>
        </p:nvSpPr>
        <p:spPr>
          <a:xfrm>
            <a:off x="509760" y="3276720"/>
            <a:ext cx="119854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000" spc="-1" strike="noStrike">
                <a:solidFill>
                  <a:srgbClr val="ffffff"/>
                </a:solidFill>
                <a:latin typeface="Arial"/>
                <a:ea typeface="Arial"/>
              </a:rPr>
              <a:t>А</a:t>
            </a:r>
            <a:r>
              <a:rPr b="1" lang="de-DE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de-DE" sz="5000" spc="-1" strike="noStrike">
                <a:solidFill>
                  <a:srgbClr val="ffffff"/>
                </a:solidFill>
                <a:latin typeface="Arial"/>
                <a:ea typeface="Arial"/>
              </a:rPr>
              <a:t>что</a:t>
            </a:r>
            <a:r>
              <a:rPr b="1" lang="de-DE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de-DE" sz="5000" spc="-1" strike="noStrike">
                <a:solidFill>
                  <a:srgbClr val="ffffff"/>
                </a:solidFill>
                <a:latin typeface="Arial"/>
                <a:ea typeface="Arial"/>
              </a:rPr>
              <a:t>для</a:t>
            </a:r>
            <a:r>
              <a:rPr b="1" lang="de-DE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de-DE" sz="5000" spc="-1" strike="noStrike">
                <a:solidFill>
                  <a:srgbClr val="ffffff"/>
                </a:solidFill>
                <a:latin typeface="Arial"/>
                <a:ea typeface="Arial"/>
              </a:rPr>
              <a:t>Вас</a:t>
            </a:r>
            <a:r>
              <a:rPr b="1" lang="de-DE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de-DE" sz="5000" spc="-1" strike="noStrike">
                <a:solidFill>
                  <a:srgbClr val="ffffff"/>
                </a:solidFill>
                <a:latin typeface="Arial"/>
                <a:ea typeface="Arial"/>
              </a:rPr>
              <a:t>значит</a:t>
            </a:r>
            <a:r>
              <a:rPr b="1" lang="de-DE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de-DE" sz="5000" spc="-1" strike="noStrike">
                <a:solidFill>
                  <a:srgbClr val="ffffff"/>
                </a:solidFill>
                <a:latin typeface="Arial"/>
                <a:ea typeface="Arial"/>
              </a:rPr>
              <a:t>новый</a:t>
            </a:r>
            <a:r>
              <a:rPr b="1" lang="de-DE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de-DE" sz="5000" spc="-1" strike="noStrike">
                <a:solidFill>
                  <a:srgbClr val="ffffff"/>
                </a:solidFill>
                <a:latin typeface="Arial"/>
                <a:ea typeface="Arial"/>
              </a:rPr>
              <a:t>уровень?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object 5"/>
          <p:cNvSpPr/>
          <p:nvPr/>
        </p:nvSpPr>
        <p:spPr>
          <a:xfrm>
            <a:off x="1285920" y="6095880"/>
            <a:ext cx="10433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  <a:ea typeface="Arial"/>
              </a:rPr>
              <a:t>В</a:t>
            </a:r>
            <a:r>
              <a:rPr b="0" lang="de-DE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3600" spc="-1" strike="noStrike">
                <a:solidFill>
                  <a:srgbClr val="ffffff"/>
                </a:solidFill>
                <a:latin typeface="Arial"/>
                <a:ea typeface="Arial"/>
              </a:rPr>
              <a:t>какой</a:t>
            </a:r>
            <a:r>
              <a:rPr b="0" lang="de-DE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3600" spc="-1" strike="noStrike">
                <a:solidFill>
                  <a:srgbClr val="ffffff"/>
                </a:solidFill>
                <a:latin typeface="Arial"/>
                <a:ea typeface="Arial"/>
              </a:rPr>
              <a:t>сфере</a:t>
            </a:r>
            <a:r>
              <a:rPr b="0" lang="de-DE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3600" spc="-1" strike="noStrike">
                <a:solidFill>
                  <a:srgbClr val="ffffff"/>
                </a:solidFill>
                <a:latin typeface="Arial"/>
                <a:ea typeface="Arial"/>
              </a:rPr>
              <a:t>Вам</a:t>
            </a:r>
            <a:r>
              <a:rPr b="0" lang="de-DE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3600" spc="-1" strike="noStrike">
                <a:solidFill>
                  <a:srgbClr val="ffffff"/>
                </a:solidFill>
                <a:latin typeface="Arial"/>
                <a:ea typeface="Arial"/>
              </a:rPr>
              <a:t>Важно</a:t>
            </a:r>
            <a:r>
              <a:rPr b="0" lang="de-DE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3600" spc="-1" strike="noStrike">
                <a:solidFill>
                  <a:srgbClr val="ffffff"/>
                </a:solidFill>
                <a:latin typeface="Arial"/>
                <a:ea typeface="Arial"/>
              </a:rPr>
              <a:t>сделать</a:t>
            </a:r>
            <a:r>
              <a:rPr b="0" lang="de-DE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3600" spc="-1" strike="noStrike">
                <a:solidFill>
                  <a:srgbClr val="ffffff"/>
                </a:solidFill>
                <a:latin typeface="Arial"/>
                <a:ea typeface="Arial"/>
              </a:rPr>
              <a:t>ПРОРЫВ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object 2"/>
          <p:cNvSpPr/>
          <p:nvPr/>
        </p:nvSpPr>
        <p:spPr>
          <a:xfrm>
            <a:off x="139680" y="254160"/>
            <a:ext cx="12763440" cy="1866600"/>
          </a:xfrm>
          <a:custGeom>
            <a:avLst/>
            <a:gdLst/>
            <a:ahLst/>
            <a:rect l="l" t="t" r="r" b="b"/>
            <a:pathLst>
              <a:path w="12763500" h="1866900">
                <a:moveTo>
                  <a:pt x="0" y="1866899"/>
                </a:moveTo>
                <a:lnTo>
                  <a:pt x="12763499" y="1866899"/>
                </a:lnTo>
                <a:lnTo>
                  <a:pt x="12763499" y="0"/>
                </a:lnTo>
                <a:lnTo>
                  <a:pt x="0" y="0"/>
                </a:lnTo>
                <a:lnTo>
                  <a:pt x="0" y="1866899"/>
                </a:lnTo>
                <a:close/>
              </a:path>
            </a:pathLst>
          </a:custGeom>
          <a:solidFill>
            <a:srgbClr val="e32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87320" y="4896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382320" bIns="0" anchor="t">
            <a:noAutofit/>
          </a:bodyPr>
          <a:p>
            <a:pPr marL="1751040" indent="0" algn="ctr">
              <a:lnSpc>
                <a:spcPts val="11435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600" spc="-1" strike="noStrike">
                <a:solidFill>
                  <a:srgbClr val="ffffff"/>
                </a:solidFill>
                <a:latin typeface="Arial"/>
                <a:ea typeface="Arial"/>
              </a:rPr>
              <a:t>Картина</a:t>
            </a:r>
            <a:r>
              <a:rPr b="0" lang="de-DE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9600" spc="-1" strike="noStrike">
                <a:solidFill>
                  <a:srgbClr val="ffffff"/>
                </a:solidFill>
                <a:latin typeface="Arial"/>
                <a:ea typeface="Arial"/>
              </a:rPr>
              <a:t>Мира</a:t>
            </a:r>
            <a:endParaRPr b="0" lang="en-US" sz="9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object 5"/>
          <p:cNvSpPr/>
          <p:nvPr/>
        </p:nvSpPr>
        <p:spPr>
          <a:xfrm>
            <a:off x="965160" y="2235240"/>
            <a:ext cx="5537160" cy="3384360"/>
          </a:xfrm>
          <a:custGeom>
            <a:avLst/>
            <a:gdLst/>
            <a:ahLst/>
            <a:rect l="l" t="t" r="r" b="b"/>
            <a:pathLst>
              <a:path w="5537200" h="3384550">
                <a:moveTo>
                  <a:pt x="0" y="3384560"/>
                </a:moveTo>
                <a:lnTo>
                  <a:pt x="5537179" y="3384560"/>
                </a:lnTo>
                <a:lnTo>
                  <a:pt x="5537179" y="0"/>
                </a:lnTo>
                <a:lnTo>
                  <a:pt x="0" y="0"/>
                </a:lnTo>
                <a:lnTo>
                  <a:pt x="0" y="3384560"/>
                </a:lnTo>
                <a:close/>
              </a:path>
            </a:pathLst>
          </a:custGeom>
          <a:solidFill>
            <a:srgbClr val="fffc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ject 6"/>
          <p:cNvSpPr/>
          <p:nvPr/>
        </p:nvSpPr>
        <p:spPr>
          <a:xfrm>
            <a:off x="6502320" y="2235240"/>
            <a:ext cx="5537160" cy="3384360"/>
          </a:xfrm>
          <a:custGeom>
            <a:avLst/>
            <a:gdLst/>
            <a:ahLst/>
            <a:rect l="l" t="t" r="r" b="b"/>
            <a:pathLst>
              <a:path w="5537200" h="3384550">
                <a:moveTo>
                  <a:pt x="0" y="3384560"/>
                </a:moveTo>
                <a:lnTo>
                  <a:pt x="5537210" y="3384560"/>
                </a:lnTo>
                <a:lnTo>
                  <a:pt x="5537210" y="0"/>
                </a:lnTo>
                <a:lnTo>
                  <a:pt x="0" y="0"/>
                </a:lnTo>
                <a:lnTo>
                  <a:pt x="0" y="3384560"/>
                </a:lnTo>
                <a:close/>
              </a:path>
            </a:pathLst>
          </a:custGeom>
          <a:solidFill>
            <a:srgbClr val="ff4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object 7"/>
          <p:cNvSpPr/>
          <p:nvPr/>
        </p:nvSpPr>
        <p:spPr>
          <a:xfrm>
            <a:off x="965160" y="5619600"/>
            <a:ext cx="5537160" cy="3384720"/>
          </a:xfrm>
          <a:custGeom>
            <a:avLst/>
            <a:gdLst/>
            <a:ahLst/>
            <a:rect l="l" t="t" r="r" b="b"/>
            <a:pathLst>
              <a:path w="5537200" h="3384550">
                <a:moveTo>
                  <a:pt x="0" y="3384560"/>
                </a:moveTo>
                <a:lnTo>
                  <a:pt x="5537179" y="3384560"/>
                </a:lnTo>
                <a:lnTo>
                  <a:pt x="5537179" y="0"/>
                </a:lnTo>
                <a:lnTo>
                  <a:pt x="0" y="0"/>
                </a:lnTo>
                <a:lnTo>
                  <a:pt x="0" y="33845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ject 8"/>
          <p:cNvSpPr/>
          <p:nvPr/>
        </p:nvSpPr>
        <p:spPr>
          <a:xfrm>
            <a:off x="6502320" y="5619600"/>
            <a:ext cx="5537160" cy="3384720"/>
          </a:xfrm>
          <a:custGeom>
            <a:avLst/>
            <a:gdLst/>
            <a:ahLst/>
            <a:rect l="l" t="t" r="r" b="b"/>
            <a:pathLst>
              <a:path w="5537200" h="3384550">
                <a:moveTo>
                  <a:pt x="0" y="3384560"/>
                </a:moveTo>
                <a:lnTo>
                  <a:pt x="5537210" y="3384560"/>
                </a:lnTo>
                <a:lnTo>
                  <a:pt x="5537210" y="0"/>
                </a:lnTo>
                <a:lnTo>
                  <a:pt x="0" y="0"/>
                </a:lnTo>
                <a:lnTo>
                  <a:pt x="0" y="3384560"/>
                </a:lnTo>
                <a:close/>
              </a:path>
            </a:pathLst>
          </a:custGeom>
          <a:solidFill>
            <a:srgbClr val="f6e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object 11"/>
          <p:cNvSpPr/>
          <p:nvPr/>
        </p:nvSpPr>
        <p:spPr>
          <a:xfrm>
            <a:off x="1666800" y="3222720"/>
            <a:ext cx="412128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222222"/>
                </a:solidFill>
                <a:latin typeface="Arial"/>
                <a:ea typeface="Arial"/>
              </a:rPr>
              <a:t>Вижу</a:t>
            </a:r>
            <a:r>
              <a:rPr b="0" lang="de-DE" sz="36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 </a:t>
            </a:r>
            <a:r>
              <a:rPr b="0" lang="de-DE" sz="3600" spc="-1" strike="noStrike">
                <a:solidFill>
                  <a:srgbClr val="222222"/>
                </a:solidFill>
                <a:latin typeface="Arial"/>
                <a:ea typeface="Arial"/>
              </a:rPr>
              <a:t>Возмож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764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400" spc="-1" strike="noStrike">
                <a:solidFill>
                  <a:srgbClr val="222222"/>
                </a:solidFill>
                <a:latin typeface="Arial"/>
                <a:ea typeface="Arial"/>
              </a:rPr>
              <a:t>Не</a:t>
            </a:r>
            <a:r>
              <a:rPr b="0" lang="de-DE" sz="6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 </a:t>
            </a:r>
            <a:r>
              <a:rPr b="0" lang="de-DE" sz="6400" spc="-1" strike="noStrike">
                <a:solidFill>
                  <a:srgbClr val="222222"/>
                </a:solidFill>
                <a:latin typeface="Arial"/>
                <a:ea typeface="Arial"/>
              </a:rPr>
              <a:t>Делаю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object 14"/>
          <p:cNvSpPr/>
          <p:nvPr/>
        </p:nvSpPr>
        <p:spPr>
          <a:xfrm>
            <a:off x="7203960" y="3222720"/>
            <a:ext cx="412128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222222"/>
                </a:solidFill>
                <a:latin typeface="Arial"/>
                <a:ea typeface="Arial"/>
              </a:rPr>
              <a:t>Вижу</a:t>
            </a:r>
            <a:r>
              <a:rPr b="0" lang="de-DE" sz="36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 </a:t>
            </a:r>
            <a:r>
              <a:rPr b="0" lang="de-DE" sz="3600" spc="-1" strike="noStrike">
                <a:solidFill>
                  <a:srgbClr val="222222"/>
                </a:solidFill>
                <a:latin typeface="Arial"/>
                <a:ea typeface="Arial"/>
              </a:rPr>
              <a:t>Возмож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764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400" spc="-1" strike="noStrike">
                <a:solidFill>
                  <a:srgbClr val="222222"/>
                </a:solidFill>
                <a:latin typeface="Arial"/>
                <a:ea typeface="Arial"/>
              </a:rPr>
              <a:t>Делаю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object 17"/>
          <p:cNvSpPr/>
          <p:nvPr/>
        </p:nvSpPr>
        <p:spPr>
          <a:xfrm>
            <a:off x="1204920" y="6586560"/>
            <a:ext cx="504504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4013"/>
                </a:solidFill>
                <a:latin typeface="Arial"/>
                <a:ea typeface="Arial"/>
              </a:rPr>
              <a:t>Не</a:t>
            </a:r>
            <a:r>
              <a:rPr b="0" lang="de-DE" sz="3600" spc="-1" strike="noStrike">
                <a:solidFill>
                  <a:srgbClr val="ff4013"/>
                </a:solidFill>
                <a:latin typeface="Times New Roman"/>
                <a:ea typeface="Times New Roman"/>
              </a:rPr>
              <a:t> </a:t>
            </a:r>
            <a:r>
              <a:rPr b="0" lang="de-DE" sz="3600" spc="-1" strike="noStrike">
                <a:solidFill>
                  <a:srgbClr val="ff4013"/>
                </a:solidFill>
                <a:latin typeface="Arial"/>
                <a:ea typeface="Arial"/>
              </a:rPr>
              <a:t>Вижу</a:t>
            </a:r>
            <a:r>
              <a:rPr b="0" lang="de-DE" sz="3600" spc="-1" strike="noStrike">
                <a:solidFill>
                  <a:srgbClr val="ff4013"/>
                </a:solidFill>
                <a:latin typeface="Times New Roman"/>
                <a:ea typeface="Times New Roman"/>
              </a:rPr>
              <a:t> </a:t>
            </a:r>
            <a:r>
              <a:rPr b="0" lang="de-DE" sz="3600" spc="-1" strike="noStrike">
                <a:solidFill>
                  <a:srgbClr val="ff4013"/>
                </a:solidFill>
                <a:latin typeface="Arial"/>
                <a:ea typeface="Arial"/>
              </a:rPr>
              <a:t>Возможносте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764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400" spc="-1" strike="noStrike">
                <a:solidFill>
                  <a:srgbClr val="ff4013"/>
                </a:solidFill>
                <a:latin typeface="Arial"/>
                <a:ea typeface="Arial"/>
              </a:rPr>
              <a:t>Не</a:t>
            </a:r>
            <a:r>
              <a:rPr b="0" lang="de-DE" sz="6400" spc="-1" strike="noStrike">
                <a:solidFill>
                  <a:srgbClr val="ff4013"/>
                </a:solidFill>
                <a:latin typeface="Times New Roman"/>
                <a:ea typeface="Times New Roman"/>
              </a:rPr>
              <a:t> </a:t>
            </a:r>
            <a:r>
              <a:rPr b="0" lang="de-DE" sz="6400" spc="-1" strike="noStrike">
                <a:solidFill>
                  <a:srgbClr val="ff4013"/>
                </a:solidFill>
                <a:latin typeface="Arial"/>
                <a:ea typeface="Arial"/>
              </a:rPr>
              <a:t>Делаю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object 20"/>
          <p:cNvSpPr/>
          <p:nvPr/>
        </p:nvSpPr>
        <p:spPr>
          <a:xfrm>
            <a:off x="6742080" y="6586560"/>
            <a:ext cx="504504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222222"/>
                </a:solidFill>
                <a:latin typeface="Arial"/>
                <a:ea typeface="Arial"/>
              </a:rPr>
              <a:t>Не</a:t>
            </a:r>
            <a:r>
              <a:rPr b="0" lang="de-DE" sz="36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 </a:t>
            </a:r>
            <a:r>
              <a:rPr b="0" lang="de-DE" sz="3600" spc="-1" strike="noStrike">
                <a:solidFill>
                  <a:srgbClr val="222222"/>
                </a:solidFill>
                <a:latin typeface="Arial"/>
                <a:ea typeface="Arial"/>
              </a:rPr>
              <a:t>Вижу</a:t>
            </a:r>
            <a:r>
              <a:rPr b="0" lang="de-DE" sz="36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 </a:t>
            </a:r>
            <a:r>
              <a:rPr b="0" lang="de-DE" sz="3600" spc="-1" strike="noStrike">
                <a:solidFill>
                  <a:srgbClr val="222222"/>
                </a:solidFill>
                <a:latin typeface="Arial"/>
                <a:ea typeface="Arial"/>
              </a:rPr>
              <a:t>Возможносте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764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400" spc="-1" strike="noStrike">
                <a:solidFill>
                  <a:srgbClr val="222222"/>
                </a:solidFill>
                <a:latin typeface="Arial"/>
                <a:ea typeface="Arial"/>
              </a:rPr>
              <a:t>Делаю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ject 21"/>
          <p:cNvSpPr/>
          <p:nvPr/>
        </p:nvSpPr>
        <p:spPr>
          <a:xfrm>
            <a:off x="6502320" y="2235240"/>
            <a:ext cx="360" cy="6769080"/>
          </a:xfrm>
          <a:custGeom>
            <a:avLst/>
            <a:gdLst/>
            <a:ahLst/>
            <a:rect l="l" t="t" r="r" b="b"/>
            <a:pathLst>
              <a:path w="0" h="6769734">
                <a:moveTo>
                  <a:pt x="0" y="0"/>
                </a:moveTo>
                <a:lnTo>
                  <a:pt x="0" y="676911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object 22"/>
          <p:cNvSpPr/>
          <p:nvPr/>
        </p:nvSpPr>
        <p:spPr>
          <a:xfrm>
            <a:off x="965160" y="5619600"/>
            <a:ext cx="11074320" cy="360"/>
          </a:xfrm>
          <a:custGeom>
            <a:avLst/>
            <a:gdLst/>
            <a:ahLst/>
            <a:rect l="l" t="t" r="r" b="b"/>
            <a:pathLst>
              <a:path w="11074400" h="0">
                <a:moveTo>
                  <a:pt x="0" y="0"/>
                </a:moveTo>
                <a:lnTo>
                  <a:pt x="11074389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object 2"/>
          <p:cNvSpPr/>
          <p:nvPr/>
        </p:nvSpPr>
        <p:spPr>
          <a:xfrm>
            <a:off x="139680" y="254160"/>
            <a:ext cx="12763440" cy="1866600"/>
          </a:xfrm>
          <a:custGeom>
            <a:avLst/>
            <a:gdLst/>
            <a:ahLst/>
            <a:rect l="l" t="t" r="r" b="b"/>
            <a:pathLst>
              <a:path w="12763500" h="1866900">
                <a:moveTo>
                  <a:pt x="0" y="1866899"/>
                </a:moveTo>
                <a:lnTo>
                  <a:pt x="12763499" y="1866899"/>
                </a:lnTo>
                <a:lnTo>
                  <a:pt x="12763499" y="0"/>
                </a:lnTo>
                <a:lnTo>
                  <a:pt x="0" y="0"/>
                </a:lnTo>
                <a:lnTo>
                  <a:pt x="0" y="1866899"/>
                </a:lnTo>
                <a:close/>
              </a:path>
            </a:pathLst>
          </a:custGeom>
          <a:solidFill>
            <a:srgbClr val="ff4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87320" y="410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382320" bIns="0" anchor="t">
            <a:noAutofit/>
          </a:bodyPr>
          <a:p>
            <a:pPr marL="1957320" indent="0" algn="ctr">
              <a:lnSpc>
                <a:spcPts val="11435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600" spc="-1" strike="noStrike">
                <a:solidFill>
                  <a:srgbClr val="ffffff"/>
                </a:solidFill>
                <a:latin typeface="Arial"/>
                <a:ea typeface="Arial"/>
              </a:rPr>
              <a:t>Последствия!</a:t>
            </a:r>
            <a:endParaRPr b="0" lang="en-US" sz="9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" name="object 5"/>
          <p:cNvSpPr/>
          <p:nvPr/>
        </p:nvSpPr>
        <p:spPr>
          <a:xfrm>
            <a:off x="965160" y="2235240"/>
            <a:ext cx="5537160" cy="3384360"/>
          </a:xfrm>
          <a:custGeom>
            <a:avLst/>
            <a:gdLst/>
            <a:ahLst/>
            <a:rect l="l" t="t" r="r" b="b"/>
            <a:pathLst>
              <a:path w="5537200" h="3384550">
                <a:moveTo>
                  <a:pt x="0" y="3384560"/>
                </a:moveTo>
                <a:lnTo>
                  <a:pt x="5537179" y="3384560"/>
                </a:lnTo>
                <a:lnTo>
                  <a:pt x="5537179" y="0"/>
                </a:lnTo>
                <a:lnTo>
                  <a:pt x="0" y="0"/>
                </a:lnTo>
                <a:lnTo>
                  <a:pt x="0" y="3384560"/>
                </a:lnTo>
                <a:close/>
              </a:path>
            </a:pathLst>
          </a:custGeom>
          <a:solidFill>
            <a:srgbClr val="fffc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object 6"/>
          <p:cNvSpPr/>
          <p:nvPr/>
        </p:nvSpPr>
        <p:spPr>
          <a:xfrm>
            <a:off x="6502320" y="2235240"/>
            <a:ext cx="5537160" cy="3384360"/>
          </a:xfrm>
          <a:custGeom>
            <a:avLst/>
            <a:gdLst/>
            <a:ahLst/>
            <a:rect l="l" t="t" r="r" b="b"/>
            <a:pathLst>
              <a:path w="5537200" h="3384550">
                <a:moveTo>
                  <a:pt x="0" y="3384560"/>
                </a:moveTo>
                <a:lnTo>
                  <a:pt x="5537210" y="3384560"/>
                </a:lnTo>
                <a:lnTo>
                  <a:pt x="5537210" y="0"/>
                </a:lnTo>
                <a:lnTo>
                  <a:pt x="0" y="0"/>
                </a:lnTo>
                <a:lnTo>
                  <a:pt x="0" y="3384560"/>
                </a:lnTo>
                <a:close/>
              </a:path>
            </a:pathLst>
          </a:custGeom>
          <a:solidFill>
            <a:srgbClr val="ff4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ject 7"/>
          <p:cNvSpPr/>
          <p:nvPr/>
        </p:nvSpPr>
        <p:spPr>
          <a:xfrm>
            <a:off x="965160" y="5619600"/>
            <a:ext cx="5537160" cy="3384720"/>
          </a:xfrm>
          <a:custGeom>
            <a:avLst/>
            <a:gdLst/>
            <a:ahLst/>
            <a:rect l="l" t="t" r="r" b="b"/>
            <a:pathLst>
              <a:path w="5537200" h="3384550">
                <a:moveTo>
                  <a:pt x="0" y="3384560"/>
                </a:moveTo>
                <a:lnTo>
                  <a:pt x="5537179" y="3384560"/>
                </a:lnTo>
                <a:lnTo>
                  <a:pt x="5537179" y="0"/>
                </a:lnTo>
                <a:lnTo>
                  <a:pt x="0" y="0"/>
                </a:lnTo>
                <a:lnTo>
                  <a:pt x="0" y="33845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object 8"/>
          <p:cNvSpPr/>
          <p:nvPr/>
        </p:nvSpPr>
        <p:spPr>
          <a:xfrm>
            <a:off x="6502320" y="5619600"/>
            <a:ext cx="5537160" cy="3384720"/>
          </a:xfrm>
          <a:custGeom>
            <a:avLst/>
            <a:gdLst/>
            <a:ahLst/>
            <a:rect l="l" t="t" r="r" b="b"/>
            <a:pathLst>
              <a:path w="5537200" h="3384550">
                <a:moveTo>
                  <a:pt x="0" y="3384560"/>
                </a:moveTo>
                <a:lnTo>
                  <a:pt x="5537210" y="3384560"/>
                </a:lnTo>
                <a:lnTo>
                  <a:pt x="5537210" y="0"/>
                </a:lnTo>
                <a:lnTo>
                  <a:pt x="0" y="0"/>
                </a:lnTo>
                <a:lnTo>
                  <a:pt x="0" y="3384560"/>
                </a:lnTo>
                <a:close/>
              </a:path>
            </a:pathLst>
          </a:custGeom>
          <a:solidFill>
            <a:srgbClr val="fffc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192320" y="3006360"/>
            <a:ext cx="508320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2600" algn="ct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400" spc="-1" strike="noStrike">
                <a:solidFill>
                  <a:srgbClr val="222222"/>
                </a:solidFill>
                <a:latin typeface="Arial"/>
                <a:ea typeface="Arial"/>
              </a:rPr>
              <a:t>Теряю</a:t>
            </a:r>
            <a:r>
              <a:rPr b="0" lang="de-DE" sz="6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 </a:t>
            </a:r>
            <a:r>
              <a:rPr b="0" lang="de-DE" sz="6400" spc="-1" strike="noStrike">
                <a:solidFill>
                  <a:srgbClr val="222222"/>
                </a:solidFill>
                <a:latin typeface="Arial"/>
                <a:ea typeface="Arial"/>
              </a:rPr>
              <a:t>Возможность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  <a:p>
            <a:pPr marL="12600" algn="ctr">
              <a:lnSpc>
                <a:spcPct val="102000"/>
              </a:lnSpc>
              <a:spcBef>
                <a:spcPts val="37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400" spc="-1" strike="noStrike">
                <a:solidFill>
                  <a:srgbClr val="ff4013"/>
                </a:solidFill>
                <a:latin typeface="Arial"/>
                <a:ea typeface="Arial"/>
              </a:rPr>
              <a:t>Типа</a:t>
            </a:r>
            <a:r>
              <a:rPr b="0" lang="de-DE" sz="6400" spc="-1" strike="noStrike">
                <a:solidFill>
                  <a:srgbClr val="ff4013"/>
                </a:solidFill>
                <a:latin typeface="Times New Roman"/>
                <a:ea typeface="Times New Roman"/>
              </a:rPr>
              <a:t> </a:t>
            </a:r>
            <a:r>
              <a:rPr b="0" lang="de-DE" sz="6400" spc="-1" strike="noStrike">
                <a:solidFill>
                  <a:srgbClr val="ff4013"/>
                </a:solidFill>
                <a:latin typeface="Arial"/>
                <a:ea typeface="Arial"/>
              </a:rPr>
              <a:t>Жизнь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668640" y="3006360"/>
            <a:ext cx="5203800" cy="64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79520" algn="ct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400" spc="-1" strike="noStrike">
                <a:solidFill>
                  <a:srgbClr val="222222"/>
                </a:solidFill>
                <a:latin typeface="Arial"/>
                <a:ea typeface="Arial"/>
              </a:rPr>
              <a:t>Создаю</a:t>
            </a:r>
            <a:r>
              <a:rPr b="0" lang="de-DE" sz="6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 </a:t>
            </a:r>
            <a:r>
              <a:rPr b="0" lang="de-DE" sz="6400" spc="-1" strike="noStrike">
                <a:solidFill>
                  <a:srgbClr val="222222"/>
                </a:solidFill>
                <a:latin typeface="Arial"/>
                <a:ea typeface="Arial"/>
              </a:rPr>
              <a:t>Что</a:t>
            </a:r>
            <a:r>
              <a:rPr b="0" lang="de-DE" sz="6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 </a:t>
            </a:r>
            <a:r>
              <a:rPr b="0" lang="de-DE" sz="6400" spc="-1" strike="noStrike">
                <a:solidFill>
                  <a:srgbClr val="222222"/>
                </a:solidFill>
                <a:latin typeface="Arial"/>
                <a:ea typeface="Arial"/>
              </a:rPr>
              <a:t>Люблю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  <a:p>
            <a:pPr marL="479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  <a:p>
            <a:pPr marL="479520">
              <a:lnSpc>
                <a:spcPct val="102000"/>
              </a:lnSpc>
              <a:spcBef>
                <a:spcPts val="37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400" spc="-1" strike="noStrike">
                <a:solidFill>
                  <a:srgbClr val="222222"/>
                </a:solidFill>
                <a:latin typeface="Arial"/>
                <a:ea typeface="Arial"/>
              </a:rPr>
              <a:t>Живу</a:t>
            </a:r>
            <a:r>
              <a:rPr b="0" lang="de-DE" sz="6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 </a:t>
            </a:r>
            <a:r>
              <a:rPr b="0" lang="de-DE" sz="6400" spc="-1" strike="noStrike">
                <a:solidFill>
                  <a:srgbClr val="222222"/>
                </a:solidFill>
                <a:latin typeface="Arial"/>
                <a:ea typeface="Arial"/>
              </a:rPr>
              <a:t>Чужую</a:t>
            </a:r>
            <a:r>
              <a:rPr b="0" lang="de-DE" sz="64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 </a:t>
            </a:r>
            <a:r>
              <a:rPr b="0" lang="de-DE" sz="6400" spc="-1" strike="noStrike">
                <a:solidFill>
                  <a:srgbClr val="222222"/>
                </a:solidFill>
                <a:latin typeface="Arial"/>
                <a:ea typeface="Arial"/>
              </a:rPr>
              <a:t>Жизнь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object 19"/>
          <p:cNvSpPr/>
          <p:nvPr/>
        </p:nvSpPr>
        <p:spPr>
          <a:xfrm>
            <a:off x="6502320" y="2235240"/>
            <a:ext cx="360" cy="6769080"/>
          </a:xfrm>
          <a:custGeom>
            <a:avLst/>
            <a:gdLst/>
            <a:ahLst/>
            <a:rect l="l" t="t" r="r" b="b"/>
            <a:pathLst>
              <a:path w="0" h="6769734">
                <a:moveTo>
                  <a:pt x="0" y="0"/>
                </a:moveTo>
                <a:lnTo>
                  <a:pt x="0" y="676911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object 20"/>
          <p:cNvSpPr/>
          <p:nvPr/>
        </p:nvSpPr>
        <p:spPr>
          <a:xfrm>
            <a:off x="965160" y="5619600"/>
            <a:ext cx="11074320" cy="360"/>
          </a:xfrm>
          <a:custGeom>
            <a:avLst/>
            <a:gdLst/>
            <a:ahLst/>
            <a:rect l="l" t="t" r="r" b="b"/>
            <a:pathLst>
              <a:path w="11074400" h="0">
                <a:moveTo>
                  <a:pt x="0" y="0"/>
                </a:moveTo>
                <a:lnTo>
                  <a:pt x="11074389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object 2"/>
          <p:cNvSpPr/>
          <p:nvPr/>
        </p:nvSpPr>
        <p:spPr>
          <a:xfrm>
            <a:off x="114480" y="812880"/>
            <a:ext cx="12636360" cy="81151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object 4"/>
          <p:cNvSpPr/>
          <p:nvPr/>
        </p:nvSpPr>
        <p:spPr>
          <a:xfrm>
            <a:off x="907920" y="4038480"/>
            <a:ext cx="11842920" cy="15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ts val="1214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200" spc="-1" strike="noStrike">
                <a:solidFill>
                  <a:srgbClr val="ffffff"/>
                </a:solidFill>
                <a:latin typeface="Arial"/>
                <a:ea typeface="Arial"/>
              </a:rPr>
              <a:t>Один</a:t>
            </a:r>
            <a:r>
              <a:rPr b="0" lang="de-DE" sz="10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10200" spc="-1" strike="noStrike">
                <a:solidFill>
                  <a:srgbClr val="ffffff"/>
                </a:solidFill>
                <a:latin typeface="Arial"/>
                <a:ea typeface="Arial"/>
              </a:rPr>
              <a:t>из</a:t>
            </a:r>
            <a:r>
              <a:rPr b="0" lang="de-DE" sz="10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10200" spc="-1" strike="noStrike">
                <a:solidFill>
                  <a:srgbClr val="ffffff"/>
                </a:solidFill>
                <a:latin typeface="Arial"/>
                <a:ea typeface="Arial"/>
              </a:rPr>
              <a:t>многих</a:t>
            </a:r>
            <a:r>
              <a:rPr b="0" lang="de-DE" sz="10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102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0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object 2"/>
          <p:cNvSpPr/>
          <p:nvPr/>
        </p:nvSpPr>
        <p:spPr>
          <a:xfrm>
            <a:off x="114480" y="380880"/>
            <a:ext cx="12763440" cy="2121120"/>
          </a:xfrm>
          <a:custGeom>
            <a:avLst/>
            <a:gdLst/>
            <a:ahLst/>
            <a:rect l="l" t="t" r="r" b="b"/>
            <a:pathLst>
              <a:path w="12763500" h="2120900">
                <a:moveTo>
                  <a:pt x="0" y="2120895"/>
                </a:moveTo>
                <a:lnTo>
                  <a:pt x="12763499" y="2120895"/>
                </a:lnTo>
                <a:lnTo>
                  <a:pt x="12763499" y="0"/>
                </a:lnTo>
                <a:lnTo>
                  <a:pt x="0" y="0"/>
                </a:lnTo>
                <a:lnTo>
                  <a:pt x="0" y="212089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object 3"/>
          <p:cNvSpPr/>
          <p:nvPr/>
        </p:nvSpPr>
        <p:spPr>
          <a:xfrm>
            <a:off x="114480" y="2502000"/>
            <a:ext cx="12763440" cy="2120760"/>
          </a:xfrm>
          <a:custGeom>
            <a:avLst/>
            <a:gdLst/>
            <a:ahLst/>
            <a:rect l="l" t="t" r="r" b="b"/>
            <a:pathLst>
              <a:path w="12763500" h="2120900">
                <a:moveTo>
                  <a:pt x="0" y="2120908"/>
                </a:moveTo>
                <a:lnTo>
                  <a:pt x="12763499" y="2120908"/>
                </a:lnTo>
                <a:lnTo>
                  <a:pt x="12763499" y="0"/>
                </a:lnTo>
                <a:lnTo>
                  <a:pt x="0" y="0"/>
                </a:lnTo>
                <a:lnTo>
                  <a:pt x="0" y="21209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object 4"/>
          <p:cNvSpPr/>
          <p:nvPr/>
        </p:nvSpPr>
        <p:spPr>
          <a:xfrm>
            <a:off x="114480" y="4622760"/>
            <a:ext cx="12763440" cy="2121120"/>
          </a:xfrm>
          <a:custGeom>
            <a:avLst/>
            <a:gdLst/>
            <a:ahLst/>
            <a:rect l="l" t="t" r="r" b="b"/>
            <a:pathLst>
              <a:path w="12763500" h="2120900">
                <a:moveTo>
                  <a:pt x="0" y="2120895"/>
                </a:moveTo>
                <a:lnTo>
                  <a:pt x="12763499" y="2120895"/>
                </a:lnTo>
                <a:lnTo>
                  <a:pt x="12763499" y="0"/>
                </a:lnTo>
                <a:lnTo>
                  <a:pt x="0" y="0"/>
                </a:lnTo>
                <a:lnTo>
                  <a:pt x="0" y="2120895"/>
                </a:lnTo>
                <a:close/>
              </a:path>
            </a:pathLst>
          </a:custGeom>
          <a:solidFill>
            <a:srgbClr val="2222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object 5"/>
          <p:cNvSpPr/>
          <p:nvPr/>
        </p:nvSpPr>
        <p:spPr>
          <a:xfrm>
            <a:off x="114480" y="6743880"/>
            <a:ext cx="12763440" cy="2120760"/>
          </a:xfrm>
          <a:custGeom>
            <a:avLst/>
            <a:gdLst/>
            <a:ahLst/>
            <a:rect l="l" t="t" r="r" b="b"/>
            <a:pathLst>
              <a:path w="12763500" h="2120900">
                <a:moveTo>
                  <a:pt x="0" y="2120895"/>
                </a:moveTo>
                <a:lnTo>
                  <a:pt x="12763499" y="2120895"/>
                </a:lnTo>
                <a:lnTo>
                  <a:pt x="12763499" y="0"/>
                </a:lnTo>
                <a:lnTo>
                  <a:pt x="0" y="0"/>
                </a:lnTo>
                <a:lnTo>
                  <a:pt x="0" y="212089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object 6"/>
          <p:cNvSpPr/>
          <p:nvPr/>
        </p:nvSpPr>
        <p:spPr>
          <a:xfrm>
            <a:off x="2984400" y="800280"/>
            <a:ext cx="6972480" cy="7873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object 7"/>
          <p:cNvSpPr/>
          <p:nvPr/>
        </p:nvSpPr>
        <p:spPr>
          <a:xfrm>
            <a:off x="1041480" y="1727280"/>
            <a:ext cx="10934640" cy="596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ject 8"/>
          <p:cNvSpPr/>
          <p:nvPr/>
        </p:nvSpPr>
        <p:spPr>
          <a:xfrm>
            <a:off x="114480" y="380880"/>
            <a:ext cx="1276344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400" spc="-1" strike="noStrike">
                <a:solidFill>
                  <a:srgbClr val="ffffff"/>
                </a:solidFill>
                <a:latin typeface="Arial"/>
                <a:ea typeface="Arial"/>
              </a:rPr>
              <a:t>Технология</a:t>
            </a:r>
            <a:r>
              <a:rPr b="0" lang="de-DE" sz="6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6400" spc="-1" strike="noStrike">
                <a:solidFill>
                  <a:srgbClr val="ffffff"/>
                </a:solidFill>
                <a:latin typeface="Arial"/>
                <a:ea typeface="Arial"/>
              </a:rPr>
              <a:t>М.О.Д.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ffff"/>
                </a:solidFill>
                <a:latin typeface="Arial"/>
                <a:ea typeface="Arial"/>
              </a:rPr>
              <a:t>Модель</a:t>
            </a:r>
            <a:r>
              <a:rPr b="0" lang="de-DE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4800" spc="-1" strike="noStrike">
                <a:solidFill>
                  <a:srgbClr val="ffffff"/>
                </a:solidFill>
                <a:latin typeface="Arial"/>
                <a:ea typeface="Arial"/>
              </a:rPr>
              <a:t>Гарантированных</a:t>
            </a:r>
            <a:r>
              <a:rPr b="0" lang="de-DE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4800" spc="-1" strike="noStrike">
                <a:solidFill>
                  <a:srgbClr val="ffffff"/>
                </a:solidFill>
                <a:latin typeface="Arial"/>
                <a:ea typeface="Arial"/>
              </a:rPr>
              <a:t>Результатов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object 12"/>
          <p:cNvSpPr/>
          <p:nvPr/>
        </p:nvSpPr>
        <p:spPr>
          <a:xfrm>
            <a:off x="266760" y="2502000"/>
            <a:ext cx="12763440" cy="63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90480"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600" spc="-1" strike="noStrike">
                <a:solidFill>
                  <a:srgbClr val="000000"/>
                </a:solidFill>
                <a:latin typeface="Arial"/>
                <a:ea typeface="Arial"/>
              </a:rPr>
              <a:t>Сильное</a:t>
            </a:r>
            <a:r>
              <a:rPr b="0" lang="de-DE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9600" spc="-1" strike="noStrike">
                <a:solidFill>
                  <a:srgbClr val="000000"/>
                </a:solidFill>
                <a:latin typeface="Arial"/>
                <a:ea typeface="Arial"/>
              </a:rPr>
              <a:t>Мышление</a:t>
            </a:r>
            <a:r>
              <a:rPr b="0" lang="de-DE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9600" spc="-1" strike="noStrike">
                <a:solidFill>
                  <a:srgbClr val="ffffff"/>
                </a:solidFill>
                <a:latin typeface="Arial"/>
                <a:ea typeface="Arial"/>
              </a:rPr>
              <a:t>Сильное</a:t>
            </a:r>
            <a:r>
              <a:rPr b="0" lang="de-DE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9600" spc="-1" strike="noStrike">
                <a:solidFill>
                  <a:srgbClr val="ffffff"/>
                </a:solidFill>
                <a:latin typeface="Arial"/>
                <a:ea typeface="Arial"/>
              </a:rPr>
              <a:t>Окружение</a:t>
            </a:r>
            <a:r>
              <a:rPr b="0" lang="de-DE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9600" spc="-1" strike="noStrike">
                <a:solidFill>
                  <a:srgbClr val="000000"/>
                </a:solidFill>
                <a:latin typeface="Arial"/>
                <a:ea typeface="Arial"/>
              </a:rPr>
              <a:t>Сильные</a:t>
            </a:r>
            <a:r>
              <a:rPr b="0" lang="de-DE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9600" spc="-1" strike="noStrike">
                <a:solidFill>
                  <a:srgbClr val="000000"/>
                </a:solidFill>
                <a:latin typeface="Arial"/>
                <a:ea typeface="Arial"/>
              </a:rPr>
              <a:t>Действия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object 13"/>
          <p:cNvSpPr/>
          <p:nvPr/>
        </p:nvSpPr>
        <p:spPr>
          <a:xfrm>
            <a:off x="114480" y="2502000"/>
            <a:ext cx="12763440" cy="360"/>
          </a:xfrm>
          <a:custGeom>
            <a:avLst/>
            <a:gdLst/>
            <a:ahLst/>
            <a:rect l="l" t="t" r="r" b="b"/>
            <a:pathLst>
              <a:path w="12763500" h="0">
                <a:moveTo>
                  <a:pt x="0" y="0"/>
                </a:moveTo>
                <a:lnTo>
                  <a:pt x="12763499" y="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ject 14"/>
          <p:cNvSpPr/>
          <p:nvPr/>
        </p:nvSpPr>
        <p:spPr>
          <a:xfrm>
            <a:off x="114480" y="4622760"/>
            <a:ext cx="12763440" cy="360"/>
          </a:xfrm>
          <a:custGeom>
            <a:avLst/>
            <a:gdLst/>
            <a:ahLst/>
            <a:rect l="l" t="t" r="r" b="b"/>
            <a:pathLst>
              <a:path w="12763500" h="0">
                <a:moveTo>
                  <a:pt x="0" y="0"/>
                </a:moveTo>
                <a:lnTo>
                  <a:pt x="12763499" y="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object 15"/>
          <p:cNvSpPr/>
          <p:nvPr/>
        </p:nvSpPr>
        <p:spPr>
          <a:xfrm>
            <a:off x="114480" y="6743880"/>
            <a:ext cx="12763440" cy="360"/>
          </a:xfrm>
          <a:custGeom>
            <a:avLst/>
            <a:gdLst/>
            <a:ahLst/>
            <a:rect l="l" t="t" r="r" b="b"/>
            <a:pathLst>
              <a:path w="12763500" h="0">
                <a:moveTo>
                  <a:pt x="0" y="0"/>
                </a:moveTo>
                <a:lnTo>
                  <a:pt x="12763499" y="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object 2"/>
          <p:cNvSpPr/>
          <p:nvPr/>
        </p:nvSpPr>
        <p:spPr>
          <a:xfrm>
            <a:off x="787320" y="254160"/>
            <a:ext cx="11430000" cy="2438280"/>
          </a:xfrm>
          <a:custGeom>
            <a:avLst/>
            <a:gdLst/>
            <a:ahLst/>
            <a:rect l="l" t="t" r="r" b="b"/>
            <a:pathLst>
              <a:path w="11430000" h="2438400">
                <a:moveTo>
                  <a:pt x="0" y="2438399"/>
                </a:moveTo>
                <a:lnTo>
                  <a:pt x="11429999" y="2438399"/>
                </a:lnTo>
                <a:lnTo>
                  <a:pt x="11429999" y="0"/>
                </a:lnTo>
                <a:lnTo>
                  <a:pt x="0" y="0"/>
                </a:lnTo>
                <a:lnTo>
                  <a:pt x="0" y="2438399"/>
                </a:lnTo>
                <a:close/>
              </a:path>
            </a:pathLst>
          </a:custGeom>
          <a:solidFill>
            <a:srgbClr val="ff4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object 3"/>
          <p:cNvSpPr/>
          <p:nvPr/>
        </p:nvSpPr>
        <p:spPr>
          <a:xfrm>
            <a:off x="1130400" y="1066680"/>
            <a:ext cx="3644640" cy="1168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ject 4"/>
          <p:cNvSpPr/>
          <p:nvPr/>
        </p:nvSpPr>
        <p:spPr>
          <a:xfrm>
            <a:off x="5054760" y="1409760"/>
            <a:ext cx="6984720" cy="596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object 6"/>
          <p:cNvSpPr/>
          <p:nvPr/>
        </p:nvSpPr>
        <p:spPr>
          <a:xfrm>
            <a:off x="838080" y="4064040"/>
            <a:ext cx="228600" cy="228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object 7"/>
          <p:cNvSpPr/>
          <p:nvPr/>
        </p:nvSpPr>
        <p:spPr>
          <a:xfrm>
            <a:off x="838080" y="4064040"/>
            <a:ext cx="196920" cy="1969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ject 9"/>
          <p:cNvSpPr/>
          <p:nvPr/>
        </p:nvSpPr>
        <p:spPr>
          <a:xfrm>
            <a:off x="838080" y="5041800"/>
            <a:ext cx="228600" cy="22860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object 10"/>
          <p:cNvSpPr/>
          <p:nvPr/>
        </p:nvSpPr>
        <p:spPr>
          <a:xfrm>
            <a:off x="838080" y="5041800"/>
            <a:ext cx="196920" cy="19692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object 12"/>
          <p:cNvSpPr/>
          <p:nvPr/>
        </p:nvSpPr>
        <p:spPr>
          <a:xfrm>
            <a:off x="838080" y="6019920"/>
            <a:ext cx="228600" cy="22860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ject 13"/>
          <p:cNvSpPr/>
          <p:nvPr/>
        </p:nvSpPr>
        <p:spPr>
          <a:xfrm>
            <a:off x="838080" y="6019920"/>
            <a:ext cx="196920" cy="19656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object 15"/>
          <p:cNvSpPr/>
          <p:nvPr/>
        </p:nvSpPr>
        <p:spPr>
          <a:xfrm>
            <a:off x="838080" y="6997680"/>
            <a:ext cx="228600" cy="22860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object 16"/>
          <p:cNvSpPr/>
          <p:nvPr/>
        </p:nvSpPr>
        <p:spPr>
          <a:xfrm>
            <a:off x="838080" y="6997680"/>
            <a:ext cx="196920" cy="196920"/>
          </a:xfrm>
          <a:prstGeom prst="rect">
            <a:avLst/>
          </a:pr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ject 18"/>
          <p:cNvSpPr/>
          <p:nvPr/>
        </p:nvSpPr>
        <p:spPr>
          <a:xfrm>
            <a:off x="1233360" y="3505320"/>
            <a:ext cx="7083720" cy="45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4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  <a:ea typeface="Arial"/>
              </a:rPr>
              <a:t>Как</a:t>
            </a:r>
            <a:r>
              <a:rPr b="0" lang="de-DE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Arial"/>
                <a:ea typeface="Arial"/>
              </a:rPr>
              <a:t>работает</a:t>
            </a:r>
            <a:r>
              <a:rPr b="0" lang="de-DE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Arial"/>
                <a:ea typeface="Arial"/>
              </a:rPr>
              <a:t>наш</a:t>
            </a:r>
            <a:r>
              <a:rPr b="0" lang="de-DE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Arial"/>
                <a:ea typeface="Arial"/>
              </a:rPr>
              <a:t>ум!?</a:t>
            </a:r>
            <a:r>
              <a:rPr b="0" lang="de-DE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Arial"/>
                <a:ea typeface="Arial"/>
              </a:rPr>
              <a:t>Низшее</a:t>
            </a:r>
            <a:r>
              <a:rPr b="0" lang="de-DE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Arial"/>
                <a:ea typeface="Arial"/>
              </a:rPr>
              <a:t>сознан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24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  <a:ea typeface="Arial"/>
              </a:rPr>
              <a:t>Высшее</a:t>
            </a:r>
            <a:r>
              <a:rPr b="0" lang="de-DE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Arial"/>
                <a:ea typeface="Arial"/>
              </a:rPr>
              <a:t>сознан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24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  <a:ea typeface="Arial"/>
              </a:rPr>
              <a:t>Техника</a:t>
            </a:r>
            <a:r>
              <a:rPr b="0" lang="de-DE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Arial"/>
                <a:ea typeface="Arial"/>
              </a:rPr>
              <a:t>сильных</a:t>
            </a:r>
            <a:r>
              <a:rPr b="0" lang="de-DE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Arial"/>
                <a:ea typeface="Arial"/>
              </a:rPr>
              <a:t>вопросов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object 2"/>
          <p:cNvSpPr/>
          <p:nvPr/>
        </p:nvSpPr>
        <p:spPr>
          <a:xfrm>
            <a:off x="787320" y="254160"/>
            <a:ext cx="11430000" cy="2438280"/>
          </a:xfrm>
          <a:custGeom>
            <a:avLst/>
            <a:gdLst/>
            <a:ahLst/>
            <a:rect l="l" t="t" r="r" b="b"/>
            <a:pathLst>
              <a:path w="11430000" h="2438400">
                <a:moveTo>
                  <a:pt x="0" y="2438399"/>
                </a:moveTo>
                <a:lnTo>
                  <a:pt x="11429999" y="2438399"/>
                </a:lnTo>
                <a:lnTo>
                  <a:pt x="11429999" y="0"/>
                </a:lnTo>
                <a:lnTo>
                  <a:pt x="0" y="0"/>
                </a:lnTo>
                <a:lnTo>
                  <a:pt x="0" y="2438399"/>
                </a:lnTo>
                <a:close/>
              </a:path>
            </a:pathLst>
          </a:custGeom>
          <a:solidFill>
            <a:srgbClr val="ff4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object 3"/>
          <p:cNvSpPr/>
          <p:nvPr/>
        </p:nvSpPr>
        <p:spPr>
          <a:xfrm>
            <a:off x="1079640" y="1066680"/>
            <a:ext cx="3632040" cy="1168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object 4"/>
          <p:cNvSpPr/>
          <p:nvPr/>
        </p:nvSpPr>
        <p:spPr>
          <a:xfrm>
            <a:off x="4991040" y="1409760"/>
            <a:ext cx="7112160" cy="7365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object 6"/>
          <p:cNvSpPr/>
          <p:nvPr/>
        </p:nvSpPr>
        <p:spPr>
          <a:xfrm>
            <a:off x="838080" y="4064040"/>
            <a:ext cx="228600" cy="228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object 7"/>
          <p:cNvSpPr/>
          <p:nvPr/>
        </p:nvSpPr>
        <p:spPr>
          <a:xfrm>
            <a:off x="838080" y="4064040"/>
            <a:ext cx="196920" cy="1969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object 9"/>
          <p:cNvSpPr/>
          <p:nvPr/>
        </p:nvSpPr>
        <p:spPr>
          <a:xfrm>
            <a:off x="838080" y="5041800"/>
            <a:ext cx="228600" cy="22860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object 10"/>
          <p:cNvSpPr/>
          <p:nvPr/>
        </p:nvSpPr>
        <p:spPr>
          <a:xfrm>
            <a:off x="838080" y="5041800"/>
            <a:ext cx="196920" cy="19692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object 12"/>
          <p:cNvSpPr/>
          <p:nvPr/>
        </p:nvSpPr>
        <p:spPr>
          <a:xfrm>
            <a:off x="838080" y="6019920"/>
            <a:ext cx="228600" cy="22860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object 13"/>
          <p:cNvSpPr/>
          <p:nvPr/>
        </p:nvSpPr>
        <p:spPr>
          <a:xfrm>
            <a:off x="838080" y="6019920"/>
            <a:ext cx="196920" cy="19656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object 15"/>
          <p:cNvSpPr/>
          <p:nvPr/>
        </p:nvSpPr>
        <p:spPr>
          <a:xfrm>
            <a:off x="838080" y="6997680"/>
            <a:ext cx="228600" cy="22860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object 16"/>
          <p:cNvSpPr/>
          <p:nvPr/>
        </p:nvSpPr>
        <p:spPr>
          <a:xfrm>
            <a:off x="838080" y="6997680"/>
            <a:ext cx="196920" cy="196920"/>
          </a:xfrm>
          <a:prstGeom prst="rect">
            <a:avLst/>
          </a:pr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231560" y="3048120"/>
            <a:ext cx="105411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495360" bIns="0" anchor="t">
            <a:normAutofit/>
          </a:bodyPr>
          <a:p>
            <a:pPr marL="12600" indent="0">
              <a:lnSpc>
                <a:spcPct val="14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  <a:ea typeface="Arial"/>
              </a:rPr>
              <a:t>Токсичное</a:t>
            </a:r>
            <a:r>
              <a:rPr b="0" lang="de-DE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Arial"/>
                <a:ea typeface="Arial"/>
              </a:rPr>
              <a:t>Окружение.</a:t>
            </a:r>
            <a:r>
              <a:rPr b="0" lang="de-DE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Arial"/>
                <a:ea typeface="Arial"/>
              </a:rPr>
              <a:t>Продвигающее</a:t>
            </a:r>
            <a:r>
              <a:rPr b="0" lang="de-DE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Arial"/>
                <a:ea typeface="Arial"/>
              </a:rPr>
              <a:t>Окружение.</a:t>
            </a:r>
            <a:r>
              <a:rPr b="0" lang="de-DE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Arial"/>
                <a:ea typeface="Arial"/>
              </a:rPr>
              <a:t>История</a:t>
            </a:r>
            <a:r>
              <a:rPr b="0" lang="de-DE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Arial"/>
                <a:ea typeface="Arial"/>
              </a:rPr>
              <a:t>про</a:t>
            </a:r>
            <a:r>
              <a:rPr b="0" lang="de-DE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Arial"/>
                <a:ea typeface="Arial"/>
              </a:rPr>
              <a:t>Аукцион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2600" indent="0">
              <a:lnSpc>
                <a:spcPct val="100000"/>
              </a:lnSpc>
              <a:spcBef>
                <a:spcPts val="24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  <a:ea typeface="Arial"/>
              </a:rPr>
              <a:t>Задание.</a:t>
            </a:r>
            <a:r>
              <a:rPr b="0" lang="de-DE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Arial"/>
                <a:ea typeface="Arial"/>
              </a:rPr>
              <a:t>Кто</a:t>
            </a:r>
            <a:r>
              <a:rPr b="0" lang="de-DE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Arial"/>
                <a:ea typeface="Arial"/>
              </a:rPr>
              <a:t>был</a:t>
            </a:r>
            <a:r>
              <a:rPr b="0" lang="de-DE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Arial"/>
                <a:ea typeface="Arial"/>
              </a:rPr>
              <a:t>вкладом</a:t>
            </a:r>
            <a:r>
              <a:rPr b="0" lang="de-DE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Arial"/>
                <a:ea typeface="Arial"/>
              </a:rPr>
              <a:t>в</a:t>
            </a:r>
            <a:r>
              <a:rPr b="0" lang="de-DE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Arial"/>
                <a:ea typeface="Arial"/>
              </a:rPr>
              <a:t>Вас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object 2"/>
          <p:cNvSpPr/>
          <p:nvPr/>
        </p:nvSpPr>
        <p:spPr>
          <a:xfrm>
            <a:off x="787320" y="254160"/>
            <a:ext cx="11430000" cy="2438280"/>
          </a:xfrm>
          <a:custGeom>
            <a:avLst/>
            <a:gdLst/>
            <a:ahLst/>
            <a:rect l="l" t="t" r="r" b="b"/>
            <a:pathLst>
              <a:path w="11430000" h="2438400">
                <a:moveTo>
                  <a:pt x="0" y="2438399"/>
                </a:moveTo>
                <a:lnTo>
                  <a:pt x="11429999" y="2438399"/>
                </a:lnTo>
                <a:lnTo>
                  <a:pt x="11429999" y="0"/>
                </a:lnTo>
                <a:lnTo>
                  <a:pt x="0" y="0"/>
                </a:lnTo>
                <a:lnTo>
                  <a:pt x="0" y="2438399"/>
                </a:lnTo>
                <a:close/>
              </a:path>
            </a:pathLst>
          </a:custGeom>
          <a:solidFill>
            <a:srgbClr val="ff4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object 3"/>
          <p:cNvSpPr/>
          <p:nvPr/>
        </p:nvSpPr>
        <p:spPr>
          <a:xfrm>
            <a:off x="1346040" y="1066680"/>
            <a:ext cx="3645000" cy="1168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object 4"/>
          <p:cNvSpPr/>
          <p:nvPr/>
        </p:nvSpPr>
        <p:spPr>
          <a:xfrm>
            <a:off x="5270400" y="1409760"/>
            <a:ext cx="6527880" cy="7365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ject 6"/>
          <p:cNvSpPr/>
          <p:nvPr/>
        </p:nvSpPr>
        <p:spPr>
          <a:xfrm>
            <a:off x="838080" y="3568680"/>
            <a:ext cx="228600" cy="2286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object 7"/>
          <p:cNvSpPr/>
          <p:nvPr/>
        </p:nvSpPr>
        <p:spPr>
          <a:xfrm>
            <a:off x="838080" y="3568680"/>
            <a:ext cx="196920" cy="1969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object 9"/>
          <p:cNvSpPr/>
          <p:nvPr/>
        </p:nvSpPr>
        <p:spPr>
          <a:xfrm>
            <a:off x="838080" y="4546440"/>
            <a:ext cx="228600" cy="22860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ject 10"/>
          <p:cNvSpPr/>
          <p:nvPr/>
        </p:nvSpPr>
        <p:spPr>
          <a:xfrm>
            <a:off x="838080" y="4546440"/>
            <a:ext cx="196920" cy="19692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object 12"/>
          <p:cNvSpPr/>
          <p:nvPr/>
        </p:nvSpPr>
        <p:spPr>
          <a:xfrm>
            <a:off x="838080" y="5524560"/>
            <a:ext cx="228600" cy="22860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object 13"/>
          <p:cNvSpPr/>
          <p:nvPr/>
        </p:nvSpPr>
        <p:spPr>
          <a:xfrm>
            <a:off x="838080" y="5524560"/>
            <a:ext cx="196920" cy="19692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ject 16"/>
          <p:cNvSpPr/>
          <p:nvPr/>
        </p:nvSpPr>
        <p:spPr>
          <a:xfrm>
            <a:off x="838080" y="6502320"/>
            <a:ext cx="228600" cy="22860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object 17"/>
          <p:cNvSpPr/>
          <p:nvPr/>
        </p:nvSpPr>
        <p:spPr>
          <a:xfrm>
            <a:off x="838080" y="6502320"/>
            <a:ext cx="196920" cy="196920"/>
          </a:xfrm>
          <a:prstGeom prst="rect">
            <a:avLst/>
          </a:pr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object 19"/>
          <p:cNvSpPr/>
          <p:nvPr/>
        </p:nvSpPr>
        <p:spPr>
          <a:xfrm>
            <a:off x="838080" y="7480440"/>
            <a:ext cx="228600" cy="228600"/>
          </a:xfrm>
          <a:prstGeom prst="rect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ject 20"/>
          <p:cNvSpPr/>
          <p:nvPr/>
        </p:nvSpPr>
        <p:spPr>
          <a:xfrm>
            <a:off x="838080" y="7480440"/>
            <a:ext cx="196920" cy="196560"/>
          </a:xfrm>
          <a:prstGeom prst="rect">
            <a:avLst/>
          </a:prstGeom>
          <a:blipFill rotWithShape="0">
            <a:blip r:embed="rId1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231560" y="3048120"/>
            <a:ext cx="10541160" cy="48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12240" indent="0">
              <a:lnSpc>
                <a:spcPct val="14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  <a:ea typeface="Arial"/>
              </a:rPr>
              <a:t>История</a:t>
            </a:r>
            <a:r>
              <a:rPr b="0" lang="de-DE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Arial"/>
                <a:ea typeface="Arial"/>
              </a:rPr>
              <a:t>про</a:t>
            </a:r>
            <a:r>
              <a:rPr b="0" lang="de-DE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Arial"/>
                <a:ea typeface="Arial"/>
              </a:rPr>
              <a:t>двух</a:t>
            </a:r>
            <a:r>
              <a:rPr b="0" lang="de-DE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Arial"/>
                <a:ea typeface="Arial"/>
              </a:rPr>
              <a:t>одинаковых</a:t>
            </a:r>
            <a:r>
              <a:rPr b="0" lang="de-DE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Arial"/>
                <a:ea typeface="Arial"/>
              </a:rPr>
              <a:t>людей.</a:t>
            </a:r>
            <a:r>
              <a:rPr b="0" lang="de-DE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Arial"/>
                <a:ea typeface="Arial"/>
              </a:rPr>
              <a:t>Определи</a:t>
            </a:r>
            <a:r>
              <a:rPr b="0" lang="de-DE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Arial"/>
                <a:ea typeface="Arial"/>
              </a:rPr>
              <a:t>главную</a:t>
            </a:r>
            <a:r>
              <a:rPr b="0" lang="de-DE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Arial"/>
                <a:ea typeface="Arial"/>
              </a:rPr>
              <a:t>ЦЕЛЬ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2240" indent="0">
              <a:lnSpc>
                <a:spcPct val="14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  <a:ea typeface="Arial"/>
              </a:rPr>
              <a:t>Отставить</a:t>
            </a:r>
            <a:r>
              <a:rPr b="0" lang="de-DE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Arial"/>
                <a:ea typeface="Arial"/>
              </a:rPr>
              <a:t>«много-задач»!</a:t>
            </a:r>
            <a:r>
              <a:rPr b="0" lang="de-DE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Arial"/>
                <a:ea typeface="Arial"/>
              </a:rPr>
              <a:t>Фокус</a:t>
            </a:r>
            <a:r>
              <a:rPr b="0" lang="de-DE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Arial"/>
                <a:ea typeface="Arial"/>
              </a:rPr>
              <a:t>на!</a:t>
            </a:r>
            <a:r>
              <a:rPr b="0" lang="de-DE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Arial"/>
                <a:ea typeface="Arial"/>
              </a:rPr>
              <a:t>Сначала</a:t>
            </a:r>
            <a:r>
              <a:rPr b="0" lang="de-DE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Arial"/>
                <a:ea typeface="Arial"/>
              </a:rPr>
              <a:t>делай</a:t>
            </a:r>
            <a:r>
              <a:rPr b="0" lang="de-DE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Arial"/>
                <a:ea typeface="Arial"/>
              </a:rPr>
              <a:t>ГЛАВНО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2240" indent="0">
              <a:lnSpc>
                <a:spcPct val="100000"/>
              </a:lnSpc>
              <a:spcBef>
                <a:spcPts val="24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  <a:ea typeface="Arial"/>
              </a:rPr>
              <a:t>Техника</a:t>
            </a:r>
            <a:r>
              <a:rPr b="0" lang="de-DE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Arial"/>
                <a:ea typeface="Arial"/>
              </a:rPr>
              <a:t>сильных</a:t>
            </a:r>
            <a:r>
              <a:rPr b="0" lang="de-DE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Arial"/>
                <a:ea typeface="Arial"/>
              </a:rPr>
              <a:t>вопросов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0T16:00:57Z</dcterms:created>
  <dc:creator>Online2PDF.com</dc:creator>
  <dc:description/>
  <dc:language>en-US</dc:language>
  <cp:lastModifiedBy>asus-pc</cp:lastModifiedBy>
  <dcterms:modified xsi:type="dcterms:W3CDTF">2015-02-02T08:34:52Z</dcterms:modified>
  <cp:revision>3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15-01-20T00:00:00Z</vt:filetime>
  </property>
  <property fmtid="{D5CDD505-2E9C-101B-9397-08002B2CF9AE}" pid="3" name="LastSaved">
    <vt:filetime>2015-01-20T00:00:00Z</vt:filetime>
  </property>
</Properties>
</file>