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5.jpeg" ContentType="image/jpeg"/>
  <Override PartName="/ppt/media/image16.png" ContentType="image/png"/>
  <Override PartName="/ppt/media/image17.jpeg" ContentType="image/jpeg"/>
  <Override PartName="/ppt/media/image3.png" ContentType="image/png"/>
  <Override PartName="/ppt/media/image8.png" ContentType="image/png"/>
  <Override PartName="/ppt/media/image14.jpeg" ContentType="image/jpeg"/>
  <Override PartName="/ppt/media/image2.png" ContentType="image/pn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F30A7F-AAB7-48CB-B6A9-5635CE29F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AD0DCC-FAFB-4CD2-A20D-C29AD54C7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43EB53-0229-4437-9044-0300273F9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45FDD1-710C-4B84-8C60-2EDFBB521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F3E94-756B-4CAF-8D14-5C1E06073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44329-4AE6-4FFF-8554-7E95832D0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B3478-D651-42B8-B922-40573E337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7D0ED-4B79-4422-9687-E4537856C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40915-DBB3-4BAE-8F50-AD6EBDABD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B8717-CE2A-46B3-9E6E-BD54DCC90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8E326-0FE7-4116-B0ED-A765386F6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96400A-F71F-48B5-9C43-3B55982D9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B8F63-4B71-4A1A-9E41-7FBD08042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00941-65FD-41BC-8E8F-D53D4E42E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9F6C1-2432-45F2-B6B3-C53E9B03C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64C72-5713-4700-BD7D-657BE5A80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E0D6D-6AE8-4184-8CF8-3152DFDEF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AFD66B-ADE0-499D-89CD-BA5EBB16A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5484AE-1676-4910-82C9-FF254E2E9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7967D5-0FA9-4F6A-965D-4F52F6445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EDAA8D-04D3-47BD-996D-3CFA1B2FE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FB0CDD-7F9A-4706-9096-98DAC1DB8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EE9E7A-5D59-4697-AF4A-2144CA702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4D567C-8CC9-4030-8DEE-489824448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28595-178D-4D3B-BBAF-F8435CCB78D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4BB34-E663-4F2C-A238-EF7FDCFC013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6.pn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11280" y="2997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dfdef6"/>
                </a:solidFill>
                <a:latin typeface="Arial"/>
              </a:rPr>
              <a:t>Кольчатые черви</a:t>
            </a:r>
            <a:endParaRPr b="0" lang="en-US" sz="72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dfdef6"/>
                </a:solidFill>
                <a:latin typeface="Arial"/>
              </a:rPr>
              <a:t>Размножение и развитие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296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ольчатые черви раздельнополы, у некоторых (дождевых червей, пиявок) вторично развился гермафродитизм. Развитие у многощетинковых червей происходит с личинкой — трохофорой, у остальных — прямое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ля червей с сегментированным целомом (то есть для олигохет, полихет, но не пиявок) характерна высокая способность к регенерации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9" name="Рисунок 1" descr=""/>
          <p:cNvPicPr/>
          <p:nvPr/>
        </p:nvPicPr>
        <p:blipFill>
          <a:blip r:embed="rId1"/>
          <a:srcRect l="41191" t="49991" r="0" b="0"/>
          <a:stretch/>
        </p:blipFill>
        <p:spPr>
          <a:xfrm>
            <a:off x="1187280" y="3665520"/>
            <a:ext cx="3313440" cy="3003480"/>
          </a:xfrm>
          <a:prstGeom prst="rect">
            <a:avLst/>
          </a:prstGeom>
          <a:ln w="0">
            <a:noFill/>
          </a:ln>
        </p:spPr>
      </p:pic>
      <p:pic>
        <p:nvPicPr>
          <p:cNvPr id="540" name="Рисунок 1" descr=""/>
          <p:cNvPicPr/>
          <p:nvPr/>
        </p:nvPicPr>
        <p:blipFill>
          <a:blip r:embed="rId2"/>
          <a:srcRect l="55748" t="0" r="0" b="49991"/>
          <a:stretch/>
        </p:blipFill>
        <p:spPr>
          <a:xfrm>
            <a:off x="5508720" y="3716280"/>
            <a:ext cx="245088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dfdef6"/>
                </a:solidFill>
                <a:latin typeface="Arial"/>
              </a:rPr>
              <a:t>Образ жизни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39640" y="1413000"/>
            <a:ext cx="822960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Живут по всему миру, в море, в пресной воде и на суше. Особенно многообразны морские формы, которые встречаются на разных глубинах вплоть до предельных (до 10—11 км) и во всех широтах Мирового океана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3" name="Рисунок 13" descr=""/>
          <p:cNvPicPr/>
          <p:nvPr/>
        </p:nvPicPr>
        <p:blipFill>
          <a:blip r:embed="rId1"/>
          <a:stretch/>
        </p:blipFill>
        <p:spPr>
          <a:xfrm>
            <a:off x="1979640" y="2997360"/>
            <a:ext cx="561960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dfdef6"/>
                </a:solidFill>
                <a:latin typeface="Arial"/>
              </a:rPr>
              <a:t>Систематическое положение и классификация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11280" y="1915920"/>
            <a:ext cx="82296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 аннелидам причисляют от 7 000 до 16 500 видов, разделяемых в разных классифика-циях на разное число классов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радиционная классификация предполагает деление на 3 класса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Многощетинковые черв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Малощетинковые черв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Пиявк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dfdef6"/>
                </a:solidFill>
                <a:latin typeface="Arial"/>
              </a:rPr>
              <a:t>Многощетинковые черви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Многощетинковые черви или полихеты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— класс кольчатых червей. В настоящее время этот класс насчитывает более 10 тысяч видов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Большинство представителей обитатели морских вод. Длина от 2 мм до 3 м. Отличительным признаком являются параподии — отходящие от каждого сегмента тела лопастевидные придатки, несущие хитиновые щетинки (хеты)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8" name="" descr=""/>
          <p:cNvPicPr/>
          <p:nvPr/>
        </p:nvPicPr>
        <p:blipFill>
          <a:blip r:embed="rId1"/>
          <a:stretch/>
        </p:blipFill>
        <p:spPr>
          <a:xfrm>
            <a:off x="900000" y="3933720"/>
            <a:ext cx="2808360" cy="2635200"/>
          </a:xfrm>
          <a:prstGeom prst="rect">
            <a:avLst/>
          </a:prstGeom>
          <a:ln w="0">
            <a:noFill/>
          </a:ln>
        </p:spPr>
      </p:pic>
      <p:pic>
        <p:nvPicPr>
          <p:cNvPr id="549" name="" descr=""/>
          <p:cNvPicPr/>
          <p:nvPr/>
        </p:nvPicPr>
        <p:blipFill>
          <a:blip r:embed="rId2"/>
          <a:stretch/>
        </p:blipFill>
        <p:spPr>
          <a:xfrm>
            <a:off x="4572000" y="4005360"/>
            <a:ext cx="381636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dfdef6"/>
                </a:solidFill>
                <a:latin typeface="Arial"/>
              </a:rPr>
              <a:t>Питание и размножение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07552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ts val="2398"/>
              </a:lnSpc>
              <a:spcBef>
                <a:spcPts val="451"/>
              </a:spcBef>
              <a:buSzPct val="18290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реди сидячих полихет наиболее распространены седиментаторы. Они питаются детритом, добывая его с помощью ловчих щупалец, выполняющих также функцию жабр, из толщи вод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ts val="2398"/>
              </a:lnSpc>
              <a:spcBef>
                <a:spcPts val="451"/>
              </a:spcBef>
              <a:buSzPct val="1829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вободноживущие полихеты — детритофаги или хищники. Детритофаги могут добывать органическое вещество из грунта, поедая его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ts val="2398"/>
              </a:lnSpc>
              <a:spcBef>
                <a:spcPts val="451"/>
              </a:spcBef>
              <a:buSzPct val="18290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Чаще всего многощетинковые черви — раздельнополые животные. Оформленных гонад у полихет не развивается. Половые клетки развиваются из целомического эпителия, а после созревания переходят к флотированию в полость целома.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Оплодотворение наружное. Из яиц выходит личинка — трохофор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ts val="2398"/>
              </a:lnSpc>
              <a:spcBef>
                <a:spcPts val="451"/>
              </a:spcBef>
              <a:buSzPct val="18290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екоторые виды способны размножаться бесполым путём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dfdef6"/>
                </a:solidFill>
                <a:latin typeface="Arial"/>
              </a:rPr>
              <a:t>Малощетинковые черви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51"/>
              </a:spcBef>
              <a:buSzPct val="18290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Малощетинковые черви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(лат. Oligochaeta) — подкласс кольчатых червей из класса поясковых (Clitellata). Описано примерно 3000 видов. В России — 450 видов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SzPct val="1829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ольшинство малощетинковых червей живёт в почве Строение тел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SzPct val="18290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лина тела от долей мм до 2,5 м (некоторые тропические дождевые черви). Имеется вторичная полость тела — целом. Сегментация тела хорошо выражена внутри и снаружи. Голова, параподии отсутствуют. Каждый сегмент тела содержит по несколько пар щетинок. У большинства видов дыхание кожное, жабры не представлены. Кровеносная система замкнута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4" name="" descr=""/>
          <p:cNvPicPr/>
          <p:nvPr/>
        </p:nvPicPr>
        <p:blipFill>
          <a:blip r:embed="rId4"/>
          <a:stretch/>
        </p:blipFill>
        <p:spPr>
          <a:xfrm>
            <a:off x="1042920" y="4437000"/>
            <a:ext cx="2152800" cy="2160720"/>
          </a:xfrm>
          <a:prstGeom prst="rect">
            <a:avLst/>
          </a:prstGeom>
          <a:ln w="0">
            <a:noFill/>
          </a:ln>
        </p:spPr>
      </p:pic>
      <p:pic>
        <p:nvPicPr>
          <p:cNvPr id="555" name="" descr=""/>
          <p:cNvPicPr/>
          <p:nvPr/>
        </p:nvPicPr>
        <p:blipFill>
          <a:blip r:embed="rId5"/>
          <a:srcRect l="1612" t="15136" r="1577" b="11356"/>
          <a:stretch/>
        </p:blipFill>
        <p:spPr>
          <a:xfrm>
            <a:off x="4140360" y="4437000"/>
            <a:ext cx="4176720" cy="215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122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SzPct val="20592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Большинство малощетинковых червей питается растительным детритом, который поглощают с грунтом; несколько видов — хищник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SzPct val="20592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Малощетинковые черви — гермафродиты. Размножаются посредством спаривания. Яйца оплодотворяются одной из спаривающихся особей и откладываются в специфическом коконе, состоящем из слизи, выделяемой железистыми клетками. Далее из него после развития выходит вполне сформировавшийся червь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SzPct val="20592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При нарушении целостности тела червя регенерации подвержен лишь один конец, передний. Второй конец впоследствии, отмирает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971640" y="404640"/>
            <a:ext cx="727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dfdef6"/>
                </a:solidFill>
                <a:latin typeface="Arial"/>
              </a:rPr>
              <a:t>Питание и размножени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9" name="Рисунок 10" descr=""/>
          <p:cNvPicPr/>
          <p:nvPr/>
        </p:nvPicPr>
        <p:blipFill>
          <a:blip r:embed="rId4"/>
          <a:stretch/>
        </p:blipFill>
        <p:spPr>
          <a:xfrm>
            <a:off x="5940360" y="1773360"/>
            <a:ext cx="291312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dfdef6"/>
                </a:solidFill>
                <a:latin typeface="Arial"/>
              </a:rPr>
              <a:t>Пиявки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Пиявки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(лат.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rudinea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) — подкласс кольчатых червей из класса поясковых (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tellata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). Большинство представителей обитают в пресных водоёмах. В мире известно около 500 видов пиявок, в России — 62 вид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троение: длина тела у разных представителей варьирует от нескольких миллиметров до десятков сантиметров. Передний и задний концы тела пиявок несут присоски. На дне передней располагается ротовое отверстие, ведущее в глотку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2" name="" descr=""/>
          <p:cNvPicPr/>
          <p:nvPr/>
        </p:nvPicPr>
        <p:blipFill>
          <a:blip r:embed="rId1"/>
          <a:stretch/>
        </p:blipFill>
        <p:spPr>
          <a:xfrm>
            <a:off x="1042920" y="4297320"/>
            <a:ext cx="3024360" cy="2259000"/>
          </a:xfrm>
          <a:prstGeom prst="rect">
            <a:avLst/>
          </a:prstGeom>
          <a:ln w="0">
            <a:noFill/>
          </a:ln>
        </p:spPr>
      </p:pic>
      <p:pic>
        <p:nvPicPr>
          <p:cNvPr id="563" name="" descr=""/>
          <p:cNvPicPr/>
          <p:nvPr/>
        </p:nvPicPr>
        <p:blipFill>
          <a:blip r:embed="rId2"/>
          <a:srcRect l="0" t="15967" r="0" b="17778"/>
          <a:stretch/>
        </p:blipFill>
        <p:spPr>
          <a:xfrm>
            <a:off x="4932360" y="4292640"/>
            <a:ext cx="3817800" cy="226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dfdef6"/>
                </a:solidFill>
                <a:latin typeface="Arial"/>
              </a:rPr>
              <a:t>Питание, движение</a:t>
            </a:r>
            <a:br>
              <a:rPr sz="4000"/>
            </a:br>
            <a:r>
              <a:rPr b="1" i="1" lang="en-US" sz="4000" spc="-1" strike="noStrike">
                <a:solidFill>
                  <a:srgbClr val="dfdef6"/>
                </a:solidFill>
                <a:latin typeface="Arial"/>
              </a:rPr>
              <a:t> и размножение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4330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00"/>
              </a:spcBef>
              <a:buSzPct val="20592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иявки питаются кровью позвоночных, моллюсков, червей и т. д., встречаются также виды-хищники, питающиеся не кровью, а заглатывающие жертву целиком (например, личинок комаров, дождевых червей)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SzPct val="20592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Интересен способ передвижения пиявок. На обоих концах червя есть присоски, которыми он может присасываться к подводным предметам. Пиявка присасывается к ним передним концом, сгибается в дугу, приближается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SzPct val="20592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иявки — гермафродиты. В копуляции участвуют две особи, одновременно выделяющие семенной материал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6" name="" descr=""/>
          <p:cNvPicPr/>
          <p:nvPr/>
        </p:nvPicPr>
        <p:blipFill>
          <a:blip r:embed="rId4"/>
          <a:stretch/>
        </p:blipFill>
        <p:spPr>
          <a:xfrm>
            <a:off x="5148360" y="1628640"/>
            <a:ext cx="363672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dfdef6"/>
                </a:solidFill>
                <a:latin typeface="Arial"/>
              </a:rPr>
              <a:t>Благодарим за внимание!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68" name="" descr=""/>
          <p:cNvPicPr/>
          <p:nvPr/>
        </p:nvPicPr>
        <p:blipFill>
          <a:blip r:embed="rId1"/>
          <a:stretch/>
        </p:blipFill>
        <p:spPr>
          <a:xfrm>
            <a:off x="1332000" y="1700280"/>
            <a:ext cx="6659640" cy="4216320"/>
          </a:xfrm>
          <a:prstGeom prst="rect">
            <a:avLst/>
          </a:prstGeom>
          <a:ln w="0">
            <a:noFill/>
          </a:ln>
        </p:spPr>
      </p:pic>
      <p:sp>
        <p:nvSpPr>
          <p:cNvPr id="569" name=""/>
          <p:cNvSpPr/>
          <p:nvPr/>
        </p:nvSpPr>
        <p:spPr>
          <a:xfrm>
            <a:off x="3137400" y="6093000"/>
            <a:ext cx="310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ольчатый червь (Nerei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42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dfdef6"/>
                </a:solidFill>
                <a:latin typeface="Arial"/>
              </a:rPr>
              <a:t>Характеристика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о́льчатые черви, кольчецы, аннелиды (Annelida, от лат. annelus — колечко), тип наиболее высокоорганизованных червей. Целом у них поделен перегородками на сегменты, которым соответствует наружная кольчатость; отсюда название типа — «кольчатые черви». Существует свыше 12 тыс. видов. В России — 1180 видо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6" name="" descr=""/>
          <p:cNvPicPr/>
          <p:nvPr/>
        </p:nvPicPr>
        <p:blipFill>
          <a:blip r:embed="rId1"/>
          <a:srcRect l="0" t="7973" r="0" b="12258"/>
          <a:stretch/>
        </p:blipFill>
        <p:spPr>
          <a:xfrm>
            <a:off x="468360" y="4076640"/>
            <a:ext cx="3851280" cy="2459160"/>
          </a:xfrm>
          <a:prstGeom prst="rect">
            <a:avLst/>
          </a:prstGeom>
          <a:ln w="0">
            <a:noFill/>
          </a:ln>
        </p:spPr>
      </p:pic>
      <p:pic>
        <p:nvPicPr>
          <p:cNvPr id="517" name="" descr=""/>
          <p:cNvPicPr/>
          <p:nvPr/>
        </p:nvPicPr>
        <p:blipFill>
          <a:blip r:embed="rId2"/>
          <a:stretch/>
        </p:blipFill>
        <p:spPr>
          <a:xfrm>
            <a:off x="5003640" y="4076640"/>
            <a:ext cx="3888000" cy="24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dfdef6"/>
                </a:solidFill>
                <a:latin typeface="Arial"/>
              </a:rPr>
              <a:t>Общее строение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385920" y="1585800"/>
            <a:ext cx="5122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азмеры от 1 мм (Neotenotrocha) до 2 – 3 м (Eunice)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ело кольчатое, с числом сегментов от нескольких до нескольких сотен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торым, после сегментации, характерным признаком кольчатых червей является наличие на их теле хитиновых щетинок, вырастающих из кутикулы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 каждом сегменте могут быть примитивные конечности (параподии) — боковые выросты, снабжённые щетинками и иногда жабрами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ередвижение осуществляется за счет сокращения мускулатуры у одних видов и движений параподий у других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0" name="" descr=""/>
          <p:cNvPicPr/>
          <p:nvPr/>
        </p:nvPicPr>
        <p:blipFill>
          <a:blip r:embed="rId1"/>
          <a:stretch/>
        </p:blipFill>
        <p:spPr>
          <a:xfrm>
            <a:off x="5724360" y="2522520"/>
            <a:ext cx="3167280" cy="25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dfdef6"/>
                </a:solidFill>
                <a:latin typeface="Arial"/>
              </a:rPr>
              <a:t>Строение сегмента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22" name="" descr=""/>
          <p:cNvPicPr/>
          <p:nvPr/>
        </p:nvPicPr>
        <p:blipFill>
          <a:blip r:embed="rId1"/>
          <a:stretch/>
        </p:blipFill>
        <p:spPr>
          <a:xfrm>
            <a:off x="0" y="1427040"/>
            <a:ext cx="9144000" cy="543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dfdef6"/>
                </a:solidFill>
                <a:latin typeface="Arial"/>
              </a:rPr>
              <a:t>Пищеварительная система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610920" y="2204640"/>
            <a:ext cx="8064360" cy="33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ищеварительный тракт сквозной. Кишечник состоит из трёх функционально различных отделов: передней, средней и задней кишки. У некоторых видов имеются слюнные железы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ередний и задний отделы — эктодермальные, а средний отдел пищеварительной системы — энтодермального происхожде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dfdef6"/>
                </a:solidFill>
                <a:latin typeface="Arial"/>
              </a:rPr>
              <a:t>Пищеварительная система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26" name="" descr=""/>
          <p:cNvPicPr/>
          <p:nvPr/>
        </p:nvPicPr>
        <p:blipFill>
          <a:blip r:embed="rId1"/>
          <a:stretch/>
        </p:blipFill>
        <p:spPr>
          <a:xfrm>
            <a:off x="395280" y="1700280"/>
            <a:ext cx="8280360" cy="2782800"/>
          </a:xfrm>
          <a:prstGeom prst="rect">
            <a:avLst/>
          </a:prstGeom>
          <a:ln w="0">
            <a:noFill/>
          </a:ln>
        </p:spPr>
      </p:pic>
      <p:sp>
        <p:nvSpPr>
          <p:cNvPr id="527" name=""/>
          <p:cNvSpPr/>
          <p:nvPr/>
        </p:nvSpPr>
        <p:spPr>
          <a:xfrm>
            <a:off x="611280" y="4869000"/>
            <a:ext cx="7923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Ротовое отверстие → глотка → пищевод → зоб → желудок → кишечник → анальное отверст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dfdef6"/>
                </a:solidFill>
                <a:latin typeface="Arial"/>
              </a:rPr>
              <a:t>Кровеносная и дыхательная системы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ровеносная система замкнутая, её основу составляют спинной и брюшной сосуды, соединённые кольцевыми сосудами, которые напоминают артерии и вены. Сердца нет, его роль выполняют участки спинного и циркулярных сосудов, содержащие сократительные элементы. Дыхание кожное, у морских видов — с помощью жабр на параподиях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0" name="Picture 4" descr="{172F882E-CF34-479F-B200-F2FAB1206C43}"/>
          <p:cNvPicPr/>
          <p:nvPr/>
        </p:nvPicPr>
        <p:blipFill>
          <a:blip r:embed="rId1"/>
          <a:stretch/>
        </p:blipFill>
        <p:spPr>
          <a:xfrm>
            <a:off x="0" y="4064040"/>
            <a:ext cx="9191520" cy="248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dfdef6"/>
                </a:solidFill>
                <a:latin typeface="Arial"/>
              </a:rPr>
              <a:t>Выделительная система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рганы выделения — парные метанефриди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 каждом сегменте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3" name="Picture 4" descr="{D48355EC-1AB4-4938-9E3B-70F5C94CC08E}"/>
          <p:cNvPicPr/>
          <p:nvPr/>
        </p:nvPicPr>
        <p:blipFill>
          <a:blip r:embed="rId1"/>
          <a:stretch/>
        </p:blipFill>
        <p:spPr>
          <a:xfrm>
            <a:off x="0" y="3206880"/>
            <a:ext cx="9156600" cy="26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dfdef6"/>
                </a:solidFill>
                <a:latin typeface="Arial"/>
              </a:rPr>
              <a:t>Нервная система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826560" y="1628280"/>
            <a:ext cx="76438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Нервная система слагается из крупного ганглия — головного мозга, от которого отходит брюшная нервная цепочк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 каждом сегменте имеется свой нервный узе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6" name="Picture 4" descr="{D9989763-4510-4740-A996-C2A1D41E7451}"/>
          <p:cNvPicPr/>
          <p:nvPr/>
        </p:nvPicPr>
        <p:blipFill>
          <a:blip r:embed="rId1"/>
          <a:stretch/>
        </p:blipFill>
        <p:spPr>
          <a:xfrm>
            <a:off x="0" y="3645000"/>
            <a:ext cx="914400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0T14:19:57Z</dcterms:created>
  <dc:creator>UNIT</dc:creator>
  <dc:description/>
  <dc:language>en-US</dc:language>
  <cp:lastModifiedBy>UNIT</cp:lastModifiedBy>
  <dcterms:modified xsi:type="dcterms:W3CDTF">2011-02-13T18:50:47Z</dcterms:modified>
  <cp:revision>9</cp:revision>
  <dc:subject/>
  <dc:title>R</dc:title>
</cp:coreProperties>
</file>