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B936-D9E1-4606-81EC-4F0E0422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99F1-FF16-41AF-B51D-A6239EC3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FE99-86C1-4D26-9121-84299ADD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C973-D701-4FFE-8A05-EFD5B43F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7982-B97B-41EE-AC07-774138B9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4EF-C813-4613-835F-9629B2D0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DA2C-C81B-4C82-9242-785B3FC9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FF43-CF8D-4782-8BDF-D0DC07BD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2AC1-8CEE-4D0A-B3AD-5AB84FD1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1E44-8A4D-49BB-818D-CD5CC6E7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DE63-ADB0-47C8-801A-CB721E94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BB80-E53D-4624-9FF8-A279EBF4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E016-2A8A-41A1-ACAB-84B39C91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0CE6-3A5C-4607-9F2D-EB33268E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832E-63F7-401E-B22E-186A16D0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1522-457D-4347-B3B1-A333FBB2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8E2F-181E-40B7-BFA5-268E64D8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4DEF-369C-4A65-B223-0957A9CE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9C44-B723-4537-B401-C6EE0032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5AD5-17AB-47B5-9321-D38DC2B8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F3E3-8AD3-426F-99CB-C854666E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91B3-EB90-41A1-A370-289012B5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9893-8C66-40E6-814D-5AD1174F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BD7A-1C83-4AA9-AAB3-F300311A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8CCC-4F98-45ED-B341-74C38AE4BD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9866-1ECE-4B72-A76F-91D43388BB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fdef6"/>
                </a:solidFill>
                <a:latin typeface="Arial"/>
              </a:rPr>
              <a:t>Кольчатые черви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Размножение и развит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ьчатые черви раздельнополы, у некоторых (дождевых червей, пиявок) вторично развился гермафродитизм. Развитие у многощетинковых червей происходит с личинкой — трохофорой, у остальных — прямо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червей с сегментированным целомом (то есть для олигохет, полихет, но не пиявок) характерна высокая способность к регенер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Рисунок 1" descr=""/>
          <p:cNvPicPr/>
          <p:nvPr/>
        </p:nvPicPr>
        <p:blipFill>
          <a:blip r:embed="rId1"/>
          <a:srcRect l="41191" t="49991" r="0" b="0"/>
          <a:stretch/>
        </p:blipFill>
        <p:spPr>
          <a:xfrm>
            <a:off x="1187280" y="3665520"/>
            <a:ext cx="3313440" cy="30034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1" descr=""/>
          <p:cNvPicPr/>
          <p:nvPr/>
        </p:nvPicPr>
        <p:blipFill>
          <a:blip r:embed="rId2"/>
          <a:srcRect l="55748" t="0" r="0" b="49991"/>
          <a:stretch/>
        </p:blipFill>
        <p:spPr>
          <a:xfrm>
            <a:off x="5508720" y="3716280"/>
            <a:ext cx="2450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Образ жизн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вут по всему миру, в море, в пресной воде и на суше. Особенно многообразны морские формы, которые встречаются на разных глубинах вплоть до предельных (до 10—11 км) и во всех широтах Мирового океа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Рисунок 13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619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Систематическое положение и классификац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аннелидам причисляют от 7 000 до 16 500 видов, разделяемых в разных классифика-циях на разное число клас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диционная классификация предполагает деление на 3 класс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ногощетинковые черв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алощетинковые черв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я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Многощетинковые черв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щетинковые черви или полихет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класс кольчатых червей. В настоящее время этот класс насчитывает более 10 тысяч вид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инство представителей обитатели морских вод. Длина от 2 мм до 3 м. Отличительным признаком являются параподии — отходящие от каждого сегмента тела лопастевидные придатки, несущие хитиновые щетинки (хеты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2808360" cy="2635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38163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Питание и размнож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2398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сидячих полихет наиболее распространены седиментаторы. Они питаются детритом, добывая его с помощью ловчих щупалец, выполняющих также функцию жабр, из толщи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бодноживущие полихеты — детритофаги или хищники. Детритофаги могут добывать органическое вещество из грунта, поедая е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ще всего многощетинковые черви — раздельнополые животные. Оформленных гонад у полихет не развивается. Половые клетки развиваются из целомического эпителия, а после созревания переходят к флотированию в полость целома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лодотворение наружное. Из яиц выходит личинка — трохоф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которые виды способны размножаться бесполым путё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Малощетинковые черв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лощетинковые черв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лат. Oligochaeta) — подкласс кольчатых червей из класса поясковых (Clitellata). Описано примерно 3000 видов. В России — 450 ви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инство малощетинковых червей живёт в почве Строение т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а тела от долей мм до 2,5 м (некоторые тропические дождевые черви). Имеется вторичная полость тела — целом. Сегментация тела хорошо выражена внутри и снаружи. Голова, параподии отсутствуют. Каждый сегмент тела содержит по несколько пар щетинок. У большинства видов дыхание кожное, жабры не представлены. Кровеносная система замкнут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2152800" cy="2160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rcRect l="1612" t="15136" r="1577" b="11356"/>
          <a:stretch/>
        </p:blipFill>
        <p:spPr>
          <a:xfrm>
            <a:off x="4140360" y="4437000"/>
            <a:ext cx="41767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льшинство малощетинковых червей питается растительным детритом, который поглощают с грунтом; несколько видов — хищни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лощетинковые черви — гермафродиты. Размножаются посредством спаривания. Яйца оплодотворяются одной из спаривающихся особей и откладываются в специфическом коконе, состоящем из слизи, выделяемой железистыми клетками. Далее из него после развития выходит вполне сформировавшийся черв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 нарушении целостности тела червя регенерации подвержен лишь один конец, передний. Второй конец впоследствии, отмира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71640" y="404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Питание и размнож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Рисунок 10" descr=""/>
          <p:cNvPicPr/>
          <p:nvPr/>
        </p:nvPicPr>
        <p:blipFill>
          <a:blip r:embed="rId4"/>
          <a:stretch/>
        </p:blipFill>
        <p:spPr>
          <a:xfrm>
            <a:off x="5940360" y="1773360"/>
            <a:ext cx="291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Пиявк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иявк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лат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rudine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подкласс кольчатых червей из класса поясковых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tellat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. Большинство представителей обитают в пресных водоёмах. В мире известно около 500 видов пиявок, в России — 62 ви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ение: длина тела у разных представителей варьирует от нескольких миллиметров до десятков сантиметров. Передний и задний концы тела пиявок несут присоски. На дне передней располагается ротовое отверстие, ведущее в глот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042920" y="4297320"/>
            <a:ext cx="3024360" cy="22590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rcRect l="0" t="15967" r="0" b="17778"/>
          <a:stretch/>
        </p:blipFill>
        <p:spPr>
          <a:xfrm>
            <a:off x="4932360" y="4292640"/>
            <a:ext cx="38178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Питание, движение</a:t>
            </a:r>
            <a:br>
              <a:rPr sz="4000"/>
            </a:b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 и размножени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330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явки питаются кровью позвоночных, моллюсков, червей и т. д., встречаются также виды-хищники, питающиеся не кровью, а заглатывающие жертву целиком (например, личинок комаров, дождевых червей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тересен способ передвижения пиявок. На обоих концах червя есть присоски, которыми он может присасываться к подводным предметам. Пиявка присасывается к ним передним концом, сгибается в дугу, приближа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явки — гермафродиты. В копуляции участвуют две особи, одновременно выделяющие семенной материа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36367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Благодарим за внимание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59640" cy="42163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137400" y="60930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ьчатый червь (Nere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Характеристи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́льчатые черви, кольчецы, аннелиды (Annelida, от лат. annelus — колечко), тип наиболее высокоорганизованных червей. Целом у них поделен перегородками на сегменты, которым соответствует наружная кольчатость; отсюда название типа — «кольчатые черви». Существует свыше 12 тыс. видов. В России — 1180 ви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rcRect l="0" t="7973" r="0" b="12258"/>
          <a:stretch/>
        </p:blipFill>
        <p:spPr>
          <a:xfrm>
            <a:off x="468360" y="4076640"/>
            <a:ext cx="3851280" cy="24591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8880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Общее стро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5920" y="1585800"/>
            <a:ext cx="5122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меры от 1 мм (Neotenotrocha) до 2 – 3 м (Eunic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о кольчатое, с числом сегментов от нескольких до нескольких сот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ым, после сегментации, характерным признаком кольчатых червей является наличие на их теле хитиновых щетинок, вырастающих из кутику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аждом сегменте могут быть примитивные конечности (параподии) — боковые выросты, снабжённые щетинками и иногда жабр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вижение осуществляется за счет сокращения мускулатуры у одних видов и движений параподий у друг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724360" y="2522520"/>
            <a:ext cx="31672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Строение сегмент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Пищеварительная сист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6436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еварительный тракт сквозной. Кишечник состоит из трёх функционально различных отделов: передней, средней и задней кишки. У некоторых видов имеются слюнные желез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ний и задний отделы — эктодермальные, а средний отдел пищеварительной системы — энтодермального происх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Пищеварительная сист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2782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611280" y="4869000"/>
            <a:ext cx="792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товое отверстие → глотка → пищевод → зоб → желудок → кишечник → анальное отверс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Кровеносная и дыхательная систем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еносная система замкнутая, её основу составляют спинной и брюшной сосуды, соединённые кольцевыми сосудами, которые напоминают артерии и вены. Сердца нет, его роль выполняют участки спинного и циркулярных сосудов, содержащие сократительные элементы. Дыхание кожное, у морских видов — с помощью жабр на параподи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{172F882E-CF34-479F-B200-F2FAB1206C43}"/>
          <p:cNvPicPr/>
          <p:nvPr/>
        </p:nvPicPr>
        <p:blipFill>
          <a:blip r:embed="rId1"/>
          <a:stretch/>
        </p:blipFill>
        <p:spPr>
          <a:xfrm>
            <a:off x="0" y="4064040"/>
            <a:ext cx="91915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Выделительная систем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ы выделения — парные метанефрид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ждом сегмен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{D48355EC-1AB4-4938-9E3B-70F5C94CC08E}"/>
          <p:cNvPicPr/>
          <p:nvPr/>
        </p:nvPicPr>
        <p:blipFill>
          <a:blip r:embed="rId1"/>
          <a:stretch/>
        </p:blipFill>
        <p:spPr>
          <a:xfrm>
            <a:off x="0" y="3206880"/>
            <a:ext cx="91566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Нервная сист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6438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вная система слагается из крупного ганглия — головного мозга, от которого отходит брюшная нервная цепоч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ждом сегменте имеется свой нервный уз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{D9989763-4510-4740-A996-C2A1D41E7451}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19:57Z</dcterms:created>
  <dc:creator>UNIT</dc:creator>
  <dc:description/>
  <dc:language>en-US</dc:language>
  <cp:lastModifiedBy>UNIT</cp:lastModifiedBy>
  <dcterms:modified xsi:type="dcterms:W3CDTF">2011-02-13T18:50:47Z</dcterms:modified>
  <cp:revision>9</cp:revision>
  <dc:subject/>
  <dc:title>R</dc:title>
</cp:coreProperties>
</file>