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0E89-8CF0-47E1-B423-F0E25A7C1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5EA6-1141-4689-9B3D-8A98B5C0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F130-6B9C-45F2-A641-B20A2F4C9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48BE-05FD-4A0E-A152-ABBD66444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DD1F-9442-47E0-B7C0-7FAE5DF87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78BEB-7467-4D1D-8738-7036FE3B8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F136-3E83-4397-859F-97735A9E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E102-1EF7-4123-8FEE-B70CC57F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E7D5-ECD4-42FC-BB47-427CF20C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930F-2552-45BC-AB70-9BD4A4D5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711AB-006D-40CA-86C4-8064471E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1500-0289-46F5-B860-3D911A3A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CD154-0B14-4663-AE2D-DCC92E49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2C38-1971-4494-B322-7127E69D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654B9-432E-4962-AA5C-DA390434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F5D3-2156-414F-8C45-0818D0C53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991E-A632-4A70-843A-4F2ADD69A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7715A-F294-49C7-8658-2B712D593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B315E-E95C-42A9-B676-BCAE4F52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FDE1E-915D-4ADE-B95C-8A1948D4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06568-4693-49B6-9761-F02B7126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A989E-AA30-438F-9B75-7D4B1DBD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051F-9EBC-44E6-B5CE-6E249342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8C5B6-CFDC-48C5-85FA-6158472E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6F697-BB8D-424F-87A6-12F71B15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458C2-7AF2-4DE9-B0F7-BEE37801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4CED7-F6FE-416E-9006-C4FA96D2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B18FE-456B-4F25-B2EB-B9F172C1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EA190-0DE8-497B-9467-C9B66D79C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BEB34-D59E-4BD2-9643-92A8D85D7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77E08-8D81-4482-8FD1-330C54846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85B9C-72BE-4053-AC5C-1F9A3083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610B8-3904-485B-B20E-E691CB69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8368-902F-4A70-963A-C8BFC563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17B04-3748-43EB-8B1F-060D65F1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B0781-4A33-45B8-8607-4C211594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C00A0-DE0D-431B-8DB4-E8E3A7A3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9F9F8-C2EE-47DE-A9CB-B903C6E6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B1A54-E59C-45D6-A2EA-12F3AAC0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38905-8473-42CB-AB84-72C3C959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F97AA-35E3-4D3F-867A-523C1CFA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342D5-A0DA-4FAD-AED7-AC6CEA958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85696-EB78-4BC5-B702-D3255D32E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B2031-D21F-4D43-9093-822685590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8CF6-AE6D-4749-B0A7-4AC0681A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51977-B42F-4301-AC1B-D56EEFF9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35A89-4343-4BCB-AD3E-D2DDD0D7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2D4AB-98D4-4665-961D-F5587B0F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D6F9A-F8DA-4C69-9CE9-38E164F0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47C88-D135-48C5-8B51-6A37F8AF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13687-DCB9-415A-A9FD-BCB54C99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6D363-9292-4951-933E-7AA92897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15424-7928-4BBD-A739-1BBE39EB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529CB-2024-4598-A5E8-EB1B396B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91E92-AA8C-4243-B43E-81724BCBF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8C5F-E35D-49D3-8673-60501871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0F655-C5FD-422B-AC51-AA7B17AF0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192AE-C885-402F-8882-077E08CEE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88072-0CC5-4FE9-88B8-2E31D919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2FD35-5D2C-433A-86D7-99EC740A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5278E-DDC1-45C2-A55B-47CE6CB3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3C1C5-5577-49C1-8DA1-ED4D26CC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0B020-E1D9-4212-8167-10313676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E742A-D746-4C33-BC95-D2DD5229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AF3AF-4BFF-45F9-99D9-D1C7AAA8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ACFB9-FBAF-40D2-8767-5A691E0B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391C-7D5B-4D2D-80FA-A1E0CFE3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28544-CE36-4B09-BF09-DF0ECBAEA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C84D6-BA5E-440F-9F0D-4F61D837F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863E7-C55A-45DC-A103-1A8B34915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58947-BB2B-466B-A414-CCF7C6A86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FFB93-F738-4A47-B2CF-FC1C9ECF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9A319-1C80-43C6-89BC-F95D999D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0AD54-2661-49AB-B577-6FBE3B22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91CAE-92BA-4FA8-9FEC-8A66F5BA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8845F-F51D-40E5-9617-2C1ABC5E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EB056-6B01-4580-874F-66097EC4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283E-F34F-4020-BCFD-E35660BF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FC18B-FE40-4B2F-A49D-0660EF41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BF112-FF3C-41EB-A3A9-5219044E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5D716-3E20-4EC9-B260-9CE727FE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EF00F-601B-41B9-B435-56C863D49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F3E5A-9185-464E-94AA-43A3E6C76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AE35-B89E-45D2-ACF8-F7162EC9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fff2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fff3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96262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40c0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a40c0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a40c0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a40c0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c08a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5f00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5f00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ADB4-E19B-4082-ACEC-18A5D763231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fff2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fff3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770000"/>
              </a:gs>
              <a:gs pos="100000">
                <a:srgbClr val="dd7e7e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96262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40c0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a40c0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a40c0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a40c0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c08a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5f00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5f00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CC47-DB3F-4F9E-B8A0-1049201464CC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fff2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fff3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96262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40c0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a40c0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a40c0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a40c0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c08a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5f00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5f00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51AB-BC0A-41C2-8C41-B8608D968E1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134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fff2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135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fff3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136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137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770000"/>
              </a:gs>
              <a:gs pos="100000">
                <a:srgbClr val="dd7e7e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138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fff3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139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fff2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96262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40c0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a40c0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a40c0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a40c0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c08a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5f00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5f00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C38A-2EEE-46EF-B5A5-D2A42F235C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182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fff2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183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fff3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96262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40c0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a40c0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a40c0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a40c0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c08a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5f00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5f00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E0C7-24DE-4DCD-AB5B-D52677E216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226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fff2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227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fff3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96262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40c0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a40c0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a40c0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a40c0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c08a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5f00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5f00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0A69-2076-441F-A725-FC509C57184E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dd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fff">
                  <a:alpha val="1176"/>
                </a:srgbClr>
              </a:gs>
              <a:gs pos="100000">
                <a:srgbClr val="ffff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27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fff2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27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fff3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96262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a40c0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Click to edit the outline text format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1" marL="822240" indent="-285840">
              <a:spcBef>
                <a:spcPts val="751"/>
              </a:spcBef>
              <a:buClr>
                <a:srgbClr val="a40c0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Second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2" marL="1104840" indent="-228600">
              <a:spcBef>
                <a:spcPts val="751"/>
              </a:spcBef>
              <a:buClr>
                <a:srgbClr val="a40c0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Third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3" marL="1371600" indent="-209520">
              <a:spcBef>
                <a:spcPts val="751"/>
              </a:spcBef>
              <a:buClr>
                <a:srgbClr val="a40c0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Fourth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4" marL="1600200" indent="-209520">
              <a:spcBef>
                <a:spcPts val="751"/>
              </a:spcBef>
              <a:buClr>
                <a:srgbClr val="c08a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Fifth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5" marL="1600200" indent="-209520">
              <a:spcBef>
                <a:spcPts val="751"/>
              </a:spcBef>
              <a:buClr>
                <a:srgbClr val="5f00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Sixth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lvl="6" marL="1600200" indent="-209520">
              <a:spcBef>
                <a:spcPts val="751"/>
              </a:spcBef>
              <a:buClr>
                <a:srgbClr val="5f006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f0060"/>
                </a:solidFill>
                <a:latin typeface="Constantia"/>
              </a:rPr>
              <a:t>Seventh Outline Level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006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48F1-2AE8-4F0B-AEBB-E891CF78CD42}" type="slidenum">
              <a:rPr b="0" lang="ru-RU" sz="900" spc="-1" strike="noStrike">
                <a:solidFill>
                  <a:srgbClr val="5f006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30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8061480" cy="243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a40c0c"/>
                </a:solidFill>
                <a:latin typeface="Arial"/>
              </a:rPr>
              <a:t>Переходные и непереходные глаголы</a:t>
            </a:r>
            <a:r>
              <a:rPr b="0" lang="ru-RU" sz="4200" spc="-1" strike="noStrike">
                <a:solidFill>
                  <a:srgbClr val="c96262"/>
                </a:solidFill>
                <a:latin typeface="Constantia"/>
              </a:rPr>
              <a:t> </a:t>
            </a: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4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6480360" cy="486108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2"/>
          <p:cNvSpPr/>
          <p:nvPr/>
        </p:nvSpPr>
        <p:spPr>
          <a:xfrm>
            <a:off x="468360" y="115920"/>
            <a:ext cx="8229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84200" indent="-484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a40c0c"/>
                </a:solidFill>
                <a:latin typeface="Arial"/>
              </a:rPr>
              <a:t>белят потолок</a:t>
            </a:r>
            <a:endParaRPr b="0" lang="en-US" sz="4200" spc="-1" strike="noStrike">
              <a:solidFill>
                <a:srgbClr val="5f0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"/>
          <p:cNvPicPr/>
          <p:nvPr/>
        </p:nvPicPr>
        <p:blipFill>
          <a:blip r:embed="rId1"/>
          <a:stretch/>
        </p:blipFill>
        <p:spPr>
          <a:xfrm>
            <a:off x="4714920" y="1857240"/>
            <a:ext cx="4178160" cy="40212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6" descr=""/>
          <p:cNvPicPr/>
          <p:nvPr/>
        </p:nvPicPr>
        <p:blipFill>
          <a:blip r:embed="rId2"/>
          <a:stretch/>
        </p:blipFill>
        <p:spPr>
          <a:xfrm>
            <a:off x="285840" y="1857240"/>
            <a:ext cx="4176720" cy="398304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2"/>
          <p:cNvSpPr/>
          <p:nvPr/>
        </p:nvSpPr>
        <p:spPr>
          <a:xfrm>
            <a:off x="468360" y="115920"/>
            <a:ext cx="828036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84200" indent="-484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a40c0c"/>
                </a:solidFill>
                <a:latin typeface="Arial"/>
              </a:rPr>
              <a:t>настилает линолеум </a:t>
            </a:r>
            <a:br>
              <a:rPr sz="4200"/>
            </a:br>
            <a:r>
              <a:rPr b="1" i="1" lang="ru-RU" sz="4200" spc="-1" strike="noStrike">
                <a:solidFill>
                  <a:srgbClr val="a40c0c"/>
                </a:solidFill>
                <a:latin typeface="Arial"/>
              </a:rPr>
              <a:t>прибивает плинтус</a:t>
            </a:r>
            <a:endParaRPr b="0" lang="en-US" sz="4200" spc="-1" strike="noStrike">
              <a:solidFill>
                <a:srgbClr val="5f0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Заголовок 1" descr=""/>
          <p:cNvPicPr/>
          <p:nvPr/>
        </p:nvPicPr>
        <p:blipFill>
          <a:blip r:embed="rId1"/>
          <a:stretch/>
        </p:blipFill>
        <p:spPr>
          <a:xfrm>
            <a:off x="324000" y="0"/>
            <a:ext cx="8240400" cy="11588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1763640" y="836280"/>
            <a:ext cx="4608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a40c0c"/>
              </a:buClr>
              <a:buSzPct val="80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006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40c0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Строит дом</a:t>
            </a:r>
            <a:endParaRPr b="0" lang="en-US" sz="2400" spc="-1" strike="noStrike">
              <a:solidFill>
                <a:srgbClr val="5f006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40c0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006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40c0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Кладёт кирпич</a:t>
            </a:r>
            <a:endParaRPr b="0" lang="en-US" sz="2400" spc="-1" strike="noStrike">
              <a:solidFill>
                <a:srgbClr val="5f006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40c0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006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40c0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Штукатурит стены</a:t>
            </a:r>
            <a:endParaRPr b="0" lang="en-US" sz="2400" spc="-1" strike="noStrike">
              <a:solidFill>
                <a:srgbClr val="5f006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40c0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006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40c0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Белит потолок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f006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40c0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006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40c0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Клеит обои</a:t>
            </a:r>
            <a:endParaRPr b="0" lang="en-US" sz="2400" spc="-1" strike="noStrike">
              <a:solidFill>
                <a:srgbClr val="5f006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40c0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006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40c0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Настилает линолеум</a:t>
            </a:r>
            <a:endParaRPr b="0" lang="en-US" sz="2400" spc="-1" strike="noStrike">
              <a:solidFill>
                <a:srgbClr val="5f006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40c0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006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40c0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Прибивает плинтус</a:t>
            </a:r>
            <a:endParaRPr b="0" lang="en-US" sz="24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340" name="Умножение 21"/>
          <p:cNvSpPr/>
          <p:nvPr/>
        </p:nvSpPr>
        <p:spPr>
          <a:xfrm>
            <a:off x="2556000" y="1125360"/>
            <a:ext cx="214200" cy="214560"/>
          </a:xfrm>
          <a:prstGeom prst="pi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341" name="Умножение 22"/>
          <p:cNvSpPr/>
          <p:nvPr/>
        </p:nvSpPr>
        <p:spPr>
          <a:xfrm>
            <a:off x="2700360" y="1916280"/>
            <a:ext cx="214200" cy="214200"/>
          </a:xfrm>
          <a:prstGeom prst="pi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342" name="Умножение 23"/>
          <p:cNvSpPr/>
          <p:nvPr/>
        </p:nvSpPr>
        <p:spPr>
          <a:xfrm>
            <a:off x="2916360" y="2708280"/>
            <a:ext cx="214200" cy="214200"/>
          </a:xfrm>
          <a:prstGeom prst="pi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343" name="Умножение 24"/>
          <p:cNvSpPr/>
          <p:nvPr/>
        </p:nvSpPr>
        <p:spPr>
          <a:xfrm>
            <a:off x="2627280" y="3429000"/>
            <a:ext cx="214200" cy="214200"/>
          </a:xfrm>
          <a:prstGeom prst="pi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344" name="Умножение 25"/>
          <p:cNvSpPr/>
          <p:nvPr/>
        </p:nvSpPr>
        <p:spPr>
          <a:xfrm>
            <a:off x="2484360" y="4221000"/>
            <a:ext cx="214560" cy="214560"/>
          </a:xfrm>
          <a:prstGeom prst="pi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345" name="Умножение 26"/>
          <p:cNvSpPr/>
          <p:nvPr/>
        </p:nvSpPr>
        <p:spPr>
          <a:xfrm>
            <a:off x="2700360" y="5084640"/>
            <a:ext cx="214200" cy="214560"/>
          </a:xfrm>
          <a:prstGeom prst="pi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346" name="Выгнутая вверх стрелка 28"/>
          <p:cNvSpPr/>
          <p:nvPr/>
        </p:nvSpPr>
        <p:spPr>
          <a:xfrm>
            <a:off x="2771640" y="1052640"/>
            <a:ext cx="1295640" cy="288720"/>
          </a:xfrm>
          <a:custGeom>
            <a:avLst/>
            <a:gdLst>
              <a:gd name="textAreaLeft" fmla="*/ 296640 w 1295640"/>
              <a:gd name="textAreaRight" fmla="*/ 962640 w 1295640"/>
              <a:gd name="textAreaTop" fmla="*/ 38520 h 288720"/>
              <a:gd name="textAreaBottom" fmla="*/ 2502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97" hR="21600" stAng="10800000" swAng="5400000"/>
                <a:lnTo>
                  <a:pt x="11102" y="0"/>
                </a:lnTo>
                <a:arcTo wR="9897" hR="21600" stAng="-5400000" swAng="3635814"/>
                <a:lnTo>
                  <a:pt x="21286" y="16200"/>
                </a:lnTo>
                <a:lnTo>
                  <a:pt x="20396" y="21600"/>
                </a:lnTo>
                <a:lnTo>
                  <a:pt x="18877" y="16200"/>
                </a:lnTo>
                <a:lnTo>
                  <a:pt x="19479" y="16200"/>
                </a:lnTo>
                <a:arcTo wR="9897" hR="21600" stAng="-1764186" swAng="-3539770"/>
                <a:lnTo>
                  <a:pt x="10499" y="40"/>
                </a:lnTo>
                <a:arcTo wR="9897" hR="21600" stAng="-5496044" swAng="-5303956"/>
                <a:close/>
              </a:path>
              <a:path fill="darkenLess" w="21600" h="21600">
                <a:moveTo>
                  <a:pt x="0" y="21600"/>
                </a:moveTo>
                <a:arcTo wR="9897" hR="21600" stAng="10800000" swAng="5400000"/>
                <a:lnTo>
                  <a:pt x="9897" y="0"/>
                </a:lnTo>
                <a:arcTo wR="9897" hR="21600" stAng="-5400000" swAng="96044"/>
                <a:lnTo>
                  <a:pt x="10499" y="40"/>
                </a:lnTo>
                <a:arcTo wR="9897" hR="21600" stAng="-5496044" swAng="-5303956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347" name="Выгнутая вверх стрелка 29"/>
          <p:cNvSpPr/>
          <p:nvPr/>
        </p:nvSpPr>
        <p:spPr>
          <a:xfrm>
            <a:off x="3059280" y="1700280"/>
            <a:ext cx="1368360" cy="287280"/>
          </a:xfrm>
          <a:custGeom>
            <a:avLst/>
            <a:gdLst>
              <a:gd name="textAreaLeft" fmla="*/ 315000 w 1368360"/>
              <a:gd name="textAreaRight" fmla="*/ 1017360 w 136836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50" hR="21600" stAng="10800000" swAng="5400000"/>
                <a:lnTo>
                  <a:pt x="11084" y="0"/>
                </a:lnTo>
                <a:arcTo wR="9950" hR="21600" stAng="-5400000" swAng="3643657"/>
                <a:lnTo>
                  <a:pt x="21284" y="16200"/>
                </a:lnTo>
                <a:lnTo>
                  <a:pt x="20466" y="21600"/>
                </a:lnTo>
                <a:lnTo>
                  <a:pt x="19016" y="16200"/>
                </a:lnTo>
                <a:lnTo>
                  <a:pt x="19583" y="16200"/>
                </a:lnTo>
                <a:arcTo wR="9950" hR="21600" stAng="-1756343" swAng="-3553290"/>
                <a:lnTo>
                  <a:pt x="10517" y="35"/>
                </a:lnTo>
                <a:arcTo wR="9950" hR="21600" stAng="-5490367" swAng="-5309633"/>
                <a:close/>
              </a:path>
              <a:path fill="darkenLess" w="21600" h="21600">
                <a:moveTo>
                  <a:pt x="0" y="21600"/>
                </a:moveTo>
                <a:arcTo wR="9950" hR="21600" stAng="10800000" swAng="5400000"/>
                <a:lnTo>
                  <a:pt x="9950" y="0"/>
                </a:lnTo>
                <a:arcTo wR="9950" hR="21600" stAng="-5400000" swAng="90367"/>
                <a:lnTo>
                  <a:pt x="10517" y="35"/>
                </a:lnTo>
                <a:arcTo wR="9950" hR="21600" stAng="-5490367" swAng="-5309633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348" name="Выгнутая вверх стрелка 30"/>
          <p:cNvSpPr/>
          <p:nvPr/>
        </p:nvSpPr>
        <p:spPr>
          <a:xfrm>
            <a:off x="3276720" y="2492280"/>
            <a:ext cx="1728720" cy="357120"/>
          </a:xfrm>
          <a:custGeom>
            <a:avLst/>
            <a:gdLst>
              <a:gd name="textAreaLeft" fmla="*/ 398520 w 1728720"/>
              <a:gd name="textAreaRight" fmla="*/ 1285560 w 1728720"/>
              <a:gd name="textAreaTop" fmla="*/ 47880 h 357120"/>
              <a:gd name="textAreaBottom" fmla="*/ 309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64" hR="21600" stAng="10800000" swAng="5400000"/>
                <a:lnTo>
                  <a:pt x="11079" y="0"/>
                </a:lnTo>
                <a:arcTo wR="9964" hR="21600" stAng="-5400000" swAng="3645718"/>
                <a:lnTo>
                  <a:pt x="21284" y="16200"/>
                </a:lnTo>
                <a:lnTo>
                  <a:pt x="20485" y="21600"/>
                </a:lnTo>
                <a:lnTo>
                  <a:pt x="19053" y="16200"/>
                </a:lnTo>
                <a:lnTo>
                  <a:pt x="19611" y="16200"/>
                </a:lnTo>
                <a:arcTo wR="9964" hR="21600" stAng="-1754282" swAng="-3556869"/>
                <a:lnTo>
                  <a:pt x="10521" y="34"/>
                </a:lnTo>
                <a:arcTo wR="9964" hR="21600" stAng="-5488848" swAng="-5311152"/>
                <a:close/>
              </a:path>
              <a:path fill="darkenLess" w="21600" h="21600">
                <a:moveTo>
                  <a:pt x="0" y="21600"/>
                </a:moveTo>
                <a:arcTo wR="9964" hR="21600" stAng="10800000" swAng="5400000"/>
                <a:lnTo>
                  <a:pt x="9964" y="0"/>
                </a:lnTo>
                <a:arcTo wR="9964" hR="21600" stAng="-5400000" swAng="88848"/>
                <a:lnTo>
                  <a:pt x="10521" y="34"/>
                </a:lnTo>
                <a:arcTo wR="9964" hR="21600" stAng="-5488848" swAng="-5311152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349" name="Выгнутая вверх стрелка 31"/>
          <p:cNvSpPr/>
          <p:nvPr/>
        </p:nvSpPr>
        <p:spPr>
          <a:xfrm>
            <a:off x="2987640" y="3357720"/>
            <a:ext cx="1285920" cy="288720"/>
          </a:xfrm>
          <a:custGeom>
            <a:avLst/>
            <a:gdLst>
              <a:gd name="textAreaLeft" fmla="*/ 294120 w 1285920"/>
              <a:gd name="textAreaRight" fmla="*/ 955440 w 1285920"/>
              <a:gd name="textAreaTop" fmla="*/ 38520 h 288720"/>
              <a:gd name="textAreaBottom" fmla="*/ 2502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90" hR="21600" stAng="10800000" swAng="5400000"/>
                <a:lnTo>
                  <a:pt x="11103" y="0"/>
                </a:lnTo>
                <a:arcTo wR="9890" hR="21600" stAng="-5400000" swAng="3634848"/>
                <a:lnTo>
                  <a:pt x="21286" y="16200"/>
                </a:lnTo>
                <a:lnTo>
                  <a:pt x="20387" y="21600"/>
                </a:lnTo>
                <a:lnTo>
                  <a:pt x="18859" y="16200"/>
                </a:lnTo>
                <a:lnTo>
                  <a:pt x="19466" y="16200"/>
                </a:lnTo>
                <a:arcTo wR="9890" hR="21600" stAng="-1765152" swAng="-3538164"/>
                <a:lnTo>
                  <a:pt x="10497" y="41"/>
                </a:lnTo>
                <a:arcTo wR="9890" hR="21600" stAng="-5496684" swAng="-5303316"/>
                <a:close/>
              </a:path>
              <a:path fill="darkenLess" w="21600" h="21600">
                <a:moveTo>
                  <a:pt x="0" y="21600"/>
                </a:moveTo>
                <a:arcTo wR="9890" hR="21600" stAng="10800000" swAng="5400000"/>
                <a:lnTo>
                  <a:pt x="9890" y="0"/>
                </a:lnTo>
                <a:arcTo wR="9890" hR="21600" stAng="-5400000" swAng="96684"/>
                <a:lnTo>
                  <a:pt x="10497" y="41"/>
                </a:lnTo>
                <a:arcTo wR="9890" hR="21600" stAng="-5496684" swAng="-5303316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350" name="Выгнутая вверх стрелка 32"/>
          <p:cNvSpPr/>
          <p:nvPr/>
        </p:nvSpPr>
        <p:spPr>
          <a:xfrm>
            <a:off x="2843280" y="4292640"/>
            <a:ext cx="1143000" cy="216000"/>
          </a:xfrm>
          <a:custGeom>
            <a:avLst/>
            <a:gdLst>
              <a:gd name="textAreaLeft" fmla="*/ 265320 w 1143000"/>
              <a:gd name="textAreaRight" fmla="*/ 850680 w 114300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035" hR="21600" stAng="10800000" swAng="5400000"/>
                <a:lnTo>
                  <a:pt x="11055" y="0"/>
                </a:lnTo>
                <a:arcTo wR="10035" hR="21600" stAng="-5400000" swAng="3656175"/>
                <a:lnTo>
                  <a:pt x="21281" y="16200"/>
                </a:lnTo>
                <a:lnTo>
                  <a:pt x="20580" y="21600"/>
                </a:lnTo>
                <a:lnTo>
                  <a:pt x="19241" y="16200"/>
                </a:lnTo>
                <a:lnTo>
                  <a:pt x="19751" y="16200"/>
                </a:lnTo>
                <a:arcTo wR="10035" hR="21600" stAng="-1743825" swAng="-3574916"/>
                <a:lnTo>
                  <a:pt x="10545" y="28"/>
                </a:lnTo>
                <a:arcTo wR="10035" hR="21600" stAng="-5481259" swAng="-5318741"/>
                <a:close/>
              </a:path>
              <a:path fill="darkenLess" w="21600" h="21600">
                <a:moveTo>
                  <a:pt x="0" y="21600"/>
                </a:moveTo>
                <a:arcTo wR="10035" hR="21600" stAng="10800000" swAng="5400000"/>
                <a:lnTo>
                  <a:pt x="10035" y="0"/>
                </a:lnTo>
                <a:arcTo wR="10035" hR="21600" stAng="-5400000" swAng="81259"/>
                <a:lnTo>
                  <a:pt x="10545" y="28"/>
                </a:lnTo>
                <a:arcTo wR="10035" hR="21600" stAng="-5481259" swAng="-5318741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351" name="Выгнутая вверх стрелка 33"/>
          <p:cNvSpPr/>
          <p:nvPr/>
        </p:nvSpPr>
        <p:spPr>
          <a:xfrm>
            <a:off x="3348000" y="5013360"/>
            <a:ext cx="1430280" cy="216000"/>
          </a:xfrm>
          <a:custGeom>
            <a:avLst/>
            <a:gdLst>
              <a:gd name="textAreaLeft" fmla="*/ 337320 w 1430280"/>
              <a:gd name="textAreaRight" fmla="*/ 1065960 w 143028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189" hR="21600" stAng="10800000" swAng="5400000"/>
                <a:lnTo>
                  <a:pt x="11005" y="0"/>
                </a:lnTo>
                <a:arcTo wR="10189" hR="21600" stAng="-5400000" swAng="3678245"/>
                <a:lnTo>
                  <a:pt x="21276" y="16200"/>
                </a:lnTo>
                <a:lnTo>
                  <a:pt x="20785" y="21600"/>
                </a:lnTo>
                <a:lnTo>
                  <a:pt x="19646" y="16200"/>
                </a:lnTo>
                <a:lnTo>
                  <a:pt x="20053" y="16200"/>
                </a:lnTo>
                <a:arcTo wR="10189" hR="21600" stAng="-1721755" swAng="-3613266"/>
                <a:lnTo>
                  <a:pt x="10597" y="17"/>
                </a:lnTo>
                <a:arcTo wR="10189" hR="21600" stAng="-5464980" swAng="-5335020"/>
                <a:close/>
              </a:path>
              <a:path fill="darkenLess" w="21600" h="21600">
                <a:moveTo>
                  <a:pt x="0" y="21600"/>
                </a:moveTo>
                <a:arcTo wR="10189" hR="21600" stAng="10800000" swAng="5400000"/>
                <a:lnTo>
                  <a:pt x="10189" y="0"/>
                </a:lnTo>
                <a:arcTo wR="10189" hR="21600" stAng="-5400000" swAng="64980"/>
                <a:lnTo>
                  <a:pt x="10597" y="17"/>
                </a:lnTo>
                <a:arcTo wR="10189" hR="21600" stAng="-5464980" swAng="-533502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352" name="Умножение 26"/>
          <p:cNvSpPr/>
          <p:nvPr/>
        </p:nvSpPr>
        <p:spPr>
          <a:xfrm>
            <a:off x="2916360" y="5877000"/>
            <a:ext cx="214200" cy="214200"/>
          </a:xfrm>
          <a:prstGeom prst="pie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353" name="Выгнутая вверх стрелка 28"/>
          <p:cNvSpPr/>
          <p:nvPr/>
        </p:nvSpPr>
        <p:spPr>
          <a:xfrm>
            <a:off x="3419640" y="5734080"/>
            <a:ext cx="1295280" cy="288720"/>
          </a:xfrm>
          <a:custGeom>
            <a:avLst/>
            <a:gdLst>
              <a:gd name="textAreaLeft" fmla="*/ 296640 w 1295280"/>
              <a:gd name="textAreaRight" fmla="*/ 962640 w 1295280"/>
              <a:gd name="textAreaTop" fmla="*/ 38520 h 288720"/>
              <a:gd name="textAreaBottom" fmla="*/ 2502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897" hR="21600" stAng="10800000" swAng="5400000"/>
                <a:lnTo>
                  <a:pt x="11102" y="0"/>
                </a:lnTo>
                <a:arcTo wR="9897" hR="21600" stAng="-5400000" swAng="3635814"/>
                <a:lnTo>
                  <a:pt x="21286" y="16200"/>
                </a:lnTo>
                <a:lnTo>
                  <a:pt x="20396" y="21600"/>
                </a:lnTo>
                <a:lnTo>
                  <a:pt x="18877" y="16200"/>
                </a:lnTo>
                <a:lnTo>
                  <a:pt x="19479" y="16200"/>
                </a:lnTo>
                <a:arcTo wR="9897" hR="21600" stAng="-1764186" swAng="-3539770"/>
                <a:lnTo>
                  <a:pt x="10499" y="40"/>
                </a:lnTo>
                <a:arcTo wR="9897" hR="21600" stAng="-5496044" swAng="-5303956"/>
                <a:close/>
              </a:path>
              <a:path fill="darkenLess" w="21600" h="21600">
                <a:moveTo>
                  <a:pt x="0" y="21600"/>
                </a:moveTo>
                <a:arcTo wR="9897" hR="21600" stAng="10800000" swAng="5400000"/>
                <a:lnTo>
                  <a:pt x="9897" y="0"/>
                </a:lnTo>
                <a:arcTo wR="9897" hR="21600" stAng="-5400000" swAng="96044"/>
                <a:lnTo>
                  <a:pt x="10499" y="40"/>
                </a:lnTo>
                <a:arcTo wR="9897" hR="21600" stAng="-5496044" swAng="-5303956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354" name="Rectangle 19"/>
          <p:cNvSpPr/>
          <p:nvPr/>
        </p:nvSpPr>
        <p:spPr>
          <a:xfrm>
            <a:off x="4427640" y="1197000"/>
            <a:ext cx="865080" cy="431640"/>
          </a:xfrm>
          <a:prstGeom prst="rect">
            <a:avLst/>
          </a:prstGeom>
          <a:solidFill>
            <a:srgbClr val="ffefff"/>
          </a:solidFill>
          <a:ln w="9360">
            <a:solidFill>
              <a:srgbClr val="5f0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В.п.)</a:t>
            </a: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355" name="Rectangle 20"/>
          <p:cNvSpPr/>
          <p:nvPr/>
        </p:nvSpPr>
        <p:spPr>
          <a:xfrm>
            <a:off x="5292720" y="2708280"/>
            <a:ext cx="865080" cy="431640"/>
          </a:xfrm>
          <a:prstGeom prst="rect">
            <a:avLst/>
          </a:prstGeom>
          <a:solidFill>
            <a:srgbClr val="ffefff"/>
          </a:solidFill>
          <a:ln w="9360">
            <a:solidFill>
              <a:srgbClr val="5f0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В.п.)</a:t>
            </a: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356" name="Rectangle 21"/>
          <p:cNvSpPr/>
          <p:nvPr/>
        </p:nvSpPr>
        <p:spPr>
          <a:xfrm>
            <a:off x="4643280" y="3573360"/>
            <a:ext cx="865440" cy="432000"/>
          </a:xfrm>
          <a:prstGeom prst="rect">
            <a:avLst/>
          </a:prstGeom>
          <a:solidFill>
            <a:srgbClr val="ffefff"/>
          </a:solidFill>
          <a:ln w="9360">
            <a:solidFill>
              <a:srgbClr val="5f0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В.п.)</a:t>
            </a: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357" name="Rectangle 22"/>
          <p:cNvSpPr/>
          <p:nvPr/>
        </p:nvSpPr>
        <p:spPr>
          <a:xfrm>
            <a:off x="4356000" y="4365720"/>
            <a:ext cx="865440" cy="431640"/>
          </a:xfrm>
          <a:prstGeom prst="rect">
            <a:avLst/>
          </a:prstGeom>
          <a:solidFill>
            <a:srgbClr val="ffefff"/>
          </a:solidFill>
          <a:ln w="9360">
            <a:solidFill>
              <a:srgbClr val="5f0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В.п.)</a:t>
            </a: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5508720" y="5229360"/>
            <a:ext cx="865080" cy="431640"/>
          </a:xfrm>
          <a:prstGeom prst="rect">
            <a:avLst/>
          </a:prstGeom>
          <a:solidFill>
            <a:srgbClr val="ffefff"/>
          </a:solidFill>
          <a:ln w="9360">
            <a:solidFill>
              <a:srgbClr val="5f0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В.п.)</a:t>
            </a: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5435640" y="5950080"/>
            <a:ext cx="865080" cy="431640"/>
          </a:xfrm>
          <a:prstGeom prst="rect">
            <a:avLst/>
          </a:prstGeom>
          <a:solidFill>
            <a:srgbClr val="ffefff"/>
          </a:solidFill>
          <a:ln w="9360">
            <a:solidFill>
              <a:srgbClr val="5f0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В.п.)</a:t>
            </a: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4788000" y="1916280"/>
            <a:ext cx="865080" cy="431640"/>
          </a:xfrm>
          <a:prstGeom prst="rect">
            <a:avLst/>
          </a:prstGeom>
          <a:solidFill>
            <a:srgbClr val="ffefff"/>
          </a:solidFill>
          <a:ln w="9360">
            <a:solidFill>
              <a:srgbClr val="5f0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В.п.)</a:t>
            </a: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0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9000"/>
                            </p:stCondLst>
                            <p:childTnLst>
                              <p:par>
                                <p:cTn id="1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0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0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a40c0c"/>
                </a:solidFill>
                <a:latin typeface="Constantia"/>
                <a:ea typeface="Times New Roman"/>
              </a:rPr>
              <a:t>Что общего в значении всех этих глаголов?</a:t>
            </a:r>
            <a:r>
              <a:rPr b="0" lang="ru-RU" sz="4200" spc="-1" strike="noStrike">
                <a:solidFill>
                  <a:srgbClr val="c96262"/>
                </a:solidFill>
                <a:latin typeface="Constantia"/>
              </a:rPr>
              <a:t> </a:t>
            </a: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3644640"/>
            <a:ext cx="8229600" cy="28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f0060"/>
                </a:solidFill>
                <a:latin typeface="Arial"/>
              </a:rPr>
              <a:t>Действие направлено на какой-то предмет.</a:t>
            </a:r>
            <a:r>
              <a:rPr b="1" lang="ru-RU" sz="3000" spc="-1" strike="noStrike">
                <a:solidFill>
                  <a:srgbClr val="5f0060"/>
                </a:solidFill>
                <a:latin typeface="Constantia"/>
              </a:rPr>
              <a:t> 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Constantia"/>
              </a:rPr>
              <a:t>Чтение § 82</a:t>
            </a: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24000" y="1196640"/>
            <a:ext cx="8658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man Old Style"/>
              </a:rPr>
              <a:t>Вывод. </a:t>
            </a:r>
            <a:r>
              <a:rPr b="1" lang="ru-RU" sz="3200" spc="-1" strike="noStrike">
                <a:solidFill>
                  <a:srgbClr val="262699"/>
                </a:solidFill>
                <a:latin typeface="Bookman Old Style"/>
              </a:rPr>
              <a:t>Переходными называются глаголы, выражающее действие, которое переходит или может переходить на другой предмет, название которого ставится в винительном падеже без предлога.</a:t>
            </a:r>
            <a:endParaRPr b="0" lang="en-US" sz="3200" spc="-1" strike="noStrike">
              <a:solidFill>
                <a:srgbClr val="5f0060"/>
              </a:solidFill>
              <a:latin typeface="Constantia"/>
            </a:endParaRPr>
          </a:p>
          <a:p>
            <a:pPr marL="443160" indent="-378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0060"/>
              </a:solidFill>
              <a:latin typeface="Constantia"/>
            </a:endParaRPr>
          </a:p>
          <a:p>
            <a:pPr marL="443160" indent="-378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262699"/>
                </a:solidFill>
                <a:uFillTx/>
                <a:latin typeface="Bookman Old Style"/>
              </a:rPr>
              <a:t>Не путать винительный падеж и родительный! Задавать 2 вопроса!</a:t>
            </a:r>
            <a:endParaRPr b="0" lang="en-US" sz="3200" spc="-1" strike="noStrike">
              <a:solidFill>
                <a:srgbClr val="5f0060"/>
              </a:solidFill>
              <a:latin typeface="Constantia"/>
            </a:endParaRPr>
          </a:p>
          <a:p>
            <a:pPr marL="443160" indent="-378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Bookman Old Style"/>
              </a:rPr>
              <a:t>Кого?/Чего?     </a:t>
            </a:r>
            <a:r>
              <a:rPr b="1" lang="ru-RU" sz="3200" spc="-1" strike="noStrike">
                <a:solidFill>
                  <a:srgbClr val="262699"/>
                </a:solidFill>
                <a:latin typeface="Bookman Old Style"/>
              </a:rPr>
              <a:t>и      </a:t>
            </a:r>
            <a:r>
              <a:rPr b="1" lang="ru-RU" sz="3200" spc="-1" strike="noStrike">
                <a:solidFill>
                  <a:srgbClr val="ff0000"/>
                </a:solidFill>
                <a:latin typeface="Bookman Old Style"/>
              </a:rPr>
              <a:t>Кого?/Что?</a:t>
            </a:r>
            <a:endParaRPr b="0" lang="en-US" sz="3200" spc="-1" strike="noStrike">
              <a:solidFill>
                <a:srgbClr val="5f006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4d"/>
                </a:solidFill>
                <a:latin typeface="Constantia"/>
              </a:rPr>
              <a:t>Особые случаи</a:t>
            </a: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22228b"/>
                </a:solidFill>
                <a:latin typeface="Book Antiqua"/>
              </a:rPr>
              <a:t>        </a:t>
            </a:r>
            <a:r>
              <a:rPr b="1" lang="ru-RU" sz="3900" spc="-1" strike="noStrike">
                <a:solidFill>
                  <a:srgbClr val="22228b"/>
                </a:solidFill>
                <a:latin typeface="Book Antiqua"/>
              </a:rPr>
              <a:t>Дополнение может стоять при переходном глаголе в родительном падеже:</a:t>
            </a:r>
            <a:endParaRPr b="0" lang="en-US" sz="3900" spc="-1" strike="noStrike">
              <a:solidFill>
                <a:srgbClr val="5f006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975"/>
              </a:spcBef>
              <a:buClr>
                <a:srgbClr val="a40c0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 u="sng">
                <a:solidFill>
                  <a:srgbClr val="ff0000"/>
                </a:solidFill>
                <a:uFillTx/>
                <a:latin typeface="Book Antiqua"/>
                <a:hlinkClick r:id="rId1" action="ppaction://hlinksldjump"/>
              </a:rPr>
              <a:t>при отрицании,</a:t>
            </a:r>
            <a:endParaRPr b="0" lang="en-US" sz="3900" spc="-1" strike="noStrike">
              <a:solidFill>
                <a:srgbClr val="5f006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975"/>
              </a:spcBef>
              <a:buClr>
                <a:srgbClr val="a40c0c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 u="sng">
                <a:solidFill>
                  <a:srgbClr val="ff0000"/>
                </a:solidFill>
                <a:uFillTx/>
                <a:latin typeface="Book Antiqua"/>
                <a:hlinkClick r:id="rId2" action="ppaction://hlinksldjump"/>
              </a:rPr>
              <a:t>при указании на часть целого</a:t>
            </a:r>
            <a:endParaRPr b="0" lang="en-US" sz="3900" spc="-1" strike="noStrike">
              <a:solidFill>
                <a:srgbClr val="5f006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975"/>
              </a:spcBef>
              <a:buClr>
                <a:srgbClr val="a40c0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5f006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0" y="1700280"/>
            <a:ext cx="669600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-374760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22228b"/>
                </a:solidFill>
                <a:latin typeface="Constantia"/>
              </a:rPr>
              <a:t>Распилил доски –</a:t>
            </a:r>
            <a:endParaRPr b="0" lang="en-US" sz="5800" spc="-1" strike="noStrike">
              <a:solidFill>
                <a:srgbClr val="5f0060"/>
              </a:solidFill>
              <a:latin typeface="Constantia"/>
            </a:endParaRPr>
          </a:p>
          <a:p>
            <a:pPr marL="438840" indent="-374760">
              <a:lnSpc>
                <a:spcPct val="100000"/>
              </a:lnSpc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f0060"/>
              </a:solidFill>
              <a:latin typeface="Constantia"/>
            </a:endParaRPr>
          </a:p>
          <a:p>
            <a:pPr marL="438840" indent="-374760">
              <a:spcBef>
                <a:spcPts val="1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22228b"/>
                </a:solidFill>
                <a:latin typeface="Constantia"/>
              </a:rPr>
              <a:t> </a:t>
            </a:r>
            <a:r>
              <a:rPr b="0" lang="ru-RU" sz="5800" spc="-1" strike="noStrike">
                <a:solidFill>
                  <a:srgbClr val="22228b"/>
                </a:solidFill>
                <a:latin typeface="Constantia"/>
              </a:rPr>
              <a:t>не распилил досок.</a:t>
            </a:r>
            <a:endParaRPr b="0" lang="en-US" sz="58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368" name="AutoShape 4"/>
          <p:cNvSpPr/>
          <p:nvPr/>
        </p:nvSpPr>
        <p:spPr>
          <a:xfrm>
            <a:off x="8567640" y="607212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7493"/>
                </a:moveTo>
                <a:lnTo>
                  <a:pt x="7832" y="7493"/>
                </a:lnTo>
                <a:lnTo>
                  <a:pt x="7832" y="12828"/>
                </a:lnTo>
                <a:cubicBezTo>
                  <a:pt x="7832" y="13751"/>
                  <a:pt x="8632" y="14482"/>
                  <a:pt x="9668" y="14482"/>
                </a:cubicBezTo>
                <a:lnTo>
                  <a:pt x="11330" y="14482"/>
                </a:lnTo>
                <a:cubicBezTo>
                  <a:pt x="12366" y="14482"/>
                  <a:pt x="13167" y="13751"/>
                  <a:pt x="13167" y="12828"/>
                </a:cubicBezTo>
                <a:lnTo>
                  <a:pt x="13167" y="7493"/>
                </a:lnTo>
                <a:lnTo>
                  <a:pt x="11330" y="7493"/>
                </a:lnTo>
                <a:lnTo>
                  <a:pt x="14838" y="3985"/>
                </a:lnTo>
                <a:lnTo>
                  <a:pt x="18511" y="7493"/>
                </a:lnTo>
                <a:lnTo>
                  <a:pt x="16675" y="7493"/>
                </a:lnTo>
                <a:lnTo>
                  <a:pt x="16675" y="12828"/>
                </a:lnTo>
                <a:cubicBezTo>
                  <a:pt x="16675" y="15596"/>
                  <a:pt x="14098" y="18155"/>
                  <a:pt x="11330" y="18155"/>
                </a:cubicBezTo>
                <a:lnTo>
                  <a:pt x="9668" y="18155"/>
                </a:lnTo>
                <a:cubicBezTo>
                  <a:pt x="6900" y="18155"/>
                  <a:pt x="4324" y="15596"/>
                  <a:pt x="4324" y="12828"/>
                </a:cubicBezTo>
                <a:close/>
              </a:path>
            </a:pathLst>
          </a:custGeom>
          <a:solidFill>
            <a:srgbClr val="a4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6948360" y="1989000"/>
            <a:ext cx="9367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0060"/>
                </a:solidFill>
                <a:latin typeface="Arial"/>
              </a:rPr>
              <a:t>В.п.</a:t>
            </a:r>
            <a:endParaRPr b="0" lang="en-US" sz="32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7093080" y="4076640"/>
            <a:ext cx="936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0060"/>
                </a:solidFill>
                <a:latin typeface="Arial"/>
              </a:rPr>
              <a:t>Р.п.</a:t>
            </a:r>
            <a:endParaRPr b="0" lang="en-US" sz="3200" spc="-1" strike="noStrike">
              <a:solidFill>
                <a:srgbClr val="5f006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22228b"/>
                </a:solidFill>
                <a:latin typeface="Constantia"/>
              </a:rPr>
              <a:t>Налить бензин – </a:t>
            </a:r>
            <a:endParaRPr b="0" lang="en-US" sz="5800" spc="-1" strike="noStrike">
              <a:solidFill>
                <a:srgbClr val="5f006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f0060"/>
              </a:solidFill>
              <a:latin typeface="Constantia"/>
            </a:endParaRPr>
          </a:p>
          <a:p>
            <a:pPr marL="447840" indent="0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22228b"/>
                </a:solidFill>
                <a:latin typeface="Constantia"/>
              </a:rPr>
              <a:t>налить бензина.</a:t>
            </a:r>
            <a:endParaRPr b="0" lang="en-US" sz="5800" spc="-1" strike="noStrike">
              <a:solidFill>
                <a:srgbClr val="5f0060"/>
              </a:solidFill>
              <a:latin typeface="Constantia"/>
            </a:endParaRPr>
          </a:p>
          <a:p>
            <a:pPr marL="447840" indent="0">
              <a:spcBef>
                <a:spcPts val="1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372" name="AutoShape 4">
            <a:hlinkClick r:id="rId1" action="ppaction://hlinksldjump"/>
          </p:cNvPr>
          <p:cNvSpPr/>
          <p:nvPr/>
        </p:nvSpPr>
        <p:spPr>
          <a:xfrm>
            <a:off x="838836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7493"/>
                </a:moveTo>
                <a:lnTo>
                  <a:pt x="7832" y="7493"/>
                </a:lnTo>
                <a:lnTo>
                  <a:pt x="7832" y="12828"/>
                </a:lnTo>
                <a:cubicBezTo>
                  <a:pt x="7832" y="13751"/>
                  <a:pt x="8632" y="14482"/>
                  <a:pt x="9668" y="14482"/>
                </a:cubicBezTo>
                <a:lnTo>
                  <a:pt x="11330" y="14482"/>
                </a:lnTo>
                <a:cubicBezTo>
                  <a:pt x="12366" y="14482"/>
                  <a:pt x="13167" y="13751"/>
                  <a:pt x="13167" y="12828"/>
                </a:cubicBezTo>
                <a:lnTo>
                  <a:pt x="13167" y="7493"/>
                </a:lnTo>
                <a:lnTo>
                  <a:pt x="11330" y="7493"/>
                </a:lnTo>
                <a:lnTo>
                  <a:pt x="14838" y="3985"/>
                </a:lnTo>
                <a:lnTo>
                  <a:pt x="18511" y="7493"/>
                </a:lnTo>
                <a:lnTo>
                  <a:pt x="16675" y="7493"/>
                </a:lnTo>
                <a:lnTo>
                  <a:pt x="16675" y="12828"/>
                </a:lnTo>
                <a:cubicBezTo>
                  <a:pt x="16675" y="15596"/>
                  <a:pt x="14098" y="18155"/>
                  <a:pt x="11330" y="18155"/>
                </a:cubicBezTo>
                <a:lnTo>
                  <a:pt x="9668" y="18155"/>
                </a:lnTo>
                <a:cubicBezTo>
                  <a:pt x="6900" y="18155"/>
                  <a:pt x="4324" y="15596"/>
                  <a:pt x="4324" y="12828"/>
                </a:cubicBezTo>
                <a:close/>
              </a:path>
            </a:pathLst>
          </a:custGeom>
          <a:solidFill>
            <a:srgbClr val="a4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6732720" y="2205000"/>
            <a:ext cx="936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0060"/>
                </a:solidFill>
                <a:latin typeface="Arial"/>
              </a:rPr>
              <a:t>В.п.</a:t>
            </a:r>
            <a:endParaRPr b="0" lang="en-US" sz="32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6804000" y="4221000"/>
            <a:ext cx="9367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0060"/>
                </a:solidFill>
                <a:latin typeface="Arial"/>
              </a:rPr>
              <a:t>Р.п.</a:t>
            </a:r>
            <a:endParaRPr b="0" lang="en-US" sz="3200" spc="-1" strike="noStrike">
              <a:solidFill>
                <a:srgbClr val="5f006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67840"/>
            <a:ext cx="8218440" cy="258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a40c0c"/>
                </a:solidFill>
                <a:latin typeface="Arial"/>
              </a:rPr>
              <a:t>       </a:t>
            </a:r>
            <a:r>
              <a:rPr b="0" lang="ru-RU" sz="4200" spc="-1" strike="noStrike">
                <a:solidFill>
                  <a:srgbClr val="a40c0c"/>
                </a:solidFill>
                <a:latin typeface="Arial"/>
              </a:rPr>
              <a:t>Вспомните, как называются глаголы с суффиксом </a:t>
            </a:r>
            <a:r>
              <a:rPr b="0" i="1" lang="ru-RU" sz="4200" spc="-1" strike="noStrike">
                <a:solidFill>
                  <a:srgbClr val="a40c0c"/>
                </a:solidFill>
                <a:latin typeface="Arial"/>
              </a:rPr>
              <a:t>-ся</a:t>
            </a:r>
            <a:r>
              <a:rPr b="0" lang="ru-RU" sz="4200" spc="-1" strike="noStrike">
                <a:solidFill>
                  <a:srgbClr val="a40c0c"/>
                </a:solidFill>
                <a:latin typeface="Arial"/>
              </a:rPr>
              <a:t>?</a:t>
            </a: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68360" y="3213000"/>
            <a:ext cx="8229600" cy="25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100000"/>
              </a:lnSpc>
              <a:spcBef>
                <a:spcPts val="751"/>
              </a:spcBef>
              <a:buClr>
                <a:srgbClr val="a40c0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419f0"/>
                </a:solidFill>
                <a:latin typeface="Arial"/>
              </a:rPr>
              <a:t>Возвратные глаголы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507520" cy="605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a40c0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f0060"/>
                </a:solidFill>
                <a:latin typeface="Arial"/>
              </a:rPr>
              <a:t>В чём особенность возвратных глаголов?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f006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a40c0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419f0"/>
                </a:solidFill>
                <a:latin typeface="Arial"/>
              </a:rPr>
              <a:t>Действие возвращается на предмет, который его производит.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a40c0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f0060"/>
                </a:solidFill>
                <a:latin typeface="Arial"/>
              </a:rPr>
              <a:t>Как вы думаете, возвратные глаголы могут быть переходными? 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a40c0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419f0"/>
                </a:solidFill>
                <a:latin typeface="Arial"/>
              </a:rPr>
              <a:t>Нет, потому что у переходных глаголов действие переходит на другой предмет.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0040" y="-14328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a40c0c"/>
                </a:solidFill>
                <a:latin typeface="Constantia"/>
              </a:rPr>
              <a:t>Цели:</a:t>
            </a: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7640" y="981000"/>
            <a:ext cx="8713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0840" indent="-359640">
              <a:spcBef>
                <a:spcPts val="799"/>
              </a:spcBef>
              <a:buClr>
                <a:srgbClr val="a40c0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nstantia"/>
              </a:rPr>
              <a:t>познакомиться с понятием «переходные–непереходные глаголы»;</a:t>
            </a:r>
            <a:endParaRPr b="0" lang="en-US" sz="3200" spc="-1" strike="noStrike">
              <a:solidFill>
                <a:srgbClr val="5f0060"/>
              </a:solidFill>
              <a:latin typeface="Constantia"/>
            </a:endParaRPr>
          </a:p>
          <a:p>
            <a:pPr marL="420840" indent="-359640">
              <a:spcBef>
                <a:spcPts val="799"/>
              </a:spcBef>
              <a:buClr>
                <a:srgbClr val="a40c0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nstantia"/>
              </a:rPr>
              <a:t>узнать о связи категорий «возвратность–переходность»;</a:t>
            </a:r>
            <a:endParaRPr b="0" lang="en-US" sz="3200" spc="-1" strike="noStrike">
              <a:solidFill>
                <a:srgbClr val="5f0060"/>
              </a:solidFill>
              <a:latin typeface="Constantia"/>
            </a:endParaRPr>
          </a:p>
          <a:p>
            <a:pPr marL="420840" indent="-359640">
              <a:spcBef>
                <a:spcPts val="799"/>
              </a:spcBef>
              <a:buClr>
                <a:srgbClr val="a40c0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nstantia"/>
              </a:rPr>
              <a:t>научиться различать переходные и непереходные глаголы, образовывать возвратные глаголы;</a:t>
            </a:r>
            <a:endParaRPr b="0" lang="en-US" sz="3200" spc="-1" strike="noStrike">
              <a:solidFill>
                <a:srgbClr val="5f0060"/>
              </a:solidFill>
              <a:latin typeface="Constantia"/>
            </a:endParaRPr>
          </a:p>
          <a:p>
            <a:pPr marL="420840" indent="-359640">
              <a:spcBef>
                <a:spcPts val="799"/>
              </a:spcBef>
              <a:buClr>
                <a:srgbClr val="a40c0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nstantia"/>
              </a:rPr>
              <a:t>правильно употреблять винительный и родительный падежи существительных.</a:t>
            </a:r>
            <a:endParaRPr b="0" lang="en-US" sz="3200" spc="-1" strike="noStrike">
              <a:solidFill>
                <a:srgbClr val="5f006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c96262"/>
                </a:solidFill>
                <a:latin typeface="Arial"/>
              </a:rPr>
              <a:t>Сравните</a:t>
            </a: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f0060"/>
                </a:solidFill>
                <a:latin typeface="Arial"/>
              </a:rPr>
              <a:t>убедить – убедить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я</a:t>
            </a:r>
            <a:endParaRPr b="0" lang="en-US" sz="4000" spc="-1" strike="noStrike">
              <a:solidFill>
                <a:srgbClr val="5f006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f0060"/>
                </a:solidFill>
                <a:latin typeface="Arial"/>
              </a:rPr>
              <a:t>остановить – остановить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я</a:t>
            </a:r>
            <a:endParaRPr b="0" lang="en-US" sz="4000" spc="-1" strike="noStrike">
              <a:solidFill>
                <a:srgbClr val="5f006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f0060"/>
                </a:solidFill>
                <a:latin typeface="Arial"/>
              </a:rPr>
              <a:t>одеть – одела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ь</a:t>
            </a:r>
            <a:r>
              <a:rPr b="0" lang="ru-RU" sz="4000" spc="-1" strike="noStrike">
                <a:solidFill>
                  <a:srgbClr val="5f006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5f006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f0060"/>
                </a:solidFill>
                <a:latin typeface="Arial"/>
              </a:rPr>
              <a:t>причесать – причесала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ь</a:t>
            </a:r>
            <a:endParaRPr b="0" lang="en-US" sz="4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380" name="Rectangle 4">
            <a:hlinkClick r:id="rId1" action="ppaction://hlinksldjump"/>
          </p:cNvPr>
          <p:cNvSpPr/>
          <p:nvPr/>
        </p:nvSpPr>
        <p:spPr>
          <a:xfrm>
            <a:off x="684360" y="5229360"/>
            <a:ext cx="7920000" cy="1295280"/>
          </a:xfrm>
          <a:prstGeom prst="rect">
            <a:avLst/>
          </a:prstGeom>
          <a:solidFill>
            <a:srgbClr val="a40c0c"/>
          </a:solidFill>
          <a:ln w="9360">
            <a:solidFill>
              <a:srgbClr val="5f0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помни: </a:t>
            </a:r>
            <a:endParaRPr b="0" lang="en-US" sz="3200" spc="-1" strike="noStrike">
              <a:solidFill>
                <a:srgbClr val="5f006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е возвратные глаголы – непереходные</a:t>
            </a:r>
            <a:endParaRPr b="0" lang="en-US" sz="3200" spc="-1" strike="noStrike">
              <a:solidFill>
                <a:srgbClr val="5f0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2200"/>
              </a:spcBef>
              <a:buClr>
                <a:srgbClr val="a40c0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5f0060"/>
                </a:solidFill>
                <a:latin typeface="Constantia"/>
              </a:rPr>
              <a:t>МАЛЯР</a:t>
            </a:r>
            <a:endParaRPr b="0" lang="en-US" sz="8800" spc="-1" strike="noStrike">
              <a:solidFill>
                <a:srgbClr val="5f0060"/>
              </a:solidFill>
              <a:latin typeface="Constantia"/>
            </a:endParaRPr>
          </a:p>
          <a:p>
            <a:pPr marL="447840" indent="-382680">
              <a:spcBef>
                <a:spcPts val="2200"/>
              </a:spcBef>
              <a:buClr>
                <a:srgbClr val="a40c0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5f0060"/>
                </a:solidFill>
                <a:latin typeface="Constantia"/>
              </a:rPr>
              <a:t>ШТУКАТУР</a:t>
            </a:r>
            <a:endParaRPr b="0" lang="en-US" sz="8800" spc="-1" strike="noStrike">
              <a:solidFill>
                <a:srgbClr val="5f006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a40c0c"/>
                </a:solidFill>
                <a:latin typeface="Arial"/>
              </a:rPr>
              <a:t>Домашнее задание</a:t>
            </a: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41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901"/>
              </a:spcBef>
              <a:buClr>
                <a:srgbClr val="a40c0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f0060"/>
                </a:solidFill>
                <a:latin typeface="Arial"/>
              </a:rPr>
              <a:t>выбрать какую-то профессию и описать действия, которые выполняет данный специалист. Подчеркните переходные глаголы в получившемся тексте.</a:t>
            </a:r>
            <a:endParaRPr b="0" lang="en-US" sz="3600" spc="-1" strike="noStrike">
              <a:solidFill>
                <a:srgbClr val="5f006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a40c0c"/>
                </a:solidFill>
                <a:latin typeface="Arial"/>
              </a:rPr>
              <a:t>Итоги урока</a:t>
            </a: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006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901"/>
              </a:spcBef>
              <a:buClr>
                <a:srgbClr val="a40c0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  <a:hlinkClick r:id="rId1" action="ppaction://hlinksldjump"/>
              </a:rPr>
              <a:t>Какие глаголы называются переходными?</a:t>
            </a:r>
            <a:endParaRPr b="0" lang="en-US" sz="3600" spc="-1" strike="noStrike">
              <a:solidFill>
                <a:srgbClr val="5f006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901"/>
              </a:spcBef>
              <a:buClr>
                <a:srgbClr val="a40c0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  <a:hlinkClick r:id="rId2" action="ppaction://hlinksldjump"/>
              </a:rPr>
              <a:t>Как соотносятся категории переходности и возвратности?</a:t>
            </a:r>
            <a:endParaRPr b="0" lang="en-US" sz="3600" spc="-1" strike="noStrike">
              <a:solidFill>
                <a:srgbClr val="5f006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40c0c"/>
                </a:solidFill>
                <a:latin typeface="Arial"/>
              </a:rPr>
              <a:t>Рефлексия учащихся</a:t>
            </a:r>
            <a:r>
              <a:rPr b="0" lang="ru-RU" sz="4200" spc="-1" strike="noStrike">
                <a:solidFill>
                  <a:srgbClr val="c96262"/>
                </a:solidFill>
                <a:latin typeface="Constantia"/>
              </a:rPr>
              <a:t> </a:t>
            </a: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2240" indent="-285840">
              <a:lnSpc>
                <a:spcPct val="100000"/>
              </a:lnSpc>
              <a:spcBef>
                <a:spcPts val="799"/>
              </a:spcBef>
              <a:buClr>
                <a:srgbClr val="a40c0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0060"/>
                </a:solidFill>
                <a:latin typeface="Arial"/>
              </a:rPr>
              <a:t>Я вспомнил, что…</a:t>
            </a:r>
            <a:endParaRPr b="0" lang="en-US" sz="3200" spc="-1" strike="noStrike">
              <a:solidFill>
                <a:srgbClr val="5f0060"/>
              </a:solidFill>
              <a:latin typeface="Constantia"/>
            </a:endParaRPr>
          </a:p>
          <a:p>
            <a:pPr lvl="1" marL="822240" indent="-285840">
              <a:lnSpc>
                <a:spcPct val="100000"/>
              </a:lnSpc>
              <a:spcBef>
                <a:spcPts val="799"/>
              </a:spcBef>
              <a:buClr>
                <a:srgbClr val="a40c0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0060"/>
                </a:solidFill>
                <a:latin typeface="Arial"/>
              </a:rPr>
              <a:t>Я узнал…</a:t>
            </a:r>
            <a:endParaRPr b="0" lang="en-US" sz="3200" spc="-1" strike="noStrike">
              <a:solidFill>
                <a:srgbClr val="5f0060"/>
              </a:solidFill>
              <a:latin typeface="Constantia"/>
            </a:endParaRPr>
          </a:p>
          <a:p>
            <a:pPr lvl="1" marL="822240" indent="-285840">
              <a:lnSpc>
                <a:spcPct val="100000"/>
              </a:lnSpc>
              <a:spcBef>
                <a:spcPts val="799"/>
              </a:spcBef>
              <a:buClr>
                <a:srgbClr val="a40c0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0060"/>
                </a:solidFill>
                <a:latin typeface="Arial"/>
              </a:rPr>
              <a:t>Я понял…</a:t>
            </a:r>
            <a:endParaRPr b="0" lang="en-US" sz="3200" spc="-1" strike="noStrike">
              <a:solidFill>
                <a:srgbClr val="5f0060"/>
              </a:solidFill>
              <a:latin typeface="Constantia"/>
            </a:endParaRPr>
          </a:p>
          <a:p>
            <a:pPr lvl="1" marL="822240" indent="-285840">
              <a:lnSpc>
                <a:spcPct val="100000"/>
              </a:lnSpc>
              <a:spcBef>
                <a:spcPts val="799"/>
              </a:spcBef>
              <a:buClr>
                <a:srgbClr val="a40c0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0060"/>
                </a:solidFill>
                <a:latin typeface="Arial"/>
              </a:rPr>
              <a:t>Было интересно…</a:t>
            </a:r>
            <a:endParaRPr b="0" lang="en-US" sz="3200" spc="-1" strike="noStrike">
              <a:solidFill>
                <a:srgbClr val="5f0060"/>
              </a:solidFill>
              <a:latin typeface="Constantia"/>
            </a:endParaRPr>
          </a:p>
          <a:p>
            <a:pPr lvl="1" marL="822240" indent="-285840">
              <a:lnSpc>
                <a:spcPct val="100000"/>
              </a:lnSpc>
              <a:spcBef>
                <a:spcPts val="799"/>
              </a:spcBef>
              <a:buClr>
                <a:srgbClr val="a40c0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0060"/>
                </a:solidFill>
                <a:latin typeface="Arial"/>
              </a:rPr>
              <a:t>Особенно понравилось…</a:t>
            </a:r>
            <a:endParaRPr b="0" lang="en-US" sz="3200" spc="-1" strike="noStrike">
              <a:solidFill>
                <a:srgbClr val="5f0060"/>
              </a:solidFill>
              <a:latin typeface="Constantia"/>
            </a:endParaRPr>
          </a:p>
          <a:p>
            <a:pPr lvl="1" marL="822240" indent="-285840">
              <a:lnSpc>
                <a:spcPct val="100000"/>
              </a:lnSpc>
              <a:spcBef>
                <a:spcPts val="799"/>
              </a:spcBef>
              <a:buClr>
                <a:srgbClr val="a40c0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0060"/>
                </a:solidFill>
                <a:latin typeface="Arial"/>
              </a:rPr>
              <a:t>Вызвало затруднение…</a:t>
            </a:r>
            <a:endParaRPr b="0" lang="en-US" sz="3200" spc="-1" strike="noStrike">
              <a:solidFill>
                <a:srgbClr val="5f0060"/>
              </a:solidFill>
              <a:latin typeface="Constantia"/>
            </a:endParaRPr>
          </a:p>
          <a:p>
            <a:pPr lvl="1" marL="822240" indent="-285840">
              <a:lnSpc>
                <a:spcPct val="100000"/>
              </a:lnSpc>
              <a:spcBef>
                <a:spcPts val="799"/>
              </a:spcBef>
              <a:buClr>
                <a:srgbClr val="a40c0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0060"/>
                </a:solidFill>
                <a:latin typeface="Arial"/>
              </a:rPr>
              <a:t>Было сложно…</a:t>
            </a:r>
            <a:endParaRPr b="0" lang="en-US" sz="3200" spc="-1" strike="noStrike">
              <a:solidFill>
                <a:srgbClr val="5f006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456840" y="3071880"/>
            <a:ext cx="818676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-462960">
              <a:spcBef>
                <a:spcPts val="1001"/>
              </a:spcBef>
              <a:buClr>
                <a:srgbClr val="a40c0c"/>
              </a:buClr>
              <a:buSzPct val="80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419f0"/>
                </a:solidFill>
                <a:latin typeface="Constantia"/>
              </a:rPr>
              <a:t>Мы знакомы домами.</a:t>
            </a:r>
            <a:endParaRPr b="0" lang="en-US" sz="4000" spc="-1" strike="noStrike">
              <a:solidFill>
                <a:srgbClr val="5f0060"/>
              </a:solidFill>
              <a:latin typeface="Constantia"/>
            </a:endParaRPr>
          </a:p>
          <a:p>
            <a:pPr marL="462960" indent="-462960">
              <a:spcBef>
                <a:spcPts val="1001"/>
              </a:spcBef>
              <a:buClr>
                <a:srgbClr val="a40c0c"/>
              </a:buClr>
              <a:buSzPct val="80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419f0"/>
                </a:solidFill>
                <a:latin typeface="Constantia"/>
              </a:rPr>
              <a:t>В одном переулке стояли дома.</a:t>
            </a:r>
            <a:endParaRPr b="0" lang="en-US" sz="4000" spc="-1" strike="noStrike">
              <a:solidFill>
                <a:srgbClr val="5f0060"/>
              </a:solidFill>
              <a:latin typeface="Constantia"/>
            </a:endParaRPr>
          </a:p>
          <a:p>
            <a:pPr marL="462960" indent="-462960">
              <a:spcBef>
                <a:spcPts val="1001"/>
              </a:spcBef>
              <a:buClr>
                <a:srgbClr val="a40c0c"/>
              </a:buClr>
              <a:buSzPct val="80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419f0"/>
                </a:solidFill>
                <a:latin typeface="Constantia"/>
              </a:rPr>
              <a:t>Родина – наш общий дом.</a:t>
            </a:r>
            <a:endParaRPr b="0" lang="en-US" sz="4000" spc="-1" strike="noStrike">
              <a:solidFill>
                <a:srgbClr val="5f0060"/>
              </a:solidFill>
              <a:latin typeface="Constantia"/>
            </a:endParaRPr>
          </a:p>
          <a:p>
            <a:pPr marL="462960" indent="-462960">
              <a:spcBef>
                <a:spcPts val="1001"/>
              </a:spcBef>
              <a:buClr>
                <a:srgbClr val="a40c0c"/>
              </a:buClr>
              <a:buSzPct val="80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419f0"/>
                </a:solidFill>
                <a:latin typeface="Constantia"/>
              </a:rPr>
              <a:t>Летом мы были в доме отдыха.</a:t>
            </a:r>
            <a:endParaRPr b="0" lang="en-US" sz="4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317" name="Rectangle 2"/>
          <p:cNvSpPr/>
          <p:nvPr/>
        </p:nvSpPr>
        <p:spPr>
          <a:xfrm>
            <a:off x="468360" y="115920"/>
            <a:ext cx="820728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84200" indent="-484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a40c0c"/>
                </a:solidFill>
                <a:latin typeface="Arial"/>
              </a:rPr>
              <a:t>В каком предложении слово ДОМ употреблено в значении «семья»?</a:t>
            </a:r>
            <a:endParaRPr b="0" lang="en-US" sz="4200" spc="-1" strike="noStrike">
              <a:solidFill>
                <a:srgbClr val="5f0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94920" y="3068640"/>
            <a:ext cx="818676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a40c0c"/>
              </a:buClr>
              <a:buSzPct val="80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419f0"/>
                </a:solidFill>
                <a:latin typeface="Constantia"/>
              </a:rPr>
              <a:t>Мы знакомы домами.</a:t>
            </a:r>
            <a:endParaRPr b="0" lang="en-US" sz="4000" spc="-1" strike="noStrike">
              <a:solidFill>
                <a:srgbClr val="5f0060"/>
              </a:solidFill>
              <a:latin typeface="Constantia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468360" y="115920"/>
            <a:ext cx="820728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84200" indent="-484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a40c0c"/>
                </a:solidFill>
                <a:latin typeface="Arial"/>
              </a:rPr>
              <a:t>В каком предложении слово ДОМ употреблено в значении «семья»?</a:t>
            </a:r>
            <a:endParaRPr b="0" lang="en-US" sz="4200" spc="-1" strike="noStrike">
              <a:solidFill>
                <a:srgbClr val="5f0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71280" y="1125000"/>
            <a:ext cx="511308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40c0c"/>
                </a:solidFill>
                <a:latin typeface="Arial"/>
              </a:rPr>
              <a:t>Д</a:t>
            </a:r>
            <a:r>
              <a:rPr b="1" i="1" lang="ru-RU" sz="2800" spc="-1" strike="noStrike">
                <a:solidFill>
                  <a:srgbClr val="a40c0c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a40c0c"/>
                </a:solidFill>
                <a:latin typeface="Arial"/>
              </a:rPr>
              <a:t>ма</a:t>
            </a:r>
            <a:br>
              <a:rPr sz="2800"/>
            </a:br>
            <a:endParaRPr b="0" lang="en-US" sz="28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f0060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5f0060"/>
                </a:solidFill>
                <a:latin typeface="Arial"/>
              </a:rPr>
              <a:t>На улице дождь непрерывный,</a:t>
            </a:r>
            <a:br>
              <a:rPr sz="3000"/>
            </a:br>
            <a:r>
              <a:rPr b="0" lang="ru-RU" sz="3000" spc="-1" strike="noStrike">
                <a:solidFill>
                  <a:srgbClr val="5f0060"/>
                </a:solidFill>
                <a:latin typeface="Arial"/>
              </a:rPr>
              <a:t>А дома тепло и светло.</a:t>
            </a:r>
            <a:br>
              <a:rPr sz="3000"/>
            </a:br>
            <a:r>
              <a:rPr b="0" lang="ru-RU" sz="3000" spc="-1" strike="noStrike">
                <a:solidFill>
                  <a:srgbClr val="5f0060"/>
                </a:solidFill>
                <a:latin typeface="Arial"/>
              </a:rPr>
              <a:t>И можно на бурые ливни</a:t>
            </a:r>
            <a:br>
              <a:rPr sz="3000"/>
            </a:br>
            <a:r>
              <a:rPr b="0" lang="ru-RU" sz="3000" spc="-1" strike="noStrike">
                <a:solidFill>
                  <a:srgbClr val="5f0060"/>
                </a:solidFill>
                <a:latin typeface="Arial"/>
              </a:rPr>
              <a:t>Спокойно смотреть сквозь стекло.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f006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5f0060"/>
                </a:solidFill>
                <a:latin typeface="Arial"/>
              </a:rPr>
              <a:t>Тут можно укрыться от зноя,</a:t>
            </a:r>
            <a:br>
              <a:rPr sz="3000"/>
            </a:br>
            <a:r>
              <a:rPr b="0" lang="ru-RU" sz="3000" spc="-1" strike="noStrike">
                <a:solidFill>
                  <a:srgbClr val="5f0060"/>
                </a:solidFill>
                <a:latin typeface="Arial"/>
              </a:rPr>
              <a:t>Спастись от морозного дня.</a:t>
            </a:r>
            <a:br>
              <a:rPr sz="3000"/>
            </a:br>
            <a:r>
              <a:rPr b="0" lang="ru-RU" sz="3000" spc="-1" strike="noStrike">
                <a:solidFill>
                  <a:srgbClr val="5f0060"/>
                </a:solidFill>
                <a:latin typeface="Arial"/>
              </a:rPr>
              <a:t>В хорошее место родное – </a:t>
            </a:r>
            <a:br>
              <a:rPr sz="3000"/>
            </a:br>
            <a:r>
              <a:rPr b="0" lang="ru-RU" sz="3000" spc="-1" strike="noStrike">
                <a:solidFill>
                  <a:srgbClr val="5f0060"/>
                </a:solidFill>
                <a:latin typeface="Arial"/>
              </a:rPr>
              <a:t>Домой так и тянет меня.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5f0060"/>
                </a:solidFill>
                <a:latin typeface="Arial"/>
              </a:rPr>
              <a:t>                                     </a:t>
            </a:r>
            <a:r>
              <a:rPr b="0" i="1" lang="ru-RU" sz="3000" spc="-1" strike="noStrike">
                <a:solidFill>
                  <a:srgbClr val="5f0060"/>
                </a:solidFill>
                <a:latin typeface="Arial"/>
              </a:rPr>
              <a:t>Агния Барто</a:t>
            </a:r>
            <a:endParaRPr b="0" lang="en-US" sz="3000" spc="-1" strike="noStrike">
              <a:solidFill>
                <a:srgbClr val="5f0060"/>
              </a:solidFill>
              <a:latin typeface="Constantia"/>
            </a:endParaRPr>
          </a:p>
        </p:txBody>
      </p:sp>
      <p:pic>
        <p:nvPicPr>
          <p:cNvPr id="322" name="Picture 4" descr=""/>
          <p:cNvPicPr/>
          <p:nvPr/>
        </p:nvPicPr>
        <p:blipFill>
          <a:blip r:embed="rId1"/>
          <a:stretch/>
        </p:blipFill>
        <p:spPr>
          <a:xfrm>
            <a:off x="6227640" y="333360"/>
            <a:ext cx="272592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6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04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94920" y="112500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419f0"/>
                </a:solidFill>
                <a:latin typeface="Times New Roman"/>
              </a:rPr>
              <a:t>      </a:t>
            </a:r>
            <a:r>
              <a:rPr b="0" lang="ru-RU" sz="4400" spc="-1" strike="noStrike">
                <a:solidFill>
                  <a:srgbClr val="1419f0"/>
                </a:solidFill>
                <a:latin typeface="Times New Roman"/>
                <a:ea typeface="Times New Roman"/>
              </a:rPr>
              <a:t>Посмотрите на </a:t>
            </a:r>
            <a:r>
              <a:rPr b="0" lang="ru-RU" sz="4400" spc="-1" strike="noStrike">
                <a:solidFill>
                  <a:srgbClr val="1419f0"/>
                </a:solidFill>
                <a:latin typeface="Times New Roman"/>
              </a:rPr>
              <a:t>фотографии</a:t>
            </a:r>
            <a:r>
              <a:rPr b="0" lang="ru-RU" sz="4400" spc="-1" strike="noStrike">
                <a:solidFill>
                  <a:srgbClr val="1419f0"/>
                </a:solidFill>
                <a:latin typeface="Times New Roman"/>
                <a:ea typeface="Times New Roman"/>
              </a:rPr>
              <a:t> и запишите словосочетания </a:t>
            </a:r>
            <a:br>
              <a:rPr sz="1200"/>
            </a:br>
            <a:br>
              <a:rPr sz="1200"/>
            </a:br>
            <a:r>
              <a:rPr b="0" lang="ru-RU" sz="4400" spc="-1" strike="noStrike">
                <a:solidFill>
                  <a:srgbClr val="1419f0"/>
                </a:solidFill>
                <a:latin typeface="Times New Roman"/>
                <a:ea typeface="Times New Roman"/>
              </a:rPr>
              <a:t>глагол + существительное</a:t>
            </a:r>
            <a:r>
              <a:rPr b="0" lang="ru-RU" sz="4400" spc="-1" strike="noStrike">
                <a:solidFill>
                  <a:srgbClr val="1419f0"/>
                </a:solidFill>
                <a:latin typeface="Times New Roman"/>
              </a:rPr>
              <a:t>, укажите падеж зависимого слова</a:t>
            </a:r>
            <a:r>
              <a:rPr b="0" lang="ru-RU" sz="4400" spc="-1" strike="noStrike">
                <a:solidFill>
                  <a:srgbClr val="1419f0"/>
                </a:solidFill>
                <a:latin typeface="Times New Roman"/>
                <a:ea typeface="Times New Roman"/>
              </a:rPr>
              <a:t>.</a:t>
            </a:r>
            <a:r>
              <a:rPr b="0" lang="ru-RU" sz="4200" spc="-1" strike="noStrike">
                <a:solidFill>
                  <a:srgbClr val="c96262"/>
                </a:solidFill>
                <a:latin typeface="Constantia"/>
              </a:rPr>
              <a:t> </a:t>
            </a:r>
            <a:endParaRPr b="0" lang="en-US" sz="4200" spc="-1" strike="noStrike">
              <a:solidFill>
                <a:srgbClr val="c96262"/>
              </a:solidFill>
              <a:latin typeface="Constantia"/>
            </a:endParaRPr>
          </a:p>
        </p:txBody>
      </p:sp>
      <p:sp>
        <p:nvSpPr>
          <p:cNvPr id="324" name="Line 4"/>
          <p:cNvSpPr/>
          <p:nvPr/>
        </p:nvSpPr>
        <p:spPr>
          <a:xfrm flipV="1">
            <a:off x="1571760" y="357192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325" name="Line 5"/>
          <p:cNvSpPr/>
          <p:nvPr/>
        </p:nvSpPr>
        <p:spPr>
          <a:xfrm>
            <a:off x="1571760" y="357192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f0060"/>
              </a:solidFill>
              <a:latin typeface="Arial"/>
            </a:endParaRPr>
          </a:p>
        </p:txBody>
      </p:sp>
      <p:sp>
        <p:nvSpPr>
          <p:cNvPr id="326" name="Заголовок 1"/>
          <p:cNvSpPr/>
          <p:nvPr/>
        </p:nvSpPr>
        <p:spPr>
          <a:xfrm>
            <a:off x="457200" y="268200"/>
            <a:ext cx="829152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84200" indent="-484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a40c0c"/>
                </a:solidFill>
                <a:latin typeface="Arial"/>
              </a:rPr>
              <a:t>Какие виды работ выполняет строитель?</a:t>
            </a:r>
            <a:endParaRPr b="0" lang="en-US" sz="4200" spc="-1" strike="noStrike">
              <a:solidFill>
                <a:srgbClr val="5f0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826920" y="1717560"/>
            <a:ext cx="6888240" cy="459288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2"/>
          <p:cNvSpPr/>
          <p:nvPr/>
        </p:nvSpPr>
        <p:spPr>
          <a:xfrm>
            <a:off x="468360" y="115920"/>
            <a:ext cx="8229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84200" indent="-484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a40c0c"/>
                </a:solidFill>
                <a:latin typeface="Arial"/>
              </a:rPr>
              <a:t>строит дом</a:t>
            </a:r>
            <a:endParaRPr b="0" lang="en-US" sz="4200" spc="-1" strike="noStrike">
              <a:solidFill>
                <a:srgbClr val="5f0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4" descr=""/>
          <p:cNvPicPr/>
          <p:nvPr/>
        </p:nvPicPr>
        <p:blipFill>
          <a:blip r:embed="rId1"/>
          <a:stretch/>
        </p:blipFill>
        <p:spPr>
          <a:xfrm>
            <a:off x="1042920" y="1940040"/>
            <a:ext cx="6913800" cy="444492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2"/>
          <p:cNvSpPr/>
          <p:nvPr/>
        </p:nvSpPr>
        <p:spPr>
          <a:xfrm>
            <a:off x="468360" y="115920"/>
            <a:ext cx="8229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84200" indent="-484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a40c0c"/>
                </a:solidFill>
                <a:latin typeface="Arial"/>
              </a:rPr>
              <a:t>кладёт кирпич</a:t>
            </a:r>
            <a:endParaRPr b="0" lang="en-US" sz="4200" spc="-1" strike="noStrike">
              <a:solidFill>
                <a:srgbClr val="5f0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4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193080" cy="441000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2"/>
          <p:cNvSpPr/>
          <p:nvPr/>
        </p:nvSpPr>
        <p:spPr>
          <a:xfrm>
            <a:off x="468360" y="115920"/>
            <a:ext cx="8229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84200" indent="-484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a40c0c"/>
                </a:solidFill>
                <a:latin typeface="Arial"/>
              </a:rPr>
              <a:t>штукатурит стены</a:t>
            </a:r>
            <a:endParaRPr b="0" lang="en-US" sz="4200" spc="-1" strike="noStrike">
              <a:solidFill>
                <a:srgbClr val="5f0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1:54:00Z</dcterms:created>
  <dc:creator>123</dc:creator>
  <dc:description/>
  <dc:language>en-US</dc:language>
  <cp:lastModifiedBy>Admin</cp:lastModifiedBy>
  <dcterms:modified xsi:type="dcterms:W3CDTF">2011-03-02T21:33:05Z</dcterms:modified>
  <cp:revision>39</cp:revision>
  <dc:subject/>
  <dc:title>Слайд 1</dc:title>
</cp:coreProperties>
</file>