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787-E079-4204-AA54-0B3D9969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3F1-978F-4E87-9104-8E01C3E6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A12-707A-47B5-A376-459958BE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190-0C35-4EDB-A876-91CE0122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CE1F-D156-4FCA-8496-9A4160FD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1B0E-0906-47EB-9ED1-05A34FA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E2F-6C89-4D90-9607-3A4EF98C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4F26-5C93-448A-8424-1CFC0229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50F5-8FD9-4F78-B7A1-4775B7CA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DAB-43BF-4939-85FD-C91E240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5266-41AF-43C9-BFE6-1DF320C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A66-552B-4591-BE0F-F72A5A55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66E7-F1E7-42BA-A558-C4C5DAF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958E-0E1B-4951-9903-2B94181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77B3-DCF8-4D2D-A2AA-57C93A0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8DD8-43E3-4D4E-B4B1-14488624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4AE6-032C-40D1-96A1-D7B1AF8F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D560-1773-4786-854C-ABD7FDC5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18CC-D978-4915-88DE-5716562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05C0A-EE26-4FF6-BFAA-3010E2D0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1BA3-14A9-41BB-AD1B-125B6AD2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B295-5FF8-40DF-92A0-C51A32CB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6A6-A9AE-4506-94B1-125FDA51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9C1C-5892-4FC3-9AE7-F5EF057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D4A2-17AF-4A00-B640-24A8B679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3F1F-EABE-4E60-9C02-D2C4BB09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2541-20C2-4057-9949-31B88B0D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C566-15E6-4812-B3D1-6E4F002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0612-D325-44B3-9098-4ACE926D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45C5-E55B-488A-9806-7B6D9040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E1E9-E07B-425A-845D-9999471B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97CA-CCFD-4541-962F-B7C7AE78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F8A6-5C90-41C6-8C3A-2BD5948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B03-9D6F-476A-9C82-1DA7991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A629-B51C-4152-B7C3-A5F33F43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89EAB-8D7E-4202-B833-1441A4F8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CB04-AB6A-44C0-8963-D3FF5CEB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2B8E-DEFB-45C0-B116-8FFA426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C418-6767-4588-A666-71660A2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9D681-F39D-4005-AC6E-578F9DA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5EA9E-4D97-46AA-9E44-3AFF4A9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3B2D-1E2F-4688-8869-547130D0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0CEE-AFD1-4339-A38B-F059B873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A77D4-3B52-42DD-B995-C777C532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26B-6106-48C8-A171-431D8994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08031-9565-4FB2-A3B3-FC09CEC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B4037-DC8F-4E53-9A91-FECFA6C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2BE9-157E-4181-80B3-6DE4FB6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C781-6CFF-42CB-BACB-50B0D57A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661C8-00BB-435F-84F1-A01BEC6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5DAB-33FD-4D21-9960-822AE19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72B83-DC0E-4BD8-AEA1-D1193ED0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3DFD-4C09-4449-B15E-442E428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CEE21-F30A-4A11-A98F-F420A8B7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0C84-26FF-42BC-9A83-9602C906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841-B841-42AD-ACCE-2CE61F40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62F7-E83D-49C6-8607-28FCE118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A9005-8012-41C0-92CE-13EDF317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0DE9-34F5-4B73-9EDC-B29FDC9B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BCA5-DD6E-4D3B-A8DE-7F48C241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6080-1FD6-4476-ACA9-CB332C84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7F3F-D776-48DD-9CB2-9ACBC41C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5A1AC-2D9A-4E58-915E-A4417788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F142-ED3A-458E-8500-09885DCA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8AEA2-3FA6-476A-A798-D439F48B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04F5-171A-478C-A91E-CBF5C10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CC0-40C4-49B6-8DA8-AE891D7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9E3B2-F86B-432A-A605-FDF1A5F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9BB55-119B-424C-906F-2AA4A5E1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5EF1-EF81-4BF5-8D77-9B38D37F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2DD30-97A6-4F19-B8AB-4964D188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EF983-D110-4946-81C6-E15F759F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C989B-9331-4013-8F52-3DABB74F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DD30-97A2-4E69-8859-4D193ACD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7C34-FA1D-4E94-B22C-744133B3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0ADA-AFDD-43ED-ABC5-22A12F7C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CEE9-D769-4E44-823B-A5953687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DF7-421F-4E39-B7BA-0554172D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D2611-2FB4-4CA5-AE68-1556DBA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2EF4-EE88-428F-8365-40AA802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5659-1C80-4DA9-8542-473F7CEB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3C264-EE11-4822-BBC1-46BE6C8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434CF-D1AE-4AA4-8A87-22FB033D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9F6-CD92-41F9-A25C-5846B6E9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7D50-65D2-428B-A2D4-B7C92C4055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70000"/>
              </a:gs>
              <a:gs pos="100000">
                <a:srgbClr val="dd7e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2047-D8E5-4DD4-8D25-6D77423BAD3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AC7-0265-4881-B60B-CBF0865787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70000"/>
              </a:gs>
              <a:gs pos="100000">
                <a:srgbClr val="dd7e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5F8A-BAD9-4B91-981D-9DF25BC158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9E4-E513-46DA-9F98-BCA4CED555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3FA-3950-4673-AD1C-B8C2F70FED5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006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8C53-0289-42D9-95E6-99B073159252}" type="slidenum">
              <a:rPr b="0" lang="ru-RU" sz="900" spc="-1" strike="noStrike">
                <a:solidFill>
                  <a:srgbClr val="5f006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61480" cy="24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40c0c"/>
                </a:solidFill>
                <a:latin typeface="Arial"/>
              </a:rPr>
              <a:t>Переходные и непереходные глаголы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белят потолок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714920" y="1857240"/>
            <a:ext cx="4178160" cy="4021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4176720" cy="39830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468360" y="115920"/>
            <a:ext cx="8280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настилает линолеум </a:t>
            </a:r>
            <a:br>
              <a:rPr sz="4200"/>
            </a:b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прибивает плинтус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324000" y="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763640" y="836280"/>
            <a:ext cx="460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троит дом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ладёт кирпич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Штукатурит стены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Белит потолок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леит обои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стилает линолеум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бивает плинтус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40" name="Умножение 21"/>
          <p:cNvSpPr/>
          <p:nvPr/>
        </p:nvSpPr>
        <p:spPr>
          <a:xfrm>
            <a:off x="2556000" y="1125360"/>
            <a:ext cx="214200" cy="2145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1" name="Умножение 22"/>
          <p:cNvSpPr/>
          <p:nvPr/>
        </p:nvSpPr>
        <p:spPr>
          <a:xfrm>
            <a:off x="2700360" y="191628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2" name="Умножение 23"/>
          <p:cNvSpPr/>
          <p:nvPr/>
        </p:nvSpPr>
        <p:spPr>
          <a:xfrm>
            <a:off x="2916360" y="270828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3" name="Умножение 24"/>
          <p:cNvSpPr/>
          <p:nvPr/>
        </p:nvSpPr>
        <p:spPr>
          <a:xfrm>
            <a:off x="2627280" y="342900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4" name="Умножение 25"/>
          <p:cNvSpPr/>
          <p:nvPr/>
        </p:nvSpPr>
        <p:spPr>
          <a:xfrm>
            <a:off x="2484360" y="4221000"/>
            <a:ext cx="214560" cy="2145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5" name="Умножение 26"/>
          <p:cNvSpPr/>
          <p:nvPr/>
        </p:nvSpPr>
        <p:spPr>
          <a:xfrm>
            <a:off x="2700360" y="5084640"/>
            <a:ext cx="214200" cy="2145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6" name="Выгнутая вверх стрелка 28"/>
          <p:cNvSpPr/>
          <p:nvPr/>
        </p:nvSpPr>
        <p:spPr>
          <a:xfrm>
            <a:off x="2771640" y="1052640"/>
            <a:ext cx="1295640" cy="288720"/>
          </a:xfrm>
          <a:custGeom>
            <a:avLst/>
            <a:gdLst>
              <a:gd name="textAreaLeft" fmla="*/ 296640 w 1295640"/>
              <a:gd name="textAreaRight" fmla="*/ 96264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97" hR="21600" stAng="10800000" swAng="5400000"/>
                <a:lnTo>
                  <a:pt x="11102" y="0"/>
                </a:lnTo>
                <a:arcTo wR="9897" hR="21600" stAng="-5400000" swAng="3635814"/>
                <a:lnTo>
                  <a:pt x="21286" y="16200"/>
                </a:lnTo>
                <a:lnTo>
                  <a:pt x="20396" y="21600"/>
                </a:lnTo>
                <a:lnTo>
                  <a:pt x="18877" y="16200"/>
                </a:lnTo>
                <a:lnTo>
                  <a:pt x="19479" y="16200"/>
                </a:lnTo>
                <a:arcTo wR="9897" hR="21600" stAng="-1764186" swAng="-3539770"/>
                <a:lnTo>
                  <a:pt x="10499" y="40"/>
                </a:lnTo>
                <a:arcTo wR="9897" hR="21600" stAng="-5496044" swAng="-5303956"/>
                <a:close/>
              </a:path>
              <a:path fill="darkenLess" w="21600" h="21600">
                <a:moveTo>
                  <a:pt x="0" y="21600"/>
                </a:moveTo>
                <a:arcTo wR="9897" hR="21600" stAng="10800000" swAng="5400000"/>
                <a:lnTo>
                  <a:pt x="9897" y="0"/>
                </a:lnTo>
                <a:arcTo wR="9897" hR="21600" stAng="-5400000" swAng="96044"/>
                <a:lnTo>
                  <a:pt x="10499" y="40"/>
                </a:lnTo>
                <a:arcTo wR="9897" hR="21600" stAng="-5496044" swAng="-53039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7" name="Выгнутая вверх стрелка 29"/>
          <p:cNvSpPr/>
          <p:nvPr/>
        </p:nvSpPr>
        <p:spPr>
          <a:xfrm>
            <a:off x="3059280" y="1700280"/>
            <a:ext cx="1368360" cy="287280"/>
          </a:xfrm>
          <a:custGeom>
            <a:avLst/>
            <a:gdLst>
              <a:gd name="textAreaLeft" fmla="*/ 315000 w 1368360"/>
              <a:gd name="textAreaRight" fmla="*/ 1017360 w 1368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50" hR="21600" stAng="10800000" swAng="5400000"/>
                <a:lnTo>
                  <a:pt x="11084" y="0"/>
                </a:lnTo>
                <a:arcTo wR="9950" hR="21600" stAng="-5400000" swAng="3643657"/>
                <a:lnTo>
                  <a:pt x="21284" y="16200"/>
                </a:lnTo>
                <a:lnTo>
                  <a:pt x="20466" y="21600"/>
                </a:lnTo>
                <a:lnTo>
                  <a:pt x="19016" y="16200"/>
                </a:lnTo>
                <a:lnTo>
                  <a:pt x="19583" y="16200"/>
                </a:lnTo>
                <a:arcTo wR="9950" hR="21600" stAng="-1756343" swAng="-3553290"/>
                <a:lnTo>
                  <a:pt x="10517" y="35"/>
                </a:lnTo>
                <a:arcTo wR="9950" hR="21600" stAng="-5490367" swAng="-5309633"/>
                <a:close/>
              </a:path>
              <a:path fill="darkenLess" w="21600" h="21600">
                <a:moveTo>
                  <a:pt x="0" y="21600"/>
                </a:moveTo>
                <a:arcTo wR="9950" hR="21600" stAng="10800000" swAng="5400000"/>
                <a:lnTo>
                  <a:pt x="9950" y="0"/>
                </a:lnTo>
                <a:arcTo wR="9950" hR="21600" stAng="-5400000" swAng="90367"/>
                <a:lnTo>
                  <a:pt x="10517" y="35"/>
                </a:lnTo>
                <a:arcTo wR="9950" hR="21600" stAng="-5490367" swAng="-5309633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8" name="Выгнутая вверх стрелка 30"/>
          <p:cNvSpPr/>
          <p:nvPr/>
        </p:nvSpPr>
        <p:spPr>
          <a:xfrm>
            <a:off x="3276720" y="2492280"/>
            <a:ext cx="1728720" cy="357120"/>
          </a:xfrm>
          <a:custGeom>
            <a:avLst/>
            <a:gdLst>
              <a:gd name="textAreaLeft" fmla="*/ 398520 w 1728720"/>
              <a:gd name="textAreaRight" fmla="*/ 1285560 w 1728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4" hR="21600" stAng="10800000" swAng="5400000"/>
                <a:lnTo>
                  <a:pt x="11079" y="0"/>
                </a:lnTo>
                <a:arcTo wR="9964" hR="21600" stAng="-5400000" swAng="3645718"/>
                <a:lnTo>
                  <a:pt x="21284" y="16200"/>
                </a:lnTo>
                <a:lnTo>
                  <a:pt x="20485" y="21600"/>
                </a:lnTo>
                <a:lnTo>
                  <a:pt x="19053" y="16200"/>
                </a:lnTo>
                <a:lnTo>
                  <a:pt x="19611" y="16200"/>
                </a:lnTo>
                <a:arcTo wR="9964" hR="21600" stAng="-1754282" swAng="-3556869"/>
                <a:lnTo>
                  <a:pt x="10521" y="34"/>
                </a:lnTo>
                <a:arcTo wR="9964" hR="21600" stAng="-5488848" swAng="-5311152"/>
                <a:close/>
              </a:path>
              <a:path fill="darkenLess" w="21600" h="21600">
                <a:moveTo>
                  <a:pt x="0" y="21600"/>
                </a:moveTo>
                <a:arcTo wR="9964" hR="21600" stAng="10800000" swAng="5400000"/>
                <a:lnTo>
                  <a:pt x="9964" y="0"/>
                </a:lnTo>
                <a:arcTo wR="9964" hR="21600" stAng="-5400000" swAng="88848"/>
                <a:lnTo>
                  <a:pt x="10521" y="34"/>
                </a:lnTo>
                <a:arcTo wR="9964" hR="21600" stAng="-5488848" swAng="-5311152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9" name="Выгнутая вверх стрелка 31"/>
          <p:cNvSpPr/>
          <p:nvPr/>
        </p:nvSpPr>
        <p:spPr>
          <a:xfrm>
            <a:off x="2987640" y="3357720"/>
            <a:ext cx="1285920" cy="288720"/>
          </a:xfrm>
          <a:custGeom>
            <a:avLst/>
            <a:gdLst>
              <a:gd name="textAreaLeft" fmla="*/ 294120 w 1285920"/>
              <a:gd name="textAreaRight" fmla="*/ 955440 w 12859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90" hR="21600" stAng="10800000" swAng="5400000"/>
                <a:lnTo>
                  <a:pt x="11103" y="0"/>
                </a:lnTo>
                <a:arcTo wR="9890" hR="21600" stAng="-5400000" swAng="3634848"/>
                <a:lnTo>
                  <a:pt x="21286" y="16200"/>
                </a:lnTo>
                <a:lnTo>
                  <a:pt x="20387" y="21600"/>
                </a:lnTo>
                <a:lnTo>
                  <a:pt x="18859" y="16200"/>
                </a:lnTo>
                <a:lnTo>
                  <a:pt x="19466" y="16200"/>
                </a:lnTo>
                <a:arcTo wR="9890" hR="21600" stAng="-1765152" swAng="-3538164"/>
                <a:lnTo>
                  <a:pt x="10497" y="41"/>
                </a:lnTo>
                <a:arcTo wR="9890" hR="21600" stAng="-5496684" swAng="-5303316"/>
                <a:close/>
              </a:path>
              <a:path fill="darkenLess" w="21600" h="21600">
                <a:moveTo>
                  <a:pt x="0" y="21600"/>
                </a:moveTo>
                <a:arcTo wR="9890" hR="21600" stAng="10800000" swAng="5400000"/>
                <a:lnTo>
                  <a:pt x="9890" y="0"/>
                </a:lnTo>
                <a:arcTo wR="9890" hR="21600" stAng="-5400000" swAng="96684"/>
                <a:lnTo>
                  <a:pt x="10497" y="41"/>
                </a:lnTo>
                <a:arcTo wR="9890" hR="21600" stAng="-5496684" swAng="-530331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0" name="Выгнутая вверх стрелка 32"/>
          <p:cNvSpPr/>
          <p:nvPr/>
        </p:nvSpPr>
        <p:spPr>
          <a:xfrm>
            <a:off x="2843280" y="4292640"/>
            <a:ext cx="1143000" cy="216000"/>
          </a:xfrm>
          <a:custGeom>
            <a:avLst/>
            <a:gdLst>
              <a:gd name="textAreaLeft" fmla="*/ 265320 w 1143000"/>
              <a:gd name="textAreaRight" fmla="*/ 850680 w 1143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5" hR="21600" stAng="10800000" swAng="5400000"/>
                <a:lnTo>
                  <a:pt x="11055" y="0"/>
                </a:lnTo>
                <a:arcTo wR="10035" hR="21600" stAng="-5400000" swAng="3656175"/>
                <a:lnTo>
                  <a:pt x="21281" y="16200"/>
                </a:lnTo>
                <a:lnTo>
                  <a:pt x="20580" y="21600"/>
                </a:lnTo>
                <a:lnTo>
                  <a:pt x="19241" y="16200"/>
                </a:lnTo>
                <a:lnTo>
                  <a:pt x="19751" y="16200"/>
                </a:lnTo>
                <a:arcTo wR="10035" hR="21600" stAng="-1743825" swAng="-3574916"/>
                <a:lnTo>
                  <a:pt x="10545" y="28"/>
                </a:lnTo>
                <a:arcTo wR="10035" hR="21600" stAng="-5481259" swAng="-5318741"/>
                <a:close/>
              </a:path>
              <a:path fill="darkenLess" w="21600" h="21600">
                <a:moveTo>
                  <a:pt x="0" y="21600"/>
                </a:moveTo>
                <a:arcTo wR="10035" hR="21600" stAng="10800000" swAng="5400000"/>
                <a:lnTo>
                  <a:pt x="10035" y="0"/>
                </a:lnTo>
                <a:arcTo wR="10035" hR="21600" stAng="-5400000" swAng="81259"/>
                <a:lnTo>
                  <a:pt x="10545" y="28"/>
                </a:lnTo>
                <a:arcTo wR="10035" hR="21600" stAng="-5481259" swAng="-531874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1" name="Выгнутая вверх стрелка 33"/>
          <p:cNvSpPr/>
          <p:nvPr/>
        </p:nvSpPr>
        <p:spPr>
          <a:xfrm>
            <a:off x="3348000" y="5013360"/>
            <a:ext cx="1430280" cy="216000"/>
          </a:xfrm>
          <a:custGeom>
            <a:avLst/>
            <a:gdLst>
              <a:gd name="textAreaLeft" fmla="*/ 337320 w 1430280"/>
              <a:gd name="textAreaRight" fmla="*/ 1065960 w 1430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9" hR="21600" stAng="10800000" swAng="5400000"/>
                <a:lnTo>
                  <a:pt x="11005" y="0"/>
                </a:lnTo>
                <a:arcTo wR="10189" hR="21600" stAng="-5400000" swAng="3678245"/>
                <a:lnTo>
                  <a:pt x="21276" y="16200"/>
                </a:lnTo>
                <a:lnTo>
                  <a:pt x="20785" y="21600"/>
                </a:lnTo>
                <a:lnTo>
                  <a:pt x="19646" y="16200"/>
                </a:lnTo>
                <a:lnTo>
                  <a:pt x="20053" y="16200"/>
                </a:lnTo>
                <a:arcTo wR="10189" hR="21600" stAng="-1721755" swAng="-3613266"/>
                <a:lnTo>
                  <a:pt x="10597" y="17"/>
                </a:lnTo>
                <a:arcTo wR="10189" hR="21600" stAng="-5464980" swAng="-5335020"/>
                <a:close/>
              </a:path>
              <a:path fill="darkenLess" w="21600" h="21600">
                <a:moveTo>
                  <a:pt x="0" y="21600"/>
                </a:moveTo>
                <a:arcTo wR="10189" hR="21600" stAng="10800000" swAng="5400000"/>
                <a:lnTo>
                  <a:pt x="10189" y="0"/>
                </a:lnTo>
                <a:arcTo wR="10189" hR="21600" stAng="-5400000" swAng="64980"/>
                <a:lnTo>
                  <a:pt x="10597" y="17"/>
                </a:lnTo>
                <a:arcTo wR="10189" hR="21600" stAng="-5464980" swAng="-533502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2" name="Умножение 26"/>
          <p:cNvSpPr/>
          <p:nvPr/>
        </p:nvSpPr>
        <p:spPr>
          <a:xfrm>
            <a:off x="2916360" y="587700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3" name="Выгнутая вверх стрелка 28"/>
          <p:cNvSpPr/>
          <p:nvPr/>
        </p:nvSpPr>
        <p:spPr>
          <a:xfrm>
            <a:off x="3419640" y="5734080"/>
            <a:ext cx="1295280" cy="288720"/>
          </a:xfrm>
          <a:custGeom>
            <a:avLst/>
            <a:gdLst>
              <a:gd name="textAreaLeft" fmla="*/ 296640 w 1295280"/>
              <a:gd name="textAreaRight" fmla="*/ 962640 w 129528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97" hR="21600" stAng="10800000" swAng="5400000"/>
                <a:lnTo>
                  <a:pt x="11102" y="0"/>
                </a:lnTo>
                <a:arcTo wR="9897" hR="21600" stAng="-5400000" swAng="3635814"/>
                <a:lnTo>
                  <a:pt x="21286" y="16200"/>
                </a:lnTo>
                <a:lnTo>
                  <a:pt x="20396" y="21600"/>
                </a:lnTo>
                <a:lnTo>
                  <a:pt x="18877" y="16200"/>
                </a:lnTo>
                <a:lnTo>
                  <a:pt x="19479" y="16200"/>
                </a:lnTo>
                <a:arcTo wR="9897" hR="21600" stAng="-1764186" swAng="-3539770"/>
                <a:lnTo>
                  <a:pt x="10499" y="40"/>
                </a:lnTo>
                <a:arcTo wR="9897" hR="21600" stAng="-5496044" swAng="-5303956"/>
                <a:close/>
              </a:path>
              <a:path fill="darkenLess" w="21600" h="21600">
                <a:moveTo>
                  <a:pt x="0" y="21600"/>
                </a:moveTo>
                <a:arcTo wR="9897" hR="21600" stAng="10800000" swAng="5400000"/>
                <a:lnTo>
                  <a:pt x="9897" y="0"/>
                </a:lnTo>
                <a:arcTo wR="9897" hR="21600" stAng="-5400000" swAng="96044"/>
                <a:lnTo>
                  <a:pt x="10499" y="40"/>
                </a:lnTo>
                <a:arcTo wR="9897" hR="21600" stAng="-5496044" swAng="-53039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4427640" y="119700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5292720" y="270828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4643280" y="3573360"/>
            <a:ext cx="865440" cy="43200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4356000" y="4365720"/>
            <a:ext cx="86544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5508720" y="522936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5435640" y="595008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4788000" y="191628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Constantia"/>
                <a:ea typeface="Times New Roman"/>
              </a:rPr>
              <a:t>Что общего в значении всех этих глаголов?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3644640"/>
            <a:ext cx="82296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f0060"/>
                </a:solidFill>
                <a:latin typeface="Arial"/>
              </a:rPr>
              <a:t>Действие направлено на какой-то предмет.</a:t>
            </a:r>
            <a:r>
              <a:rPr b="1" lang="ru-RU" sz="3000" spc="-1" strike="noStrike">
                <a:solidFill>
                  <a:srgbClr val="5f006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Constantia"/>
              </a:rPr>
              <a:t>Чтение § 82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24000" y="1196640"/>
            <a:ext cx="865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ывод. </a:t>
            </a:r>
            <a:r>
              <a:rPr b="1" lang="ru-RU" sz="3200" spc="-1" strike="noStrike">
                <a:solidFill>
                  <a:srgbClr val="262699"/>
                </a:solidFill>
                <a:latin typeface="Bookman Old Style"/>
              </a:rPr>
              <a:t>Переходными называются глаголы, выражающее действие, которое переходит или может переходить на другой предмет, название которого ставится в винительном падеже без предлога.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62699"/>
                </a:solidFill>
                <a:uFillTx/>
                <a:latin typeface="Bookman Old Style"/>
              </a:rPr>
              <a:t>Не путать винительный падеж и родительный! Задавать 2 вопроса!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Кого?/Чего?     </a:t>
            </a:r>
            <a:r>
              <a:rPr b="1" lang="ru-RU" sz="3200" spc="-1" strike="noStrike">
                <a:solidFill>
                  <a:srgbClr val="262699"/>
                </a:solidFill>
                <a:latin typeface="Bookman Old Style"/>
              </a:rPr>
              <a:t>и     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Кого?/Что?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4d"/>
                </a:solidFill>
                <a:latin typeface="Constantia"/>
              </a:rPr>
              <a:t>Особые случаи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22228b"/>
                </a:solidFill>
                <a:latin typeface="Book Antiqua"/>
              </a:rPr>
              <a:t>        </a:t>
            </a:r>
            <a:r>
              <a:rPr b="1" lang="ru-RU" sz="3900" spc="-1" strike="noStrike">
                <a:solidFill>
                  <a:srgbClr val="22228b"/>
                </a:solidFill>
                <a:latin typeface="Book Antiqua"/>
              </a:rPr>
              <a:t>Дополнение может стоять при переходном глаголе в родительном падеже:</a:t>
            </a: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75"/>
              </a:spcBef>
              <a:buClr>
                <a:srgbClr val="a40c0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ff0000"/>
                </a:solidFill>
                <a:uFillTx/>
                <a:latin typeface="Book Antiqua"/>
                <a:hlinkClick r:id="rId1" action="ppaction://hlinksldjump"/>
              </a:rPr>
              <a:t>при отрицании,</a:t>
            </a: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75"/>
              </a:spcBef>
              <a:buClr>
                <a:srgbClr val="a40c0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ff0000"/>
                </a:solidFill>
                <a:uFillTx/>
                <a:latin typeface="Book Antiqua"/>
                <a:hlinkClick r:id="rId2" action="ppaction://hlinksldjump"/>
              </a:rPr>
              <a:t>при указании на часть целого</a:t>
            </a: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75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0" y="1700280"/>
            <a:ext cx="6696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Распилил доски –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38840" indent="-37476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38840" indent="-37476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 </a:t>
            </a: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не распилил досок.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8567640" y="607212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a4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6948360" y="1989000"/>
            <a:ext cx="93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7093080" y="4076640"/>
            <a:ext cx="93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Р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Налить бензин – 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налить бензина.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72" name="AutoShape 4">
            <a:hlinkClick r:id="rId1" action="ppaction://hlinksldjump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a4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6732720" y="2205000"/>
            <a:ext cx="93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04000" y="4221000"/>
            <a:ext cx="93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Р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67840"/>
            <a:ext cx="821844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       </a:t>
            </a: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Вспомните, как называются глаголы с суффиксом </a:t>
            </a:r>
            <a:r>
              <a:rPr b="0" i="1" lang="ru-RU" sz="4200" spc="-1" strike="noStrike">
                <a:solidFill>
                  <a:srgbClr val="a40c0c"/>
                </a:solidFill>
                <a:latin typeface="Arial"/>
              </a:rPr>
              <a:t>-ся</a:t>
            </a: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419f0"/>
                </a:solidFill>
                <a:latin typeface="Arial"/>
              </a:rPr>
              <a:t>Возвратные глаголы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В чём особенность возвратных глаголов?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419f0"/>
                </a:solidFill>
                <a:latin typeface="Arial"/>
              </a:rPr>
              <a:t>Действие возвращается на предмет, который его производит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Как вы думаете, возвратные глаголы могут быть переходными? 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419f0"/>
                </a:solidFill>
                <a:latin typeface="Arial"/>
              </a:rPr>
              <a:t>Нет, потому что у переходных глаголов действие переходит на другой предмет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Constantia"/>
              </a:rPr>
              <a:t>Цели: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ознакомиться с понятием «переходные–непереходные глаголы»;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узнать о связи категорий «возвратность–переходность»;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научиться различать переходные и непереходные глаголы, образовывать возвратные глаголы;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равильно употреблять винительный и родительный падежи существительных.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96262"/>
                </a:solidFill>
                <a:latin typeface="Arial"/>
              </a:rPr>
              <a:t>Сравните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убедить – убедит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я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остановить – остановит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я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одеть – одел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ь</a:t>
            </a: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причесать – причесал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ь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80" name="Rectangle 4">
            <a:hlinkClick r:id="rId1" action="ppaction://hlinksldjump"/>
          </p:cNvPr>
          <p:cNvSpPr/>
          <p:nvPr/>
        </p:nvSpPr>
        <p:spPr>
          <a:xfrm>
            <a:off x="684360" y="5229360"/>
            <a:ext cx="7920000" cy="1295280"/>
          </a:xfrm>
          <a:prstGeom prst="rect">
            <a:avLst/>
          </a:prstGeom>
          <a:solidFill>
            <a:srgbClr val="a40c0c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мни: 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возвратные глаголы – непереходные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200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5f0060"/>
                </a:solidFill>
                <a:latin typeface="Constantia"/>
              </a:rPr>
              <a:t>МАЛЯР</a:t>
            </a:r>
            <a:endParaRPr b="0" lang="en-US" sz="8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spcBef>
                <a:spcPts val="2200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5f0060"/>
                </a:solidFill>
                <a:latin typeface="Constantia"/>
              </a:rPr>
              <a:t>ШТУКАТУР</a:t>
            </a:r>
            <a:endParaRPr b="0" lang="en-US" sz="88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90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0060"/>
                </a:solidFill>
                <a:latin typeface="Arial"/>
              </a:rPr>
              <a:t>выбрать какую-то профессию и описать действия, которые выполняет данный специалист. Подчеркните переходные глаголы в получившемся тексте.</a:t>
            </a: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Итоги урока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Какие глаголы называются переходными?</a:t>
            </a: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Как соотносятся категории переходности и возвратности?</a:t>
            </a: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0c0c"/>
                </a:solidFill>
                <a:latin typeface="Arial"/>
              </a:rPr>
              <a:t>Рефлексия учащихся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Я вспомнил, что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Я узнал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Я понял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Особенно понравилось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Вызвало затруднение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Было сложно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6840" y="3071880"/>
            <a:ext cx="81867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Мы знакомы домами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В одном переулке стояли дома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Родина – наш общий дом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Летом мы были в доме отдыха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468360" y="115920"/>
            <a:ext cx="82072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В каком предложении слово ДОМ употреблено в значении «семья»?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4920" y="3068640"/>
            <a:ext cx="81867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Мы знакомы домами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68360" y="115920"/>
            <a:ext cx="82072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В каком предложении слово ДОМ употреблено в значении «семья»?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51130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40c0c"/>
                </a:solidFill>
                <a:latin typeface="Arial"/>
              </a:rPr>
              <a:t>Д</a:t>
            </a:r>
            <a:r>
              <a:rPr b="1" i="1" lang="ru-RU" sz="2800" spc="-1" strike="noStrike">
                <a:solidFill>
                  <a:srgbClr val="a40c0c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a40c0c"/>
                </a:solidFill>
                <a:latin typeface="Arial"/>
              </a:rPr>
              <a:t>ма</a:t>
            </a:r>
            <a:br>
              <a:rPr sz="2800"/>
            </a:br>
            <a:endParaRPr b="0" lang="en-US" sz="28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На улице дождь непрерывный,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А дома тепло и светло.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И можно на бурые ливни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Спокойно смотреть сквозь стекло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Тут можно укрыться от зноя,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Спастись от морозного дня.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В хорошее место родное – 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Домой так и тянет меня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f0060"/>
                </a:solidFill>
                <a:latin typeface="Arial"/>
              </a:rPr>
              <a:t>                                     </a:t>
            </a:r>
            <a:r>
              <a:rPr b="0" i="1" lang="ru-RU" sz="3000" spc="-1" strike="noStrike">
                <a:solidFill>
                  <a:srgbClr val="5f0060"/>
                </a:solidFill>
                <a:latin typeface="Arial"/>
              </a:rPr>
              <a:t>Агния Барто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7259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419f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Посмотрите на 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</a:rPr>
              <a:t>фотографии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 и запишите словосочетания </a:t>
            </a:r>
            <a:br>
              <a:rPr sz="1200"/>
            </a:br>
            <a:br>
              <a:rPr sz="1200"/>
            </a:b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глагол + существительное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</a:rPr>
              <a:t>, укажите падеж зависимого слова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.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24" name="Line 4"/>
          <p:cNvSpPr/>
          <p:nvPr/>
        </p:nvSpPr>
        <p:spPr>
          <a:xfrm flipV="1">
            <a:off x="1571760" y="357192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571760" y="357192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26" name="Заголовок 1"/>
          <p:cNvSpPr/>
          <p:nvPr/>
        </p:nvSpPr>
        <p:spPr>
          <a:xfrm>
            <a:off x="457200" y="268200"/>
            <a:ext cx="82915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Arial"/>
              </a:rPr>
              <a:t>Какие виды работ выполняет строитель?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826920" y="1717560"/>
            <a:ext cx="6888240" cy="45928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строит дом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042920" y="1940040"/>
            <a:ext cx="6913800" cy="4444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кладёт кирпич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193080" cy="44100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штукатурит стены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1:54:00Z</dcterms:created>
  <dc:creator>123</dc:creator>
  <dc:description/>
  <dc:language>en-US</dc:language>
  <cp:lastModifiedBy>Admin</cp:lastModifiedBy>
  <dcterms:modified xsi:type="dcterms:W3CDTF">2011-03-02T21:33:05Z</dcterms:modified>
  <cp:revision>39</cp:revision>
  <dc:subject/>
  <dc:title>Слайд 1</dc:title>
</cp:coreProperties>
</file>