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BF76-F19F-4662-B7CE-0BBF88764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30E3-279A-4A03-864F-C947C1B9929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6097-0A45-4A91-A861-76912CBA0CF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DB79-1E7E-4D84-98A3-FEA2F6CBD19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4C93-B792-43A1-AFAD-B22EC8A3068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67C7-8283-475F-9E31-DE57FFFEC9C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C6D-9FE8-4878-9B7B-7F7A2410EF1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6CD2-728E-41FB-AD09-BD6C0BCB353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324C-81A2-469F-8947-64C5C4FCCA4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17E3-606A-43C8-B94F-EDA7A9A61BD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A456-CDA7-4962-97FC-137456915C7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DE66-C4DD-43B8-9702-92BF7C6DE62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1207-C192-48AF-B6C8-4C8DD156C23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052-7791-49BA-9291-F5B58486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540-D72A-4DFC-9B9F-47B0796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509-AF39-4A2E-BCAF-C8D2243A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A93-0BAE-4310-95F4-4DAC0147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BD1B-592E-4E0D-8C96-CD3E4D77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B809-B081-44BF-9C00-815E25D9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CDCB-F255-4729-924D-F53D8418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3FD-B2FF-43A1-B3D9-71E6166D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1BED-E9A7-4732-9A47-67BB4C1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D959-09CF-4C29-9ED8-6B412189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6C0B-2EF6-4E6D-BCE7-AA7E54A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2F8-AF69-4A0D-A9F6-EDDF55B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A699-AD95-4C3E-8294-E4E6944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378B-44DA-4803-B3E6-F47343DC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B348-434F-47FF-9B28-B3159469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47F4-BA77-4EB3-A4AF-C50E97DC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B5A9-31F7-412A-BDD2-336F6A9E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D2B-1EE2-47BE-840A-3069C23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3E5-FDCF-4E79-8FDE-4705D47B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735-93B7-416F-941F-0400888D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90A-51E1-4D36-8638-E8CF3639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761-92A5-492F-A6F0-E0341DF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0C2-AC4C-4848-B2B8-8BB491A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746-0EE3-42A1-AF8E-4F6680F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1318-DE22-4103-A7CF-0A325A1EC9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5573-474F-4246-B5B2-B0BF8E18E5E5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103;&#1085;&#1074;&#1072;&#1088;&#1103;" TargetMode="External"/><Relationship Id="rId2" Type="http://schemas.openxmlformats.org/officeDocument/2006/relationships/hyperlink" Target="http://ru.wikipedia.org/wiki/1699_&#1075;&#1086;&#1076;" TargetMode="External"/><Relationship Id="rId3" Type="http://schemas.openxmlformats.org/officeDocument/2006/relationships/hyperlink" Target="http://ru.wikipedia.org/wiki/1700_&#1075;&#1086;&#1076;" TargetMode="External"/><Relationship Id="rId4" Type="http://schemas.openxmlformats.org/officeDocument/2006/relationships/hyperlink" Target="http://ru.wikipedia.org/wiki/&#1053;&#1086;&#1074;&#1099;&#1081;_&#1043;&#1086;&#1076;" TargetMode="External"/><Relationship Id="rId5" Type="http://schemas.openxmlformats.org/officeDocument/2006/relationships/hyperlink" Target="http://ru.wikipedia.org/wiki/&#1053;&#1086;&#1074;&#1086;&#1075;&#1086;&#1076;&#1085;&#1103;&#1103;_&#1105;&#1083;&#1082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78;&#1076;&#1077;&#1089;&#1090;&#1074;&#1086;" TargetMode="External"/><Relationship Id="rId2" Type="http://schemas.openxmlformats.org/officeDocument/2006/relationships/hyperlink" Target="http://ru.wikipedia.org/wiki/1910_&#1075;&#1086;&#1076;" TargetMode="External"/><Relationship Id="rId3" Type="http://schemas.openxmlformats.org/officeDocument/2006/relationships/hyperlink" Target="http://ru.wikipedia.org/wiki/&#1053;&#1086;&#1074;&#1086;&#1075;&#1086;&#1076;&#1085;&#1103;&#1103;_&#1105;&#1083;&#1082;&#1072;" TargetMode="External"/><Relationship Id="rId4" Type="http://schemas.openxmlformats.org/officeDocument/2006/relationships/hyperlink" Target="http://ru.wikipedia.org/wiki/&#1055;&#1086;&#1076;&#1072;&#1088;&#1086;&#1082;" TargetMode="External"/><Relationship Id="rId5" Type="http://schemas.openxmlformats.org/officeDocument/2006/relationships/hyperlink" Target="http://ru.wikipedia.org/wiki/&#1057;&#1085;&#1077;&#1075;&#1091;&#1088;&#1086;&#1095;&#1082;&#107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31_&#1076;&#1077;&#1082;&#1072;&#1073;&#1088;&#1103;" TargetMode="External"/><Relationship Id="rId2" Type="http://schemas.openxmlformats.org/officeDocument/2006/relationships/hyperlink" Target="http://ru.wikipedia.org/wiki/&#1064;&#1072;&#1084;&#1087;&#1072;&#1085;&#1089;&#1082;&#1086;&#1077;" TargetMode="External"/><Relationship Id="rId3" Type="http://schemas.openxmlformats.org/officeDocument/2006/relationships/hyperlink" Target="http://ru.wikipedia.org/wiki/&#1057;&#1072;&#1083;&#1072;&#1090;" TargetMode="External"/><Relationship Id="rId4" Type="http://schemas.openxmlformats.org/officeDocument/2006/relationships/hyperlink" Target="http://ru.wikipedia.org/wiki/&#1054;&#1083;&#1080;&#1074;&#1100;&#1077;_%28&#1089;&#1072;&#1083;&#1072;&#1090;%29" TargetMode="External"/><Relationship Id="rId5" Type="http://schemas.openxmlformats.org/officeDocument/2006/relationships/hyperlink" Target="http://ru.wikipedia.org/wiki/&#1057;&#1077;&#1083;&#1100;&#1076;&#1100;_&#1087;&#1086;&#1076;_&#1096;&#1091;&#1073;&#1086;&#1081;" TargetMode="External"/><Relationship Id="rId6" Type="http://schemas.openxmlformats.org/officeDocument/2006/relationships/hyperlink" Target="http://ru.wikipedia.org/wiki/&#1052;&#1072;&#1085;&#1076;&#1072;&#1088;&#1080;&#1085;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31_&#1076;&#1077;&#1082;&#1072;&#1073;&#1088;&#1103;" TargetMode="External"/><Relationship Id="rId2" Type="http://schemas.openxmlformats.org/officeDocument/2006/relationships/hyperlink" Target="http://ru.wikipedia.org/wiki/&#1043;&#1083;&#1072;&#1074;&#1072;_&#1075;&#1086;&#1089;&#1091;&#1076;&#1072;&#1088;&#1089;&#1090;&#1074;&#1072;" TargetMode="External"/><Relationship Id="rId3" Type="http://schemas.openxmlformats.org/officeDocument/2006/relationships/hyperlink" Target="http://ru.wikipedia.org/wiki/&#1043;&#1083;&#1072;&#1074;&#1072;_&#1075;&#1086;&#1089;&#1091;&#1076;&#1072;&#1088;&#1089;&#1090;&#1074;&#1072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360" y="-540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116000" y="5886360"/>
            <a:ext cx="64008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1042920" y="1628640"/>
            <a:ext cx="7489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Новый год 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огодние примет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а Руси к Новому году выпекали из теста домашних животных: коней, коров, быков. А когда в дом приходили колядовать, гостей одаривали этими фигурками, разными сладостями, орехами. Также считали, что Новый год надо встречать в новом платье и обуви - тогда весь год ходить в обновках. Обычно перед Новым годом отдавали все долги, прощали все обиды, те, кто были в ссоре, обязаны были помириться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9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то во время новогодней пирушки много чихает, тот весь год проживет счастливо. «Сколько раз чихнешь – столько девушек тебя полюбят».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 Новому году стараются закончить все свои дела, особенно неприятные, для того, чтобы они не перешли в следующий год. Однако спешка и неминуемое при этом ослабление внимания к окружающей обстановке – главный ваш враг в самый канун Нового года. Взгляните на жизнь реально: то чего вы не успеете сделать до 17 часов, пусть перейдет на другой год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53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WordArt 4"/>
          <p:cNvSpPr txBox="1"/>
          <p:nvPr/>
        </p:nvSpPr>
        <p:spPr>
          <a:xfrm>
            <a:off x="971640" y="2565360"/>
            <a:ext cx="7129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новым год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ак появился Новый год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 России начало года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1 января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введено первым российским императором Петром I в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1699 году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, став одним из его реформ. Новый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1700 год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праздновался в Москве по царскому приказанию целых семь дней; домовладельцы должны были ставить перед домами и воротами, для украшения, хвойные деревья, и каждый вечер зажигались смоляные бочки, пускались ракеты, палили из двухсот пушек перед Кремлем и в частных дворах из маленьких орудий. Все это делалось на заграничный образец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Но по-настоящему всероссийским праздником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Новый Год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стал в ХХ веке. Традиций празднования Нового Года в России довольно много. Часть из них заимствованы из германской культуры (как в старые времена, так и в новое время), часть ведут своё начало от славянских языческих традиций, некоторые являются своего рода имитацией православных традиций в то время, когда религиозность не поощрялась, и, наконец, особое место занимают советские новогодние традиции. От времен славянского язычества были унаследованы народные гулянья, ряженые, скоморохи и шуты, новогодние гадания. Православные традиции принесли традиционные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украшенные ели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, новогодние колядки. Эпоха Петра Первого и последующих правителей-реформаторов принесла фейерверки и новогодний стол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дравствуй Дедушка Мороз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д Мороз — сказочный персонаж, символ Нового Года в Росс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д Мороз впервые появился на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Рождество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1910 году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однако не приобрёл широкого распространения. В советское время был распространён новый образ: он являлся детям под Новый год и оставляет под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ёлкой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подарки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детям, которые хорошо себя вели в течение года. Работает он не один, ему помогает внучка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Снегурочка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6"/>
          <a:stretch/>
        </p:blipFill>
        <p:spPr>
          <a:xfrm>
            <a:off x="2700360" y="4365720"/>
            <a:ext cx="367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огодняя ёл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284360" y="1413000"/>
            <a:ext cx="4173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Как известно, обычай украшать жилище еловыми ветками, пошел от Петра Первого. В 30-е годы XIX века ёлки ставились на праздник только в домах петербургских немцев. К концу XIX века ёлки стали главным украшением и городских и деревенских домов и в XX веке были неотделимы от зимних праздников вплоть до 1918 года, когда из-за принадлежности украшенной ёлки к Рождеству (то есть религии церкви) она была запрещена на целых 17 лет (до 1935). И только в 1949 году 1 января стал нерабочим днём. Так что ставить ёлочки в домах это не такое уж и древнее изобретение, как может показаться. Ему у нас на Руси лет 60-65. 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4360" y="1152360"/>
            <a:ext cx="35272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овогодний сто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4102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и встрече Нового года близкие люди собираются за новогодним столом обычно вечером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31 декабря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уходящего года. В полном варианте празднования Нового Года собравшиеся сначала «провожают» старый год — вспоминают, чем он запомнился или что в нём было главным для каждого из собравшихся; желают друг другу, чтобы всё лучшее из старого года перешло в новы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еизменными атрибутами новогоднего стола в России по традиции являются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шампанско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салат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«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Оливь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» и «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сельдь под шубой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»,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мандарин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7"/>
          <a:stretch/>
        </p:blipFill>
        <p:spPr>
          <a:xfrm>
            <a:off x="4788000" y="2492280"/>
            <a:ext cx="43560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Новогоднее обращение главы государств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России за несколько минут до наступления нового года ( в 23:55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31 декабря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)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глава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государств</a:t>
            </a:r>
            <a:r>
              <a:rPr b="0" lang="ru-RU" sz="2800" spc="-1" strike="noStrike">
                <a:solidFill>
                  <a:srgbClr val="cc0099"/>
                </a:solidFill>
                <a:latin typeface="Arial Black"/>
              </a:rPr>
              <a:t>а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бращается к своему народу с речью, в которой обычно подводит некоторые из итогов прошедшего года, желает удачи гражданам в новом году. Обращение транслируется средствами массовой информац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Традиции празднования Нового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ой Курантов на Спасской башне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752720" cy="429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раздничный салю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755640" y="1720800"/>
            <a:ext cx="6840720" cy="4935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огодние подар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1763640" y="1589040"/>
            <a:ext cx="5688000" cy="496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9:00:37Z</dcterms:created>
  <dc:creator>emachines</dc:creator>
  <dc:description/>
  <dc:language>en-US</dc:language>
  <cp:lastModifiedBy>Коля</cp:lastModifiedBy>
  <dcterms:modified xsi:type="dcterms:W3CDTF">2013-03-24T18:42:44Z</dcterms:modified>
  <cp:revision>4</cp:revision>
  <dc:subject/>
  <dc:title>Новый год в России</dc:title>
</cp:coreProperties>
</file>