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8652-9594-4CE0-B344-0A150A4D9C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D8F0-72D3-4BAD-9D96-81F4520BDFD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7894-2BED-4CA5-BC06-74EF309FC70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25C6-85BA-42BC-AD28-ED93A422B61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E78-F273-4936-A10A-314B78AA5570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211E-A740-4039-9580-CD4CC38A9C4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65D2-A240-4B59-9B50-210098C5E69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66AC-228B-467C-B6A5-A7883B6FBAF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1E06-D477-4578-B639-C6F9B0F06F2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FD3B-6F86-48B5-BBF1-684A7CE251C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66B6-0407-4199-83B1-8F73EF8D41A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952-1873-4962-9F5C-C71C9F19E6AE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F304-F485-45D9-B1F8-165DC45CDA6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F14-2D59-478F-BB53-30F3B5F0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D86-702E-4AFC-B606-6BFA220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359-BCFF-4BFC-94B2-7864F9E9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2794-F6E4-44A9-A824-4F4E6790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9E85-81FA-4E26-BFDA-ACF89AB4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5A59-B4E1-4279-9EEB-0895033C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FD50-2EAB-45F0-9C23-16D8482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4C17-5D25-4AAE-A9D7-EC0BC623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8B0B-C211-45AD-B5DF-18A6C0C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03AE-B0F2-4F4A-BBD4-BCAF4B9B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4B4A-55AA-4E19-A47B-CC40EF6B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1E5-F90F-4DA0-92EB-F2B12EA4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8B7E-DA2B-4B45-AE3E-D6892FE7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B4D3-6030-40B1-9ED3-AB30A534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9D32F-1B24-46EE-B551-288B4E38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159D-4E9E-48FF-892C-20963105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350E-D45E-46C8-A196-487A008E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3A0-1957-48B9-B6E7-884190BF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B08-954A-4B75-AC86-942DA61B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79C-8B69-4027-8D76-AAB37B50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22C-6683-4DB9-9424-F0661418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8922-FB76-42BA-BB24-E8B726D3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49BE-3347-4B38-878A-63416A5A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AB9-B7A1-426E-B01D-0B75CC7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BF18-95E6-401E-9E3A-9EABC8DCAC6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23CD-E11B-463F-9857-74824E766E40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_&#1103;&#1085;&#1074;&#1072;&#1088;&#1103;" TargetMode="External"/><Relationship Id="rId2" Type="http://schemas.openxmlformats.org/officeDocument/2006/relationships/hyperlink" Target="http://ru.wikipedia.org/wiki/1699_&#1075;&#1086;&#1076;" TargetMode="External"/><Relationship Id="rId3" Type="http://schemas.openxmlformats.org/officeDocument/2006/relationships/hyperlink" Target="http://ru.wikipedia.org/wiki/1700_&#1075;&#1086;&#1076;" TargetMode="External"/><Relationship Id="rId4" Type="http://schemas.openxmlformats.org/officeDocument/2006/relationships/hyperlink" Target="http://ru.wikipedia.org/wiki/&#1053;&#1086;&#1074;&#1099;&#1081;_&#1043;&#1086;&#1076;" TargetMode="External"/><Relationship Id="rId5" Type="http://schemas.openxmlformats.org/officeDocument/2006/relationships/hyperlink" Target="http://ru.wikipedia.org/wiki/&#1053;&#1086;&#1074;&#1086;&#1075;&#1086;&#1076;&#1085;&#1103;&#1103;_&#1105;&#1083;&#1082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86;&#1078;&#1076;&#1077;&#1089;&#1090;&#1074;&#1086;" TargetMode="External"/><Relationship Id="rId2" Type="http://schemas.openxmlformats.org/officeDocument/2006/relationships/hyperlink" Target="http://ru.wikipedia.org/wiki/1910_&#1075;&#1086;&#1076;" TargetMode="External"/><Relationship Id="rId3" Type="http://schemas.openxmlformats.org/officeDocument/2006/relationships/hyperlink" Target="http://ru.wikipedia.org/wiki/&#1053;&#1086;&#1074;&#1086;&#1075;&#1086;&#1076;&#1085;&#1103;&#1103;_&#1105;&#1083;&#1082;&#1072;" TargetMode="External"/><Relationship Id="rId4" Type="http://schemas.openxmlformats.org/officeDocument/2006/relationships/hyperlink" Target="http://ru.wikipedia.org/wiki/&#1055;&#1086;&#1076;&#1072;&#1088;&#1086;&#1082;" TargetMode="External"/><Relationship Id="rId5" Type="http://schemas.openxmlformats.org/officeDocument/2006/relationships/hyperlink" Target="http://ru.wikipedia.org/wiki/&#1057;&#1085;&#1077;&#1075;&#1091;&#1088;&#1086;&#1095;&#1082;&#1072;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31_&#1076;&#1077;&#1082;&#1072;&#1073;&#1088;&#1103;" TargetMode="External"/><Relationship Id="rId2" Type="http://schemas.openxmlformats.org/officeDocument/2006/relationships/hyperlink" Target="http://ru.wikipedia.org/wiki/&#1064;&#1072;&#1084;&#1087;&#1072;&#1085;&#1089;&#1082;&#1086;&#1077;" TargetMode="External"/><Relationship Id="rId3" Type="http://schemas.openxmlformats.org/officeDocument/2006/relationships/hyperlink" Target="http://ru.wikipedia.org/wiki/&#1057;&#1072;&#1083;&#1072;&#1090;" TargetMode="External"/><Relationship Id="rId4" Type="http://schemas.openxmlformats.org/officeDocument/2006/relationships/hyperlink" Target="http://ru.wikipedia.org/wiki/&#1054;&#1083;&#1080;&#1074;&#1100;&#1077;_%28&#1089;&#1072;&#1083;&#1072;&#1090;%29" TargetMode="External"/><Relationship Id="rId5" Type="http://schemas.openxmlformats.org/officeDocument/2006/relationships/hyperlink" Target="http://ru.wikipedia.org/wiki/&#1057;&#1077;&#1083;&#1100;&#1076;&#1100;_&#1087;&#1086;&#1076;_&#1096;&#1091;&#1073;&#1086;&#1081;" TargetMode="External"/><Relationship Id="rId6" Type="http://schemas.openxmlformats.org/officeDocument/2006/relationships/hyperlink" Target="http://ru.wikipedia.org/wiki/&#1052;&#1072;&#1085;&#1076;&#1072;&#1088;&#1080;&#1085;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31_&#1076;&#1077;&#1082;&#1072;&#1073;&#1088;&#1103;" TargetMode="External"/><Relationship Id="rId2" Type="http://schemas.openxmlformats.org/officeDocument/2006/relationships/hyperlink" Target="http://ru.wikipedia.org/wiki/&#1043;&#1083;&#1072;&#1074;&#1072;_&#1075;&#1086;&#1089;&#1091;&#1076;&#1072;&#1088;&#1089;&#1090;&#1074;&#1072;" TargetMode="External"/><Relationship Id="rId3" Type="http://schemas.openxmlformats.org/officeDocument/2006/relationships/hyperlink" Target="http://ru.wikipedia.org/wiki/&#1043;&#1083;&#1072;&#1074;&#1072;_&#1075;&#1086;&#1089;&#1091;&#1076;&#1072;&#1088;&#1089;&#1090;&#1074;&#1072;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360" y="-5400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116000" y="5886360"/>
            <a:ext cx="640080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WordArt 4"/>
          <p:cNvSpPr txBox="1"/>
          <p:nvPr/>
        </p:nvSpPr>
        <p:spPr>
          <a:xfrm>
            <a:off x="1042920" y="1628640"/>
            <a:ext cx="748980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Новый год в 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огодние примет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а Руси к Новому году выпекали из теста домашних животных: коней, коров, быков. А когда в дом приходили колядовать, гостей одаривали этими фигурками, разными сладостями, орехами. Также считали, что Новый год надо встречать в новом платье и обуви - тогда весь год ходить в обновках. Обычно перед Новым годом отдавали все долги, прощали все обиды, те, кто были в ссоре, обязаны были помириться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094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то во время новогодней пирушки много чихает, тот весь год проживет счастливо. «Сколько раз чихнешь – столько девушек тебя полюбят».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К Новому году стараются закончить все свои дела, особенно неприятные, для того, чтобы они не перешли в следующий год. Однако спешка и неминуемое при этом ослабление внимания к окружающей обстановке – главный ваш враг в самый канун Нового года. Взгляните на жизнь реально: то чего вы не успеете сделать до 17 часов, пусть перейдет на другой год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53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WordArt 4"/>
          <p:cNvSpPr txBox="1"/>
          <p:nvPr/>
        </p:nvSpPr>
        <p:spPr>
          <a:xfrm>
            <a:off x="971640" y="2565360"/>
            <a:ext cx="7129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 новым год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ак появился Новый год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В России начало года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1 января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введено первым российским императором Петром I в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1699 году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, став одним из его реформ. Новый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1700 год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праздновался в Москве по царскому приказанию целых семь дней; домовладельцы должны были ставить перед домами и воротами, для украшения, хвойные деревья, и каждый вечер зажигались смоляные бочки, пускались ракеты, палили из двухсот пушек перед Кремлем и в частных дворах из маленьких орудий. Все это делалось на заграничный образец.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   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Но по-настоящему всероссийским праздником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Новый Год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 стал в ХХ веке. Традиций празднования Нового Года в России довольно много. Часть из них заимствованы из германской культуры (как в старые времена, так и в новое время), часть ведут своё начало от славянских языческих традиций, некоторые являются своего рода имитацией православных традиций в то время, когда религиозность не поощрялась, и, наконец, особое место занимают советские новогодние традиции. От времен славянского язычества были унаследованы народные гулянья, ряженые, скоморохи и шуты, новогодние гадания. Православные традиции принесли традиционные </a:t>
            </a:r>
            <a:r>
              <a:rPr b="0" lang="ru-RU" sz="16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украшенные ели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, новогодние колядки. Эпоха Петра Первого и последующих правителей-реформаторов принесла фейерверки и новогодний стол.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Здравствуй Дедушка Мороз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д Мороз — сказочный персонаж, символ Нового Года в России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Дед Мороз впервые появился на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Рождество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в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1910 году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однако не приобрёл широкого распространения. В советское время был распространён новый образ: он являлся детям под Новый год и оставляет под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ёлкой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подарки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детям, которые хорошо себя вели в течение года. Работает он не один, ему помогает внучка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Снегурочка</a:t>
            </a: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6"/>
          <a:stretch/>
        </p:blipFill>
        <p:spPr>
          <a:xfrm>
            <a:off x="2700360" y="4365720"/>
            <a:ext cx="367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огодняя ёлк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284360" y="1413000"/>
            <a:ext cx="4173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600" spc="-1" strike="noStrike">
                <a:solidFill>
                  <a:srgbClr val="ffcc00"/>
                </a:solidFill>
                <a:latin typeface="Arial Black"/>
              </a:rPr>
              <a:t>Как известно, обычай украшать жилище еловыми ветками, пошел от Петра Первого. В 30-е годы XIX века ёлки ставились на праздник только в домах петербургских немцев. К концу XIX века ёлки стали главным украшением и городских и деревенских домов и в XX веке были неотделимы от зимних праздников вплоть до 1918 года, когда из-за принадлежности украшенной ёлки к Рождеству (то есть религии церкви) она была запрещена на целых 17 лет (до 1935). И только в 1949 году 1 января стал нерабочим днём. Так что ставить ёлочки в домах это не такое уж и древнее изобретение, как может показаться. Ему у нас на Руси лет 60-65. 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4360" y="1152360"/>
            <a:ext cx="352728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Новогодний стол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4102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При встрече Нового года близкие люди собираются за новогодним столом обычно вечером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31 декабря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уходящего года. В полном варианте празднования Нового Года собравшиеся сначала «провожают» старый год — вспоминают, чем он запомнился или что в нём было главным для каждого из собравшихся; желают друг другу, чтобы всё лучшее из старого года перешло в новый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Неизменными атрибутами новогоднего стола в России по традиции являются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шампанско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,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салат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«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Оливье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» и «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сельдь под шубой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», </a:t>
            </a:r>
            <a:r>
              <a:rPr b="0" lang="ru-RU" sz="20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мандарины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7"/>
          <a:stretch/>
        </p:blipFill>
        <p:spPr>
          <a:xfrm>
            <a:off x="4788000" y="2492280"/>
            <a:ext cx="43560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Новогоднее обращение главы государств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В России за несколько минут до наступления нового года ( в 23:55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31 декабря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)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глава </a:t>
            </a:r>
            <a:r>
              <a:rPr b="0" lang="ru-RU" sz="28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государств</a:t>
            </a:r>
            <a:r>
              <a:rPr b="0" lang="ru-RU" sz="2800" spc="-1" strike="noStrike">
                <a:solidFill>
                  <a:srgbClr val="cc0099"/>
                </a:solidFill>
                <a:latin typeface="Arial Black"/>
              </a:rPr>
              <a:t>а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обращается к своему народу с речью, в которой обычно подводит некоторые из итогов прошедшего года, желает удачи гражданам в новом году. Обращение транслируется средствами массовой информации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 Black"/>
              </a:rPr>
              <a:t>Традиции празднования Нового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Бой Курантов на Спасской башне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4752720" cy="429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раздничный салю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755640" y="1720800"/>
            <a:ext cx="6840720" cy="4935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Новогодние подарк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1763640" y="1589040"/>
            <a:ext cx="5688000" cy="4961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9:00:37Z</dcterms:created>
  <dc:creator>emachines</dc:creator>
  <dc:description/>
  <dc:language>en-US</dc:language>
  <cp:lastModifiedBy>Коля</cp:lastModifiedBy>
  <dcterms:modified xsi:type="dcterms:W3CDTF">2013-03-24T18:42:44Z</dcterms:modified>
  <cp:revision>4</cp:revision>
  <dc:subject/>
  <dc:title>Новый год в России</dc:title>
</cp:coreProperties>
</file>