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C910-B6B0-4B1B-AAD8-64108B9D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E245-FB12-4D3B-B5AB-06A29711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317-573E-466F-88E5-A0EFFF27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8566-A844-423F-9F33-DF8C78C6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6799-26E7-4B6A-BD4E-D8BFE364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4E30-1E5D-459A-8CB5-35BC1304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4E47-73BF-4B8E-B733-72A11326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106E-1E6F-4324-B017-ACED9B3B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F150-3222-4FCE-937E-083AE782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3DBB-388B-41AC-8E8D-0072EDF0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24A3-FEF1-4F92-A5E3-22143283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ADBE-F436-45F8-867D-79569D58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7E04-51FD-4C7C-B82A-FEFFC117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EFAD-9C9D-41C1-AF05-7F576E6A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1C4C-CC78-4494-B4D1-A3FE0EDF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15C3-1893-4986-8EB0-83997F0D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1666-B56F-42C0-BD3C-97A1F4AF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2A2-8950-4294-BF18-E5DC07F5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9C3A-F826-43C6-8B31-C5A5807F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008-D663-45EF-8521-6E36F6A7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8DE-B2E8-46EC-BCAA-0AC5E00A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87ED-B0B9-4C68-BF18-1CE2CA03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C6CD-7C7D-48D7-8749-8F773C07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219-C134-4F87-8322-24A25CD2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857D-5BB5-4C33-A590-65A2D46A68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FA3B-BA23-405F-B4D0-37C3C6C6610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Дизайн и его значение в нашей жизни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59280" y="259920"/>
            <a:ext cx="57830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ово дизайн пришло к нам из итальянского языка и в переводе имеет множество значений. "Disegno" с итальянского языка переводиться как замысел, план, намерение, цель, чертеж, эскиз, набросок, рисунок, узор, модель, шаблон, лежащая в основе схема, композици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изайн –это творческая деятельность человека, занимающегося художественно-технической деятельностью в рамках какой-либо из отраслей дизайна называют в общем случае дизайнером (в том числе архитектора, иллюстратора, дизайнера плакатной и прочей рекламной графики, веб-дизайнера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тория дизайна начинается задолго до создания интернета, и определить точку отсчета достаточно сложно. Кого считать первыми дизайнерами? Первобытных людей в грязных шкурах с дубинами в руках оставляющих наскальные живописи? Однако именно появление орудий труда, развило потребность сделать эти орудия более удобными, красивыми и функциональными. Уже в античные времена в филосовских дискуссия затрагивается тема пользы и красоты создоваемог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сякий предмет, в отличие от произведения искусства, имеет какое-либо жизненно важное предназначение, другими словами, функцию. Но почти у каждого человека есть протребность в том, чтобы окружать себя красивыми предметами. Поэтому ценность вещи охватывает два начала — пользу и красот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 rot="20714400">
            <a:off x="395280" y="475920"/>
            <a:ext cx="2538360" cy="1689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 rot="513600">
            <a:off x="468360" y="2924280"/>
            <a:ext cx="2232000" cy="1506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90" name="" descr=""/>
          <p:cNvPicPr/>
          <p:nvPr/>
        </p:nvPicPr>
        <p:blipFill>
          <a:blip r:embed="rId3"/>
          <a:srcRect l="2598" t="4122" r="2539" b="13029"/>
          <a:stretch/>
        </p:blipFill>
        <p:spPr>
          <a:xfrm rot="21034200">
            <a:off x="323640" y="4941360"/>
            <a:ext cx="2663640" cy="1656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24000" y="333360"/>
            <a:ext cx="491796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витие и смена архитектурных стилей неразрывно связаны с историей. Смена эпох всегда влекла за собой смену стил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акже рождение дизайна приходится на период появления дизайнерских шко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этих школах разрабатывались главные принципы дизайнерского искусств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а также готовились первые профессиональные дизайнеры. Первая же дизайнерская контора появилась в США в начале 20ого 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2857320" cy="1828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4643280" y="4292640"/>
            <a:ext cx="3529080" cy="2442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2595600" cy="3292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96" name=""/>
          <p:cNvSpPr txBox="1"/>
          <p:nvPr/>
        </p:nvSpPr>
        <p:spPr>
          <a:xfrm>
            <a:off x="684360" y="2060640"/>
            <a:ext cx="180000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лассицмз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00000" y="6308640"/>
            <a:ext cx="165744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нессан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788000" y="6308640"/>
            <a:ext cx="122544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дер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284720" y="691920"/>
            <a:ext cx="455760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наше время весьма распространенным понятием является Web дизайн, и это не удивительно, ведь развитие продуктов Интернет-бизнеса является весьма удобным как для реализации экономических интересов различных компаний, так и для реализации художественных замыслов самого дизайнер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овые технологии способствуют упрощению реализации образов Web-художником, но с другой стороны требуют немалого запаса знаний в разнообразных науках и культурах, а также достаточно хороших навыков в компьютерных технологиях. В общем, он должен иметь ассоциативное мышление, быть интеллектуально развитым и владеть элементарными техническими навыками. Ведь конструирование вещей основано на принципах сочетания удобства, экономичности и красот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2592360" cy="3514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203280" y="188640"/>
            <a:ext cx="56386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изайн, как творческий процесс, иногда можно разделить 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художественный дизайн — создание вещного мира сугубо с точки зрения эстетики восприятия (внешние проявления формы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ехническая эстетика — наука о дизайне, учитывая все аспекты, и прежде всего конструктивность (ранний этап становления), функциональность (средний), комфортность производства, эксплуатации, утилизации технического изделия и т. д. (современное понимание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сновные категории объекта дизай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браз — идеальное представление об объекте, художественно-образная модель, созданная воображением дизайнер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Функция — работа, которую должно выполнять изделие, а также смысловая, знаковая и ценностная роли вещ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орфология — строение, структура формы изделия, организованная в соответствии с его функцией, материалом и способом изготовления, воплощающая замысел дизайнер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ехнологическая форма — морфология, воплощенная в способе промышленного производства вещи-объекта дизайн-проектирования в результате художественного осмысления технолог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Эстетическая ценность — особое значение объекта, выявляемое человеком в ситуации эстетического восприятия, эмоционального, чувственного переживания и оценки степени соответствия объекта эстетическому идеалу субъект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2663640" cy="3424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140000" y="475920"/>
            <a:ext cx="470196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лияние окружающей среды переоценить невозможно. От этого напрямую зависит наше душевное состояние и даже здоровье. Человека, который живет в правильной, комфортной среде, можно сразу выделить из тысячи. Почему он такой? Вы это сразу поймете, если побываете в гостях. Там так хорошо, что аж дух захватывает. Стены, пол, потолок - все как обычно. Если по отдельности. А вместе весь интерьер наполняет душу замечательными чувств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 rot="20703000">
            <a:off x="323640" y="764640"/>
            <a:ext cx="3816360" cy="2598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 rot="818400">
            <a:off x="539280" y="3860640"/>
            <a:ext cx="3527640" cy="2354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427280" y="691920"/>
            <a:ext cx="441468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ловеку дарован величайший дар – воспринимать красоту, чувствовать гармонию линий и цвета, наслаждаться переливами красок и оттенков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играет огромную роль в оформлении интерьера. От того, какие цвета преобладают в дизайне дома подчас зависит настроение и даже состояние его обитател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правильном использовании цвета можно визуально изменить пространство – расширить или уменьшить его, «зонировать» пространство, «отодвинуть» одну стену или «приблизить» другую, «охладить» излишне солнечную комнату или сделать «теплее» атмосферу дома в серую и холодную погод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 rot="875400">
            <a:off x="539640" y="692280"/>
            <a:ext cx="3384720" cy="2233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 rot="21086400">
            <a:off x="900000" y="3716280"/>
            <a:ext cx="3384720" cy="2538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36450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бы не было дизайнеров, то наш мир превратился бы в скучный, унылый, серый и жестокий, так как красота рождает добро. Давайте будем учиться создавать красоту и жить краси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938760" cy="5256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3:50:17Z</dcterms:created>
  <dc:creator>Зажарский</dc:creator>
  <dc:description/>
  <dc:language>en-US</dc:language>
  <cp:lastModifiedBy>Зажарский</cp:lastModifiedBy>
  <dcterms:modified xsi:type="dcterms:W3CDTF">2009-10-30T15:41:31Z</dcterms:modified>
  <cp:revision>3</cp:revision>
  <dc:subject/>
  <dc:title>Дизайн и его значение в нашей жизни.</dc:title>
</cp:coreProperties>
</file>