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FEF-7A90-4FEE-AD2E-1847E409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08E-0260-47CC-B3A7-ED6CDB87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5A99-D535-4AEA-B95D-35D7AB2F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7A2-8009-4BE5-818A-70C378E4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854C-43FD-47C9-A5D3-48F6FEC4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90E3-F334-435E-9747-7E0325E7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4310-5750-490D-A9DE-C054C119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392D-B462-4C8E-83E2-3F4F023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B064-15CB-42BE-9DD5-A5FF99E9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60EF-A1D0-4E2A-B30E-EED0D2D9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998C-DCC0-4EA5-ABA2-1698C51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B5E-3F92-49DB-8B9F-B03864A0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565-4BC8-47F7-AB99-054E524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7C9-52AF-4C2C-AC2D-DF7D1691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9F98-50DA-4797-A9DA-182F66BC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FB33-9D76-42C5-808C-098ABE47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C387-D97C-489A-AC0F-97F90430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20E-707F-4CAE-AF01-D23D52ED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155-EF3B-408B-AD21-C0454E54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B0D-4230-418D-AF8A-B1583363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A26-87DC-47C0-9FAF-7D40EB33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6E3-B819-4948-AC18-B85ABA95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DD0-F1B2-4C19-BDDA-E0DAD6B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167-BDDC-4649-8A6A-8B9F72F0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9A1F-65B7-4086-994D-274858EDCD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8C0E-0040-4545-80DD-A44136A15B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Дизайн и его значение в нашей жизни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59280" y="259920"/>
            <a:ext cx="57830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во дизайн пришло к нам из итальянского языка и в переводе имеет множество значений. "Disegno" с итальянского языка переводиться как замысел, план, намерение, цель, чертеж, эскиз, набросок, рисунок, узор, модель, шаблон, лежащая в основе схема, композиция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зайн –это творческая деятельность человека, занимающегося художественно-технической деятельностью в рамках какой-либо из отраслей дизайна называют в общем случае дизайнером (в том числе архитектора, иллюстратора, дизайнера плакатной и прочей рекламной графики, веб-дизайнера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рия дизайна начинается задолго до создания интернета, и определить точку отсчета достаточно сложно. Кого считать первыми дизайнерами? Первобытных людей в грязных шкурах с дубинами в руках оставляющих наскальные живописи? Однако именно появление орудий труда, развило потребность сделать эти орудия более удобными, красивыми и функциональными. Уже в античные времена в филосовских дискуссия затрагивается тема пользы и красоты создоваемог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який предмет, в отличие от произведения искусства, имеет какое-либо жизненно важное предназначение, другими словами, функцию. Но почти у каждого человека есть протребность в том, чтобы окружать себя красивыми предметами. Поэтому ценность вещи охватывает два начала — пользу и красот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 rot="20714400">
            <a:off x="395280" y="475920"/>
            <a:ext cx="2538360" cy="1689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 rot="513600">
            <a:off x="468360" y="2924280"/>
            <a:ext cx="2232000" cy="1506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3"/>
          <a:srcRect l="2598" t="4122" r="2539" b="13029"/>
          <a:stretch/>
        </p:blipFill>
        <p:spPr>
          <a:xfrm rot="21034200">
            <a:off x="323640" y="4941360"/>
            <a:ext cx="2663640" cy="1656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24000" y="333360"/>
            <a:ext cx="491796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витие и смена архитектурных стилей неразрывно связаны с историей. Смена эпох всегда влекла за собой смену стил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акже рождение дизайна приходится на период появления дизайнерских шко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 этих школах разрабатывались главные принципы дизайнерского искусств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также готовились первые профессиональные дизайнеры. Первая же дизайнерская контора появилась в США в начале 20ого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857320" cy="1828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3529080" cy="2442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2595600" cy="3292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396" name=""/>
          <p:cNvSpPr txBox="1"/>
          <p:nvPr/>
        </p:nvSpPr>
        <p:spPr>
          <a:xfrm>
            <a:off x="684360" y="2060640"/>
            <a:ext cx="180000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лассицм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00000" y="6308640"/>
            <a:ext cx="165744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нессан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788000" y="6308640"/>
            <a:ext cx="122544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дер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720" y="691920"/>
            <a:ext cx="455760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наше время весьма распространенным понятием является Web дизайн, и это не удивительно, ведь развитие продуктов Интернет-бизнеса является весьма удобным как для реализации экономических интересов различных компаний, так и для реализации художественных замыслов самого дизайнер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овые технологии способствуют упрощению реализации образов Web-художником, но с другой стороны требуют немалого запаса знаний в разнообразных науках и культурах, а также достаточно хороших навыков в компьютерных технологиях. В общем, он должен иметь ассоциативное мышление, быть интеллектуально развитым и владеть элементарными техническими навыками. Ведь конструирование вещей основано на принципах сочетания удобства, экономичности и красот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2592360" cy="3514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03280" y="188640"/>
            <a:ext cx="56386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изайн, как творческий процесс, иногда можно разделить 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художественный дизайн — создание вещного мира сугубо с точки зрения эстетики восприятия (внешние проявления формы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хническая эстетика — наука о дизайне, учитывая все аспекты, и прежде всего конструктивность (ранний этап становления), функциональность (средний), комфортность производства, эксплуатации, утилизации технического изделия и т. д. (современное понимание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сновные категории объекта дизай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раз — идеальное представление об объекте, художественно-образная модель, созданная воображением дизайнер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Функция — работа, которую должно выполнять изделие, а также смысловая, знаковая и ценностная роли вещ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рфология — строение, структура формы изделия, организованная в соответствии с его функцией, материалом и способом изготовления, воплощающая замысел дизайнер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Технологическая форма — морфология, воплощенная в способе промышленного производства вещи-объекта дизайн-проектирования в результате художественного осмысления технологи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Эстетическая ценность — особое значение объекта, выявляемое человеком в ситуации эстетического восприятия, эмоционального, чувственного переживания и оценки степени соответствия объекта эстетическому идеалу субъект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663640" cy="3424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140000" y="475920"/>
            <a:ext cx="470196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лияние окружающей среды переоценить невозможно. От этого напрямую зависит наше душевное состояние и даже здоровье. Человека, который живет в правильной, комфортной среде, можно сразу выделить из тысячи. Почему он такой? Вы это сразу поймете, если побываете в гостях. Там так хорошо, что аж дух захватывает. Стены, пол, потолок - все как обычно. Если по отдельности. А вместе весь интерьер наполняет душу замечательными чувств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 rot="20703000">
            <a:off x="323640" y="764640"/>
            <a:ext cx="3816360" cy="2598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rot="818400">
            <a:off x="539280" y="3860640"/>
            <a:ext cx="3527640" cy="2354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27280" y="691920"/>
            <a:ext cx="44146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ку дарован величайший дар – воспринимать красоту, чувствовать гармонию линий и цвета, наслаждаться переливами красок и оттенков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играет огромную роль в оформлении интерьера. От того, какие цвета преобладают в дизайне дома подчас зависит настроение и даже состояние его обитателе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правильном использовании цвета можно визуально изменить пространство – расширить или уменьшить его, «зонировать» пространство, «отодвинуть» одну стену или «приблизить» другую, «охладить» излишне солнечную комнату или сделать «теплее» атмосферу дома в серую и холодную погод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 rot="875400">
            <a:off x="539640" y="692280"/>
            <a:ext cx="3384720" cy="2233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 rot="21086400">
            <a:off x="900000" y="3716280"/>
            <a:ext cx="3384720" cy="253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36450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ли бы не было дизайнеров, то наш мир превратился бы в скучный, унылый, серый и жестокий, так как красота рождает добро. Давайте будем учиться создавать красоту и жить краси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938760" cy="5256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13:50:17Z</dcterms:created>
  <dc:creator>Зажарский</dc:creator>
  <dc:description/>
  <dc:language>en-US</dc:language>
  <cp:lastModifiedBy>Зажарский</cp:lastModifiedBy>
  <dcterms:modified xsi:type="dcterms:W3CDTF">2009-10-30T15:41:31Z</dcterms:modified>
  <cp:revision>3</cp:revision>
  <dc:subject/>
  <dc:title>Дизайн и его значение в нашей жизни.</dc:title>
</cp:coreProperties>
</file>