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DB7E-2BB0-4A98-AA03-421E0A8B9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DFCD-752F-49B2-877B-773453466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EB83-DC53-45F9-9790-7F7A5346F8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9220-862F-4F8E-9EA2-C48242F89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336-A93E-476F-BE7F-62F47B77C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B080-FAAB-4328-8CF2-CC4267556B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9034-C341-432C-A87E-C07B84F09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BD01-0E04-4CA0-BF59-2DDB9E88D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8345-A9E9-456E-A617-749E9FBEF2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A912-1AFA-422B-B2F3-8DF823CC4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C7E-6826-4257-BF73-B7C8035E25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FD7-39E9-4996-8174-3D6214E3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3BC-5E21-4985-8FB2-D5C7291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4DF-1649-401A-817E-A70EE346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E45-556C-42A8-9BD7-9D715D9A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1828-F7FB-42ED-B448-62B5D641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8F8-005B-48BF-AF98-076A64A2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A12-5648-4E9A-8BE7-87687C5C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EBD-A0D1-44D0-94E8-C4398F39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FBC-27BF-407E-B1F2-1BD4C9A7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9C74-C2AA-457D-BE5B-6F1330B8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452-2ABF-4EA7-925D-72598DD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213-0062-4C80-95F6-AC5DDA39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5381-BB8F-4EA9-BE15-0B70AD597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удент исторического факультета СамГУ  205группы  Абдухафизов Маъмуржон Мансуржо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houet1"/>
          <p:cNvPicPr/>
          <p:nvPr/>
        </p:nvPicPr>
        <p:blipFill>
          <a:blip r:embed="rId1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Рамка 5"/>
          <p:cNvSpPr/>
          <p:nvPr/>
        </p:nvSpPr>
        <p:spPr>
          <a:xfrm>
            <a:off x="3786120" y="6357960"/>
            <a:ext cx="2786040" cy="500040"/>
          </a:xfrm>
          <a:prstGeom prst="pie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арканд 2015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00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800"/>
                            </p:stCondLst>
                            <p:childTnLst>
                              <p:par>
                                <p:cTn id="3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5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16" dur="1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5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7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8" dur="10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3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4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6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97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8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Пользователь</cp:lastModifiedBy>
  <dcterms:modified xsi:type="dcterms:W3CDTF">2015-02-07T04:16:14Z</dcterms:modified>
  <cp:revision>103</cp:revision>
  <dc:subject>Основы философии - Тема 1</dc:subject>
  <dc:title>Характер философского знания и задачи философии</dc:title>
</cp:coreProperties>
</file>