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29A7-BE70-4FD5-8555-E00553E12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8A02-2C72-4829-87FD-EDA2D6937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D8A-527D-4D82-83EB-5A9542808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4D6D-91DB-42A7-8DF9-82D020AB8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71D1-6F79-49E7-A2F7-03A9C6488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384-065B-41E7-AF8D-72B54FF3E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910D-AA5C-46AC-AAB5-B9EECA4FD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EC2-3BB1-4F0B-B4A8-A8393C017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D8F5-44CF-4F05-83D0-3EC0757F9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6090-FBDD-4B1B-95F1-6ED77AFE1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93D-A6FE-4358-8D41-CA780FE7B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7EB-BD90-4334-BD61-98C4BEAA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5A6-C303-4545-9C12-C54CE539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627-742E-4DDF-9A7E-8DDD665F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206-D6C7-4DB4-8E90-6679B502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0F0-023F-4049-AC71-16F5CFD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6F8-6B08-43E9-8B21-58BA77A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5E8-F339-432B-9AC1-7D86076A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D6B-230A-4E74-B3BD-8581A1E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CB3-2EBA-4EBF-A0F9-BA8AF8D5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8EB-7DD3-44CA-B1F5-F9145A1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4B5-1D8B-40D2-B840-5D50611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6CA-9459-4981-84EA-0348240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BE4B-7DAA-4AFF-8692-8C954D255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удент исторического факультета СамГУ  205группы  Абдухафизов Маъмуржон Мансуржо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houet1"/>
          <p:cNvPicPr/>
          <p:nvPr/>
        </p:nvPicPr>
        <p:blipFill>
          <a:blip r:embed="rId1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1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рканд 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800"/>
                            </p:stCondLst>
                            <p:childTnLst>
                              <p:par>
                                <p:cTn id="30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5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7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3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8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Пользователь</cp:lastModifiedBy>
  <dcterms:modified xsi:type="dcterms:W3CDTF">2015-02-07T04:16:14Z</dcterms:modified>
  <cp:revision>103</cp:revision>
  <dc:subject>Основы философии - Тема 1</dc:subject>
  <dc:title>Характер философского знания и задачи философии</dc:title>
</cp:coreProperties>
</file>