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FE86-5393-4D9A-943A-456F20EC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EE3-C782-4922-9B29-987F6C8F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386E-F795-4CFE-A9F5-04CC4DD1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AC04-3250-4E1D-83E0-A939A155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2511-93F1-43B8-8C3C-E6297840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53EA-FBB3-4EF3-9661-845B835E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8A44-49D4-400B-B932-5F9FAA37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4AF2-921F-490F-827A-48741B34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A7E8-298B-414E-A69B-C75C75F3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5A5E-81A2-43BE-B704-2F8971BF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BC8B-8D61-43CC-8E75-6B867DC5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79E-1852-4E96-BB9A-A7BC03DB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2E2B-1895-4256-B294-385F2370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698F-B3F2-495A-AB31-E94814E6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AF58-785C-404B-9066-D46D9B1E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E695-E091-473D-B23F-5E4AD1E9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DED0-FF8F-475C-AF74-EAA4BC94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34514-CFA5-4D75-BBA0-559CB29C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3C9EA-95C6-4266-9B6F-11E16665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9BF81-DAEF-4628-8B43-5AFD3497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F7A5A-E815-4DB5-BC45-0597E091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23A04-8666-4837-93DE-96D1829D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484F-7DD0-47A1-A4B8-2D8BA141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08A87-F71B-45FA-AB1E-A8D9702C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676E8-112A-4CFE-8D8E-0640C4F8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AE633-88B0-4C82-A58C-1DFDC8F9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36848-CA20-4C20-8149-528078E9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7ED75-2183-4E27-BD5A-5B67E188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CECE9-5626-4F2B-A0DC-57D38446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BF46F-8B34-4F2E-BDE5-E575F043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B4CBD-547B-46AE-AA8C-BAB4E6D2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97822-2DFA-483A-AD88-5CBF464B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D44FD-7AA0-4DB7-9220-914EC06B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9484-4E9C-40B2-A618-3BCD3A40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76E2E-C7AC-4C84-B87B-E712E1A5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BB237-B491-4F3A-9094-B3CFE347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D59A1-E386-4B78-A687-08283A9F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B2BF8-222E-4484-9D5E-874345B6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3C158-ED07-4843-8D68-3B43740A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26814-011D-4067-8650-EB9BA14D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6EC6A-358A-41AE-8EF9-1885D1F9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9C922-9695-4ACA-9932-8C93BB27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25BE1-6269-4FF9-968C-E076BB925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2B4F1-8F2B-467A-8ACE-CD0122BD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EBDD-4A5F-4413-ACE0-6302BEA0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355C9-F5F3-4C58-905C-158CCB83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894C4-769E-4FC3-99BD-DDB190B2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DC541-24C4-436C-9ED5-8A598D1D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F4BAC-829E-4268-956E-709DFED0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E9733-927A-451D-A0F6-3A77EB24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254CF-B880-4C4D-BD34-97D6A9FD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A41F2-2207-435D-A15E-34EFEA0E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5899A-7F3A-44BB-ACC5-056408B1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A4901-F0A3-4631-B31A-9B8F88BB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E5B25-1F5E-46BD-ACC3-03476C2C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786-75B2-49E8-A892-BA978B9B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0C90C-8A86-4625-93F6-EF75CA5B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A1DA9-B8A5-4A92-B5CA-84C0ADA0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50340-B2E7-491E-8B5F-F614DE1B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D828C-0202-418F-B2BC-8CE56AAC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0076B-E23E-4763-A9C4-C990EC6A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0D474-C392-405B-B157-902D88BB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0D18A-7E8D-4501-8731-05524AE8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DFDFC-5046-4548-B950-61620436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385DE-0B42-4F7D-BBE4-45A7B9EA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AB5DD-821B-4E48-8CB1-B4E60541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BB1-2137-49C7-9C77-A19B8F32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55A2C-E680-4518-8E32-E16520A3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7700D-0F72-4D3D-B272-46A4D0C9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E357D-F61F-4745-A4A2-ACA7BF4D8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1F29-BC65-4849-8745-3FFFAEBC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C115-108D-40E2-8DF9-800B49EA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05D1-1B52-446C-98DC-A6B7807BBE9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9A64-A181-4A0A-B6B2-7422C21E8B3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F23E-87E3-4155-AC24-EC1402494E3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85AF-51D9-438E-B254-F2170AF5214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FC8C-6C62-4EBD-8EC1-5A0D5895AE0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20AB-E0E5-4226-B5A5-C21F46F68B4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39528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Над презентацией работала ученица 8 класса Антонова Ольг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450720" y="847800"/>
            <a:ext cx="800424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792440" y="4078440"/>
            <a:ext cx="6778440" cy="15001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ru-RU" sz="2200" spc="-1" strike="noStrike" u="sng">
                <a:solidFill>
                  <a:srgbClr val="56c7aa"/>
                </a:solidFill>
                <a:uFillTx/>
                <a:latin typeface="Trebuchet MS"/>
                <a:hlinkClick r:id="rId2" action="ppaction://hlinksldjump"/>
              </a:rPr>
              <a:t>.Что такое наркотик?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56c7aa"/>
                </a:solidFill>
                <a:uFillTx/>
                <a:latin typeface="Trebuchet MS"/>
                <a:hlinkClick r:id="rId3" action="ppaction://hlinksldjump"/>
              </a:rPr>
              <a:t>2.Применение наркотиков в медицин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56c7aa"/>
                </a:solidFill>
                <a:uFillTx/>
                <a:latin typeface="Trebuchet MS"/>
                <a:hlinkClick r:id="rId4" action="ppaction://hlinksldjump"/>
              </a:rPr>
              <a:t>3.Причины употребления наркотиков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4.Влияние наркотиков на организм подростков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5.Наркодилеры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6.Последствия….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2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431200" cy="136044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74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Наркотик – это любое химическое соединение, которое воздействует на функционирование организма. Злоупотребление наркотиками – это их употребление любым неприемлемым с медицинской и социальной точек зрения образом или приемлемым, но неправильным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2" name="Picture 5" descr=""/>
          <p:cNvPicPr/>
          <p:nvPr/>
        </p:nvPicPr>
        <p:blipFill>
          <a:blip r:embed="rId2"/>
          <a:stretch/>
        </p:blipFill>
        <p:spPr>
          <a:xfrm>
            <a:off x="5581800" y="1600200"/>
            <a:ext cx="2171520" cy="21718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64832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WordArt 7"/>
          <p:cNvSpPr txBox="1"/>
          <p:nvPr/>
        </p:nvSpPr>
        <p:spPr>
          <a:xfrm>
            <a:off x="684360" y="189000"/>
            <a:ext cx="7667640" cy="148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то такое наркотик?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25" name="Управляющая кнопка: назад 3"/>
          <p:cNvSpPr/>
          <p:nvPr/>
        </p:nvSpPr>
        <p:spPr>
          <a:xfrm>
            <a:off x="-12600" y="6453360"/>
            <a:ext cx="865080" cy="369720"/>
          </a:xfrm>
          <a:custGeom>
            <a:avLst/>
            <a:gdLst>
              <a:gd name="textAreaLeft" fmla="*/ 23760 w 865080"/>
              <a:gd name="textAreaRight" fmla="*/ 841320 w 865080"/>
              <a:gd name="textAreaTop" fmla="*/ 23760 h 369720"/>
              <a:gd name="textAreaBottom" fmla="*/ 345960 h 369720"/>
            </a:gdLst>
            <a:ahLst/>
            <a:rect l="textAreaLeft" t="textAreaTop" r="textAreaRight" b="textAreaBottom"/>
            <a:pathLst>
              <a:path w="50512" h="21600">
                <a:moveTo>
                  <a:pt x="0" y="0"/>
                </a:moveTo>
                <a:lnTo>
                  <a:pt x="50512" y="0"/>
                </a:lnTo>
                <a:lnTo>
                  <a:pt x="50512" y="21600"/>
                </a:lnTo>
                <a:lnTo>
                  <a:pt x="0" y="21600"/>
                </a:lnTo>
                <a:close/>
              </a:path>
              <a:path fill="lightenLess" w="50512" h="21600">
                <a:moveTo>
                  <a:pt x="0" y="0"/>
                </a:moveTo>
                <a:lnTo>
                  <a:pt x="50512" y="0"/>
                </a:lnTo>
                <a:lnTo>
                  <a:pt x="49112" y="1400"/>
                </a:lnTo>
                <a:lnTo>
                  <a:pt x="1400" y="1400"/>
                </a:lnTo>
                <a:close/>
              </a:path>
              <a:path fill="darken" w="50512" h="21600">
                <a:moveTo>
                  <a:pt x="50512" y="0"/>
                </a:moveTo>
                <a:lnTo>
                  <a:pt x="50512" y="21600"/>
                </a:lnTo>
                <a:lnTo>
                  <a:pt x="49112" y="20200"/>
                </a:lnTo>
                <a:lnTo>
                  <a:pt x="49112" y="1400"/>
                </a:lnTo>
                <a:close/>
              </a:path>
              <a:path fill="darkenLess" w="50512" h="21600">
                <a:moveTo>
                  <a:pt x="50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12" y="20200"/>
                </a:lnTo>
                <a:close/>
              </a:path>
              <a:path fill="lighten" w="50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512" h="21600">
                <a:moveTo>
                  <a:pt x="18250" y="10800"/>
                </a:moveTo>
                <a:lnTo>
                  <a:pt x="32263" y="3794"/>
                </a:lnTo>
                <a:lnTo>
                  <a:pt x="32263" y="17806"/>
                </a:lnTo>
                <a:close/>
              </a:path>
            </a:pathLst>
          </a:cu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57200" y="23760"/>
            <a:ext cx="8620200" cy="19335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   </a:t>
            </a:r>
            <a:r>
              <a:rPr b="0" lang="ru-RU" sz="1600" spc="-1" strike="noStrike">
                <a:solidFill>
                  <a:srgbClr val="59a8d1"/>
                </a:solidFill>
                <a:latin typeface="Trebuchet MS"/>
              </a:rPr>
              <a:t>Наркотики широко применяются в современной медицине как обезболивающие и усыпляющие свойства. Но этим эффектом воздействие наркотических веществ на центральную нервную систему не ограничивается. Многие из них вызывают у людей особое психическое состояние возбуждения – эйфорию. Эйфория – объективно вредное состояние. Так как при этом человек всегда в той или иной степени отключается от реальности. В общественном положении, в делах и окружающей обстановке ничего не меняется, человек же чувствует себя на краю блаженства – только вследствие «обмана» психики химическим веществом. Поэтому он испытывает желание вновь повторить это состояние. В результате развивается пагубное пристрастие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28" name="Picture 6" descr="Рисунок2"/>
          <p:cNvPicPr/>
          <p:nvPr/>
        </p:nvPicPr>
        <p:blipFill>
          <a:blip r:embed="rId2"/>
          <a:stretch/>
        </p:blipFill>
        <p:spPr>
          <a:xfrm>
            <a:off x="4788000" y="1700280"/>
            <a:ext cx="3743280" cy="4392720"/>
          </a:xfrm>
          <a:prstGeom prst="rect">
            <a:avLst/>
          </a:prstGeom>
          <a:ln w="0">
            <a:noFill/>
          </a:ln>
        </p:spPr>
      </p:pic>
      <p:sp>
        <p:nvSpPr>
          <p:cNvPr id="329" name="Управляющая кнопка: назад 3"/>
          <p:cNvSpPr/>
          <p:nvPr/>
        </p:nvSpPr>
        <p:spPr>
          <a:xfrm>
            <a:off x="0" y="6426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457200" y="23760"/>
            <a:ext cx="8637480" cy="19335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a8d1"/>
                </a:solidFill>
                <a:latin typeface="Trebuchet MS"/>
              </a:rPr>
              <a:t>Враждебность.</a:t>
            </a:r>
            <a:r>
              <a:rPr b="0" lang="ru-RU" sz="1600" spc="-1" strike="noStrike">
                <a:solidFill>
                  <a:srgbClr val="59a8d1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56664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566640" indent="-56664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a8d1"/>
                </a:solidFill>
                <a:latin typeface="Trebuchet MS"/>
              </a:rPr>
              <a:t>Достаток и досуг. Скука и потеря интереса к жизн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56664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566640" indent="-56664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a8d1"/>
                </a:solidFill>
                <a:latin typeface="Trebuchet MS"/>
              </a:rPr>
              <a:t>Уход от физического стресса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56664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566640" indent="-56664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a8d1"/>
                </a:solidFill>
                <a:latin typeface="Trebuchet MS"/>
              </a:rPr>
              <a:t>Попытка установить дружеские отношения со сверстникам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56664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566640" indent="-56664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a8d1"/>
                </a:solidFill>
                <a:latin typeface="Trebuchet MS"/>
              </a:rPr>
              <a:t>Возможность привлечь к себе внимание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56664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566640" indent="-56664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a8d1"/>
                </a:solidFill>
                <a:latin typeface="Trebuchet MS"/>
              </a:rPr>
              <a:t>Давление группы, отсутствие навыка отказа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56664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2" name="Picture 4" descr="Stop!"/>
          <p:cNvPicPr/>
          <p:nvPr/>
        </p:nvPicPr>
        <p:blipFill>
          <a:blip r:embed="rId2"/>
          <a:stretch/>
        </p:blipFill>
        <p:spPr>
          <a:xfrm>
            <a:off x="5810400" y="2624040"/>
            <a:ext cx="1714320" cy="2448000"/>
          </a:xfrm>
          <a:prstGeom prst="rect">
            <a:avLst/>
          </a:prstGeom>
          <a:ln w="0">
            <a:noFill/>
          </a:ln>
        </p:spPr>
      </p:pic>
      <p:sp>
        <p:nvSpPr>
          <p:cNvPr id="333" name="Управляющая кнопка: назад 3"/>
          <p:cNvSpPr/>
          <p:nvPr/>
        </p:nvSpPr>
        <p:spPr>
          <a:xfrm>
            <a:off x="108000" y="6093000"/>
            <a:ext cx="1584360" cy="649080"/>
          </a:xfrm>
          <a:custGeom>
            <a:avLst/>
            <a:gdLst>
              <a:gd name="textAreaLeft" fmla="*/ 41760 w 1584360"/>
              <a:gd name="textAreaRight" fmla="*/ 1542600 w 158436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52707" h="21600">
                <a:moveTo>
                  <a:pt x="0" y="0"/>
                </a:moveTo>
                <a:lnTo>
                  <a:pt x="52707" y="0"/>
                </a:lnTo>
                <a:lnTo>
                  <a:pt x="52707" y="21600"/>
                </a:lnTo>
                <a:lnTo>
                  <a:pt x="0" y="21600"/>
                </a:lnTo>
                <a:close/>
              </a:path>
              <a:path fill="lightenLess" w="52707" h="21600">
                <a:moveTo>
                  <a:pt x="0" y="0"/>
                </a:moveTo>
                <a:lnTo>
                  <a:pt x="52707" y="0"/>
                </a:lnTo>
                <a:lnTo>
                  <a:pt x="51307" y="1400"/>
                </a:lnTo>
                <a:lnTo>
                  <a:pt x="1400" y="1400"/>
                </a:lnTo>
                <a:close/>
              </a:path>
              <a:path fill="darken" w="52707" h="21600">
                <a:moveTo>
                  <a:pt x="52707" y="0"/>
                </a:moveTo>
                <a:lnTo>
                  <a:pt x="52707" y="21600"/>
                </a:lnTo>
                <a:lnTo>
                  <a:pt x="51307" y="20200"/>
                </a:lnTo>
                <a:lnTo>
                  <a:pt x="51307" y="1400"/>
                </a:lnTo>
                <a:close/>
              </a:path>
              <a:path fill="darkenLess" w="52707" h="21600">
                <a:moveTo>
                  <a:pt x="52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07" y="20200"/>
                </a:lnTo>
                <a:close/>
              </a:path>
              <a:path fill="lighten" w="52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707" h="21600">
                <a:moveTo>
                  <a:pt x="19347" y="10800"/>
                </a:moveTo>
                <a:lnTo>
                  <a:pt x="33360" y="3794"/>
                </a:lnTo>
                <a:lnTo>
                  <a:pt x="33360" y="17806"/>
                </a:lnTo>
                <a:close/>
              </a:path>
            </a:pathLst>
          </a:cu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Rectangle 2" descr=""/>
          <p:cNvPicPr/>
          <p:nvPr/>
        </p:nvPicPr>
        <p:blipFill>
          <a:blip r:embed="rId1"/>
          <a:stretch/>
        </p:blipFill>
        <p:spPr>
          <a:xfrm>
            <a:off x="0" y="60480"/>
            <a:ext cx="8547120" cy="169524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аркомания ведет к крайнему истощению организма, значительной потере массы тела и упадку физических сил. Отравление организма становится причиной поражения внутренних органов, особенно печени и почек. Самая распространенная болезнь среди наркоманов – гепатит и СПИД. Эти болезни передаются через кровь, а наркоманы, которые употребляют наркотики внутривенно, постоянно колются одним шприцо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6" name="Picture 4" descr="0903051"/>
          <p:cNvPicPr/>
          <p:nvPr/>
        </p:nvPicPr>
        <p:blipFill>
          <a:blip r:embed="rId2"/>
          <a:stretch/>
        </p:blipFill>
        <p:spPr>
          <a:xfrm>
            <a:off x="5181480" y="3733920"/>
            <a:ext cx="3648240" cy="2917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spid-0015"/>
          <p:cNvPicPr/>
          <p:nvPr/>
        </p:nvPicPr>
        <p:blipFill>
          <a:blip r:embed="rId3"/>
          <a:stretch/>
        </p:blipFill>
        <p:spPr>
          <a:xfrm>
            <a:off x="1042920" y="4292640"/>
            <a:ext cx="3457800" cy="1657440"/>
          </a:xfrm>
          <a:prstGeom prst="rect">
            <a:avLst/>
          </a:prstGeom>
          <a:ln w="0">
            <a:noFill/>
          </a:ln>
        </p:spPr>
      </p:pic>
      <p:sp>
        <p:nvSpPr>
          <p:cNvPr id="338" name="Управляющая кнопка: назад 1"/>
          <p:cNvSpPr/>
          <p:nvPr/>
        </p:nvSpPr>
        <p:spPr>
          <a:xfrm>
            <a:off x="250920" y="6093000"/>
            <a:ext cx="1081080" cy="558720"/>
          </a:xfrm>
          <a:custGeom>
            <a:avLst/>
            <a:gdLst>
              <a:gd name="textAreaLeft" fmla="*/ 36000 w 1081080"/>
              <a:gd name="textAreaRight" fmla="*/ 1045080 w 1081080"/>
              <a:gd name="textAreaTop" fmla="*/ 36000 h 558720"/>
              <a:gd name="textAreaBottom" fmla="*/ 522720 h 558720"/>
            </a:gdLst>
            <a:ahLst/>
            <a:rect l="textAreaLeft" t="textAreaTop" r="textAreaRight" b="textAreaBottom"/>
            <a:pathLst>
              <a:path w="41781" h="21600">
                <a:moveTo>
                  <a:pt x="0" y="0"/>
                </a:moveTo>
                <a:lnTo>
                  <a:pt x="41781" y="0"/>
                </a:lnTo>
                <a:lnTo>
                  <a:pt x="41781" y="21600"/>
                </a:lnTo>
                <a:lnTo>
                  <a:pt x="0" y="21600"/>
                </a:lnTo>
                <a:close/>
              </a:path>
              <a:path fill="lightenLess" w="41781" h="21600">
                <a:moveTo>
                  <a:pt x="0" y="0"/>
                </a:moveTo>
                <a:lnTo>
                  <a:pt x="41781" y="0"/>
                </a:lnTo>
                <a:lnTo>
                  <a:pt x="40381" y="1400"/>
                </a:lnTo>
                <a:lnTo>
                  <a:pt x="1400" y="1400"/>
                </a:lnTo>
                <a:close/>
              </a:path>
              <a:path fill="darken" w="41781" h="21600">
                <a:moveTo>
                  <a:pt x="41781" y="0"/>
                </a:moveTo>
                <a:lnTo>
                  <a:pt x="41781" y="21600"/>
                </a:lnTo>
                <a:lnTo>
                  <a:pt x="40381" y="20200"/>
                </a:lnTo>
                <a:lnTo>
                  <a:pt x="40381" y="1400"/>
                </a:lnTo>
                <a:close/>
              </a:path>
              <a:path fill="darkenLess" w="41781" h="21600">
                <a:moveTo>
                  <a:pt x="417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81" y="20200"/>
                </a:lnTo>
                <a:close/>
              </a:path>
              <a:path fill="lighten" w="417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81" h="21600">
                <a:moveTo>
                  <a:pt x="13884" y="10800"/>
                </a:moveTo>
                <a:lnTo>
                  <a:pt x="27897" y="3794"/>
                </a:lnTo>
                <a:lnTo>
                  <a:pt x="27897" y="17806"/>
                </a:lnTo>
                <a:close/>
              </a:path>
            </a:pathLst>
          </a:cu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аркодилеры, получая товар, как правило, подмешивают в него стиральный порошок или сахарную пудру (в этом случае после двухмесячного употребления такого товара наркоману гарантирован сахарный диабет). Вообще чистого товара не бывает: всегда есть доля примесей, и это опасно для наркомана. Если он купил где-то более очищенный наркотик, то есть вероятность передозировки, которая может привести к моментальной смерт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0" name="Picture 4" descr="magnitogorsk1567"/>
          <p:cNvPicPr/>
          <p:nvPr/>
        </p:nvPicPr>
        <p:blipFill>
          <a:blip r:embed="rId1"/>
          <a:stretch/>
        </p:blipFill>
        <p:spPr>
          <a:xfrm>
            <a:off x="2514600" y="34290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341" name="Управляющая кнопка: назад 1"/>
          <p:cNvSpPr/>
          <p:nvPr/>
        </p:nvSpPr>
        <p:spPr>
          <a:xfrm>
            <a:off x="108000" y="6093000"/>
            <a:ext cx="1224000" cy="576000"/>
          </a:xfrm>
          <a:custGeom>
            <a:avLst/>
            <a:gdLst>
              <a:gd name="textAreaLeft" fmla="*/ 37080 w 1224000"/>
              <a:gd name="textAreaRight" fmla="*/ 1186920 w 1224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5885" h="21600">
                <a:moveTo>
                  <a:pt x="0" y="0"/>
                </a:moveTo>
                <a:lnTo>
                  <a:pt x="45885" y="0"/>
                </a:lnTo>
                <a:lnTo>
                  <a:pt x="45885" y="21600"/>
                </a:lnTo>
                <a:lnTo>
                  <a:pt x="0" y="21600"/>
                </a:lnTo>
                <a:close/>
              </a:path>
              <a:path fill="lightenLess" w="45885" h="21600">
                <a:moveTo>
                  <a:pt x="0" y="0"/>
                </a:moveTo>
                <a:lnTo>
                  <a:pt x="45885" y="0"/>
                </a:lnTo>
                <a:lnTo>
                  <a:pt x="44485" y="1400"/>
                </a:lnTo>
                <a:lnTo>
                  <a:pt x="1400" y="1400"/>
                </a:lnTo>
                <a:close/>
              </a:path>
              <a:path fill="darken" w="45885" h="21600">
                <a:moveTo>
                  <a:pt x="45885" y="0"/>
                </a:moveTo>
                <a:lnTo>
                  <a:pt x="45885" y="21600"/>
                </a:lnTo>
                <a:lnTo>
                  <a:pt x="44485" y="20200"/>
                </a:lnTo>
                <a:lnTo>
                  <a:pt x="44485" y="1400"/>
                </a:lnTo>
                <a:close/>
              </a:path>
              <a:path fill="darkenLess" w="45885" h="21600">
                <a:moveTo>
                  <a:pt x="45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85" y="20200"/>
                </a:lnTo>
                <a:close/>
              </a:path>
              <a:path fill="lighten" w="45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85" h="21600">
                <a:moveTo>
                  <a:pt x="15936" y="10800"/>
                </a:moveTo>
                <a:lnTo>
                  <a:pt x="29949" y="3794"/>
                </a:lnTo>
                <a:lnTo>
                  <a:pt x="29949" y="17806"/>
                </a:lnTo>
                <a:close/>
              </a:path>
            </a:pathLst>
          </a:cu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1296"/>
          <p:cNvPicPr/>
          <p:nvPr/>
        </p:nvPicPr>
        <p:blipFill>
          <a:blip r:embed="rId1">
            <a:lum bright="-1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752480" y="5392800"/>
            <a:ext cx="6172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следствие наркотиков очень плачевно. Страдают все органы дыхания(трахе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ронхи).Мозг работает медленно. Большинство наркоманов,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до 53%,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лица без определённых занятий. Наркомания значительно молодеет с каждым годом. «Средний возраст» впервые попробовавших наркотики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не превышает 14 лет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Управляющая кнопка: назад 1"/>
          <p:cNvSpPr/>
          <p:nvPr/>
        </p:nvSpPr>
        <p:spPr>
          <a:xfrm>
            <a:off x="179280" y="6200640"/>
            <a:ext cx="1285920" cy="505080"/>
          </a:xfrm>
          <a:custGeom>
            <a:avLst/>
            <a:gdLst>
              <a:gd name="textAreaLeft" fmla="*/ 32760 w 1285920"/>
              <a:gd name="textAreaRight" fmla="*/ 1253520 w 128592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54969" h="21600">
                <a:moveTo>
                  <a:pt x="0" y="0"/>
                </a:moveTo>
                <a:lnTo>
                  <a:pt x="54969" y="0"/>
                </a:lnTo>
                <a:lnTo>
                  <a:pt x="54969" y="21600"/>
                </a:lnTo>
                <a:lnTo>
                  <a:pt x="0" y="21600"/>
                </a:lnTo>
                <a:close/>
              </a:path>
              <a:path fill="lightenLess" w="54969" h="21600">
                <a:moveTo>
                  <a:pt x="0" y="0"/>
                </a:moveTo>
                <a:lnTo>
                  <a:pt x="54969" y="0"/>
                </a:lnTo>
                <a:lnTo>
                  <a:pt x="53569" y="1400"/>
                </a:lnTo>
                <a:lnTo>
                  <a:pt x="1400" y="1400"/>
                </a:lnTo>
                <a:close/>
              </a:path>
              <a:path fill="darken" w="54969" h="21600">
                <a:moveTo>
                  <a:pt x="54969" y="0"/>
                </a:moveTo>
                <a:lnTo>
                  <a:pt x="54969" y="21600"/>
                </a:lnTo>
                <a:lnTo>
                  <a:pt x="53569" y="20200"/>
                </a:lnTo>
                <a:lnTo>
                  <a:pt x="53569" y="1400"/>
                </a:lnTo>
                <a:close/>
              </a:path>
              <a:path fill="darkenLess" w="54969" h="21600">
                <a:moveTo>
                  <a:pt x="549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69" y="20200"/>
                </a:lnTo>
                <a:close/>
              </a:path>
              <a:path fill="lighten" w="549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969" h="21600">
                <a:moveTo>
                  <a:pt x="20478" y="10800"/>
                </a:moveTo>
                <a:lnTo>
                  <a:pt x="34491" y="3794"/>
                </a:lnTo>
                <a:lnTo>
                  <a:pt x="34491" y="17806"/>
                </a:lnTo>
                <a:close/>
              </a:path>
            </a:pathLst>
          </a:cu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6:02:11Z</dcterms:created>
  <dc:creator>MICHAEL</dc:creator>
  <dc:description/>
  <dc:language>en-US</dc:language>
  <cp:lastModifiedBy>анатолий</cp:lastModifiedBy>
  <dcterms:modified xsi:type="dcterms:W3CDTF">2015-04-28T11:24:49Z</dcterms:modified>
  <cp:revision>16</cp:revision>
  <dc:subject/>
  <dc:title>Наркома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a0a000000000001024140</vt:lpwstr>
  </property>
</Properties>
</file>