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606-D412-4D66-A5BE-98D357B3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E83-183E-4ACE-B270-B757E241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FBA-9E96-478B-8F39-784E9F1B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272E-4103-428D-A614-C2DC2A4D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6BBD-4DBD-462A-8915-AFC95FEE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E212-3494-4EF3-9377-DB788214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32AF-4B41-4FD3-BD19-C21578CE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4281-A77F-4ED8-B3D1-81926D82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6151-999D-4632-B239-DDA21C52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1FD3-9050-4099-BE6A-7A2F1625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2297-E124-424B-B43F-BE8D0484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8B18-961E-4792-9B38-0C011772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E1D8-E825-45E1-A8EB-DF1A2654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A10B-65B0-43C3-B2EE-057DB036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E42B-5664-49FD-84CE-E21AABEB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3BC7-2A65-4797-8138-C5B773C0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FB19-4265-4854-BA6D-B7509596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85F31-E0BE-4812-AAE0-07087DEA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3B235-86CA-42C2-83A3-1C4A186A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4CF86-49E6-4CA9-9208-FF0A5521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C20F5-B5D6-44B5-B4F4-9C6E8824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D23F8-129A-4D1C-BF74-C396E05E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46B-1219-4B94-8B9F-8D757417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D570D-070D-4B8D-A537-7C86D84C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E5402-D9B6-4321-A485-6C640386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5AA4C-250A-44FE-A5B6-5352999B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4C714-360C-4A8E-97CE-3BE0E82A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EED7C-CFCB-43E1-AEED-7C7FA693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8A9F4-F2D3-4805-998F-F13E972C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4864B-4C6E-4462-8D47-9FDE1126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FC2E8-8DC6-4410-B41F-F77DCD83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FD5FD-AADE-459A-A476-41F5AFC4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32CA4-61BD-499A-86CC-1D1768EE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C931-C6B0-49F7-9BA1-AA182641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A7212-3BD3-4159-8281-082809E7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0FF14-9B9F-4C6F-AA21-0E6043B3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96122-8E96-43E2-9BE4-8B215ABB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C0925-D9A7-4826-98F8-E839563E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3C1D0-3E81-43DA-B3F9-1A868CCC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6D197-FAE4-475A-BCFB-7D145641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ED404-11C7-4284-8433-DD1E2533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68688-8306-4CF7-81CE-30303B71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B6067-6BD8-4BCD-878A-B7BB2071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24261-B2EE-476D-AC1A-48213401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9973-24ED-4762-BB95-5E6E8F4A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DA97A-5A4B-471E-BECE-F6B5549F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5B962-7D2E-43A9-A8B6-E7AA1D4F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ACE11-3077-4449-B4C8-E8F556A3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85C80-6330-4DE2-B7F6-CBFBC483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BC307-43D2-469B-A26D-99101F30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62842-DAD6-428E-83BA-68745400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65E90-B429-41E5-8350-BD53DF76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921C7-97F9-4087-9303-F6CC3CD4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FDBF0-67D7-47AC-9B23-C0120478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35461-FEB6-42B8-B482-FF23FBCE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EE34-0065-48FE-AD29-6B8EBBA1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149BB-19D1-4C2B-AA8E-9A6D49A2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49109-EFC5-4271-8BC8-E8B6609B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197E2-C09F-46DA-9E9F-37EAE81D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B0A6B-91D6-4BA6-975A-DE0B9494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896DD-72B8-4919-AC6F-962DA745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64878-1B7D-44CD-A116-E78D5984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112C3-23A0-4FCC-8EC1-B2904A29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BC661-6069-4C01-AD7B-064EC47F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3F270-D795-46B5-A77D-98D4160E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1FCC6-577E-4ED0-ABC9-36200B59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E28D-3AD2-448C-9BC1-4A3CE403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8B61E-2344-4E03-B095-3B7B2AA9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0787D-475A-4D0A-9723-441D6DEE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9555F-EEED-4AF6-BDA4-E70CED27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3EDA-7759-4ED1-B211-A6820E6D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5025-A4C3-4DA7-B665-5FC43B73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F3F3-DF48-4372-9693-33A52D9429E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A8BE-3520-4762-A958-E4BEA8012EA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CAF9-1605-471B-ADAC-0F3878C2E17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052E-27DF-4E2A-9943-CD550FF1863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5F17-FD8B-4907-BB4A-815C000BCAE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5177-8745-41AA-90F9-CE159121924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395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Над презентацией работала ученица 8 класса Антонова Ольг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450720" y="847800"/>
            <a:ext cx="80042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ru-RU" sz="2200" spc="-1" strike="noStrike" u="sng">
                <a:solidFill>
                  <a:srgbClr val="56c7aa"/>
                </a:solidFill>
                <a:uFillTx/>
                <a:latin typeface="Trebuchet MS"/>
                <a:hlinkClick r:id="rId2" action="ppaction://hlinksldjump"/>
              </a:rPr>
              <a:t>.Что такое наркотик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56c7aa"/>
                </a:solidFill>
                <a:uFillTx/>
                <a:latin typeface="Trebuchet MS"/>
                <a:hlinkClick r:id="rId3" action="ppaction://hlinksldjump"/>
              </a:rPr>
              <a:t>2.Применение наркотиков в медицин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56c7aa"/>
                </a:solidFill>
                <a:uFillTx/>
                <a:latin typeface="Trebuchet MS"/>
                <a:hlinkClick r:id="rId4" action="ppaction://hlinksldjump"/>
              </a:rPr>
              <a:t>3.Причины употребления наркотиков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4.Влияние наркотиков на организм подростков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5.Наркодилеры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6.Последствия….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431200" cy="136044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Наркотик – это любое химическое соединение, которое воздействует на функционирование организма. Злоупотребление наркотиками – это их употребление любым неприемлемым с медицинской и социальной точек зрения образом или приемлемым, но неправильным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2" name="Picture 5" descr=""/>
          <p:cNvPicPr/>
          <p:nvPr/>
        </p:nvPicPr>
        <p:blipFill>
          <a:blip r:embed="rId2"/>
          <a:stretch/>
        </p:blipFill>
        <p:spPr>
          <a:xfrm>
            <a:off x="5581800" y="1600200"/>
            <a:ext cx="2171520" cy="21718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6483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WordArt 7"/>
          <p:cNvSpPr txBox="1"/>
          <p:nvPr/>
        </p:nvSpPr>
        <p:spPr>
          <a:xfrm>
            <a:off x="684360" y="189000"/>
            <a:ext cx="7667640" cy="148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такое наркотик?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5" name="Управляющая кнопка: назад 3"/>
          <p:cNvSpPr/>
          <p:nvPr/>
        </p:nvSpPr>
        <p:spPr>
          <a:xfrm>
            <a:off x="-12600" y="6453360"/>
            <a:ext cx="865080" cy="369720"/>
          </a:xfrm>
          <a:custGeom>
            <a:avLst/>
            <a:gdLst>
              <a:gd name="textAreaLeft" fmla="*/ 23760 w 865080"/>
              <a:gd name="textAreaRight" fmla="*/ 841320 w 865080"/>
              <a:gd name="textAreaTop" fmla="*/ 23760 h 369720"/>
              <a:gd name="textAreaBottom" fmla="*/ 345960 h 369720"/>
            </a:gdLst>
            <a:ahLst/>
            <a:rect l="textAreaLeft" t="textAreaTop" r="textAreaRight" b="textAreaBottom"/>
            <a:pathLst>
              <a:path w="50512" h="21600">
                <a:moveTo>
                  <a:pt x="0" y="0"/>
                </a:moveTo>
                <a:lnTo>
                  <a:pt x="50512" y="0"/>
                </a:lnTo>
                <a:lnTo>
                  <a:pt x="50512" y="21600"/>
                </a:lnTo>
                <a:lnTo>
                  <a:pt x="0" y="21600"/>
                </a:lnTo>
                <a:close/>
              </a:path>
              <a:path fill="lightenLess" w="50512" h="21600">
                <a:moveTo>
                  <a:pt x="0" y="0"/>
                </a:moveTo>
                <a:lnTo>
                  <a:pt x="50512" y="0"/>
                </a:lnTo>
                <a:lnTo>
                  <a:pt x="49112" y="1400"/>
                </a:lnTo>
                <a:lnTo>
                  <a:pt x="1400" y="1400"/>
                </a:lnTo>
                <a:close/>
              </a:path>
              <a:path fill="darken" w="50512" h="21600">
                <a:moveTo>
                  <a:pt x="50512" y="0"/>
                </a:moveTo>
                <a:lnTo>
                  <a:pt x="50512" y="21600"/>
                </a:lnTo>
                <a:lnTo>
                  <a:pt x="49112" y="20200"/>
                </a:lnTo>
                <a:lnTo>
                  <a:pt x="49112" y="1400"/>
                </a:lnTo>
                <a:close/>
              </a:path>
              <a:path fill="darkenLess" w="50512" h="21600">
                <a:moveTo>
                  <a:pt x="50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12" y="20200"/>
                </a:lnTo>
                <a:close/>
              </a:path>
              <a:path fill="lighten" w="50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512" h="21600">
                <a:moveTo>
                  <a:pt x="18250" y="10800"/>
                </a:moveTo>
                <a:lnTo>
                  <a:pt x="32263" y="3794"/>
                </a:lnTo>
                <a:lnTo>
                  <a:pt x="32263" y="17806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57200" y="23760"/>
            <a:ext cx="8620200" cy="19335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1600" spc="-1" strike="noStrike">
                <a:solidFill>
                  <a:srgbClr val="59a8d1"/>
                </a:solidFill>
                <a:latin typeface="Trebuchet MS"/>
              </a:rPr>
              <a:t>Наркотики широко применяются в современной медицине как обезболивающие и усыпляющие свойства. Но этим эффектом воздействие наркотических веществ на центральную нервную систему не ограничивается. Многие из них вызывают у людей особое психическое состояние возбуждения – эйфорию. Эйфория – объективно вредное состояние. Так как при этом человек всегда в той или иной степени отключается от реальности. В общественном положении, в делах и окружающей обстановке ничего не меняется, человек же чувствует себя на краю блаженства – только вследствие «обмана» психики химическим веществом. Поэтому он испытывает желание вновь повторить это состояние. В результате развивается пагубное пристрастие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8" name="Picture 6" descr="Рисунок2"/>
          <p:cNvPicPr/>
          <p:nvPr/>
        </p:nvPicPr>
        <p:blipFill>
          <a:blip r:embed="rId2"/>
          <a:stretch/>
        </p:blipFill>
        <p:spPr>
          <a:xfrm>
            <a:off x="4788000" y="1700280"/>
            <a:ext cx="3743280" cy="4392720"/>
          </a:xfrm>
          <a:prstGeom prst="rect">
            <a:avLst/>
          </a:prstGeom>
          <a:ln w="0">
            <a:noFill/>
          </a:ln>
        </p:spPr>
      </p:pic>
      <p:sp>
        <p:nvSpPr>
          <p:cNvPr id="329" name="Управляющая кнопка: назад 3"/>
          <p:cNvSpPr/>
          <p:nvPr/>
        </p:nvSpPr>
        <p:spPr>
          <a:xfrm>
            <a:off x="0" y="6426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457200" y="23760"/>
            <a:ext cx="8637480" cy="19335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a8d1"/>
                </a:solidFill>
                <a:latin typeface="Trebuchet MS"/>
              </a:rPr>
              <a:t>Враждебность.</a:t>
            </a:r>
            <a:r>
              <a:rPr b="0" lang="ru-RU" sz="1600" spc="-1" strike="noStrike">
                <a:solidFill>
                  <a:srgbClr val="59a8d1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56664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566640" indent="-56664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a8d1"/>
                </a:solidFill>
                <a:latin typeface="Trebuchet MS"/>
              </a:rPr>
              <a:t>Достаток и досуг. Скука и потеря интереса к жизн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56664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566640" indent="-56664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a8d1"/>
                </a:solidFill>
                <a:latin typeface="Trebuchet MS"/>
              </a:rPr>
              <a:t>Уход от физического стресса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56664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566640" indent="-56664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a8d1"/>
                </a:solidFill>
                <a:latin typeface="Trebuchet MS"/>
              </a:rPr>
              <a:t>Попытка установить дружеские отношения со сверстникам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56664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566640" indent="-56664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a8d1"/>
                </a:solidFill>
                <a:latin typeface="Trebuchet MS"/>
              </a:rPr>
              <a:t>Возможность привлечь к себе внимание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56664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566640" indent="-56664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a8d1"/>
                </a:solidFill>
                <a:latin typeface="Trebuchet MS"/>
              </a:rPr>
              <a:t>Давление группы, отсутствие навыка отказа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56664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2" name="Picture 4" descr="Stop!"/>
          <p:cNvPicPr/>
          <p:nvPr/>
        </p:nvPicPr>
        <p:blipFill>
          <a:blip r:embed="rId2"/>
          <a:stretch/>
        </p:blipFill>
        <p:spPr>
          <a:xfrm>
            <a:off x="5810400" y="2624040"/>
            <a:ext cx="1714320" cy="2448000"/>
          </a:xfrm>
          <a:prstGeom prst="rect">
            <a:avLst/>
          </a:prstGeom>
          <a:ln w="0">
            <a:noFill/>
          </a:ln>
        </p:spPr>
      </p:pic>
      <p:sp>
        <p:nvSpPr>
          <p:cNvPr id="333" name="Управляющая кнопка: назад 3"/>
          <p:cNvSpPr/>
          <p:nvPr/>
        </p:nvSpPr>
        <p:spPr>
          <a:xfrm>
            <a:off x="108000" y="6093000"/>
            <a:ext cx="1584360" cy="649080"/>
          </a:xfrm>
          <a:custGeom>
            <a:avLst/>
            <a:gdLst>
              <a:gd name="textAreaLeft" fmla="*/ 41760 w 1584360"/>
              <a:gd name="textAreaRight" fmla="*/ 1542600 w 158436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52707" h="21600">
                <a:moveTo>
                  <a:pt x="0" y="0"/>
                </a:moveTo>
                <a:lnTo>
                  <a:pt x="52707" y="0"/>
                </a:lnTo>
                <a:lnTo>
                  <a:pt x="52707" y="21600"/>
                </a:lnTo>
                <a:lnTo>
                  <a:pt x="0" y="21600"/>
                </a:lnTo>
                <a:close/>
              </a:path>
              <a:path fill="lightenLess" w="52707" h="21600">
                <a:moveTo>
                  <a:pt x="0" y="0"/>
                </a:moveTo>
                <a:lnTo>
                  <a:pt x="52707" y="0"/>
                </a:lnTo>
                <a:lnTo>
                  <a:pt x="51307" y="1400"/>
                </a:lnTo>
                <a:lnTo>
                  <a:pt x="1400" y="1400"/>
                </a:lnTo>
                <a:close/>
              </a:path>
              <a:path fill="darken" w="52707" h="21600">
                <a:moveTo>
                  <a:pt x="52707" y="0"/>
                </a:moveTo>
                <a:lnTo>
                  <a:pt x="52707" y="21600"/>
                </a:lnTo>
                <a:lnTo>
                  <a:pt x="51307" y="20200"/>
                </a:lnTo>
                <a:lnTo>
                  <a:pt x="51307" y="1400"/>
                </a:lnTo>
                <a:close/>
              </a:path>
              <a:path fill="darkenLess" w="52707" h="21600">
                <a:moveTo>
                  <a:pt x="52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07" y="20200"/>
                </a:lnTo>
                <a:close/>
              </a:path>
              <a:path fill="lighten" w="52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707" h="21600">
                <a:moveTo>
                  <a:pt x="19347" y="10800"/>
                </a:moveTo>
                <a:lnTo>
                  <a:pt x="33360" y="3794"/>
                </a:lnTo>
                <a:lnTo>
                  <a:pt x="33360" y="17806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0" y="60480"/>
            <a:ext cx="8547120" cy="169524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аркомания ведет к крайнему истощению организма, значительной потере массы тела и упадку физических сил. Отравление организма становится причиной поражения внутренних органов, особенно печени и почек. Самая распространенная болезнь среди наркоманов – гепатит и СПИД. Эти болезни передаются через кровь, а наркоманы, которые употребляют наркотики внутривенно, постоянно колются одним шприцо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6" name="Picture 4" descr="0903051"/>
          <p:cNvPicPr/>
          <p:nvPr/>
        </p:nvPicPr>
        <p:blipFill>
          <a:blip r:embed="rId2"/>
          <a:stretch/>
        </p:blipFill>
        <p:spPr>
          <a:xfrm>
            <a:off x="5181480" y="3733920"/>
            <a:ext cx="3648240" cy="2917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spid-0015"/>
          <p:cNvPicPr/>
          <p:nvPr/>
        </p:nvPicPr>
        <p:blipFill>
          <a:blip r:embed="rId3"/>
          <a:stretch/>
        </p:blipFill>
        <p:spPr>
          <a:xfrm>
            <a:off x="1042920" y="4292640"/>
            <a:ext cx="3457800" cy="1657440"/>
          </a:xfrm>
          <a:prstGeom prst="rect">
            <a:avLst/>
          </a:prstGeom>
          <a:ln w="0">
            <a:noFill/>
          </a:ln>
        </p:spPr>
      </p:pic>
      <p:sp>
        <p:nvSpPr>
          <p:cNvPr id="338" name="Управляющая кнопка: назад 1"/>
          <p:cNvSpPr/>
          <p:nvPr/>
        </p:nvSpPr>
        <p:spPr>
          <a:xfrm>
            <a:off x="250920" y="6093000"/>
            <a:ext cx="1081080" cy="558720"/>
          </a:xfrm>
          <a:custGeom>
            <a:avLst/>
            <a:gdLst>
              <a:gd name="textAreaLeft" fmla="*/ 36000 w 1081080"/>
              <a:gd name="textAreaRight" fmla="*/ 1045080 w 1081080"/>
              <a:gd name="textAreaTop" fmla="*/ 36000 h 558720"/>
              <a:gd name="textAreaBottom" fmla="*/ 522720 h 558720"/>
            </a:gdLst>
            <a:ahLst/>
            <a:rect l="textAreaLeft" t="textAreaTop" r="textAreaRight" b="textAreaBottom"/>
            <a:pathLst>
              <a:path w="41781" h="21600">
                <a:moveTo>
                  <a:pt x="0" y="0"/>
                </a:moveTo>
                <a:lnTo>
                  <a:pt x="41781" y="0"/>
                </a:lnTo>
                <a:lnTo>
                  <a:pt x="41781" y="21600"/>
                </a:lnTo>
                <a:lnTo>
                  <a:pt x="0" y="21600"/>
                </a:lnTo>
                <a:close/>
              </a:path>
              <a:path fill="lightenLess" w="41781" h="21600">
                <a:moveTo>
                  <a:pt x="0" y="0"/>
                </a:moveTo>
                <a:lnTo>
                  <a:pt x="41781" y="0"/>
                </a:lnTo>
                <a:lnTo>
                  <a:pt x="40381" y="1400"/>
                </a:lnTo>
                <a:lnTo>
                  <a:pt x="1400" y="1400"/>
                </a:lnTo>
                <a:close/>
              </a:path>
              <a:path fill="darken" w="41781" h="21600">
                <a:moveTo>
                  <a:pt x="41781" y="0"/>
                </a:moveTo>
                <a:lnTo>
                  <a:pt x="41781" y="21600"/>
                </a:lnTo>
                <a:lnTo>
                  <a:pt x="40381" y="20200"/>
                </a:lnTo>
                <a:lnTo>
                  <a:pt x="40381" y="1400"/>
                </a:lnTo>
                <a:close/>
              </a:path>
              <a:path fill="darkenLess" w="41781" h="21600">
                <a:moveTo>
                  <a:pt x="4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81" y="20200"/>
                </a:lnTo>
                <a:close/>
              </a:path>
              <a:path fill="lighten" w="4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81" h="21600">
                <a:moveTo>
                  <a:pt x="13884" y="10800"/>
                </a:moveTo>
                <a:lnTo>
                  <a:pt x="27897" y="3794"/>
                </a:lnTo>
                <a:lnTo>
                  <a:pt x="27897" y="17806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аркодилеры, получая товар, как правило, подмешивают в него стиральный порошок или сахарную пудру (в этом случае после двухмесячного употребления такого товара наркоману гарантирован сахарный диабет). Вообще чистого товара не бывает: всегда есть доля примесей, и это опасно для наркомана. Если он купил где-то более очищенный наркотик, то есть вероятность передозировки, которая может привести к моментальной смерт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0" name="Picture 4" descr="magnitogorsk1567"/>
          <p:cNvPicPr/>
          <p:nvPr/>
        </p:nvPicPr>
        <p:blipFill>
          <a:blip r:embed="rId1"/>
          <a:stretch/>
        </p:blipFill>
        <p:spPr>
          <a:xfrm>
            <a:off x="2514600" y="34290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341" name="Управляющая кнопка: назад 1"/>
          <p:cNvSpPr/>
          <p:nvPr/>
        </p:nvSpPr>
        <p:spPr>
          <a:xfrm>
            <a:off x="108000" y="6093000"/>
            <a:ext cx="1224000" cy="57600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5885" h="21600">
                <a:moveTo>
                  <a:pt x="0" y="0"/>
                </a:moveTo>
                <a:lnTo>
                  <a:pt x="45885" y="0"/>
                </a:lnTo>
                <a:lnTo>
                  <a:pt x="45885" y="21600"/>
                </a:lnTo>
                <a:lnTo>
                  <a:pt x="0" y="21600"/>
                </a:lnTo>
                <a:close/>
              </a:path>
              <a:path fill="lightenLess" w="45885" h="21600">
                <a:moveTo>
                  <a:pt x="0" y="0"/>
                </a:moveTo>
                <a:lnTo>
                  <a:pt x="45885" y="0"/>
                </a:lnTo>
                <a:lnTo>
                  <a:pt x="44485" y="1400"/>
                </a:lnTo>
                <a:lnTo>
                  <a:pt x="1400" y="1400"/>
                </a:lnTo>
                <a:close/>
              </a:path>
              <a:path fill="darken" w="45885" h="21600">
                <a:moveTo>
                  <a:pt x="45885" y="0"/>
                </a:moveTo>
                <a:lnTo>
                  <a:pt x="45885" y="21600"/>
                </a:lnTo>
                <a:lnTo>
                  <a:pt x="44485" y="20200"/>
                </a:lnTo>
                <a:lnTo>
                  <a:pt x="44485" y="1400"/>
                </a:lnTo>
                <a:close/>
              </a:path>
              <a:path fill="darkenLess" w="45885" h="21600">
                <a:moveTo>
                  <a:pt x="45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85" y="20200"/>
                </a:lnTo>
                <a:close/>
              </a:path>
              <a:path fill="lighten" w="45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85" h="21600">
                <a:moveTo>
                  <a:pt x="15936" y="10800"/>
                </a:moveTo>
                <a:lnTo>
                  <a:pt x="29949" y="3794"/>
                </a:lnTo>
                <a:lnTo>
                  <a:pt x="29949" y="17806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1296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752480" y="5392800"/>
            <a:ext cx="6172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следствие наркотиков очень плачевно. Страдают все органы дыхания(трахе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ронхи).Мозг работает медленно. Большинство наркоманов,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до 53%,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лица без определённых занятий. Наркомания значительно молодеет с каждым годом. «Средний возраст» впервые попробовавших наркотики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не превышает 14 лет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Управляющая кнопка: назад 1"/>
          <p:cNvSpPr/>
          <p:nvPr/>
        </p:nvSpPr>
        <p:spPr>
          <a:xfrm>
            <a:off x="179280" y="6200640"/>
            <a:ext cx="1285920" cy="505080"/>
          </a:xfrm>
          <a:custGeom>
            <a:avLst/>
            <a:gdLst>
              <a:gd name="textAreaLeft" fmla="*/ 32760 w 1285920"/>
              <a:gd name="textAreaRight" fmla="*/ 1253520 w 128592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54969" h="21600">
                <a:moveTo>
                  <a:pt x="0" y="0"/>
                </a:moveTo>
                <a:lnTo>
                  <a:pt x="54969" y="0"/>
                </a:lnTo>
                <a:lnTo>
                  <a:pt x="54969" y="21600"/>
                </a:lnTo>
                <a:lnTo>
                  <a:pt x="0" y="21600"/>
                </a:lnTo>
                <a:close/>
              </a:path>
              <a:path fill="lightenLess" w="54969" h="21600">
                <a:moveTo>
                  <a:pt x="0" y="0"/>
                </a:moveTo>
                <a:lnTo>
                  <a:pt x="54969" y="0"/>
                </a:lnTo>
                <a:lnTo>
                  <a:pt x="53569" y="1400"/>
                </a:lnTo>
                <a:lnTo>
                  <a:pt x="1400" y="1400"/>
                </a:lnTo>
                <a:close/>
              </a:path>
              <a:path fill="darken" w="54969" h="21600">
                <a:moveTo>
                  <a:pt x="54969" y="0"/>
                </a:moveTo>
                <a:lnTo>
                  <a:pt x="54969" y="21600"/>
                </a:lnTo>
                <a:lnTo>
                  <a:pt x="53569" y="20200"/>
                </a:lnTo>
                <a:lnTo>
                  <a:pt x="53569" y="1400"/>
                </a:lnTo>
                <a:close/>
              </a:path>
              <a:path fill="darkenLess" w="54969" h="21600">
                <a:moveTo>
                  <a:pt x="549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69" y="20200"/>
                </a:lnTo>
                <a:close/>
              </a:path>
              <a:path fill="lighten" w="549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69" h="21600">
                <a:moveTo>
                  <a:pt x="20478" y="10800"/>
                </a:moveTo>
                <a:lnTo>
                  <a:pt x="34491" y="3794"/>
                </a:lnTo>
                <a:lnTo>
                  <a:pt x="34491" y="17806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6:02:11Z</dcterms:created>
  <dc:creator>MICHAEL</dc:creator>
  <dc:description/>
  <dc:language>en-US</dc:language>
  <cp:lastModifiedBy>анатолий</cp:lastModifiedBy>
  <dcterms:modified xsi:type="dcterms:W3CDTF">2015-04-28T11:24:49Z</dcterms:modified>
  <cp:revision>16</cp:revision>
  <dc:subject/>
  <dc:title>Наркома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a0a000000000001024140</vt:lpwstr>
  </property>
</Properties>
</file>