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9C8-5CFE-4942-8E89-5263CE5F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C4CF-3D4F-4642-883A-3D8179B3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82F6-CB34-473B-91D9-024564A9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70C-CC2C-4CB0-97E5-FECF63D1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93DC-53F3-4006-A9DA-ECA278FE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B1A0-1779-41CA-BEED-CF65D3CB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599D-4FA4-45D1-99B3-CBBC4DBA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5E55-9092-4B5A-8E57-E631AAA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80BB-35AA-4080-B050-F052331A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D7F1-7742-4DB3-A437-008D7E9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EA7E-5B0D-4B9D-BE33-9CF4A06B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C66-D94E-4310-8DF2-488A5C90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37F6-CD43-4E2D-AE36-DFA31E25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3AB5-F994-4B5C-A5AB-2DA21B2D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E46E-8473-4532-BF6B-17ED09A1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1420-FCFA-4B02-B3A2-3B5476F2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D07E-507E-4C45-881D-289FAD27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901C7-2A6A-43FC-B05C-39742475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CCF12-DC32-4930-B254-9C877651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AA81-436B-40FF-8205-3A23D02E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1BCAA-5189-4027-83D2-0B548FA8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30524-F7DC-43A7-B1BD-AD9FAB95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C46-C0EB-4226-A897-CEF905C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D821-D7B0-41BD-B53D-B9F85A93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9977-7924-4323-8F53-970D8E2C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9C76-69F4-4FD3-B68F-7645C34C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784E-F352-42CF-B4FB-53F879FE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BED8-9F62-4ED7-87D4-F1ECE17B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45E4-215F-4C63-8E08-06B1D199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A50A-323D-4713-BED6-38DFFCCE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63A99-7C04-47B8-B1DD-EB38DD92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80864-D78F-4D20-87D2-8A47636E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8C497-2CA7-49D5-BE4C-8717179A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364-BC70-4F28-ACC0-126EF90A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F34B3-9ACB-4C3F-8D64-80B7314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DA63-4515-49BE-A3B2-0F4E1A3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8260-816D-42FA-B512-F5693CE8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9B10C-A8FB-4F7C-AE0B-D0E378E3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A1AA6-C29F-4537-BA03-4810316C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EA23-89BD-44B5-8E69-2AF51C87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E779-3CFF-41C9-BA79-8CBD913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C3FF7-8CA7-4537-8225-4B700A66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FC6D-640B-4B63-8884-593A4B5E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B47E5-15C5-44ED-B1B1-6C65E43F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F41-DA15-4D03-9D54-178FDBC5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BBE7D-742E-4CA9-AB4A-19069DD2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EBB5D-F9D1-4862-9E2D-FF2FB76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04F8A-56D2-4995-A53B-1C36CD86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4CE2-680D-4BF7-969A-E22C445A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EE0F9-BECB-4A03-B35B-A6D6FB94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47B3A-F2BB-4C28-9A2C-512B51F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6752B-94AA-46AA-9F80-E8C71E32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67587-972E-40AD-B9D4-40818FB3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B2CFE-E683-4D1D-B04B-55A63005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D1A6F-8490-45A6-9D93-D91BC7D9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719-8CC0-4F31-B143-31C5072F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CDC6B-3090-4F5E-9BB2-A6BFFD49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1EABF-4812-45DF-A5E4-E14E32F5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AEC03-4320-4DFB-8C9E-F13ACCAC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1D59A-B712-4E3D-8080-A4D799A9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2CBE-00CA-4D08-BEA3-6BDC65D8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2E60C-C82C-4BA1-A878-25D74A0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77D44-EC2A-484B-A943-8F147975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795EF-02A2-49EC-A23D-F826DE6A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8FDAE-B50F-45C8-9B90-A527F78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73AC-524E-4C9A-B034-D05AF219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367D-044F-4BBF-8421-B437704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D218A-B407-4E89-AA9A-3868C2D7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253EA-C1D1-4BB8-A729-13CBE2A5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0CA2A-3174-4D86-9105-304D19A1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5DB70-BD51-456F-9EA5-A400A599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02977-08DB-4724-8FDA-EBE5D1D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00FB-7EA1-41D6-B8E7-3DECABA7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610F-08B3-4492-87A5-7A32B55A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BB7DF-B3D1-4B3F-A1A0-672B0F79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40650-E716-4C24-99E8-6F76342D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F296D-AA56-497F-8CEA-7FDD514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184-ED92-43B1-BBD3-00E0244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95EF-C3C6-4FC2-89A3-48A5A0B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B16C-B15C-49A6-BACE-3C66E6B0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841CD-3ABA-4868-926A-78A57C5F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4D7AA-E5F4-4CB6-8124-7D1F8113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AEAB0-35FE-40F7-B6F3-429E6295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11D-8347-4B43-87C1-22E4B0C5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6D01-A740-4B13-B64E-56E3457F7B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3725-ADBE-4E26-9D29-4008817650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E0BF-8C76-4A3A-A753-949E984EEA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0BB2-0574-4DC7-8EE3-4662F85130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6172-8557-4CAE-A79C-031F814D68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CEE-CA1B-4CD0-A1B9-769D2BD6AA2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6EF6-34FD-47CC-833D-6DFBDAE1115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572314"/>
                </a:solidFill>
                <a:latin typeface="Comic Sans MS"/>
              </a:rPr>
              <a:t>Лондонский глаз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Рисунок 3" descr="0a0acc61983c03051f59fb16d0353eb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  <p:pic>
        <p:nvPicPr>
          <p:cNvPr id="320" name="Прямоугольник 5" descr=""/>
          <p:cNvPicPr/>
          <p:nvPr/>
        </p:nvPicPr>
        <p:blipFill>
          <a:blip r:embed="rId2"/>
          <a:stretch/>
        </p:blipFill>
        <p:spPr>
          <a:xfrm>
            <a:off x="1116000" y="1994040"/>
            <a:ext cx="7613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Рисунок 1" descr="650_650_fixe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Рисунок 2" descr="801bc901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356840" y="785880"/>
            <a:ext cx="42865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orbel"/>
              </a:rPr>
              <a:t>Лондонский глаз</a:t>
            </a:r>
            <a:r>
              <a:rPr b="0" lang="ru-RU" sz="2000" spc="-1" strike="noStrike">
                <a:solidFill>
                  <a:srgbClr val="404040"/>
                </a:solidFill>
                <a:latin typeface="Corbel"/>
              </a:rPr>
              <a:t> (англ. </a:t>
            </a:r>
            <a:r>
              <a:rPr b="0" i="1" lang="ru-RU" sz="2000" spc="-1" strike="noStrike">
                <a:solidFill>
                  <a:srgbClr val="404040"/>
                </a:solidFill>
                <a:latin typeface="Corbel"/>
              </a:rPr>
              <a:t>London Eye</a:t>
            </a:r>
            <a:r>
              <a:rPr b="0" lang="ru-RU" sz="2000" spc="-1" strike="noStrike">
                <a:solidFill>
                  <a:srgbClr val="404040"/>
                </a:solidFill>
                <a:latin typeface="Corbel"/>
              </a:rPr>
              <a:t>) — одно из крупнейших колёс обозрения в мире, расположенное в Лондонском районе Ламбед на южном берегу Темз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orbel"/>
              </a:rPr>
              <a:t>С высоты 135 метров (приблизительно 45 этажей) открывается вид практически на весь город. Колесо обозрения — проект архитектора Дэвида Маркса и Джулии Барфилд, победивший на конкурсе проектов построек в честь наступления нового тысячелетия. Воплощение проекта в жизнь заняло шесть лет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Рисунок 3" descr="113930-n.jpg"/>
          <p:cNvPicPr/>
          <p:nvPr/>
        </p:nvPicPr>
        <p:blipFill>
          <a:blip r:embed="rId1"/>
          <a:stretch/>
        </p:blipFill>
        <p:spPr>
          <a:xfrm>
            <a:off x="5643720" y="1714680"/>
            <a:ext cx="3357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1720" y="142920"/>
            <a:ext cx="74070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изайн и конструк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1720" y="1357200"/>
            <a:ext cx="7407000" cy="31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Лондонский глаз имеет 32 полностью закрытые и кондиционируемые кабинки-капсулы для пассажиров, сделанные в форме яйца. Капсулы символизируют собой 32 пригорода Лондона. Каждая 10-тонная капсула может принять до 25 пассажиров. Колесо вращается с постоянной скоростью в 26 сантиметров в секунду (приблизительно 0,9 километров в час) для того чтобы один оборот занимал приблизительно 30 минут. Колесо не останавливается, чтобы взять на свой «борт» пассажиров, так как скорость позволяет пассажирам входить и выходить на уровне земли. Колесо останавливается только для того, чтобы инвалиды и пожилые люди могли совершить посадку/высадку безопас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5a386ff1f5.jpg"/>
          <p:cNvPicPr/>
          <p:nvPr/>
        </p:nvPicPr>
        <p:blipFill>
          <a:blip r:embed="rId1"/>
          <a:stretch/>
        </p:blipFill>
        <p:spPr>
          <a:xfrm>
            <a:off x="5715000" y="414324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1143000" y="4429080"/>
            <a:ext cx="4714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Колесо поддерживается спицами и выглядит как большое колесо велосипеда. Освещение Лондонского Глаза было заменено светодиодной подсветкой от Color Kinetics в декабре 2006 года, для того, чтобы сделать возможным цифровое управление огн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1" descr="275f8df074be94f4a8b3416fb3ab7d5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087-London.eye.manycapsules.arp.750pi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3" descr="london-ey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8840" y="-360"/>
            <a:ext cx="740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1720" y="1356840"/>
            <a:ext cx="7407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значально это был рискованный проект, создатели которого долго не могли найти инвестора для воплощения своей идеи в жизнь, а теперь это сооружение по праву считается одним из современных чудес свет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Формальное открытие Лондонского глаза провел премьер-министр Тони Блэр 31 декабря 1999 года, но по техническим причинам он был открыт для посетителей лишь в марте 2000 года. С момента открытия он стал самым популярным аттракционом и ежегодно его посещают около миллиона туристов. И превратился в место проведения городских и общественных праздников. А также тысячи влюбленных парочек облюбовали и регулярно проводят здесь романтические свидания и признаются друг другу в любв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Рисунок 1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1" descr="800px-London_Eye_Twilight_April_2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1:29:25Z</dcterms:created>
  <dc:creator> </dc:creator>
  <dc:description/>
  <dc:language>en-US</dc:language>
  <cp:lastModifiedBy> </cp:lastModifiedBy>
  <dcterms:modified xsi:type="dcterms:W3CDTF">2011-04-08T13:08:33Z</dcterms:modified>
  <cp:revision>10</cp:revision>
  <dc:subject/>
  <dc:title>Лондонский глаз</dc:title>
</cp:coreProperties>
</file>