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66E-C7B5-46A7-A4AC-C15E0F41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C38-0DE6-4205-8D89-96889D9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A0E-86F1-4810-ADD6-E7B9BE46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635-DD8B-4A69-A838-8AB02A8A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7DE8-B387-413E-A22C-6CFA666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020-5E45-422B-B370-60FC224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1682-1A9D-4D86-B5DF-28B1052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979A-9FCE-4C89-84CA-56304067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07AE-FA73-4BFC-99D1-788D774C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482D-3BF8-4B5C-B0C5-5692C363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2FA9-8ADD-428D-AA58-131FF04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8FC-D6A7-478B-B43A-D53677E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A117-4126-430F-BEE1-13579DF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FFFB-3F38-4466-8EB5-FA0B81E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B059-B0D5-4760-9A30-DCE6E792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D901-8DD4-4B87-B636-987EE86B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8A6-7AF8-46CC-975F-AF7EA053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4087-A51E-4E87-8F73-9EB3F159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1575-E91E-4940-97CC-556A1047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E5AD-E9C7-4E21-B5FD-DCB09E41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039C-8C6F-4609-AA99-2D5805FA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7427-370B-45DD-B296-9C1A5E91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5E8-563E-4A24-BC33-51FE2B4F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A428-428B-4B8F-9675-42AF8C19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FD7E-1081-4114-9F4A-CF217F05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3BB3-0A29-465D-875F-C87DE68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2308-C456-4069-8A1E-EFF51283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6C0D-CA33-4504-B563-36A7431C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F475-086F-4F02-91CF-B34C0B82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C4E9-D44E-4001-BDC6-FA5FF3F7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899C-364F-40AC-8C50-14CA54F2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3E158-63DD-4814-BE7C-B35353A2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4DA9-8101-4F17-B1AF-B8E9ADBD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92D-FB96-4BA6-ADB6-5338DF08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69296-6FF0-4018-9276-09E587A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328C-AC50-4FA2-87E3-FB2194F0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2610-22CA-498B-ACCD-D9F4B95D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EA12-D1A3-448B-873A-0C19B7F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2D09-79C5-46E0-98FE-02B0B9F4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D89C-672F-41AB-B2D4-478374B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640E-38EE-4C49-AA39-FCC60CA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2C85-86EF-4EE4-A6F9-F416EDCE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4E50-0AA9-4F93-9982-D0A7CCFD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51C1-2181-4FCC-95A3-26BDDB65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374-21BF-48EB-AD26-57E7B1EB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C23B-3ABD-4CCF-AA5C-AC70C550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3138-BE91-4BF8-B4D7-36A15355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2F76-9444-418A-94CE-8AA24AC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6425F-7E66-4B7F-ABDB-2121FAB6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B372C-1D2F-43A2-AB81-1B1D25BD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0BA8-B038-4568-8EB1-8C5DDBA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55DD-3403-47D3-BBFB-99FCFBF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FD06E-F78D-4033-BF5D-2C31330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A13B-5421-49BB-B592-AB21C321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FEACA-5D28-47E2-8FF8-D807BEE4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786-DEF3-4806-B21A-1356935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BDC2C-246E-4053-92BC-40AB982E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B495-DD39-4B84-BD45-B9EAFAD9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AD1E-150C-4058-AB9F-C86606A0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573C5-B787-4997-A0D7-574D856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8A07-5562-4176-98B5-16A2E1BA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1132-FB6B-4267-8C1C-CB0A20A5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B7E5-242D-40F1-A2C2-180A2C5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DC844-14ED-4125-95E9-1D02FD3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CE9D-39A4-4D23-B558-EA82FF6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D131-5BDC-497D-8E35-8CF907D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3F4-F7E9-4AD2-AEC5-69F947A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3025-CA1F-47F2-9F3A-10710DCE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07C1-3621-4A36-97BC-8FE9904B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547E-D47C-4EC8-9B78-DF02CD5E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33F1-D25A-4676-AE51-74929E45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0C99-39E3-4A2B-9BCF-3B1B008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378F-DA83-489F-ACCD-7B56802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DF5E9-0ED3-417A-96B4-9B0062CE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B4831-75DC-4D4B-A6EC-CDB058F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AE5E-5272-460E-9B6D-0A2EADD8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7DD2-E68F-446E-8A50-C731AE4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136-7CDC-4ABE-B0A8-46A233E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F030-EE9D-49D9-BE56-1DB45420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6B4D-00FF-404D-92C3-2872C70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1D154-8C6D-47C4-A8B1-7C575E4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6548-FE09-4DAA-A40E-CD593C8B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FFFB4-1A8D-4F8A-B72C-7B07E9AF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AE4-4BB6-4432-BEA4-86480871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723A-B20F-4DDF-A0B9-0581FD4ABC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C1F6-FCF5-46A6-882B-3A041E5011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9DEB-482B-4D08-8935-A14230C8FE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0634-E6DC-4B44-94AC-CCCC230254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EC7E-AED9-4E1B-9030-B8A2B2EF8D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4363-A373-4470-A63E-5DDB9F99D7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6AA-A59F-467C-8AC6-C620C9D4F0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mic Sans MS"/>
              </a:rPr>
              <a:t>Лондонский глаз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0a0acc61983c03051f59fb16d0353e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5" descr=""/>
          <p:cNvPicPr/>
          <p:nvPr/>
        </p:nvPicPr>
        <p:blipFill>
          <a:blip r:embed="rId2"/>
          <a:stretch/>
        </p:blipFill>
        <p:spPr>
          <a:xfrm>
            <a:off x="1116000" y="1994040"/>
            <a:ext cx="7613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1" descr="650_650_fix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2" descr="801bc901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356840" y="785880"/>
            <a:ext cx="42865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rbel"/>
              </a:rPr>
              <a:t>Лондонский глаз</a:t>
            </a:r>
            <a:r>
              <a:rPr b="0" lang="ru-RU" sz="2000" spc="-1" strike="noStrike">
                <a:solidFill>
                  <a:srgbClr val="404040"/>
                </a:solidFill>
                <a:latin typeface="Corbel"/>
              </a:rPr>
              <a:t> (англ. </a:t>
            </a:r>
            <a:r>
              <a:rPr b="0" i="1" lang="ru-RU" sz="2000" spc="-1" strike="noStrike">
                <a:solidFill>
                  <a:srgbClr val="404040"/>
                </a:solidFill>
                <a:latin typeface="Corbel"/>
              </a:rPr>
              <a:t>London Eye</a:t>
            </a:r>
            <a:r>
              <a:rPr b="0" lang="ru-RU" sz="2000" spc="-1" strike="noStrike">
                <a:solidFill>
                  <a:srgbClr val="404040"/>
                </a:solidFill>
                <a:latin typeface="Corbel"/>
              </a:rPr>
              <a:t>) — одно из крупнейших колёс обозрения в мире, расположенное в Лондонском районе Ламбед на южном берегу Темз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rbel"/>
              </a:rPr>
              <a:t>С высоты 135 метров (приблизительно 45 этажей) открывается вид практически на весь город. Колесо обозрения — проект архитектора Дэвида Маркса и Джулии Барфилд, победивший на конкурсе проектов построек в честь наступления нового тысячелетия. Воплощение проекта в жизнь заняло шесть л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3" descr="113930-n.jpg"/>
          <p:cNvPicPr/>
          <p:nvPr/>
        </p:nvPicPr>
        <p:blipFill>
          <a:blip r:embed="rId1"/>
          <a:stretch/>
        </p:blipFill>
        <p:spPr>
          <a:xfrm>
            <a:off x="5643720" y="171468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1720" y="142920"/>
            <a:ext cx="74070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зайн и констру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Лондонский глаз имеет 32 полностью закрытые и кондиционируемые кабинки-капсулы для пассажиров, сделанные в форме яйца. Капсулы символизируют собой 32 пригорода Лондона. Каждая 10-тонная капсула может принять до 25 пассажиров. Колесо вращается с постоянной скоростью в 26 сантиметров в секунду (приблизительно 0,9 километров в час) для того чтобы один оборот занимал приблизительно 30 минут. Колесо не останавливается, чтобы взять на свой «борт» пассажиров, так как скорость позволяет пассажирам входить и выходить на уровне земли. Колесо останавливается только для того, чтобы инвалиды и пожилые люди могли совершить посадку/высадку безопас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5a386ff1f5.jpg"/>
          <p:cNvPicPr/>
          <p:nvPr/>
        </p:nvPicPr>
        <p:blipFill>
          <a:blip r:embed="rId1"/>
          <a:stretch/>
        </p:blipFill>
        <p:spPr>
          <a:xfrm>
            <a:off x="5715000" y="414324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1143000" y="442908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есо поддерживается спицами и выглядит как большое колесо велосипеда. Освещение Лондонского Глаза было заменено светодиодной подсветкой от Color Kinetics в декабре 2006 года, для того, чтобы сделать возможным цифровое управление огн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275f8df074be94f4a8b3416fb3ab7d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087-London.eye.manycapsules.arp.750pi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london-ey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1720" y="135684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значально это был рискованный проект, создатели которого долго не могли найти инвестора для воплощения своей идеи в жизнь, а теперь это сооружение по праву считается одним из современных чудес свет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Формальное открытие Лондонского глаза провел премьер-министр Тони Блэр 31 декабря 1999 года, но по техническим причинам он был открыт для посетителей лишь в марте 2000 года. С момента открытия он стал самым популярным аттракционом и ежегодно его посещают около миллиона туристов. И превратился в место проведения городских и общественных праздников. А также тысячи влюбленных парочек облюбовали и регулярно проводят здесь романтические свидания и признаются друг другу в любв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800px-London_Eye_Twilight_April_2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1:29:25Z</dcterms:created>
  <dc:creator> </dc:creator>
  <dc:description/>
  <dc:language>en-US</dc:language>
  <cp:lastModifiedBy> </cp:lastModifiedBy>
  <dcterms:modified xsi:type="dcterms:W3CDTF">2011-04-08T13:08:33Z</dcterms:modified>
  <cp:revision>10</cp:revision>
  <dc:subject/>
  <dc:title>Лондонский глаз</dc:title>
</cp:coreProperties>
</file>