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B4B-1F3C-407A-A2D6-75C46185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B8B-ED5C-4D9A-B2BA-202BA04F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983-1BFD-4DB8-AE3C-1CA72B8F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DD1-8D05-466C-B035-E8B03D211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EC2-6F96-4B54-BF4E-F6DCD6D6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A98-77E1-483B-ACA3-14C35082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478-AF19-47FA-BD20-710573F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F3C-4497-4E1F-8F92-5F76B41E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87C-7F25-4046-8F1F-193E1B22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E63-9AB5-43F2-88A5-1CBFE5C3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5A8-8D18-4B21-9422-199A992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2CC-361E-4137-A95A-9A1590D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179-ABB7-4FD7-86D8-BF741A051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403280" y="3573360"/>
            <a:ext cx="6551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хаббат - өмір өзегі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195640" y="189000"/>
            <a:ext cx="48513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аңа ақпарат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198900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ff"/>
                </a:solidFill>
                <a:latin typeface="Times New Roman"/>
              </a:rPr>
              <a:t>Әрбір адам өзіне , ата-анасына, Отанға, туған еліне сүйіспеншілкпен қарайды. Ыстық ықылас, шынайы сүйіспеншілік махаббат сезімін тудырады. Әлемдегі бар жақсылық махаббат арқылы кел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32360" y="907920"/>
            <a:ext cx="4067280" cy="595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908000" y="189000"/>
            <a:ext cx="446436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йланайық, пікірлесейік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213372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- Адамның шын ықыласпен істеген іс-әрекеттері қандай сезім туды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284640"/>
            <a:ext cx="50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- Сүйіспеншілік сезімдеріңді қалай білесіңдер? Кімге? Нелікт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4724280"/>
            <a:ext cx="54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- Туған жер, табиғат қандай сезім тудырад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3924360" cy="6381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0" y="2637000"/>
            <a:ext cx="41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ff"/>
                </a:solidFill>
                <a:latin typeface="Times New Roman"/>
              </a:rPr>
              <a:t>- “Бәрінің бастауы – махаббат!” деген сөзді қалай түсінесің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492360" y="189000"/>
            <a:ext cx="39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әтінмен жұмы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71840" y="3789360"/>
            <a:ext cx="40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933720"/>
            <a:ext cx="47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- Махаббат неліктен адам жанын нұрға, көңілін қуанышқа бөлейд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41300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kk-KZ" sz="2000" spc="-1" strike="noStrike">
                <a:solidFill>
                  <a:srgbClr val="0000ff"/>
                </a:solidFill>
                <a:latin typeface="Arial"/>
              </a:rPr>
              <a:t>1. “Махаббат шуағы”     Р.Рождестве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11640" y="5445000"/>
            <a:ext cx="40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5589720"/>
            <a:ext cx="460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i="1" lang="kk-KZ" sz="2000" spc="-1" strike="noStrike">
                <a:solidFill>
                  <a:srgbClr val="0000ff"/>
                </a:solidFill>
                <a:latin typeface="Arial"/>
              </a:rPr>
              <a:t>. Ана.  З.Воскресен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836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836640"/>
            <a:ext cx="367200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ff"/>
                </a:solidFill>
                <a:latin typeface="Times New Roman"/>
              </a:rPr>
              <a:t>Адам жүрегі махаббатқа, сүйіспеншілікке толы болса ғана мейірімділік, адалдық сияқты асыл қасиеттер үнемі байқалып тұрады. Өмірді сүю, Отанды, туған жерді сүю, білімге құштарлық та сүйіспеншілікке байлансыты бо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kk-KZ" sz="1800" spc="-1" strike="noStrike">
                <a:solidFill>
                  <a:srgbClr val="0000ff"/>
                </a:solidFill>
                <a:latin typeface="Times New Roman"/>
              </a:rPr>
              <a:t>Сендер шыр етіп дүниеге келгенде ата- анаңның қуанышында шек болмады. Ал сендер алғаш рет сәби жүректеріңмен анаңның аялы алақанын, мейірленген махаббатын сезіндіңдер. Сондықтан да барлық жақсылықтың негізі осы махаббаттан басталып, адам жанын нұрға, көңілін қуанышқа бөлей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Loner\Рабочий стол\255480716.jpg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" descr="164.gif"/>
          <p:cNvPicPr/>
          <p:nvPr/>
        </p:nvPicPr>
        <p:blipFill>
          <a:blip r:embed="rId2"/>
          <a:stretch/>
        </p:blipFill>
        <p:spPr>
          <a:xfrm rot="16200000">
            <a:off x="6036480" y="178200"/>
            <a:ext cx="150012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164.gif"/>
          <p:cNvPicPr/>
          <p:nvPr/>
        </p:nvPicPr>
        <p:blipFill>
          <a:blip r:embed="rId3"/>
          <a:stretch/>
        </p:blipFill>
        <p:spPr>
          <a:xfrm rot="16200000">
            <a:off x="1379520" y="906120"/>
            <a:ext cx="131292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" descr="164.gif"/>
          <p:cNvPicPr/>
          <p:nvPr/>
        </p:nvPicPr>
        <p:blipFill>
          <a:blip r:embed="rId4"/>
          <a:stretch/>
        </p:blipFill>
        <p:spPr>
          <a:xfrm rot="16200000">
            <a:off x="3952800" y="833040"/>
            <a:ext cx="1143000" cy="30481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" descr="164.gif"/>
          <p:cNvPicPr/>
          <p:nvPr/>
        </p:nvPicPr>
        <p:blipFill>
          <a:blip r:embed="rId5"/>
          <a:stretch/>
        </p:blipFill>
        <p:spPr>
          <a:xfrm rot="16200000">
            <a:off x="1416960" y="3083760"/>
            <a:ext cx="1357200" cy="36194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" descr="164.gif"/>
          <p:cNvPicPr/>
          <p:nvPr/>
        </p:nvPicPr>
        <p:blipFill>
          <a:blip r:embed="rId6"/>
          <a:stretch/>
        </p:blipFill>
        <p:spPr>
          <a:xfrm rot="16200000">
            <a:off x="5607720" y="3321720"/>
            <a:ext cx="1928880" cy="5143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164.gif"/>
          <p:cNvPicPr/>
          <p:nvPr/>
        </p:nvPicPr>
        <p:blipFill>
          <a:blip r:embed="rId7"/>
          <a:stretch/>
        </p:blipFill>
        <p:spPr>
          <a:xfrm rot="16200000">
            <a:off x="952560" y="-952560"/>
            <a:ext cx="1143000" cy="30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971640" y="40464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әйексө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44640"/>
            <a:ext cx="507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Дүниеде ана махаббатынан қасиетті нәрсе жоқ. Оның алдында адамды ынтықтырушы өзге дүниелер әлсіз кел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В.Т. Бели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8464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2. Өзінің елін сүйе алмайтын адам ештеңені де сүйе алмайды.                                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й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365720"/>
            <a:ext cx="514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Сүйіспеншілік – жүректен.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Ш.Құдайбердіұ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30064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4. Махаббатсыз- тіршілкте мән жоқ.    И. Г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Махаббатсыз –дүние бос.        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.Құнанба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40"/>
          <p:cNvPicPr/>
          <p:nvPr/>
        </p:nvPicPr>
        <p:blipFill>
          <a:blip r:embed="rId2"/>
          <a:stretch/>
        </p:blipFill>
        <p:spPr>
          <a:xfrm>
            <a:off x="6443640" y="4797360"/>
            <a:ext cx="254304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042920" y="404640"/>
            <a:ext cx="6943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ығармашылық жұмыс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773360"/>
            <a:ext cx="813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0000"/>
                </a:solidFill>
                <a:latin typeface="Times New Roman KZ"/>
              </a:rPr>
              <a:t>Оқушылардың табиғатқа деген сүйіспеншіліктерін сурет арқылы бейн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997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1 топ. “Қайдасың, қасқа құлыным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3933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“Қасиетті туған жерді қастерл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211640" y="17002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Өзін-өзі, өзгелерді тануға жетелейд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08000" y="476280"/>
            <a:ext cx="374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үйіндем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278136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Өзгелерді сыйлауға негіз бола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1640" y="3645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Ата-анаға сүйіспеншілікті білдіред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465300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Отанды, елді құрметтеуге үйретед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5661000"/>
            <a:ext cx="50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Табиғаттың сұлулығын сезіндір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3573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9900cc"/>
                </a:solidFill>
                <a:latin typeface="Arial"/>
              </a:rPr>
              <a:t>Махабб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24000" y="335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3860640"/>
            <a:ext cx="25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8000" y="1915920"/>
            <a:ext cx="259272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860640"/>
            <a:ext cx="244800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3860640"/>
            <a:ext cx="2448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79640" y="2997360"/>
            <a:ext cx="25210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547640" y="260280"/>
            <a:ext cx="532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Махаббат мәні</a:t>
            </a:r>
            <a:endParaRPr b="1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84720" y="112536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ff"/>
                </a:solidFill>
                <a:latin typeface="Times New Roman KZ"/>
              </a:rPr>
              <a:t>А.Самиғоллаұ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916280"/>
            <a:ext cx="7777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Адамзатты аялаған ақ арма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Барлық ғалам махабббаттан жаралғ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Өмір-өзен сан тарапқа ақса 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Жақсылықтан шуақ алып, нәр алғ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Махаббаттың тоймай ішіп дәмін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Адамзаттың талмай айтар әні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Өзіңді де өзгені де сүйе алсаң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ff"/>
                </a:solidFill>
                <a:latin typeface="Arial"/>
              </a:rPr>
              <a:t>Жете аларсың махаббаттың мәні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20:22:06Z</dcterms:created>
  <dc:creator>Admin</dc:creator>
  <dc:description/>
  <dc:language>en-US</dc:language>
  <cp:lastModifiedBy>Физика</cp:lastModifiedBy>
  <dcterms:modified xsi:type="dcterms:W3CDTF">2011-11-14T10:17:54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70000000000010250500207f7000400038000</vt:lpwstr>
  </property>
</Properties>
</file>