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gif" ContentType="image/gif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4155-B673-4B0A-8211-FE0D00F9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B963-365C-45F4-BFAA-C086C998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6E8F-7125-40D5-ACA7-96A0C1A3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08D-F5E7-4E0A-8794-FE6F0A2F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0756-49F7-4A30-B333-0B0858B9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9A69-6D58-4098-B9B2-1E7619AE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F8C4-2BE5-4608-8348-2A4D9EFC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7F19-9FAC-4343-A225-F23FC225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342B-15C9-43BF-A213-BBC0599E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7D6B-E199-443D-9D45-4350910B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14AD-EF02-4434-81A8-402A434B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4D1B-79C4-428A-B085-6BC17399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F590-60E8-4777-ADE1-F69E6E694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03280" y="3573360"/>
            <a:ext cx="6551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хаббат - өмір өзегі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195640" y="189000"/>
            <a:ext cx="4851360" cy="8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аңа ақпарат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1989000"/>
            <a:ext cx="62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Times New Roman"/>
              </a:rPr>
              <a:t>Әрбір адам өзіне , ата-анасына, Отанға, туған еліне сүйіспеншілкпен қарайды. Ыстық ықылас, шынайы сүйіспеншілік махаббат сезімін тудырады. Әлемдегі бар жақсылық махаббат арқылы келед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932360" y="907920"/>
            <a:ext cx="4067280" cy="5950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908000" y="189000"/>
            <a:ext cx="4464360" cy="11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йланайық, пікірлесейік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213372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000" spc="-1" strike="noStrike">
                <a:solidFill>
                  <a:srgbClr val="0000ff"/>
                </a:solidFill>
                <a:latin typeface="Arial"/>
              </a:rPr>
              <a:t>- Адамның шын ықыласпен істеген іс-әрекеттері қандай сезім тудыр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3284640"/>
            <a:ext cx="50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ff"/>
                </a:solidFill>
                <a:latin typeface="Arial"/>
              </a:rPr>
              <a:t>- Сүйіспеншілік сезімдеріңді қалай білесіңдер? Кімге? Нелікте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4724280"/>
            <a:ext cx="54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ff"/>
                </a:solidFill>
                <a:latin typeface="Arial"/>
              </a:rPr>
              <a:t>- Туған жер, табиғат қандай сезім тудыр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3924360" cy="6381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0" y="2637000"/>
            <a:ext cx="4176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k-KZ" sz="2000" spc="-1" strike="noStrike">
                <a:solidFill>
                  <a:srgbClr val="0000ff"/>
                </a:solidFill>
                <a:latin typeface="Times New Roman"/>
              </a:rPr>
              <a:t>- “Бәрінің бастауы – махаббат!” деген сөзді қалай түсінесің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492360" y="189000"/>
            <a:ext cx="395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әтінмен жұмы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71840" y="3789360"/>
            <a:ext cx="408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3933720"/>
            <a:ext cx="47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ff"/>
                </a:solidFill>
                <a:latin typeface="Arial"/>
              </a:rPr>
              <a:t>- Махаббат неліктен адам жанын нұрға, көңілін қуанышқа бөлейді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4000" y="141300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kk-KZ" sz="2000" spc="-1" strike="noStrike">
                <a:solidFill>
                  <a:srgbClr val="0000ff"/>
                </a:solidFill>
                <a:latin typeface="Arial"/>
              </a:rPr>
              <a:t>1. “Махаббат шуағы”     Р.Рождестве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11640" y="544500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5589720"/>
            <a:ext cx="460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i="1" lang="kk-KZ" sz="2000" spc="-1" strike="noStrike">
                <a:solidFill>
                  <a:srgbClr val="0000ff"/>
                </a:solidFill>
                <a:latin typeface="Arial"/>
              </a:rPr>
              <a:t>. Ана.  З.Воскресен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87280" y="83664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932360" y="836640"/>
            <a:ext cx="367200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00ff"/>
                </a:solidFill>
                <a:latin typeface="Times New Roman"/>
              </a:rPr>
              <a:t>Адам жүрегі махаббатқа, сүйіспеншілікке толы болса ғана мейірімділік, адалдық сияқты асыл қасиеттер үнемі байқалып тұрады. Өмірді сүю, Отанды, туған жерді сүю, білімге құштарлық та сүйіспеншілікке байлансыты бола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kk-KZ" sz="1800" spc="-1" strike="noStrike">
                <a:solidFill>
                  <a:srgbClr val="0000ff"/>
                </a:solidFill>
                <a:latin typeface="Times New Roman"/>
              </a:rPr>
              <a:t>Сендер шыр етіп дүниеге келгенде ата- анаңның қуанышында шек болмады. Ал сендер алғаш рет сәби жүректеріңмен анаңның аялы алақанын, мейірленген махаббатын сезіндіңдер. Сондықтан да барлық жақсылықтың негізі осы махаббаттан басталып, адам жанын нұрға, көңілін қуанышқа бөлейд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Loner\Рабочий стол\255480716.jpg"/>
          <p:cNvPicPr/>
          <p:nvPr/>
        </p:nvPicPr>
        <p:blipFill>
          <a:blip r:embed="rId1"/>
          <a:stretch/>
        </p:blipFill>
        <p:spPr>
          <a:xfrm>
            <a:off x="5219640" y="0"/>
            <a:ext cx="392436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1" descr="164.gif"/>
          <p:cNvPicPr/>
          <p:nvPr/>
        </p:nvPicPr>
        <p:blipFill>
          <a:blip r:embed="rId2"/>
          <a:stretch/>
        </p:blipFill>
        <p:spPr>
          <a:xfrm rot="16200000">
            <a:off x="6036480" y="178200"/>
            <a:ext cx="1500120" cy="40006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1" descr="164.gif"/>
          <p:cNvPicPr/>
          <p:nvPr/>
        </p:nvPicPr>
        <p:blipFill>
          <a:blip r:embed="rId3"/>
          <a:stretch/>
        </p:blipFill>
        <p:spPr>
          <a:xfrm rot="16200000">
            <a:off x="1379520" y="906120"/>
            <a:ext cx="1312920" cy="35002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1" descr="164.gif"/>
          <p:cNvPicPr/>
          <p:nvPr/>
        </p:nvPicPr>
        <p:blipFill>
          <a:blip r:embed="rId4"/>
          <a:stretch/>
        </p:blipFill>
        <p:spPr>
          <a:xfrm rot="16200000">
            <a:off x="3952800" y="833040"/>
            <a:ext cx="1143000" cy="30481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1" descr="164.gif"/>
          <p:cNvPicPr/>
          <p:nvPr/>
        </p:nvPicPr>
        <p:blipFill>
          <a:blip r:embed="rId5"/>
          <a:stretch/>
        </p:blipFill>
        <p:spPr>
          <a:xfrm rot="16200000">
            <a:off x="1416960" y="3083760"/>
            <a:ext cx="1357200" cy="36194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1" descr="164.gif"/>
          <p:cNvPicPr/>
          <p:nvPr/>
        </p:nvPicPr>
        <p:blipFill>
          <a:blip r:embed="rId6"/>
          <a:stretch/>
        </p:blipFill>
        <p:spPr>
          <a:xfrm rot="16200000">
            <a:off x="5607720" y="3321720"/>
            <a:ext cx="1928880" cy="51433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1" descr="164.gif"/>
          <p:cNvPicPr/>
          <p:nvPr/>
        </p:nvPicPr>
        <p:blipFill>
          <a:blip r:embed="rId7"/>
          <a:stretch/>
        </p:blipFill>
        <p:spPr>
          <a:xfrm rot="16200000">
            <a:off x="952560" y="-952560"/>
            <a:ext cx="1143000" cy="3048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971640" y="404640"/>
            <a:ext cx="331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әйексөз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844640"/>
            <a:ext cx="5076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Дүниеде ана махаббатынан қасиетті нәрсе жоқ. Оның алдында адамды ынтықтырушы өзге дүниелер әлсіз келед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                                            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В.Т. Бел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84640"/>
            <a:ext cx="50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2. Өзінің елін сүйе алмайтын адам ештеңені де сүйе алмайды.                                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Бай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365720"/>
            <a:ext cx="514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Сүйіспеншілік – жүректен.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                                        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Ш.Құдайбердіұ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30064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4. Махаббатсыз- тіршілкте мән жоқ.    И. Г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30864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Махаббатсыз –дүние бос.        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.Құнанб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40"/>
          <p:cNvPicPr/>
          <p:nvPr/>
        </p:nvPicPr>
        <p:blipFill>
          <a:blip r:embed="rId2"/>
          <a:stretch/>
        </p:blipFill>
        <p:spPr>
          <a:xfrm>
            <a:off x="6443640" y="4797360"/>
            <a:ext cx="2543040" cy="1785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042920" y="404640"/>
            <a:ext cx="69436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Шығармашылық жұмыс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773360"/>
            <a:ext cx="81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0000"/>
                </a:solidFill>
                <a:latin typeface="Times New Roman KZ"/>
              </a:rPr>
              <a:t>Оқушылардың табиғатқа деген сүйіспеншіліктерін сурет арқылы бейнеле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2997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1 топ. “Қайдасың, қасқа құлыным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393372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2. “Қасиетті туған жерді қастерл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211640" y="170028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Өзін-өзі, өзгелерді тануға жетелейд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08000" y="476280"/>
            <a:ext cx="374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үйіндеме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40360" y="278136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Өзгелерді сыйлауға негіз бола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1640" y="364500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Ата-анаға сүйіспеншілікті білдіред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4653000"/>
            <a:ext cx="50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Отанды, елді құрметтеуге үйретед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5661000"/>
            <a:ext cx="50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Табиғаттың сұлулығын сезіндір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35733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cc"/>
                </a:solidFill>
                <a:latin typeface="Arial"/>
              </a:rPr>
              <a:t>Махабб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24000" y="33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386064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8000" y="1915920"/>
            <a:ext cx="2592720" cy="19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3860640"/>
            <a:ext cx="244800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3860640"/>
            <a:ext cx="2448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979640" y="2997360"/>
            <a:ext cx="252108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547640" y="260280"/>
            <a:ext cx="5329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Махаббат мәні</a:t>
            </a:r>
            <a:endParaRPr b="1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84720" y="112536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ff"/>
                </a:solidFill>
                <a:latin typeface="Times New Roman KZ"/>
              </a:rPr>
              <a:t>А.Самиғоллаұ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1916280"/>
            <a:ext cx="77770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Адамзатты аялаған ақ арма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Барлық ғалам махабббаттан жаралғ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Өмір-өзен сан тарапқа ақса 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Жақсылықтан шуақ алып, нәр алғ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Махаббаттың тоймай ішіп дәмін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Адамзаттың талмай айтар әні м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Өзіңді де өзгені де сүйе алсаң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Жете аларсың махаббаттың мәні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20:22:06Z</dcterms:created>
  <dc:creator>Admin</dc:creator>
  <dc:description/>
  <dc:language>en-US</dc:language>
  <cp:lastModifiedBy>Физика</cp:lastModifiedBy>
  <dcterms:modified xsi:type="dcterms:W3CDTF">2011-11-14T10:17:54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70000000000010250500207f7000400038000</vt:lpwstr>
  </property>
</Properties>
</file>