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D329-04C6-4E1C-8107-E3424A2C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E6B7-09F9-46E1-8A34-AF12DBED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84F0-61EF-41BF-8FB9-A4B899A1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DCFD-C415-48BF-BFE8-89DCD9E2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65F-FA5B-4C45-BEE2-DE5E1ED5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7B22-1702-4207-99C6-33E81944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FE8C-3571-4B79-9DDE-52A963DF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570-F1F0-45CF-B335-B766108C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09AF-EBAE-4544-890F-A345B5FA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6A0D-5D66-4B73-8182-0AE2820A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8726-2BB1-4D9D-901E-3BA1FB8A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62CD-867B-4881-82D6-EC47B073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75AF-EB0C-4E66-A7D7-5F9FBACCE4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ccffff"/>
                </a:solidFill>
                <a:latin typeface="Arial"/>
              </a:rPr>
              <a:t>Електронні таблиці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4664" t="3301" r="14626" b="3351"/>
          <a:stretch/>
        </p:blipFill>
        <p:spPr>
          <a:xfrm>
            <a:off x="1835280" y="1341360"/>
            <a:ext cx="5289480" cy="36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24360" y="5013360"/>
            <a:ext cx="32292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ідготувала учениця 11 кла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Киликиївського НВ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Либик Наталі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-747720"/>
            <a:ext cx="8713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Microsoft Excel</a:t>
            </a:r>
            <a:r>
              <a:rPr b="0" lang="ru-RU" sz="3600" spc="-1" strike="noStrike">
                <a:solidFill>
                  <a:srgbClr val="ccffff"/>
                </a:solidFill>
                <a:latin typeface="Arial"/>
              </a:rPr>
              <a:t> – це програма, що призначена для організації даних у таблиці для документування й графічного подання інформації.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565360"/>
            <a:ext cx="749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Електронні таблиці</a:t>
            </a:r>
            <a:r>
              <a:rPr b="0" lang="ru-RU" sz="3600" spc="-1" strike="noStrike">
                <a:solidFill>
                  <a:srgbClr val="ccffff"/>
                </a:solidFill>
                <a:latin typeface="Arial"/>
              </a:rPr>
              <a:t> – це програма, що моделює на екрані монітора двовимірну таблицю, яка складається з рядків і стовпців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136000" cy="36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Ли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служать для організації та аналізу даних, які можна вводити та редагувати одночасно на декількох аркушах, а також виконувати обчислення на основі даних з декількох аркушів. Після створення діаграми можна помістити на лист з відповідними даними або на окремий лист діаграми. </a:t>
            </a:r>
            <a:br>
              <a:rPr sz="2400"/>
            </a:b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2600" y="260280"/>
            <a:ext cx="824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В Microsoft Excel є два основних типи об’єктів: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 книга і лист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90792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Книг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 Microsoft Excel являє собою файл, що використовується для обробки і зберігання даних. Кожна книга може складатися з декількох аркушів, тому в одному файлі можна помістити різноманітні відомості і встановити між ними необхідні зв'язку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1468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Завантаження Microsoft Excel відбувається кількома способами: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ск → Программы →Microsoft Exce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користати ярлик на робочому столі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користати ярлик з панелі задач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тиснути кнопку Microsoft Excel на панелі Microsoft Off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Вихід з програми можна виконати такими способа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йл → Выход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тиснути кнопку Закрыть у верхній частині вікна Microsoft Exce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Alt+F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685440" y="-513504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Відкриття робочої книг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ля відкриття існуючої робочої книги необхідно в меню Файл вибрати команду Открыть або натиснути кнопку , після чого розкриється діалогове вікно Открытие документа (мал.11). У прихованому переліку Папка слід вибрати диск, на якому знаходиться потрібна робоча книга. У переліку, що розташований нижче вибрати (подвійним натисканням) папку з книгою і саму книг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замовчанням у переліку виводяться тільки файли з книгами Microsoft Excel, які мають розширення .xls і значки на мал.10. Для виводу інших типів файлів або усіх файлів необхідно вибрати відповідний тип у полі прихованого переліку Тип файл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Збереження робочої книг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ля збереження робочої книги необхідно викликати команду Сохранить меню Файл або натиснути кнопку . При першому збереженні з'являється діалогове вікноСохранение документа (мал.12). У прихованому переліку Папка слід вибрати диск, у переліку, що розташований нижче папку, в якій необхідно зберегти книгу. У полі прихованого переліку Тип файла - формат, в якому буде збережено книгу. У полі Имя файла потрібно ввести ім'я книги й натиснути кнопку Сохрани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27080"/>
            <a:ext cx="5151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Створення робочої книг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440" y="620640"/>
            <a:ext cx="88455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створення нової робочої книги у меню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йл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брати команду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У діалоговому вікні, що розкрилося, (мал.9) вибрати спочатку вкладку, а потім шаблон, на основі якого буде створено робочу книгу; після чого натиснути кнопку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Звичайні робочі книги створюються на основі шаблону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Для створення робочої книги на основі шаблону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можна натиснути кнопку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Елементи вікна MS Excel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404640"/>
            <a:ext cx="867564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Рядок заголовка-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цьому рядку містяться (зліва направо): піктограма додатка MS Excel; назва поточного документа; стандартні кнопки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Згорнути, Поновити/Розгорнути, Закри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Мен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програми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істить кнопки команд електронної таблиці (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Файл, Правка, Вигляд, Вставка, Формат, Сервіс, Дані, Вікно, Довід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Панелі інструментів-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Я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авило, розташовані у верхній частині вікна нижче від головного меню. Містять кнопки панелей інструментів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тандарт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і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Форматування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ядок та перелік кнопок користувач може змінювати за допомогою команди меню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игля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анелі інструменті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→Настройка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Робоче поле-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істи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акі компоненти: заголовки рядків та стовпців, поле таблиці. Робоче поле MS Excel суттєво відрізняється від робочих полів інших Windows-додатків. Воно схоже на розграфлений аркуш паперу, причому кожна клітинка має адресу, що складається з імені стовпця і номера рядка, на перетині яких і розташована клітинка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обоче пол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призначена для введення й редагування табличних даних, створення математичних залежностей між даними таблиць у вигляді формул тощ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Рядок стану-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істи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лужбову інформацію (зліва направо): поточний режим роботи, індикатор режиму додаткової цифрової клавіату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Панель адреси-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істи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дресу активної кліти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ядок формулРядок, де відображаються дані та формули в активній клітинці. Увімкнути або вимкнути показ на екрані рядка формул можна за допомогою команди меню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игля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→ Рядок формул 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бо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ервіс → Параметри…  → Показувати рядок форму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анель ярликів аркушів робочої книги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значена для розміщення ярличків з іменами робочих аркушів та роботи з ними (переміщення, видалення, надання необхідного кольору тощ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Arial"/>
              </a:rPr>
              <a:t>Навігаційні клавіші та їхні комбінації для переміщення електронною таблицею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→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на одну клітинку правору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←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на одну клітинку лівору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↑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на одну клітинку вг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на одну клітинку вн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Tab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на одну клітинку правору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Shift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+ Tab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на одну клітинку лівору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Home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у перший стовпец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Ctrl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+ Home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до початку таблиц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Ctrl + End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до останньої клітин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PgUp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на одну сторінку вг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PgDn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на одну сторінку вн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Alt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+ PgUp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на одну сторінку лівору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Alt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+ PgD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на одну сторінку правору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Ctrl + PgUp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до сусіднього аркуша (ліворуч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Ctrl + PgD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до сусіднього аркуша (праворуч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7979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00"/>
                </a:solidFill>
                <a:latin typeface="Arial"/>
              </a:rPr>
              <a:t>Елементи інтерфейсу користувача Excel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ісля завантаження Excel можна побачити у вікні такі елементи: рядок заголовка, позначку системного меню, групу кнопок керування вікном, рядок меню, панель інструментів, рядок стану, смуги прокручування й обрамлення вік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У вікні містяться спеціальні компоненти, властиві саме вікну Exc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      </a:t>
            </a:r>
            <a:r>
              <a:rPr b="1" i="1" lang="uk-UA" sz="18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1" i="1" lang="uk-UA" sz="1800" spc="-1" strike="noStrike">
                <a:solidFill>
                  <a:srgbClr val="ff3300"/>
                </a:solidFill>
                <a:latin typeface="Arial"/>
              </a:rPr>
              <a:t>Рядок формул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 – це панель у верхній частині вікна Excel, що використовується для введення і редагування змісту комірки. Змістом комірки може бути як постійне значення (скажімо, число або текст), так і форму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      </a:t>
            </a:r>
            <a:r>
              <a:rPr b="1" i="1" lang="uk-UA" sz="18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1" i="1" lang="uk-UA" sz="1800" spc="-1" strike="noStrike">
                <a:solidFill>
                  <a:srgbClr val="ff3300"/>
                </a:solidFill>
                <a:latin typeface="Arial"/>
              </a:rPr>
              <a:t>Поле імені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– це текстове поле ліворуч від рядка формул, у якому відображається і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я виділеної комірки або елемент діаграми. У цьому полі можна швидко перевизначити і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я комір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uk-UA" sz="1800" spc="-1" strike="noStrike">
                <a:solidFill>
                  <a:srgbClr val="ff3300"/>
                </a:solidFill>
                <a:latin typeface="Arial"/>
              </a:rPr>
              <a:t>Робоча частина аркуша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– це графічне зображення електронних таблиць. Робоча частина складається з комірок і заголовків рядка і стовпц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Arial"/>
              </a:rPr>
              <a:t>Вкладки аркушів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– ці елементи розташовані в нижній частині вікна. Вони нагадують вкладки в каталожній шухляді. Клацання мишею по будь-якій з вкладок відкриває відповідний аркуш робочої кни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Arial"/>
              </a:rPr>
              <a:t>Межа вкладок аркушів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– вертикальна риска праворуч від вкладок аркушів, що визначає розмір ділянки вкладок. Потягнувши за цю межу, можна змінити розмір ділянки вклад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7715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Основні можливості електронних таблиць: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920" y="1125360"/>
            <a:ext cx="6624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ведення однотипних складних розрахунків над більшими наборами даних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матизація підсумкових обчислень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зв'язок завдань шляхом добору значень параметрів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робка (статистичний аналіз) результатів експериментів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ведення пошуку оптимальних значень параметрів (розв'язок оптимізаційних завдань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ідготовка табличних документів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будова діаграм (у тому числі й зведених) за наявними даними;</a:t>
            </a: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ворення й аналіз баз даних (списків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20:21:43Z</dcterms:created>
  <dc:creator>User</dc:creator>
  <dc:description/>
  <dc:language>en-US</dc:language>
  <cp:lastModifiedBy>User</cp:lastModifiedBy>
  <dcterms:modified xsi:type="dcterms:W3CDTF">2016-05-25T05:32:14Z</dcterms:modified>
  <cp:revision>7</cp:revision>
  <dc:subject/>
  <dc:title>Електронні таблиці</dc:title>
</cp:coreProperties>
</file>