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8B80-7DE2-4644-9B4A-FB18A3228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A19-0052-43E9-AABA-C4F4C8A3D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524B-327A-429D-9A93-94A0D2150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80C-FFEE-4D0F-AAEE-BDD9035D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8C1-29A1-41BF-BE0A-BA803F26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09E-17CB-4D1D-A257-53F3A2D7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590-39F1-464B-BF3E-6A417D55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15C-84FD-42EE-9BAC-9C45C30B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D2D-6FA0-4BD0-A8CE-E0B62B93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7B0-BB51-4223-AB75-11E83C1D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0D2-5384-4354-A800-E863F2FC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074-BD3F-4C83-AFBA-B673CF3C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595-975A-4143-B8E9-B2ADAC76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38E-B30C-4561-82EE-FE9BDB4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16F-DC9E-48EC-9B7D-EA3BE76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143E-BEE4-452D-B5D3-F87E31D9A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3785760"/>
            <a:ext cx="1219212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сле окончания демонстрации изменения не сохраня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572080"/>
            <a:ext cx="121921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Хмеленок Николай Павл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500120"/>
            <a:ext cx="12192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6600"/>
                </a:solidFill>
                <a:latin typeface="Arial"/>
              </a:rPr>
              <a:t>Перетяни звуки к буква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10524960" y="214200"/>
            <a:ext cx="12146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1916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8229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71992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4955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5518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1916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8229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1992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24955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95518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>
            <a:hlinkClick r:id="rId1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482616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717084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24685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95281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ɜ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14616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ɔ: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483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719460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247968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951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8748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26"/>
          <p:cNvSpPr/>
          <p:nvPr/>
        </p:nvSpPr>
        <p:spPr>
          <a:xfrm>
            <a:off x="11882520" y="1500120"/>
            <a:ext cx="309600" cy="8571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74"/>
          <p:cNvSpPr/>
          <p:nvPr/>
        </p:nvSpPr>
        <p:spPr>
          <a:xfrm>
            <a:off x="1159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4"/>
          <p:cNvSpPr/>
          <p:nvPr/>
        </p:nvSpPr>
        <p:spPr>
          <a:xfrm>
            <a:off x="249696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4"/>
          <p:cNvSpPr/>
          <p:nvPr/>
        </p:nvSpPr>
        <p:spPr>
          <a:xfrm>
            <a:off x="485460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4"/>
          <p:cNvSpPr/>
          <p:nvPr/>
        </p:nvSpPr>
        <p:spPr>
          <a:xfrm>
            <a:off x="721188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95695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4"/>
          <p:cNvSpPr/>
          <p:nvPr/>
        </p:nvSpPr>
        <p:spPr>
          <a:xfrm>
            <a:off x="1173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4"/>
          <p:cNvSpPr/>
          <p:nvPr/>
        </p:nvSpPr>
        <p:spPr>
          <a:xfrm>
            <a:off x="249876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4"/>
          <p:cNvSpPr/>
          <p:nvPr/>
        </p:nvSpPr>
        <p:spPr>
          <a:xfrm>
            <a:off x="485604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4"/>
          <p:cNvSpPr/>
          <p:nvPr/>
        </p:nvSpPr>
        <p:spPr>
          <a:xfrm>
            <a:off x="721368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4"/>
          <p:cNvSpPr/>
          <p:nvPr/>
        </p:nvSpPr>
        <p:spPr>
          <a:xfrm>
            <a:off x="95709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>
            <a:hlinkClick r:id="rId1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4"/>
          <p:cNvSpPr/>
          <p:nvPr/>
        </p:nvSpPr>
        <p:spPr>
          <a:xfrm>
            <a:off x="165240" y="90972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4"/>
          <p:cNvSpPr/>
          <p:nvPr/>
        </p:nvSpPr>
        <p:spPr>
          <a:xfrm>
            <a:off x="2496960" y="9158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4"/>
          <p:cNvSpPr/>
          <p:nvPr/>
        </p:nvSpPr>
        <p:spPr>
          <a:xfrm>
            <a:off x="4843440" y="9320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ɜ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4"/>
          <p:cNvSpPr/>
          <p:nvPr/>
        </p:nvSpPr>
        <p:spPr>
          <a:xfrm>
            <a:off x="7199280" y="93996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4"/>
          <p:cNvSpPr/>
          <p:nvPr/>
        </p:nvSpPr>
        <p:spPr>
          <a:xfrm>
            <a:off x="9537840" y="93204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4"/>
          <p:cNvSpPr/>
          <p:nvPr/>
        </p:nvSpPr>
        <p:spPr>
          <a:xfrm>
            <a:off x="157320" y="426888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4"/>
          <p:cNvSpPr/>
          <p:nvPr/>
        </p:nvSpPr>
        <p:spPr>
          <a:xfrm>
            <a:off x="2475000" y="427680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4"/>
          <p:cNvSpPr/>
          <p:nvPr/>
        </p:nvSpPr>
        <p:spPr>
          <a:xfrm>
            <a:off x="4843440" y="428472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7183440" y="429264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4"/>
          <p:cNvSpPr/>
          <p:nvPr/>
        </p:nvSpPr>
        <p:spPr>
          <a:xfrm>
            <a:off x="9515520" y="428472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ɔ: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26">
            <a:hlinkClick r:id="rId2" action="ppaction://hlinksldjump"/>
          </p:cNvPr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1916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8229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1992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g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4955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95518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1916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8229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71992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4955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95518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>
            <a:hlinkClick r:id="rId1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8748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482616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17084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24685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95281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4616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483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719460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ɜ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247968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951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омой 26"/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1916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b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82292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19928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49552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955188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h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11916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48229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p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71992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24955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p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95518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8748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482616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717084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ɪ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24685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95281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æ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14616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ɪ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483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719460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æ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47968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951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Управляющая кнопка: домой 26"/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4"/>
          <p:cNvSpPr/>
          <p:nvPr/>
        </p:nvSpPr>
        <p:spPr>
          <a:xfrm>
            <a:off x="1159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4"/>
          <p:cNvSpPr/>
          <p:nvPr/>
        </p:nvSpPr>
        <p:spPr>
          <a:xfrm>
            <a:off x="249696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4"/>
          <p:cNvSpPr/>
          <p:nvPr/>
        </p:nvSpPr>
        <p:spPr>
          <a:xfrm>
            <a:off x="485460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721188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4"/>
          <p:cNvSpPr/>
          <p:nvPr/>
        </p:nvSpPr>
        <p:spPr>
          <a:xfrm>
            <a:off x="95695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4"/>
          <p:cNvSpPr/>
          <p:nvPr/>
        </p:nvSpPr>
        <p:spPr>
          <a:xfrm>
            <a:off x="1173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4"/>
          <p:cNvSpPr/>
          <p:nvPr/>
        </p:nvSpPr>
        <p:spPr>
          <a:xfrm>
            <a:off x="249876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ro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4"/>
          <p:cNvSpPr/>
          <p:nvPr/>
        </p:nvSpPr>
        <p:spPr>
          <a:xfrm>
            <a:off x="485604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4"/>
          <p:cNvSpPr/>
          <p:nvPr/>
        </p:nvSpPr>
        <p:spPr>
          <a:xfrm>
            <a:off x="721368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b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95709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4"/>
          <p:cNvSpPr/>
          <p:nvPr/>
        </p:nvSpPr>
        <p:spPr>
          <a:xfrm>
            <a:off x="165240" y="90972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2496960" y="9158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</a:t>
            </a:r>
            <a:r>
              <a:rPr b="0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4"/>
          <p:cNvSpPr/>
          <p:nvPr/>
        </p:nvSpPr>
        <p:spPr>
          <a:xfrm>
            <a:off x="4843440" y="9320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7199280" y="93996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4"/>
          <p:cNvSpPr/>
          <p:nvPr/>
        </p:nvSpPr>
        <p:spPr>
          <a:xfrm>
            <a:off x="9537840" y="93204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4"/>
          <p:cNvSpPr/>
          <p:nvPr/>
        </p:nvSpPr>
        <p:spPr>
          <a:xfrm>
            <a:off x="157320" y="426888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</a:t>
            </a:r>
            <a:r>
              <a:rPr b="0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4"/>
          <p:cNvSpPr/>
          <p:nvPr/>
        </p:nvSpPr>
        <p:spPr>
          <a:xfrm>
            <a:off x="2475000" y="427680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4"/>
          <p:cNvSpPr/>
          <p:nvPr/>
        </p:nvSpPr>
        <p:spPr>
          <a:xfrm>
            <a:off x="4843440" y="428472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7183440" y="429264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u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4"/>
          <p:cNvSpPr/>
          <p:nvPr/>
        </p:nvSpPr>
        <p:spPr>
          <a:xfrm>
            <a:off x="9515520" y="428472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омой 25"/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в конец 28">
            <a:hlinkClick r:id="" action="ppaction://hlinkshowjump?jump=endshow"/>
          </p:cNvPr>
          <p:cNvSpPr/>
          <p:nvPr/>
        </p:nvSpPr>
        <p:spPr>
          <a:xfrm>
            <a:off x="10882440" y="0"/>
            <a:ext cx="571320" cy="64296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307">
                <a:moveTo>
                  <a:pt x="0" y="0"/>
                </a:moveTo>
                <a:lnTo>
                  <a:pt x="21600" y="0"/>
                </a:lnTo>
                <a:lnTo>
                  <a:pt x="21600" y="24307"/>
                </a:lnTo>
                <a:lnTo>
                  <a:pt x="0" y="24307"/>
                </a:lnTo>
                <a:close/>
              </a:path>
              <a:path fill="lightenLess" w="21600" h="243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7">
                <a:moveTo>
                  <a:pt x="21600" y="0"/>
                </a:moveTo>
                <a:lnTo>
                  <a:pt x="21600" y="24307"/>
                </a:lnTo>
                <a:lnTo>
                  <a:pt x="20200" y="22907"/>
                </a:lnTo>
                <a:lnTo>
                  <a:pt x="20200" y="1400"/>
                </a:lnTo>
                <a:close/>
              </a:path>
              <a:path fill="darkenLess" w="21600" h="24307">
                <a:moveTo>
                  <a:pt x="21600" y="24307"/>
                </a:moveTo>
                <a:lnTo>
                  <a:pt x="0" y="24307"/>
                </a:lnTo>
                <a:lnTo>
                  <a:pt x="1400" y="22907"/>
                </a:lnTo>
                <a:lnTo>
                  <a:pt x="20200" y="22907"/>
                </a:lnTo>
                <a:close/>
              </a:path>
              <a:path fill="lighten" w="21600" h="24307">
                <a:moveTo>
                  <a:pt x="0" y="243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7"/>
                </a:lnTo>
                <a:close/>
              </a:path>
              <a:path fill="darken" w="21600" h="24307">
                <a:moveTo>
                  <a:pt x="14299" y="12153"/>
                </a:moveTo>
                <a:lnTo>
                  <a:pt x="3794" y="19160"/>
                </a:lnTo>
                <a:lnTo>
                  <a:pt x="3794" y="5147"/>
                </a:lnTo>
                <a:close/>
              </a:path>
              <a:path fill="darken" w="21600" h="24307">
                <a:moveTo>
                  <a:pt x="16144" y="5147"/>
                </a:moveTo>
                <a:lnTo>
                  <a:pt x="16144" y="19160"/>
                </a:lnTo>
                <a:lnTo>
                  <a:pt x="17806" y="19160"/>
                </a:lnTo>
                <a:lnTo>
                  <a:pt x="17806" y="514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Хмеленок Николай Павлович</dc:creator>
  <dc:description/>
  <dc:language>en-US</dc:language>
  <cp:lastModifiedBy>Админ</cp:lastModifiedBy>
  <dcterms:modified xsi:type="dcterms:W3CDTF">2016-05-03T17:31:10Z</dcterms:modified>
  <cp:revision>222</cp:revision>
  <dc:subject/>
  <dc:title>Расположите по порядку</dc:title>
</cp:coreProperties>
</file>