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C92-433F-4181-9077-3B90E485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128-2D91-4D8F-A4DF-0A252B8A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2CD-3EE2-42FB-B4F6-5BED649F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26A-E0E0-4395-AC40-780FACB6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2994-D85C-485D-BE46-8D970C99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514B5-EE7B-4BA8-A5F7-9C9B6E3C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A4B6-94B6-434E-BF39-F8281FEC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6F434-5F70-4436-AFFF-EC5F310C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67BA6-7CFF-44D7-8DD4-48590F7A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465A-B28B-4BA4-AEEF-E38F0B1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793BD-3F7A-417F-9700-0755261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138-FB34-4F43-A256-1F6FFEC2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8A9C-006B-43F1-BEA0-B410C9B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95DD-8652-4A5B-AC29-CCDA17E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AEC80-6D36-48CB-A677-2EB38665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B88B-0A33-49AC-A243-728D6361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078C3-7D82-46D8-B0F6-111E13F5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E34-C350-4DEE-9B93-DA705914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669-96F0-442C-82BA-E5785756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399-1B7D-49FF-82C4-54A8A759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EB5-F372-4AEB-9E7C-686E7A8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6F5-62B0-4B6C-867D-515650B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804-D15E-4EA4-AA6E-AF0C90A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7D3-CB6B-4748-B469-2163BE4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AF1-DE0C-42B2-8DA8-3DAFFB764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FE2-4B9B-4130-8195-D05464025A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“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Ана тілі –білімнің кілті”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       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сайыс сабақ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62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63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5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66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67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68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69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70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Тапқырлар то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Өнер алды 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Ең бірінші бақытым 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Үш биді 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ілдің ең негізгі қызмет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шу  дұшпан -  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іл туралы заң қашан қабылдан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Алғырлар то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Сөз анасы   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л екінші бақытым  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ұрғақ сөзінің антонимі 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ұсылмандардың қасиетті үй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зақта топ аттылар жарысын не деп атай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ұсылман дінінің қасиетті кіта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18-1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4" name="Text Box 4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II</a:t>
            </a: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684360" y="2421000"/>
            <a:ext cx="74898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лең-сөздің патшасы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WordArt 6"/>
          <p:cNvSpPr txBox="1"/>
          <p:nvPr/>
        </p:nvSpPr>
        <p:spPr>
          <a:xfrm>
            <a:off x="2195640" y="3645000"/>
            <a:ext cx="408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Мәнерлеп оқу сайысы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2" descr="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4"/>
          <p:cNvSpPr txBox="1"/>
          <p:nvPr/>
        </p:nvSpPr>
        <p:spPr>
          <a:xfrm>
            <a:off x="900000" y="2060640"/>
            <a:ext cx="734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 Мақал-сөздің көркі"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III</a:t>
            </a: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WordArt 7"/>
          <p:cNvSpPr txBox="1"/>
          <p:nvPr/>
        </p:nvSpPr>
        <p:spPr>
          <a:xfrm>
            <a:off x="2700360" y="4076640"/>
            <a:ext cx="4086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Мақалдарды аяқтау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апқ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AutoShape 5">
            <a:hlinkClick r:id="rId1" action="ppaction://hlinksldjump"/>
          </p:cNvPr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ге елде сұлтан болғанша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AutoShape 5">
            <a:hlinkClick r:id="rId1" action="ppaction://hlinksldjump"/>
          </p:cNvPr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7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 еліңде ұлтан бол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AutoShape 8">
            <a:hlinkClick r:id="rId1" action="ppaction://hlinksldjump"/>
          </p:cNvPr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қусыз білім жоқ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5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імсіз күнің жо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п жасаған білмейді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ALPS-1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453960"/>
            <a:ext cx="9577440" cy="7311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257040" y="907920"/>
            <a:ext cx="8855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1. Оқушылардың ана тілін құрметтеуге, ұлттық тіл ретінде бағалауға, оны туған Отанында аға тіл дәрежесіне көтеретіндей қызмет жасауға үйрету;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2. Жас ұрпақты ана тілінің қадір – қасиетін түсіне білуге шақыру. Олардың  халқына деген сүйіспеншілігін, тіліне деген құрметін арттыру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3. Ана  тілін  терең меңгеруге құштарлықтарын ояту, ана тілінің кең қанат жаюына үлес қосуға, мақтан тұтуға тәрбиелеу.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23920" y="-17136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ff"/>
                </a:solidFill>
                <a:latin typeface="Tahoma"/>
              </a:rPr>
              <a:t>Мақсаты:</a:t>
            </a: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п оқыған біледі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 қылыштан да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ткір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6699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ғырлар тобына сұрақ</a:t>
            </a:r>
            <a:endParaRPr b="0" i="1" lang="en-US" sz="4000" spc="1" strike="noStrike">
              <a:ln w="19080">
                <a:solidFill>
                  <a:srgbClr val="6699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5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асқа бәле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ден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екті бірді жығар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імді мыңды жығар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ре-көре көсем боларсың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өйлей-сөйлей шешен боларсын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6" descr="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207" name="Oval 6"/>
          <p:cNvSpPr/>
          <p:nvPr/>
        </p:nvSpPr>
        <p:spPr>
          <a:xfrm>
            <a:off x="3059280" y="2492280"/>
            <a:ext cx="244944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851280" y="2781360"/>
            <a:ext cx="12240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Times New Roman"/>
              </a:rPr>
              <a:t>Ті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284720" y="1413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2916360" y="981000"/>
            <a:ext cx="29509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Ұлттық қазына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15"/>
          <p:cNvSpPr/>
          <p:nvPr/>
        </p:nvSpPr>
        <p:spPr>
          <a:xfrm flipV="1">
            <a:off x="5435640" y="2276640"/>
            <a:ext cx="792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6227640" y="1844640"/>
            <a:ext cx="2448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Намыс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2987280" y="2852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9"/>
          <p:cNvSpPr/>
          <p:nvPr/>
        </p:nvSpPr>
        <p:spPr>
          <a:xfrm flipH="1" flipV="1">
            <a:off x="2484000" y="2276280"/>
            <a:ext cx="86220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79280" y="1844640"/>
            <a:ext cx="23418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Әдеби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2"/>
          <p:cNvSpPr/>
          <p:nvPr/>
        </p:nvSpPr>
        <p:spPr>
          <a:xfrm flipV="1">
            <a:off x="5508720" y="2923920"/>
            <a:ext cx="647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6300720" y="1844640"/>
            <a:ext cx="2232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Намыс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227640" y="2637000"/>
            <a:ext cx="2376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Байлығ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5435640" y="3357720"/>
            <a:ext cx="8650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6227640" y="3429000"/>
            <a:ext cx="2376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Достық көпір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28"/>
          <p:cNvSpPr/>
          <p:nvPr/>
        </p:nvSpPr>
        <p:spPr>
          <a:xfrm flipH="1" flipV="1">
            <a:off x="2411280" y="2781360"/>
            <a:ext cx="648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179280" y="2565360"/>
            <a:ext cx="230364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Мәдени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30"/>
          <p:cNvSpPr/>
          <p:nvPr/>
        </p:nvSpPr>
        <p:spPr>
          <a:xfrm flipH="1">
            <a:off x="2411280" y="3284640"/>
            <a:ext cx="7207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179280" y="3357720"/>
            <a:ext cx="234180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Ар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32"/>
          <p:cNvSpPr/>
          <p:nvPr/>
        </p:nvSpPr>
        <p:spPr>
          <a:xfrm flipH="1">
            <a:off x="2627280" y="3645000"/>
            <a:ext cx="1440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4643280" y="3645000"/>
            <a:ext cx="16574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34"/>
          <p:cNvSpPr/>
          <p:nvPr/>
        </p:nvSpPr>
        <p:spPr>
          <a:xfrm>
            <a:off x="179280" y="4581360"/>
            <a:ext cx="352908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Халықтың күре тамы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5219640" y="4581360"/>
            <a:ext cx="360036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Қарым-қатынас құрал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ті жұрттың тілін біл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ті түрлі білім біл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GREATW~1"/>
          <p:cNvPicPr/>
          <p:nvPr/>
        </p:nvPicPr>
        <p:blipFill>
          <a:blip r:embed="rId1"/>
          <a:stretch/>
        </p:blipFill>
        <p:spPr>
          <a:xfrm>
            <a:off x="0" y="0"/>
            <a:ext cx="9828360" cy="7343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4"/>
          <p:cNvSpPr txBox="1"/>
          <p:nvPr/>
        </p:nvSpPr>
        <p:spPr>
          <a:xfrm>
            <a:off x="1332000" y="1916280"/>
            <a:ext cx="640872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e69aa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лиглот</a:t>
            </a:r>
            <a:endParaRPr b="1" i="1" lang="en-US" sz="4000" spc="1" strike="noStrike">
              <a:ln w="9360">
                <a:solidFill>
                  <a:srgbClr val="010199"/>
                </a:solidFill>
                <a:miter/>
              </a:ln>
              <a:solidFill>
                <a:srgbClr val="e69aa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3276720" y="765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cc00"/>
                </a:solidFill>
                <a:latin typeface="Tahoma"/>
              </a:rPr>
              <a:t>ІҮ– сайы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апқ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4"/>
          <p:cNvSpPr txBox="1"/>
          <p:nvPr/>
        </p:nvSpPr>
        <p:spPr>
          <a:xfrm>
            <a:off x="533520" y="2276640"/>
            <a:ext cx="79261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далада ақ отау, </a:t>
            </a: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узы мұрны жоқ отау-</a:t>
            </a: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1187280" y="2421000"/>
            <a:ext cx="705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ұмыртқа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4"/>
          <p:cNvSpPr txBox="1"/>
          <p:nvPr/>
        </p:nvSpPr>
        <p:spPr>
          <a:xfrm>
            <a:off x="533520" y="2276640"/>
            <a:ext cx="79261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яғы жоқ жүреді,  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ылық-сылық күледі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WordArt 6"/>
          <p:cNvSpPr txBox="1"/>
          <p:nvPr/>
        </p:nvSpPr>
        <p:spPr>
          <a:xfrm>
            <a:off x="2987640" y="2781360"/>
            <a:ext cx="28083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</a:t>
            </a:r>
            <a:endParaRPr b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р көрдім қаласы бар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Үйлері жоқ мекендейтін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л көрдім өзен көрдім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лары жоқ тереңдейтін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2484360" y="2349360"/>
            <a:ext cx="46800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рта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port2[1]"/>
          <p:cNvPicPr/>
          <p:nvPr/>
        </p:nvPicPr>
        <p:blipFill>
          <a:blip r:embed="rId1"/>
          <a:stretch/>
        </p:blipFill>
        <p:spPr>
          <a:xfrm>
            <a:off x="250920" y="1700280"/>
            <a:ext cx="3398760" cy="469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Ақын-жазушылардың тіл туралы пікірле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56880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 тілінен айырылған адам өз халқы  жасаған мәдени мұраның бәрінен құралақан қал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Ғ.Мүсіреп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324000" y="1413000"/>
            <a:ext cx="81421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і барда үні жоқ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н адам түсінген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үрегі барда қаны жоқ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өйлеп туған ішінен-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2484360" y="2349360"/>
            <a:ext cx="46800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ітап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ғ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4"/>
          <p:cNvSpPr txBox="1"/>
          <p:nvPr/>
        </p:nvSpPr>
        <p:spPr>
          <a:xfrm>
            <a:off x="250920" y="1413000"/>
            <a:ext cx="86421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спандағы алып доп,</a:t>
            </a:r>
            <a:endParaRPr b="1" i="1" lang="en-US" sz="4000" spc="1" strike="noStrike">
              <a:ln w="19080">
                <a:solidFill>
                  <a:srgbClr val="ff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арқырайды жарық боп-</a:t>
            </a:r>
            <a:endParaRPr b="1" i="1" lang="en-US" sz="4000" spc="1" strike="noStrike">
              <a:ln w="19080">
                <a:solidFill>
                  <a:srgbClr val="ff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2484360" y="2349360"/>
            <a:ext cx="309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0101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</a:t>
            </a:r>
            <a:endParaRPr b="1" lang="en-US" sz="3600" spc="1" strike="noStrike">
              <a:ln w="19080">
                <a:solidFill>
                  <a:srgbClr val="0101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2124000" y="2276640"/>
            <a:ext cx="532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9900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-қазық</a:t>
            </a:r>
            <a:endParaRPr b="0" i="1" lang="en-US" sz="3600" spc="1" strike="noStrike">
              <a:ln w="19080">
                <a:solidFill>
                  <a:srgbClr val="9900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9900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 азық-</a:t>
            </a:r>
            <a:endParaRPr b="0" i="1" lang="en-US" sz="3600" spc="1" strike="noStrike">
              <a:ln w="19080">
                <a:solidFill>
                  <a:srgbClr val="9900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WordArt 5"/>
          <p:cNvSpPr txBox="1"/>
          <p:nvPr/>
        </p:nvSpPr>
        <p:spPr>
          <a:xfrm>
            <a:off x="2050920" y="2421000"/>
            <a:ext cx="3889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әбіз</a:t>
            </a:r>
            <a:endParaRPr b="0" i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6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Әр түстің сәні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умайды гүлдерден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Қанаты бар жаны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тпаймын білгенмен-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WordArt 5"/>
          <p:cNvSpPr txBox="1"/>
          <p:nvPr/>
        </p:nvSpPr>
        <p:spPr>
          <a:xfrm>
            <a:off x="1908000" y="2565360"/>
            <a:ext cx="47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белек</a:t>
            </a:r>
            <a:endParaRPr b="0" i="1" lang="en-US" sz="36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4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ішкентай ғана бойы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Қабат-қабат тоны бар-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780000" y="1267920"/>
            <a:ext cx="4906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ұл дәуірде, өз тілін, әдебиетін білмеген, қадірлемеген адам толық мәнді интеллигент ем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.Әуе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5" descr="auezov_f[1]"/>
          <p:cNvPicPr/>
          <p:nvPr/>
        </p:nvPicPr>
        <p:blipFill>
          <a:blip r:embed="rId1"/>
          <a:stretch/>
        </p:blipFill>
        <p:spPr>
          <a:xfrm>
            <a:off x="324000" y="1268280"/>
            <a:ext cx="3325680" cy="491040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WordArt 5"/>
          <p:cNvSpPr txBox="1"/>
          <p:nvPr/>
        </p:nvSpPr>
        <p:spPr>
          <a:xfrm>
            <a:off x="1619280" y="2565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0b1b8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рамжапырақ</a:t>
            </a:r>
            <a:endParaRPr b="0" i="1" lang="en-US" sz="3600" spc="1" strike="noStrike">
              <a:ln w="19080">
                <a:solidFill>
                  <a:srgbClr val="0b1b8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18-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86" name="Text Box 3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Ү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684360" y="2421000"/>
            <a:ext cx="74898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аналық ойдан дән  ізде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2195640" y="3645000"/>
            <a:ext cx="408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шығармашылық жұмыс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38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MCj03973860000[1]"/>
          <p:cNvPicPr/>
          <p:nvPr/>
        </p:nvPicPr>
        <p:blipFill>
          <a:blip r:embed="rId1"/>
          <a:stretch/>
        </p:blipFill>
        <p:spPr>
          <a:xfrm>
            <a:off x="-18108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WordArt 3"/>
          <p:cNvSpPr txBox="1"/>
          <p:nvPr/>
        </p:nvSpPr>
        <p:spPr>
          <a:xfrm>
            <a:off x="1476360" y="2133720"/>
            <a:ext cx="568800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Ана тілім әрекетім - азығ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Бар ғаламды тануымның қазығ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Ой- санамның өсуінің куәсі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Ғасырлардың кейінгіге әз үні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Ана тілі бәрін сөйлер шежірем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                              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(Т. Абдрахманова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2" name="Акку+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2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5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7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Rectangle 8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Rectangle 9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Ана тіліне арнап  5 жолды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     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өлең құрастыру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15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16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7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8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9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21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22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23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24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25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6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7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8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29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30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31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32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33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34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35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36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37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38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39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40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41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42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3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47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48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49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50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51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52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53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54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55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56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57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58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59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60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1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62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63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64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65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66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67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68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69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70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71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72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73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74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75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76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77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78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79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80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81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82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83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84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85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86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87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8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89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90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91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92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93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2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14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6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6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7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8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9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Назарларыңызға рахмет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25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26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28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29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Freeform 30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Freeform 31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Freeform 32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35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36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37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38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39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0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41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2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43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44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45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46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47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48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49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0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51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52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53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54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55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56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57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58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59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60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61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62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63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64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65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66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67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68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69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70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71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72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Freeform 73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74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75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Freeform 77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Freeform 78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Freeform 79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Freeform 80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Freeform 81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Freeform 82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Freeform 83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84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85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Freeform 86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Freeform 87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Freeform 88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89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Freeform 90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Freeform 91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Freeform 92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Freeform 93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Freeform 94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95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96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Freeform 97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98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99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100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101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102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103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104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105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106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107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108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09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Freeform 110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111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Freeform 112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113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114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Freeform 115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Freeform 116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Freeform 117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118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119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720" y="1196640"/>
            <a:ext cx="44020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ілдің тірікшіліктегі мәніне қазақ ежелден көңіл бөлген. Сондықтан да “өнер алды- қызыл тіл” дейд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Мұқ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5" descr="254858773[1]"/>
          <p:cNvPicPr/>
          <p:nvPr/>
        </p:nvPicPr>
        <p:blipFill>
          <a:blip r:embed="rId1"/>
          <a:stretch/>
        </p:blipFill>
        <p:spPr>
          <a:xfrm>
            <a:off x="250920" y="981000"/>
            <a:ext cx="3875040" cy="541980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140000" y="1125000"/>
            <a:ext cx="4679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мыздың ақ сүтімен бойымызғ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рыған тілімізді        ұмыту – бүкі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а-бабамызды, тарихымызды ұмы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.Момышұ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baur[1]"/>
          <p:cNvPicPr/>
          <p:nvPr/>
        </p:nvPicPr>
        <p:blipFill>
          <a:blip r:embed="rId1"/>
          <a:stretch/>
        </p:blipFill>
        <p:spPr>
          <a:xfrm>
            <a:off x="179280" y="1125360"/>
            <a:ext cx="3711600" cy="544536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482760"/>
            <a:ext cx="9937800" cy="73407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116000" y="260280"/>
            <a:ext cx="6529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500" spc="-1" strike="noStrike">
                <a:solidFill>
                  <a:srgbClr val="ff00ff"/>
                </a:solidFill>
                <a:latin typeface="Times New Roman"/>
              </a:rPr>
              <a:t>Сайыстың  жалпы кезеңдері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764720" y="907920"/>
            <a:ext cx="492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1.Кезең  Бәйге  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186200" y="1773360"/>
            <a:ext cx="708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2. Кезең Мәнерлеп  оқу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4040" y="2560680"/>
            <a:ext cx="8410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Кезең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Мақал-сөздің мәйегі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71640" y="3357720"/>
            <a:ext cx="67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4.Кезең Полиглот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57080" y="42210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988200" y="4508640"/>
            <a:ext cx="77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ff"/>
                </a:solidFill>
                <a:latin typeface="Tahoma"/>
              </a:rPr>
              <a:t>5. Кезең  Даналық ойдан дән із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468360" y="-482760"/>
            <a:ext cx="9937800" cy="73407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116000" y="260280"/>
            <a:ext cx="652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5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І - сайыс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831600" y="2130480"/>
            <a:ext cx="5786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i="1" lang="kk-KZ" sz="8500" spc="-1" strike="noStrike">
                <a:solidFill>
                  <a:srgbClr val="ffcc00"/>
                </a:solidFill>
                <a:latin typeface="Times New Roman"/>
              </a:rPr>
              <a:t>Бәйге 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57080" y="42210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22:46Z</dcterms:created>
  <dc:creator>Юзер</dc:creator>
  <dc:description/>
  <dc:language>en-US</dc:language>
  <cp:lastModifiedBy>.tec-user</cp:lastModifiedBy>
  <dcterms:modified xsi:type="dcterms:W3CDTF">2014-09-18T16:29:03Z</dcterms:modified>
  <cp:revision>24</cp:revision>
  <dc:subject/>
  <dc:title>Слайд 1</dc:title>
</cp:coreProperties>
</file>