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E2C6-9F4C-4408-BF5C-715F6A59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A5D-A796-44C9-93D0-BBB1F470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0CD-6CB8-4EA5-A275-BBE5C7A9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7DE-C406-4AD4-B7EE-E1FC55AE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F95C-0651-4878-8727-A21DCCED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3D0-4BD6-4546-A1A1-DE85CE85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3E5-A173-40E2-A0FF-01904174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2EB-6D2F-41B7-9E12-89CDFA59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729-E96D-4836-ABCA-3D352E1B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843-C5D2-43C1-80AC-893C4381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864-6541-439F-80E2-E60DA7D9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CAF-02E1-474F-8ACD-38A83458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A6E6E-F514-425B-BCC4-A99AA384B0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696000" y="6100560"/>
            <a:ext cx="32400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algn="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ff66"/>
                </a:solidFill>
                <a:latin typeface="Arial"/>
              </a:rPr>
              <a:t>Дузенко Мар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ff66"/>
                </a:solidFill>
                <a:latin typeface="Arial"/>
              </a:rPr>
              <a:t>Лысенко Макс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ff66"/>
                </a:solidFill>
                <a:latin typeface="Arial"/>
              </a:rPr>
              <a:t>Дешкант Кирил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3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ерво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9480" y="1768320"/>
            <a:ext cx="3746520" cy="209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40360" y="1768320"/>
            <a:ext cx="4051080" cy="2090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40360" y="3959280"/>
            <a:ext cx="4065480" cy="2592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Первоцветы - украшение наших весенних лесов и полей, но численность их неуклонно сокращается. У этих цветов короткий вегетационный период, они совсем недолго цветут, опыляются и дают се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152360" y="3959280"/>
            <a:ext cx="38163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11:43:23Z</dcterms:created>
  <dc:creator/>
  <dc:description/>
  <dc:language>en-US</dc:language>
  <cp:lastModifiedBy/>
  <dcterms:modified xsi:type="dcterms:W3CDTF">2017-04-03T12:09:39Z</dcterms:modified>
  <cp:revision>1</cp:revision>
  <dc:subject/>
  <dc:title/>
</cp:coreProperties>
</file>