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1CA-B871-48CA-A565-75D611EE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77E-D85C-44A5-9672-14D9C95F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E9B-8067-4C15-90C6-97FE2FB0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3C7-58EF-4FFB-985E-4E5B63C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DA8-2FBE-4CFA-BEDE-471384F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C3D-CB98-4FA0-B502-F201BB3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B34-8523-420D-B404-C433FFFF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AB5-EFD2-4787-A52A-5015FBD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9C5-6A42-4E42-B5AC-0E8B974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EE9-D902-4940-B134-AC88097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338-ABE3-47F2-9E14-1BB141EF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8F6-48C8-4679-97F6-00FF2B1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B642-23DF-4D64-801E-6A7D5B4E75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696000" y="6100560"/>
            <a:ext cx="32400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66"/>
                </a:solidFill>
                <a:latin typeface="Arial"/>
              </a:rPr>
              <a:t>Дузенко 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66"/>
                </a:solidFill>
                <a:latin typeface="Arial"/>
              </a:rPr>
              <a:t>Лысенко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66"/>
                </a:solidFill>
                <a:latin typeface="Arial"/>
              </a:rPr>
              <a:t>Дешкант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ерво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9480" y="1768320"/>
            <a:ext cx="3746520" cy="20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40360" y="1768320"/>
            <a:ext cx="4051080" cy="2090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40360" y="3959280"/>
            <a:ext cx="4065480" cy="2592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ервоцветы - украшение наших весенних лесов и полей, но численность их неуклонно сокращается. У этих цветов короткий вегетационный период, они совсем недолго цветут, опыляются и дают с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152360" y="395928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1:43:23Z</dcterms:created>
  <dc:creator/>
  <dc:description/>
  <dc:language>en-US</dc:language>
  <cp:lastModifiedBy/>
  <dcterms:modified xsi:type="dcterms:W3CDTF">2017-04-03T12:09:39Z</dcterms:modified>
  <cp:revision>1</cp:revision>
  <dc:subject/>
  <dc:title/>
</cp:coreProperties>
</file>