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6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36.jpeg" ContentType="image/jpeg"/>
  <Override PartName="/ppt/media/image20.png" ContentType="image/pn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38.jpeg" ContentType="image/jpeg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DF1-C7C6-4888-BA2B-15D4C294D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C087-532C-43B2-A6D5-F687F80F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F4F-8FF7-45EB-B848-4EFFE68C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D74-6220-4671-BE0E-CA1B8EF8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170-A3A4-4994-96B3-A2F0BA4A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0F11-EF4D-4087-9020-06B0C20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C5E3-E58C-4584-9C89-3B2656B3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1A57-2A91-4E8D-A52E-D00F601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D25C-AEF6-411E-AC85-1788A48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0492-971D-427E-A68C-A644DB4C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EABB-7DCB-4079-B2E8-52C0C02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3C1-F5DD-47EB-BB75-9D09A97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110-8AF8-4917-9C81-C525769E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5581-F0A9-4155-9C5B-AC09073D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8AF4-247B-4061-927E-983905A8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8D53-E599-4CF8-AD47-C7FFC10C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7109-A654-45E3-961E-6620359B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CA22-AE85-4133-AD72-E8BC0B4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0EDC-E274-4143-B790-F995DAFB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62F-1736-491A-BA6C-1E893399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CD5E-3509-4628-B889-DFC2038A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65F-1822-46AC-950D-4CD15E92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8B9F-247A-4F7D-8636-D66B63B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C41-D0BB-492A-BB7E-3BDF68B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47C4-858F-4AD4-8D25-0C75BD0BC9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879-405E-4655-A4B0-CDB3520909F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rt.rodolad.ru/portfolio/bogy/bogra_t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114/eugenio19.1a/0_1d3eb_6c53be2b_X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41.radikal.ru/i094/0910/90/c3a1b08939c8.jpg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reviews/post-3-12462802641160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project68.narod.ru/Integ/2/682/perun.gif" TargetMode="Externa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lumos.narod.ru/alhimia/l4_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57.radikal.ru/i155/0811/e7/748cc826af96.jpg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godsbay.ru/slavs/images/slav172.jpg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708/lenuschkam.71/0_2616e_1adea0bf_X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ve4fun.ru/small_pictures/img_37744038_7148_1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siti.net.ru/books/image/2500010926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50.radikal.ru/i128/0904/e2/95cf4e5d84fe.jpg" TargetMode="Externa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odolsk.ru/images/138822_image_large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g-fotki.yandex.ru/get/2709/lenuschkam.187/0_2a759_ed61a0f0_XL" TargetMode="External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139.photobucket.com/albums/q295/psycolorena/r9_2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mi.dp.ua/uploads/posts/2009-04/1241097424_80.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content.foto.mail.ru/mail/neohuman/114/i-158.jpg" TargetMode="Externa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082.radikal.ru/0906/95/5c7f8ade11be.jpg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kysenko.sm.ukrtel.net/Paints/5.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img0.liveinternet.ru/images/attach/b/3/28/564/28564128_Genrih_Semiradskiy_Noch_nakanune_Ivana_Kupaluy_1880e_szh.JPG" TargetMode="External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siebiez-museum.narod.ru/muzej17.jpg" TargetMode="External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edia.meta.ua/files/pic/0/21/119/zNivxBDWq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rely-peruna.ucoz.ru/_ph/1/2/375376906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dreamworlds.ru/uploads/posts/2008-07/thumbs/1215804087_slav033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azzle.ru/spec/bogi/svarog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endless.at.ua/_ph/3/2/129952059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avyans.narod.ru/panteon/dagbog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ycu4u.clan.su/_ph/1/2/94161002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rono.ru/statii/2008/veles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dreamworlds.ru/uploads/posts/2008-11/thumbs/1225574106_stribog.a.-mazin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1196640"/>
            <a:ext cx="564048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Язычество восточных славян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Ярило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– бог солнца. Олицетворял собой весну, пробуждающуюся от зимней спячки природу. Ярило славянам представлялся в виде молодого юноши, ездившего по полям на белом коне: где ярило проедет, там вырастет богатый урожай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" descr="Картинка 2 из 2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349360"/>
            <a:ext cx="2619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Единственным крупным женским божеством у славян был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Макошь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ая олицетворяла рождение всего живого, была покровительницей женской части хозяйства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Картинка 1 из 1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349360"/>
            <a:ext cx="2952720" cy="38102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Картинка 2 из 1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70828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Со временем, уже по мере выдвижения в общественной жизни славян князей, воевод, дружин, начала великих военных походов, в которых играла молодая удаль зарождающегося государства, на первый план у славян все больше выдвигается бог молнии и грома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Перун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, который затем становится главным небесным божеством, сливается со Сварогом, Родом как более древними богами. Происходит это не случайно: Перун был богом, чей культ родился в княжеской, дружинной среде. Если солнце всходило и заходило, ветер дул, а потом стихал, плодородие почвы, бурно проявлявшееся весной и летом, утрачивалось осенью и исчезало зимой, то молния никогда в глазах славян не теряла своего могущества. Она не была подвластна другим стихиям, не была рождена каким-то другим началом. Перун - молния, высшее божество был непобедим. К IX в. он стал главным богом восточных славян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Картинка 43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429000"/>
            <a:ext cx="2212920" cy="3127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Картинка 6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3357720"/>
            <a:ext cx="2686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Для поклонения своим богам славяне не строили храмов. Они совершали свои обряды в священных рощах, у священных дубов, где стояли деревянные, а иногда и каменные статуи языческих богов –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идолы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Что бы задобрить разгневанного бога или заручиться его милостью, ему в жертву приносили животных, а в особо важных случаях – даже люде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У славян не было и особого сословия жрецов. Но они думали, что есть люди, которые могут общаться с богами, творить заклинания и предсказывать будущее. Таких людей называли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волхвами, кудесниками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Картинка 118 из 73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997360"/>
            <a:ext cx="4019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Злые и добрые дух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о языческие представления не исчерпывались лишь главными богами. Мир был населен и другими сверхъестественными существами. Многие из них были связаны с представлением о существовании загробного царства. Именно оттуда к людям приходили злые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ухи - упыри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 добрыми духами, оберегающими человека, являлись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берегини.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Славяне стремились защищаться от злых духов заговорами, амулетами, так называемыми "оберегами"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" descr="Картинка 2 из 349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303280" cy="30906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Картинка 1 из 376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00360" y="2997360"/>
            <a:ext cx="507672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В лесу обитал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леший и баба-яга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, в глубине каждого озера или реки, по представлениям славян, жил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, у воды жили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русалки.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Славяне верили, что это души умерших выходящие весной насладиться природой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Название "русалка" происходит от слова "русый", что означает на древнеславянском языке "светлый", "чистый". Обитание русалок связывали с близостью водоемов - рек, озер, которые считались путем в подземное царство. По этому водному пути русалки выходили на сушу и обитали уже на земл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" descr="Картинка 7 из 719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3068640"/>
            <a:ext cx="38685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Леший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– дух леса, который живет в дупле старого дерева и наводит на людей ужас своими протяжными завываниям, жутким хохотом, стонами и плачем. Он любит петь, но в его песне нет слов. Она больше напоминает шум деревьев на сильном ветру во время бури. Леший – хозяин леса и повелитель зверей. Выглядит он наполовину как человек, наполовину как зверь. На нем звериная шкура, на голове рога, а ноги кончаются не пальцами, а копытами. Глаза у лешего зеленые и светятся в темноте. По своему желанию он может быть то не больше гриба-мухомора, и тогда его не сыскать среди травы и палой листвы, а может стать вровень с самыми высокими и могучими лесными великанами – дубами, елями и соснами. Люди побаивались лешего. Уж больно он недобрый и бедовый. Если кто-то заблудился в лесу, потерял тропинку, которая вела назад, к дому, значит, в том виноват лесовик. Это он сбивает человека с пути, заставляет его кружить и плутать в глухой чаще на одном и том же мест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3" name="" descr="Картинка 3 из 104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357720"/>
            <a:ext cx="2288880" cy="32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79af7d"/>
                </a:solidFill>
                <a:latin typeface="Arial"/>
              </a:rPr>
              <a:t>Водяной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– дух рек и озер. Славяне считали, что он для запугивания людей громко хохотал, хлопал в ладоши. Мог подражать речи человека или животных (ухал, крякал, стонал, выл, блеял и пр.). Любил заманивать путников в свой подводный дворец. Выглядел он так: на пухлом лице горящие красные глаза-уголья, хвост рыбий, тело покрыто черной чешуей и тиной, вместо рук – лапы с перепонками. Думали, что водяной обладает способностью к превращениям и оборачивается то бревном, то рыбой, то свиньей, коровой или собакой. Любил ездить верхом на соме, которого за это прозвал «чертов конь». Место жительства выбирал глубокое, любил селиться под мельницами, и друживший с ним мельник ежегодно приносил водяному в жертву свинью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" descr="Картинка 2 из 82590"/>
          <p:cNvPicPr/>
          <p:nvPr/>
        </p:nvPicPr>
        <p:blipFill>
          <a:blip r:embed="rId1"/>
          <a:stretch/>
        </p:blipFill>
        <p:spPr>
          <a:xfrm>
            <a:off x="2124000" y="2997360"/>
            <a:ext cx="31496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считали, что каждый дом находится под покровительством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омов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которого отождествляли с духом своего родоначальника, пращура, или щура, чура. Когда человек считал, что ему грозят злые духи, он призывал своего покровителя - домового, чура, защитить его и говорил: "Чур меня, чур меня!"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" descr="Картинка 1 из 19487"/>
          <p:cNvPicPr/>
          <p:nvPr/>
        </p:nvPicPr>
        <p:blipFill>
          <a:blip r:embed="rId1"/>
          <a:stretch/>
        </p:blipFill>
        <p:spPr>
          <a:xfrm>
            <a:off x="539640" y="2852640"/>
            <a:ext cx="2838600" cy="38102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Картинка 15 из 412"/>
          <p:cNvPicPr/>
          <p:nvPr/>
        </p:nvPicPr>
        <p:blipFill>
          <a:blip r:embed="rId2"/>
          <a:stretch/>
        </p:blipFill>
        <p:spPr>
          <a:xfrm>
            <a:off x="4932360" y="4076640"/>
            <a:ext cx="27892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Амулеты, оберег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739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Чтобы защитить себя от гнева божеств и злых духов, недобрых сил и дурного глаза, славяне придумали различные обереги – предметы, которые будто бы спасали от напасти и отводили колдовские чары. У каждого человека, будь он ребенок или взрослый, постоянно были при себе амулеты в виде медвежьего когтя, волчьего зуба или кабаньего клыка. Дома на видном месте ставили вырезанную из дерева фигурку домового, чтобы берег покой, сторожил жилище от воров и хранил от пожара. Заступницей женщин была Макошь, и потому многие славянки носили на шее или на груди изображение этого божества. Оберегами могли быть всякие знаки и узоры на предметах повседневного быта и обихода: на ложке, на гребешке, на ручке ножа или кувшине. На одежде, покрывалах, полотенцах и платках тоже были обереги: особая цветная вышивка или красивый рисунок на ткани. Большие надежды славяне возлагали на защитную силу слова. Произнося заветные заклинания, которые держались в большом секрете, а иногда прибегая и к грубым ругательствам, древние люди хотели прогнать беду, испугать врага, победить болезнь, не поддаться страху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" descr="Картинка 1 из 148"/>
          <p:cNvPicPr/>
          <p:nvPr/>
        </p:nvPicPr>
        <p:blipFill>
          <a:blip r:embed="rId1"/>
          <a:stretch/>
        </p:blipFill>
        <p:spPr>
          <a:xfrm>
            <a:off x="250920" y="3284640"/>
            <a:ext cx="3166920" cy="1790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Картинка 9 из 134"/>
          <p:cNvPicPr/>
          <p:nvPr/>
        </p:nvPicPr>
        <p:blipFill>
          <a:blip r:embed="rId2"/>
          <a:stretch/>
        </p:blipFill>
        <p:spPr>
          <a:xfrm>
            <a:off x="3635280" y="3860640"/>
            <a:ext cx="405612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Религия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, существовавшая у разных народов до принятия ими христианства или ислама, </a:t>
            </a: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называется язычеством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Сложной, разнообразной с детально разработанными обычаями была религия восточных славян. Ее истоки уходят в индоевропейские древние верования и еще дальше к временам палеолита. Именно там, в глубинах древности зарождались представления человека о сверхъестественных силах, которые управляют его судьбой, о его отношении к природе и о ее отношении к человеку, о своем месте в окружающем мире. Восточные славяне были язычниками, то есть поклонялись богам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Картинка 8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924280"/>
            <a:ext cx="228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Вся жизнь славянина была связана с миром сверхъестественных существ, за которыми стояли силы природы. Это был мир фантастический и поэтичный. Он входил в каждодневную жизнь каждой славянской семьи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Картинка 2 из 1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781360"/>
            <a:ext cx="50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Праздники</a:t>
            </a:r>
            <a:br>
              <a:rPr sz="3600"/>
            </a:b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новый год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Уже накануне нового года (а год у древних славян начинался, как и теперь, 1 января, по некоторым данным 1 декабря, 1 марта), а потом поворота солнца на весну начинался праздник Коляды. Сначала в домах гасли огни, а потом люди добывали трением новый огонь, зажигали свечи, очаги, славили начало новой жизни солнца, гадали о своей судьбе, совершали жертвопринош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" descr="Картинка 6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37000"/>
            <a:ext cx="4422600" cy="2920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Картинка 49 из 1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4437000"/>
            <a:ext cx="32893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маслени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Другой крупный праздник, совпадающий с природными явлениями, отмечался в марте. То был день весеннего равноденствия. Славяне славили солнце, праздновали возрождение природы, наступление весны. Они сжигали чучело зимы, холода, смерти; начиналась масленица с ее блинами, напоминающими солнечный круг, проходили гулянья, катания на санях, разные потехи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1" name="" descr="Картинка 112 из 1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997360"/>
            <a:ext cx="507672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живин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1-2 мая славяне убирали лентами молодую березу, украшали ветками с только что распустившимися листьями свои дома, снова славили бога солнца, отмечали появление первых весенних всходов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Картинка 28 из 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637000"/>
            <a:ext cx="2874960" cy="2874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Картинка 47 из 6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4221000"/>
            <a:ext cx="31561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Иван Купал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24 июня – в день летнего солнцеворота – праздновали Ивана Купалу, который был божеством изобилия, земных плодов.  Поспевал урожай, и люди молились о том, чтобы боги послали им дождя. В этот день собирали травы, которым приписывали чудодейственную силу; купались в реке и верили, что это исцеляет от недугов; приносили в жертву белого петуха – птицу, приветствующую рассвет, угодную Солнцу. Накануне этого дня, по представлениям славян, русалки выходили на берег из воды - начиналась "русальная неделя". Девушки в эти дни водили хороводы, бросали в реки венки. Самых красивых девушек обвивали зелеными ветками и поливали водой, как бы призывая на землю долгожданный дождь.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Ночью вспыхивали купальские костры, через которые прыгали юноши и девушки, что означало ритуал очищения, которому как бы помогал священный огонь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В купальские ночи совершались так называемые "умыкания девиц", когда молодые люди сговаривались и жених уводил невесту от домашнего очага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8" name="" descr="Картинка 12 из 2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3500280"/>
            <a:ext cx="507672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Картинка 3 из 22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289320" cy="23814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Картинка 27 из 224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357720"/>
            <a:ext cx="50767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Обряд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Сложными религиозными обрядами обставлялись рождения, свадьбы, похороны. Так, известен похоронный обычай восточных славян хоронить вместе с прахом человека (славяне сжигали на кострах своих покойников, помещая их сначала в деревянные ладьи; это означало, что человек уплывает в подземное царство) одну из его жен, над которой совершалось ритуальное убийство; в могилу воина клали останки боевого коня, оружие, украшения. Жизнь продолжалась, по представлениям славян, и за гробом. Затем над могилой насыпали высокий курган и совершалась языческая тризна: родственники и соратники поминали умершего. Во время печального пиршества также проводили в его честь воинские состязания. Эти обряды, разумеется, касались лишь племенных вождей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3" name="" descr="Картинка 4 из 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573360"/>
            <a:ext cx="3911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Языческие верования и обычаи сохранялись у восточных славян еще долгое время и после принятия христианства, переплетаясь с христианскими праздниками и обрядами на протяжении многих столетий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Картинка 8 из 637"/>
          <p:cNvPicPr/>
          <p:nvPr/>
        </p:nvPicPr>
        <p:blipFill>
          <a:blip r:embed="rId1"/>
          <a:stretch/>
        </p:blipFill>
        <p:spPr>
          <a:xfrm>
            <a:off x="1692360" y="2708280"/>
            <a:ext cx="5076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исхождение славя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73990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лавяне верили в свое происхождение от некоего прародителя. Например, некоторые племена считали своим прародителем Волка. Он считался могущественным защитником племени, пожирателем злых духов. Во время зимнего солнцестояния все мужчины этих племен во главе с языческими жрецами надевали волчьи шкуры (длаки), что символизировало превращение в волков. У звериного предка просили силы и мудрости. Позднее, с приходом христианства, словом "волкодлак", то есть облаченный в звериную шкуру, стали называть злого оборотня.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Картинка 11 из 24107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48120"/>
            <a:ext cx="2791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оги и богин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73260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Как и другие древние народы, как, в частности, древние греки, славяне населили мир разнообразными богами и богинями. Были среди них главные и второстепенные, могучие, всесильные и слабые, шаловливые, злые и добры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Картинка 13 из 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3029040" cy="3810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Картинка 8 из 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3573360"/>
            <a:ext cx="345924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Во главе славянских божеств, стоял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великий Сварог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 вселенной, неба и огня небесного, напоминающий древнегреческого Зевса. По поверьям древних славян, он разбивал лучами-стрелами небесный покров. Когда-то Сварог бросил на землю с неба кузнечные клещи, и стех пор люди научились ковать железо. Он покровитель кузнецов. Его и самого представляли как молодого сильного кузнеца. Его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сыновья - Сварожичи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солнце и огонь, были носителями света и тепла.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Картинка 10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2924280"/>
            <a:ext cx="2857320" cy="3181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Картинка 2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637000"/>
            <a:ext cx="2705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Бог солнца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Даждь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весьма почитался славянами. Недаром автор "Слова о полку Игореве" называл славян "даждьбожьи внуки". Он сын Сварога, олицетворял собой солнце. Каждое утро он выезажет на колеснице, запряженной белыми огнедышащими конями. Его сестры – Утренняя Заря и Вечерняя Заря – поочередно выводят и заводят в конюшню коней Даждьбога. У него были две прислужницы, разгонявшие тучи и с помощью дождей очищавшие его лицо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Картинка 15 из 3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284640"/>
            <a:ext cx="32288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Молились славяне </a:t>
            </a:r>
            <a:r>
              <a:rPr b="0" lang="ru-RU" sz="1200" spc="-1" strike="noStrike">
                <a:solidFill>
                  <a:srgbClr val="79af7d"/>
                </a:solidFill>
                <a:latin typeface="Arial"/>
              </a:rPr>
              <a:t>Роду и роженицам</a:t>
            </a:r>
            <a:r>
              <a:rPr b="0" lang="ru-RU" sz="1200" spc="-1" strike="noStrike">
                <a:solidFill>
                  <a:srgbClr val="2f1311"/>
                </a:solidFill>
                <a:latin typeface="Arial"/>
              </a:rPr>
              <a:t> - богу и богиням плодородия. Этот культ был связан с земледельческими занятиями населения и был, поэтому особенно популярен. Род – творец всего сущего, он «вдувал» в людей жизнь. Когда в семье хотели иметь детей, для Рода готовили особое жертвоприношение – кашу, сыр, хлеб и сладкий, сваренный на меду напиток. Вкусив это угощение, Род будто бы посылал в помощь людям верно служивших ему дев – Рожаниц, которые и должны били позаботиться  о приплоде.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" descr="Картинка 1 из 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852640"/>
            <a:ext cx="2543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Бог </a:t>
            </a:r>
            <a:r>
              <a:rPr b="0" lang="en-US" sz="1400" spc="-1" strike="noStrike">
                <a:solidFill>
                  <a:srgbClr val="79af7d"/>
                </a:solidFill>
                <a:latin typeface="Arial"/>
              </a:rPr>
              <a:t>Велес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 почитался у славян в качестве покровителя скотоводства, это был своеобразный "скотный бог". Считалось, что он способствует обогащению. В Х веке именем Велеса клялись князья и их договоров с византийскими монархами. Праздник Велеса отмечался в начале января. К Велесу дня выпекалось особое печенье в в виде домашних животных. Люди рядились в звериные маски, надевали на себя вывороченные тулупы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Картинка 2 из 8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278136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79af7d"/>
                </a:solidFill>
                <a:latin typeface="Arial"/>
              </a:rPr>
              <a:t>Стрибог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, по их понятиям, повелевал ветрами, как древнегреческий Эол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" descr="Картинка 2 из 1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565360"/>
            <a:ext cx="4581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6:07:58Z</dcterms:created>
  <dc:creator>домашний</dc:creator>
  <dc:description/>
  <dc:language>en-US</dc:language>
  <cp:lastModifiedBy>Admin</cp:lastModifiedBy>
  <dcterms:modified xsi:type="dcterms:W3CDTF">2011-11-20T12:55:12Z</dcterms:modified>
  <cp:revision>18</cp:revision>
  <dc:subject/>
  <dc:title>Слайд 1</dc:title>
</cp:coreProperties>
</file>