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12.png" ContentType="image/png"/>
  <Override PartName="/ppt/media/image35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AD0C-4189-40D0-BF1F-E0F4819A3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956-D015-4A8F-8644-EE285224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7CA-89AE-4B49-AD9A-80279C77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02D-0EB8-4F13-A138-825C1957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2F78-26CA-4309-9AFC-9C195026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395A-51E7-4B54-BAD1-E7AECC94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D098-64F2-434B-813C-401793BB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249A-DE16-4D9C-841D-7C696E4E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945E-84F6-485F-9122-89F9DD7E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E986-FFD2-499C-9BE4-066E8221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6E99-D7F0-47BB-B6B5-7D4E9477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CE47-F41B-421C-BFE4-3F249123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98F4-ADE5-4C25-A8DC-2E6067AC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CEF71-6558-4619-B892-9CE3973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CA07-AE52-4D0C-939E-51102BF8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8A24-CB5D-4CC8-ADE8-4DB77E35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6716F-CC8D-4615-938A-B56C02A6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AA4D-F541-46F4-84A1-1DCC015E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5851-01C1-40B5-A6C3-543912DA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F907-8269-4473-87EE-E9A17C8C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3D53E-459C-4F58-AE3D-DAD6B74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52B5-F57E-4B8C-8F77-E5CF3D83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12A-8FEE-4285-AD59-834F3EDF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DDAB-46B5-4801-B771-D03E2D1C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46E0D-FB14-41E1-A603-A565D978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FB51-09E4-47C9-A3D5-538CF390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24035-981A-4969-AE69-0C14F456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BA51C-C1A8-4D42-A4EE-E888FF72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4B13-F68A-487C-AB11-48395FD2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2193-EC4F-42E9-B27A-B7E7FB3D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E1553-54F3-4729-A36B-6D124981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04349-3CF0-4AF4-A711-99088CE9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D074-7836-43FD-B301-922B49E0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FE3-DCF8-431E-B33A-A81C960F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CCB56-72B1-4B8B-AF7F-783833FD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67032-C9BC-4656-8C7A-491D8CC8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BF093-7D18-4BE9-ABF0-E4B78F61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6A198-3E00-45CD-9D8F-0F301ACE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5CF38-5F00-4C23-A959-B074472A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90924-5492-47CD-BCF8-96D110EA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8E352-229A-4E9B-9CE0-4E2F52E9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618C8-B1B5-439B-9CEA-6E12E487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F328-D663-4C26-B64A-AE4E3F2F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E389D-218E-46B8-9E6E-D2ECA5F8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8A8-C4A2-4A0C-BE1E-6434FA3C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8B3AB-5088-4BF2-967E-C4143404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1EDDD-0463-416D-A6CE-BB728133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46397-F472-4DCC-ACD6-5497BB63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16B62-5483-46E4-BE7E-5803610C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A88DB-C094-4424-985E-6769BF42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DF63D-457D-469C-9C3D-5FDFC2FA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4F2D4-5C8C-4593-9A67-D9BD34EC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63543-3AFA-4B58-AAA5-4547F630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B0D69-3178-4122-B511-66015758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33C5B-48B4-4191-BBF7-F604927B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CF7-FD3A-4238-AC74-2E25A2D2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2816-A9C8-4CC3-9443-DABA08DF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F5770-DE63-4889-AA38-DF8E99CF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386E0-4A90-4E77-9F23-7123DB45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EE50-5870-4117-AA05-7D05B80B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EB432-B4D5-43AA-8117-631978E9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D77D6-2231-4463-B7E1-890BC5F6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016A3-63A4-4636-8F5B-9DD9D8DE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C6379-E23A-47AC-BCF5-590C789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0413-CC0A-4B3F-8D56-64D30F62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B5D76-AEC6-4E81-8203-63A9C863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946-187D-4FEC-BD41-2300DB03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49EB9-3640-431D-86E5-62B6F817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1429E-4E69-4E37-8BFF-0B9933C1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1821F-5765-451B-9E05-44CDD317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DF41F-DC9E-4676-8564-3AD60FC0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466B-9333-41E7-BC96-5F24945B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1CBE2-1E57-4A9A-AB0D-F61633AB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0C30A-828A-4FF9-9CCA-6B50D184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A1888-167B-403A-B6FA-25817503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F2537-2D59-4F39-870C-FC9E9A8C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5C4ED-9946-4926-A2FB-B34D967A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EC2-393F-4B41-88E9-7D055326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C789B-4BA8-4D8E-BB68-8D18753D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EC9C3-CCE0-428F-9FBF-F020CA23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8A610-F875-49B2-8D2B-FF5977C3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EBAB1F-B35E-42C0-8ACE-2699C299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1AD09-E82F-4171-93B0-5AF23111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061-1BA3-47A4-BF99-50EAA5A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8B34-ABD0-4499-9B10-41265A251C0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349-D8C9-4B8B-B845-FAC30C2B1F8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430E-BF75-4E0B-8BC8-5C833ACC6E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2F1F-7ABA-489A-B651-8DC5332C3CB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4FBC-E696-460D-A084-863B0485CD80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F4FC-CA8A-473E-B860-75E2450572B4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B4C7-B85D-44EC-AE2A-50D21E259811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8000" y="3212640"/>
            <a:ext cx="8496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4" name="Рисунок 3" descr="aqV3LJ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05" name="Прямоугольник 4" descr=""/>
          <p:cNvPicPr/>
          <p:nvPr/>
        </p:nvPicPr>
        <p:blipFill>
          <a:blip r:embed="rId2"/>
          <a:stretch/>
        </p:blipFill>
        <p:spPr>
          <a:xfrm>
            <a:off x="1627200" y="622440"/>
            <a:ext cx="5821200" cy="127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115920" y="139680"/>
            <a:ext cx="8577360" cy="1274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Это направление представляет собой сочетание элементов рока, классической музыки и джаза, а также различных национальных культур. Наряду с арт – роком, употребляются такие понятия, как симфо – рок, классик – рок и други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Арт – рок берет начало со второй половины 1960 – х годов. Истоки арт – рока можно найти в позднем (1965 – 70 ) творчестве «</a:t>
            </a:r>
            <a:r>
              <a:rPr b="1" lang="en-US" sz="2400" spc="-1" strike="noStrike">
                <a:solidFill>
                  <a:srgbClr val="000000"/>
                </a:solidFill>
                <a:latin typeface="Graffiti2CTT"/>
              </a:rPr>
              <a:t>The Beatles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», которые много экспериментировали со звучанием отдельных акустических инструментов и целых симфонических составов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529840" cy="14335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9528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Состав группы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Кейт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Э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мерсон – гитара, вока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Грег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эйк – гитара, вока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Карл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алмер – удар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Этой группой сделаны в рок – стиле произведения Бартона, Мусоргского («Картинки с выставки»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-304920" y="378000"/>
            <a:ext cx="9240840" cy="1384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557000"/>
            <a:ext cx="850752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Оформился как стиль в первой половине 1970 – х г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Для </a:t>
            </a:r>
            <a:r>
              <a:rPr b="1" i="1" lang="ru-RU" sz="3600" spc="-1" strike="noStrike">
                <a:solidFill>
                  <a:srgbClr val="000000"/>
                </a:solidFill>
                <a:latin typeface="Graffiti2CTT"/>
              </a:rPr>
              <a:t>глэмма</a:t>
            </a: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 характерен акцент на визуальной стороне: обильный грим, яркая одежда, а так же простая гармония, голос (вокал) является главным выразителем чувств, многократное повторение фраз.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237960" y="-6480"/>
            <a:ext cx="8467920" cy="13845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5594400" y="1484280"/>
            <a:ext cx="3549600" cy="2448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мериканская группа, была создана в 1972 год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став группы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жин Симменс, Питер Крисс, Пол Стенли, Эйс Фрей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4" descr="кисс1"/>
          <p:cNvPicPr/>
          <p:nvPr/>
        </p:nvPicPr>
        <p:blipFill>
          <a:blip r:embed="rId2"/>
          <a:stretch/>
        </p:blipFill>
        <p:spPr>
          <a:xfrm>
            <a:off x="179280" y="1341360"/>
            <a:ext cx="5400720" cy="36180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395280" y="4989600"/>
            <a:ext cx="8497800" cy="22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168bb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Наша задача – помочь слушателям освободиться от давления мыслительных процессов, поскольку оно мешает им как следует расслабиться» - говорили сами музыканты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24000" y="2349000"/>
            <a:ext cx="8229600" cy="56991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Концерты поражали воображение обилием трюков: взрывные устройства, полицейские мигалки и сирены, самовозгорающиеся гитары и другое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В середине 70 – х годов группа стала одной из наиболее сценичных групп мира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Рисунок 2" descr="rock-music-guitar-skelet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" descr="кисс"/>
          <p:cNvPicPr/>
          <p:nvPr/>
        </p:nvPicPr>
        <p:blipFill>
          <a:blip r:embed="rId1"/>
          <a:stretch/>
        </p:blipFill>
        <p:spPr>
          <a:xfrm>
            <a:off x="324000" y="260280"/>
            <a:ext cx="3960720" cy="3221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кисс2"/>
          <p:cNvPicPr/>
          <p:nvPr/>
        </p:nvPicPr>
        <p:blipFill>
          <a:blip r:embed="rId2"/>
          <a:stretch/>
        </p:blipFill>
        <p:spPr>
          <a:xfrm>
            <a:off x="4716360" y="1989000"/>
            <a:ext cx="4592880" cy="344664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7"/>
          <p:cNvSpPr/>
          <p:nvPr/>
        </p:nvSpPr>
        <p:spPr>
          <a:xfrm>
            <a:off x="755640" y="3789360"/>
            <a:ext cx="38876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«</a:t>
            </a:r>
            <a:r>
              <a:rPr b="1" i="1" lang="en-US" sz="2400" spc="-1" strike="noStrike">
                <a:solidFill>
                  <a:srgbClr val="000000"/>
                </a:solidFill>
                <a:latin typeface="Graffiti2CTT"/>
              </a:rPr>
              <a:t>KISS</a:t>
            </a:r>
            <a:r>
              <a:rPr b="1" i="1" lang="ru-RU" sz="2400" spc="-1" strike="noStrike">
                <a:solidFill>
                  <a:srgbClr val="000000"/>
                </a:solidFill>
                <a:latin typeface="Graffiti2CTT"/>
              </a:rPr>
              <a:t>»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 предстали на сцене в виде четырех эффектно одетых монстров, лица которых скрывал грим – Симмонс «ящер», Стэнли «красавчик», Фрейли «космический», Крисс «кот»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115920" y="139680"/>
            <a:ext cx="8577360" cy="1274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45720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Оформился как стиль в 1970 – х годах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Звучание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хард – 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рока характеризуется заметной тяжестью, высокой плотностью, усилением ритма, виртуозной импровизаци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Этот стиль в буквальном смысле вышел на простор больших сцен, стадионов, где предстал на суд массовой аудитори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-268200" y="36360"/>
            <a:ext cx="9418680" cy="1384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3995640" y="1483920"/>
            <a:ext cx="4989600" cy="49784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емецкая группа, образована в 1965 г. В Гонновере. Выступали с концертами в разных странах. В период перестройки группа посетила Советский Союз, дали концерты в Москве и Ленинграде. Позже группа еще несколько раз приезжала с концертами в Россию, выступала даже с симфоническим оркестром в Кремлевском дворце съезд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2000 году группа выпустила альбом с Берлинским симфоническим оркестром, записали свои песни в симфонической обработк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его группа записала 19 альбомов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4" descr="скорпионз"/>
          <p:cNvPicPr/>
          <p:nvPr/>
        </p:nvPicPr>
        <p:blipFill>
          <a:blip r:embed="rId2"/>
          <a:stretch/>
        </p:blipFill>
        <p:spPr>
          <a:xfrm>
            <a:off x="179280" y="1413000"/>
            <a:ext cx="3659400" cy="5197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165240" y="152280"/>
            <a:ext cx="852804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ХЭВИ – МЕТАЛЛИСТОВ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ыделяли следующие качества: тяготение к быстрым темпам, жесткому звучанию, виртуозное солирование, основную роль играли гитары и ударник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Тематика песен: культ силы и агрессии, героика, мифологические мотивы, любовная темати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Имидж музыкантов: кожаная одежда, железные цепи, длинные волосы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Rectangle 2" descr=""/>
          <p:cNvPicPr/>
          <p:nvPr/>
        </p:nvPicPr>
        <p:blipFill>
          <a:blip r:embed="rId1"/>
          <a:stretch/>
        </p:blipFill>
        <p:spPr>
          <a:xfrm>
            <a:off x="12600" y="-103320"/>
            <a:ext cx="8472600" cy="14814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3708000" y="1484280"/>
            <a:ext cx="4907160" cy="3827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мериканская рок – группа, образована в 1981 году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став: Джеймс Хатфилд (вокал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ирк Хэммет (гитар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лифф Бартон (бас – гитара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арс Ульрих (ударные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 1991 году группа побывала с концертом в Москв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ыпустила группа 13 альбом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Picture 4" descr="металлика"/>
          <p:cNvPicPr/>
          <p:nvPr/>
        </p:nvPicPr>
        <p:blipFill>
          <a:blip r:embed="rId2"/>
          <a:stretch/>
        </p:blipFill>
        <p:spPr>
          <a:xfrm>
            <a:off x="250920" y="1844640"/>
            <a:ext cx="3297240" cy="4869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Rectangle 2" descr=""/>
          <p:cNvPicPr/>
          <p:nvPr/>
        </p:nvPicPr>
        <p:blipFill>
          <a:blip r:embed="rId1"/>
          <a:stretch/>
        </p:blipFill>
        <p:spPr>
          <a:xfrm>
            <a:off x="201600" y="-6480"/>
            <a:ext cx="8504280" cy="1384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кино"/>
          <p:cNvPicPr/>
          <p:nvPr/>
        </p:nvPicPr>
        <p:blipFill>
          <a:blip r:embed="rId2"/>
          <a:stretch/>
        </p:blipFill>
        <p:spPr>
          <a:xfrm>
            <a:off x="1403280" y="1538280"/>
            <a:ext cx="6337440" cy="4970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176040" y="-6480"/>
            <a:ext cx="8529840" cy="14335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6836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Расцвет 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ПАНК – РОКА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пришелся на середину 1970 – х год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Этот стиль отличается резкостью, быстрым темпом, хаотичными изменениями ритмического рисунка и гармон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ПАНК – РОК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 основном играли любители, не обладавшие даже минимальной музыкальной подготов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 США первыми группами панк – рока были «МС 5» (</a:t>
            </a:r>
            <a:r>
              <a:rPr b="1" lang="en-US" sz="2800" spc="-1" strike="noStrike">
                <a:solidFill>
                  <a:srgbClr val="000000"/>
                </a:solidFill>
                <a:latin typeface="Graffiti2CTT"/>
              </a:rPr>
              <a:t>Motor City Five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) и «</a:t>
            </a:r>
            <a:r>
              <a:rPr b="1" lang="en-US" sz="2800" spc="-1" strike="noStrike">
                <a:solidFill>
                  <a:srgbClr val="000000"/>
                </a:solidFill>
                <a:latin typeface="Graffiti2CTT"/>
              </a:rPr>
              <a:t>New York Dolls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268200" y="-6480"/>
            <a:ext cx="8437680" cy="14335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896000" y="1628280"/>
            <a:ext cx="4248000" cy="4395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Основана в 1987 году в Воронеже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Состав: Юрий Клинских (Хой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Алексей Ушак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Сергей Тупикин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Игорь Куще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В 1984 году выпустили панк – оперу «Кащей Бессмертный»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В 2000 году смерть Юрия Клинских от инфаркта остановила деятельность группы. Выпустила 17 альбомов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4" descr="1210614683_4208ad9382b0"/>
          <p:cNvPicPr/>
          <p:nvPr/>
        </p:nvPicPr>
        <p:blipFill>
          <a:blip r:embed="rId2"/>
          <a:stretch/>
        </p:blipFill>
        <p:spPr>
          <a:xfrm>
            <a:off x="250920" y="1989000"/>
            <a:ext cx="4321080" cy="375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115920" y="139680"/>
            <a:ext cx="8577360" cy="12747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25056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Бардовская,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или </a:t>
            </a: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авторская,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песня представляет собой современный жанр устной, так называемой поющейся, поэзии, появившейся на рубеже 1950 – 1960 – х годов в неформальной культуре молодых интеллектуалов и студент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Слова, принадлежащие выдающемуся барду Булату Окуджаве, наиболее точно выражают сущность бардовской песни, которая не пишется по заказу, а рождается спонтанно и является свободным выражением потребности высказаться, поделиться наболевшим: « Каждый пишет, как он дышит, не стараясь угодить»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108000" y="184464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Булат Окуджав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Юрий Визбор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Владимир Высоцкий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Юлий Ки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Олег Митяев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raffiti2CTT"/>
              </a:rPr>
              <a:t>Александр Розенбаум 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и други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76040" y="-6480"/>
            <a:ext cx="8529840" cy="14335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3995640" y="1296720"/>
            <a:ext cx="5113440" cy="5661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вец, поэт, композито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Песни начал писать в 1968 год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На профессиональной сцене с 1980 года, а с 1983 года - с сольными концерта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его песнях – и шумная Одесса, и московские дворы, и донские степи, и выстраданный Афганистан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начале 2004 года реализовал новый проект из 12 – ти томов – дисков « Философия». Песни группированы по определенным томам, каждый из которых посвящен определенной теме: «философия войны», «философия любви», «философия воспоминании» …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1" name="Picture 4" descr="Розенбаум"/>
          <p:cNvPicPr/>
          <p:nvPr/>
        </p:nvPicPr>
        <p:blipFill>
          <a:blip r:embed="rId2"/>
          <a:stretch/>
        </p:blipFill>
        <p:spPr>
          <a:xfrm>
            <a:off x="179280" y="1413000"/>
            <a:ext cx="378144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356000" y="1989000"/>
            <a:ext cx="460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raffiti2CTT"/>
              </a:rPr>
              <a:t>РОК – МУЗЫКА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 оказала сильное влияние на общество, особенно на молодежь. Под влиянием рока рождались различные молодежные клубы (движения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С рождением новых рок – групп появился и так называемый </a:t>
            </a:r>
            <a:r>
              <a:rPr b="1" i="1" lang="ru-RU" sz="2400" spc="-1" strike="noStrike">
                <a:solidFill>
                  <a:srgbClr val="000000"/>
                </a:solidFill>
                <a:latin typeface="Graffiti2CTT"/>
              </a:rPr>
              <a:t>Фанатиз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У фанатизма были свои плюсы и минусы.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Picture 4" descr="802562"/>
          <p:cNvPicPr/>
          <p:nvPr/>
        </p:nvPicPr>
        <p:blipFill>
          <a:blip r:embed="rId2"/>
          <a:stretch/>
        </p:blipFill>
        <p:spPr>
          <a:xfrm>
            <a:off x="324000" y="1773360"/>
            <a:ext cx="368748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7" name="Picture 4" descr="123m"/>
          <p:cNvPicPr/>
          <p:nvPr/>
        </p:nvPicPr>
        <p:blipFill>
          <a:blip r:embed="rId2"/>
          <a:stretch/>
        </p:blipFill>
        <p:spPr>
          <a:xfrm>
            <a:off x="324000" y="1628640"/>
            <a:ext cx="4464000" cy="3240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1209872531_54794"/>
          <p:cNvPicPr/>
          <p:nvPr/>
        </p:nvPicPr>
        <p:blipFill>
          <a:blip r:embed="rId3"/>
          <a:stretch/>
        </p:blipFill>
        <p:spPr>
          <a:xfrm>
            <a:off x="5219640" y="3573360"/>
            <a:ext cx="3624480" cy="29336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1180423872_206732"/>
          <p:cNvPicPr/>
          <p:nvPr/>
        </p:nvPicPr>
        <p:blipFill>
          <a:blip r:embed="rId4"/>
          <a:stretch/>
        </p:blipFill>
        <p:spPr>
          <a:xfrm>
            <a:off x="5753160" y="404640"/>
            <a:ext cx="313992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620200" cy="133524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395280" y="2349360"/>
            <a:ext cx="8424720" cy="4246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raffiti2CTT"/>
              </a:rPr>
              <a:t>РОК – 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музыка родилась в 60 – </a:t>
            </a:r>
            <a:r>
              <a:rPr b="1" lang="en-US" sz="2400" spc="-1" strike="noStrike">
                <a:solidFill>
                  <a:srgbClr val="000000"/>
                </a:solidFill>
                <a:latin typeface="Graffiti2CTT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 годах </a:t>
            </a:r>
            <a:r>
              <a:rPr b="1" lang="en-US" sz="2400" spc="-1" strike="noStrike">
                <a:solidFill>
                  <a:srgbClr val="000000"/>
                </a:solidFill>
                <a:latin typeface="Graffiti2CTT"/>
              </a:rPr>
              <a:t>XX</a:t>
            </a: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 века в США и Великобритан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raffiti2CTT"/>
              </a:rPr>
              <a:t>Появление рока тесно связано с техническим, экономическим, политическим и социальным развитием. Именно технический прогресс дал толчок развитию рока. Подтверждением тому служит тот факт, что рок процветает лишь в наиболее развитых странах. Технический прогресс послужил рождению и усложнению музыкальной аппаратуры (электрогитары, синтезатор, различные звуковые процессоры, звукоусиливающая аппаратур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0" name="Рисунок 3" descr="rock-music-guitar-skelet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2400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raffiti2CTT"/>
              </a:rPr>
              <a:t>РОК – МУЗЫКА</a:t>
            </a: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 постепенно становилась предметом самовыражения молодого поколения: рождались молодежные движения, которые при помощи рок – музыки могли говорить о своих проблемах, о своем отношении к жизни, обществу, о своих интересах, о том, что их не устраивает.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3" name="Рисунок 3" descr="rock-music-guitar-skelet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806400" y="155736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raffiti2CTT"/>
              </a:rPr>
              <a:t>Арт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 – рок (художественный 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Симфо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Глэмм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Панк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Хард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Готик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Этно – 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Хэви – метал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Бард - рок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620200" cy="1335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914400" y="1988640"/>
            <a:ext cx="8229600" cy="5830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raffiti2CTT"/>
              </a:rPr>
              <a:t>БЛЮЗ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raffiti2CTT"/>
              </a:rPr>
              <a:t>РИТМ –ЭНД – БЛЮЗ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raffiti2CTT"/>
              </a:rPr>
              <a:t>РОК – Н – РОЛЛ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Graffiti2CTT"/>
              </a:rPr>
              <a:t>РОК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176040" y="-6480"/>
            <a:ext cx="8529840" cy="13845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5065200" y="1413000"/>
            <a:ext cx="3970440" cy="4682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руппа родилась в 1959 году в Ливерпуле (Великобритания).Первая группа, вызвавшая интерес к рок – н – роллу у молодежи. Состав группы: Джон Леннон, Пол Маккартни, Джордж Харрисон, Ринго Старр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Гастроли: Париж, США, Дания, Голландия, Гонконг, Австрия, Новая Зелландия, Канада. В 1965 году английский королевский дом наградил группу орденом «За бога и империю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битлз"/>
          <p:cNvPicPr/>
          <p:nvPr/>
        </p:nvPicPr>
        <p:blipFill>
          <a:blip r:embed="rId2"/>
          <a:stretch/>
        </p:blipFill>
        <p:spPr>
          <a:xfrm>
            <a:off x="179280" y="1916280"/>
            <a:ext cx="489744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08000" y="2349000"/>
            <a:ext cx="8856720" cy="4248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Группа «</a:t>
            </a:r>
            <a:r>
              <a:rPr b="1" i="1" lang="en-US" sz="2800" spc="-1" strike="noStrike">
                <a:solidFill>
                  <a:srgbClr val="000000"/>
                </a:solidFill>
                <a:latin typeface="Graffiti2CTT"/>
              </a:rPr>
              <a:t>The Beatles</a:t>
            </a:r>
            <a:r>
              <a:rPr b="1" i="1" lang="ru-RU" sz="2800" spc="-1" strike="noStrike">
                <a:solidFill>
                  <a:srgbClr val="000000"/>
                </a:solidFill>
                <a:latin typeface="Graffiti2CTT"/>
              </a:rPr>
              <a:t>» </a:t>
            </a: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приносила огромный доход государственной казне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 1965 году во всем мире люди слушали 115 миллионов пластин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В 1964 году выпущено дисков на сумму в 50 миллионов ма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Фильм о группе « Да, да, да!», за шесть недель показа в кинотеатрах, принес доход в 24 миллиона маро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raffiti2CTT"/>
              </a:rPr>
              <a:t>Модные товары (футболки, мягкие игрушки ) за год принесли 400 миллионов фунтов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Рисунок 2" descr="rock-music-guitar-skelet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-6480" y="255600"/>
            <a:ext cx="8699760" cy="1384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Особая ритмическая пульсация в басу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Использование электромузыкальных инструмент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Поведение музыкантов на сцен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raffiti2CTT"/>
              </a:rPr>
              <a:t>Применение на сцене различных спецэффект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48:14Z</dcterms:created>
  <dc:creator>User</dc:creator>
  <dc:description/>
  <dc:language>en-US</dc:language>
  <cp:lastModifiedBy>Максим</cp:lastModifiedBy>
  <dcterms:modified xsi:type="dcterms:W3CDTF">2018-04-23T14:04:53Z</dcterms:modified>
  <cp:revision>40</cp:revision>
  <dc:subject/>
  <dc:title>Рок - музыка</dc:title>
</cp:coreProperties>
</file>