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A6C-80BD-4B88-A469-138DD36A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268-08DC-4083-AA47-507A859A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8C2-8DF6-4458-9F3A-CA201CD0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190-E7B2-4C88-A6D9-71EC6A34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4A70-BE0A-4B36-8F78-F9AB2C9A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CC5A-284F-4E13-B78D-056AB914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FDBD-A6F8-43FC-BA9B-07D0C0B7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2E42-B0E1-49AF-A8B6-350742E1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5294-7FAB-40C2-963D-E54375AB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CE0B-A7E5-48FA-8A5A-3EA2575E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6F82-BE84-4D54-9152-6AD260A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D4D-0BAE-4371-8941-28CE8A8D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7CA7-A57A-4300-878C-B5A471A2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DE0E-59B3-4166-963A-CFB7A60E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E5F2-C741-40A9-BBFA-D5FE6884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1BE1-D7F8-4A6A-A643-3C4B1AC7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6088-BC6A-4F73-B389-D87C862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53FDE-3128-42A9-9710-10D005E1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5380-32F1-4FE1-B80A-A722BBF2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61DF-E8D1-4D35-B790-667D0792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A514-1F10-4472-86E6-0008D168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A937-03CA-4D3D-A5FD-18F33230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C2E-E12F-43D5-A054-031102E9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48E0-27B2-4A23-A51C-F63DBCBC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99B3-4A47-422D-B24B-70EFC31F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B2B0-1920-4CB5-B7F2-F8D1A647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49DD-273D-4DEE-BCF3-492CCF83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0313-8DD4-4A61-95B0-BA16B11E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78BE-C953-43F6-9BDA-EC07DE03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C8E6-25C3-412D-BD6E-5A8827E4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FD0B1-6375-4270-8D31-96DF112C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1343-EAFD-453B-B77E-15431C1D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CB3E-308D-48D3-A540-C0050934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0B7-1A1C-4E1F-A490-68E5F69C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51D7-81C8-4699-A807-71B0637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832B-AA7E-42F6-845F-BB0CA9F2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D763-9BD0-4073-8D8B-653DB1F1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88C2-228F-4F5F-8B1A-BCF86CC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928F-F7E3-492A-8749-54712DF8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1B47-86A2-4043-AB57-302DE218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027A-0317-4559-8226-69B62576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DFEA-27C3-47DB-86E0-C3E060E1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F114-DFDF-4947-A6A5-6A70E4B7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63AC7-21D5-4A28-A27E-9EF25BB8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045-DFE9-4E47-9C9D-3389CDB1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72FD-B425-48D5-AE44-A9B1AC4E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64B7-86F3-4CBE-9A9D-71537EF6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53380-F0FF-4EB6-8A77-A8E6CE15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A5DFC-387F-43E5-89F4-6A6659C1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1D63B-759F-4163-9C13-A8E82E33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BBCC2-1FE2-428F-8F00-DD598B34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25D56-5D9E-4F4E-B34F-FAD45F7B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9F7D2-69CF-46EE-9B79-1208F61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1D25-B626-44DA-A365-255D2547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C570D-DB49-4372-ACD6-C40EAB9D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C27-F2C7-413A-AA67-9D419830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9296A-D0B6-4593-8F97-0C840B09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3383E-4159-4C95-9295-3B41B575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066C-01E3-4AD1-83E6-B0584423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18463-72A9-4F0D-96A9-7137622F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6F191-79AF-4E19-ACD5-BAE9789E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385DF-2BBA-434F-B4CB-F4C720BA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94EC8-E0FA-4CB9-9284-B00A17B0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EFD8A-1C26-4BA6-B7A6-222BC20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D9094-0D5F-40FD-8F71-8AB2069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2C5BA-2FA4-423E-820E-A332962F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0B8-064C-487B-A526-3FA8034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93168-6A88-4638-81B2-4D270E27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54DE-83FA-43EF-97E9-4DCE333A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FDBF9-6A69-4966-B454-65057DDD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B8C12-5F22-4C9E-9B94-58EE2A67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C74F2-5254-45A7-88DE-1E151B68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C347C-886A-4AE3-9341-585368F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B5A61-5F33-43EC-AF49-8A9BD1AC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E91E-5A85-4AFE-898B-47611E62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287FF-BA91-4796-A794-5042CEC6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F2FB-C2EB-4137-BBBA-ADFB386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DD7-B33F-4E48-BFBB-23B92E0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48F8F-538B-4F6D-B9F0-DC98E4BE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FE999-4C23-4AC4-AD97-86178504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AA71C-8A0B-4C60-B578-7F948B13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7716-F729-4A8D-BCB0-92183744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EAED-D4F3-4F0C-9ABD-99A622F6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141-9F9D-42C5-B5B3-2EA77B3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EDE9-9968-44F2-95D4-CCD47D1DEAC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CAA-4231-4A33-B1C0-BFCC0A21CA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E684-9140-4E4E-BE3D-FFA26BD848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1052-86A6-45B0-ACC7-330D5A47424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633A-D7B5-4A8F-9DB6-FB5568D7260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BDE3-9BD4-42AB-BC0C-16DF57B3830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4295-3DD0-4822-A0C3-BC86B1B05A8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8000" y="3212640"/>
            <a:ext cx="8496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4" name="Рисунок 3" descr="aqV3LJ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5" name="Прямоугольник 4" descr=""/>
          <p:cNvPicPr/>
          <p:nvPr/>
        </p:nvPicPr>
        <p:blipFill>
          <a:blip r:embed="rId2"/>
          <a:stretch/>
        </p:blipFill>
        <p:spPr>
          <a:xfrm>
            <a:off x="1627200" y="622440"/>
            <a:ext cx="582120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15920" y="139680"/>
            <a:ext cx="8577360" cy="1274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Это направление представляет собой сочетание элементов рока, классической музыки и джаза, а также различных национальных культур. Наряду с арт – роком, употребляются такие понятия, как симфо – рок, классик – рок и друг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Арт – рок берет начало со второй половины 1960 – х годов. Истоки арт – рока можно найти в позднем (1965 – 70 ) творчестве «</a:t>
            </a:r>
            <a:r>
              <a:rPr b="1" lang="en-US" sz="2400" spc="-1" strike="noStrike">
                <a:solidFill>
                  <a:srgbClr val="000000"/>
                </a:solidFill>
                <a:latin typeface="Graffiti2CTT"/>
              </a:rPr>
              <a:t>The Beatles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», которые много экспериментировали со звучанием отдельных акустических инструментов и целых симфонических составов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529840" cy="14335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Состав групп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Кейт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Э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мерсон – гитара, вока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Грег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эйк – гитара, вока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Карл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алмер – удар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Этой группой сделаны в рок – стиле произведения Бартона, Мусоргского («Картинки с выставки»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-304920" y="378000"/>
            <a:ext cx="9240840" cy="1384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557000"/>
            <a:ext cx="850752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Оформился как стиль в первой половине 1970 – х г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Для </a:t>
            </a:r>
            <a:r>
              <a:rPr b="1" i="1" lang="ru-RU" sz="3600" spc="-1" strike="noStrike">
                <a:solidFill>
                  <a:srgbClr val="000000"/>
                </a:solidFill>
                <a:latin typeface="Graffiti2CTT"/>
              </a:rPr>
              <a:t>глэмма</a:t>
            </a: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 характерен акцент на визуальной стороне: обильный грим, яркая одежда, а так же простая гармония, голос (вокал) является главным выразителем чувств, многократное повторение фраз.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237960" y="-6480"/>
            <a:ext cx="8467920" cy="1384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5594400" y="1484280"/>
            <a:ext cx="3549600" cy="244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мериканская группа, была создана в 1972 год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став групп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жин Симменс, Питер Крисс, Пол Стенли, Эйс Фрей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4" descr="кисс1"/>
          <p:cNvPicPr/>
          <p:nvPr/>
        </p:nvPicPr>
        <p:blipFill>
          <a:blip r:embed="rId2"/>
          <a:stretch/>
        </p:blipFill>
        <p:spPr>
          <a:xfrm>
            <a:off x="179280" y="1341360"/>
            <a:ext cx="5400720" cy="3618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395280" y="4989600"/>
            <a:ext cx="84978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168bb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Наша задача – помочь слушателям освободиться от давления мыслительных процессов, поскольку оно мешает им как следует расслабиться» - говорили сами музыканты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24000" y="234900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Концерты поражали воображение обилием трюков: взрывные устройства, полицейские мигалки и сирены, самовозгорающиеся гитары и другое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В середине 70 – х годов группа стала одной из наиболее сценичных групп мира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2" descr="rock-music-guitar-skelet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кисс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221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кисс2"/>
          <p:cNvPicPr/>
          <p:nvPr/>
        </p:nvPicPr>
        <p:blipFill>
          <a:blip r:embed="rId2"/>
          <a:stretch/>
        </p:blipFill>
        <p:spPr>
          <a:xfrm>
            <a:off x="4716360" y="1989000"/>
            <a:ext cx="4592880" cy="34466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7"/>
          <p:cNvSpPr/>
          <p:nvPr/>
        </p:nvSpPr>
        <p:spPr>
          <a:xfrm>
            <a:off x="755640" y="3789360"/>
            <a:ext cx="3887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«</a:t>
            </a:r>
            <a:r>
              <a:rPr b="1" i="1" lang="en-US" sz="2400" spc="-1" strike="noStrike">
                <a:solidFill>
                  <a:srgbClr val="000000"/>
                </a:solidFill>
                <a:latin typeface="Graffiti2CTT"/>
              </a:rPr>
              <a:t>KISS</a:t>
            </a:r>
            <a:r>
              <a:rPr b="1" i="1" lang="ru-RU" sz="2400" spc="-1" strike="noStrike">
                <a:solidFill>
                  <a:srgbClr val="000000"/>
                </a:solidFill>
                <a:latin typeface="Graffiti2CTT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 предстали на сцене в виде четырех эффектно одетых монстров, лица которых скрывал грим – Симмонс «ящер», Стэнли «красавчик», Фрейли «космический», Крисс «кот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115920" y="139680"/>
            <a:ext cx="8577360" cy="1274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Оформился как стиль в 1970 – х год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Звучание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хард – 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рока характеризуется заметной тяжестью, высокой плотностью, усилением ритма, виртуозной импровизаци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Этот стиль в буквальном смысле вышел на простор больших сцен, стадионов, где предстал на суд массовой аудитори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-268200" y="36360"/>
            <a:ext cx="9418680" cy="1384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3995640" y="1483920"/>
            <a:ext cx="4989600" cy="4978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мецкая группа, образована в 1965 г. В Гонновере. Выступали с концертами в разных странах. В период перестройки группа посетила Советский Союз, дали концерты в Москве и Ленинграде. Позже группа еще несколько раз приезжала с концертами в Россию, выступала даже с симфоническим оркестром в Кремлевском дворце съезд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2000 году группа выпустила альбом с Берлинским симфоническим оркестром, записали свои песни в симфонической обработк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го группа записала 19 альбом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4" descr="скорпионз"/>
          <p:cNvPicPr/>
          <p:nvPr/>
        </p:nvPicPr>
        <p:blipFill>
          <a:blip r:embed="rId2"/>
          <a:stretch/>
        </p:blipFill>
        <p:spPr>
          <a:xfrm>
            <a:off x="179280" y="1413000"/>
            <a:ext cx="3659400" cy="5197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165240" y="152280"/>
            <a:ext cx="852804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ХЭВИ – МЕТАЛЛИСТОВ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ыделяли следующие качества: тяготение к быстрым темпам, жесткому звучанию, виртуозное солирование, основную роль играли гитары и ударни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Тематика песен: культ силы и агрессии, героика, мифологические мотивы, любовная темати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Имидж музыкантов: кожаная одежда, железные цепи, длинные волос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2600" y="-103320"/>
            <a:ext cx="8472600" cy="14814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3708000" y="1484280"/>
            <a:ext cx="4907160" cy="3827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мериканская рок – группа, образована в 1981 год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став: Джеймс Хатфилд (вокал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ирк Хэммет (гитар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ифф Бартон (бас – гитар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арс Ульрих (ударные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1991 году группа побывала с концертом в Москв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пустила группа 13 альбом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4" descr="металлика"/>
          <p:cNvPicPr/>
          <p:nvPr/>
        </p:nvPicPr>
        <p:blipFill>
          <a:blip r:embed="rId2"/>
          <a:stretch/>
        </p:blipFill>
        <p:spPr>
          <a:xfrm>
            <a:off x="250920" y="1844640"/>
            <a:ext cx="329724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504280" cy="1384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кино"/>
          <p:cNvPicPr/>
          <p:nvPr/>
        </p:nvPicPr>
        <p:blipFill>
          <a:blip r:embed="rId2"/>
          <a:stretch/>
        </p:blipFill>
        <p:spPr>
          <a:xfrm>
            <a:off x="1403280" y="1538280"/>
            <a:ext cx="6337440" cy="4970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76040" y="-6480"/>
            <a:ext cx="8529840" cy="1433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Расцвет 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ПАНК – РОКА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пришелся на середину 1970 – х год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Этот стиль отличается резкостью, быстрым темпом, хаотичными изменениями ритмического рисунка и гармо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ПАНК – РОК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 основном играли любители, не обладавшие даже минимальной музыкальной подготов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 США первыми группами панк – рока были «МС 5» (</a:t>
            </a:r>
            <a:r>
              <a:rPr b="1" lang="en-US" sz="2800" spc="-1" strike="noStrike">
                <a:solidFill>
                  <a:srgbClr val="000000"/>
                </a:solidFill>
                <a:latin typeface="Graffiti2CTT"/>
              </a:rPr>
              <a:t>Motor City Five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) и «</a:t>
            </a:r>
            <a:r>
              <a:rPr b="1" lang="en-US" sz="2800" spc="-1" strike="noStrike">
                <a:solidFill>
                  <a:srgbClr val="000000"/>
                </a:solidFill>
                <a:latin typeface="Graffiti2CTT"/>
              </a:rPr>
              <a:t>New York Dolls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8437680" cy="1433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896000" y="1628280"/>
            <a:ext cx="4248000" cy="4395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Основана в 1987 году в Воронеж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Состав: Юрий Клинских (Хо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Алексей Уша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Сергей Тупики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Игорь Куще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В 1984 году выпустили панк – оперу «Кащей Бессмертный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В 2000 году смерть Юрия Клинских от инфаркта остановила деятельность группы. Выпустила 17 альбом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4" descr="1210614683_4208ad9382b0"/>
          <p:cNvPicPr/>
          <p:nvPr/>
        </p:nvPicPr>
        <p:blipFill>
          <a:blip r:embed="rId2"/>
          <a:stretch/>
        </p:blipFill>
        <p:spPr>
          <a:xfrm>
            <a:off x="250920" y="1989000"/>
            <a:ext cx="4321080" cy="375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115920" y="139680"/>
            <a:ext cx="8577360" cy="12747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Бардовская,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или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авторская,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песня представляет собой современный жанр устной, так называемой поющейся, поэзии, появившейся на рубеже 1950 – 1960 – х годов в неформальной культуре молодых интеллектуалов и студент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Слова, принадлежащие выдающемуся барду Булату Окуджаве, наиболее точно выражают сущность бардовской песни, которая не пишется по заказу, а рождается спонтанно и является свободным выражением потребности высказаться, поделиться наболевшим: « Каждый пишет, как он дышит, не стараясь угодить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108000" y="1844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Булат Окуджав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Юрий Визбор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Владимир Высоцки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Юлий Ки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Олег Митяе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Александр Розенбаум 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и друг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76040" y="-6480"/>
            <a:ext cx="8529840" cy="14335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3995640" y="1296720"/>
            <a:ext cx="5113440" cy="5661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вец, поэт, композито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сни начал писать в 1968 год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 профессиональной сцене с 1980 года, а с 1983 года - с сольными концерт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его песнях – и шумная Одесса, и московские дворы, и донские степи, и выстраданный Афганиста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начале 2004 года реализовал новый проект из 12 – ти томов – дисков « Философия». Песни группированы по определенным томам, каждый из которых посвящен определенной теме: «философия войны», «философия любви», «философия воспоминании» 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4" descr="Розенбаум"/>
          <p:cNvPicPr/>
          <p:nvPr/>
        </p:nvPicPr>
        <p:blipFill>
          <a:blip r:embed="rId2"/>
          <a:stretch/>
        </p:blipFill>
        <p:spPr>
          <a:xfrm>
            <a:off x="179280" y="1413000"/>
            <a:ext cx="37814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356000" y="19890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raffiti2CTT"/>
              </a:rPr>
              <a:t>РОК – МУЗЫКА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 оказала сильное влияние на общество, особенно на молодежь. Под влиянием рока рождались различные молодежные клубы (движен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С рождением новых рок – групп появился и так называемый </a:t>
            </a:r>
            <a:r>
              <a:rPr b="1" i="1" lang="ru-RU" sz="2400" spc="-1" strike="noStrike">
                <a:solidFill>
                  <a:srgbClr val="000000"/>
                </a:solidFill>
                <a:latin typeface="Graffiti2CTT"/>
              </a:rPr>
              <a:t>Фанатиз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У фанатизма были свои плюсы и минусы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802562"/>
          <p:cNvPicPr/>
          <p:nvPr/>
        </p:nvPicPr>
        <p:blipFill>
          <a:blip r:embed="rId2"/>
          <a:stretch/>
        </p:blipFill>
        <p:spPr>
          <a:xfrm>
            <a:off x="324000" y="1773360"/>
            <a:ext cx="36874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4" descr="123m"/>
          <p:cNvPicPr/>
          <p:nvPr/>
        </p:nvPicPr>
        <p:blipFill>
          <a:blip r:embed="rId2"/>
          <a:stretch/>
        </p:blipFill>
        <p:spPr>
          <a:xfrm>
            <a:off x="324000" y="1628640"/>
            <a:ext cx="4464000" cy="3240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1209872531_54794"/>
          <p:cNvPicPr/>
          <p:nvPr/>
        </p:nvPicPr>
        <p:blipFill>
          <a:blip r:embed="rId3"/>
          <a:stretch/>
        </p:blipFill>
        <p:spPr>
          <a:xfrm>
            <a:off x="5219640" y="3573360"/>
            <a:ext cx="3624480" cy="2933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1180423872_206732"/>
          <p:cNvPicPr/>
          <p:nvPr/>
        </p:nvPicPr>
        <p:blipFill>
          <a:blip r:embed="rId4"/>
          <a:stretch/>
        </p:blipFill>
        <p:spPr>
          <a:xfrm>
            <a:off x="5753160" y="404640"/>
            <a:ext cx="31399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620200" cy="13352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95280" y="2349360"/>
            <a:ext cx="8424720" cy="4246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raffiti2CTT"/>
              </a:rPr>
              <a:t>РОК – 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музыка родилась в 60 – </a:t>
            </a:r>
            <a:r>
              <a:rPr b="1" lang="en-US" sz="2400" spc="-1" strike="noStrike">
                <a:solidFill>
                  <a:srgbClr val="000000"/>
                </a:solidFill>
                <a:latin typeface="Graffiti2CTT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 годах </a:t>
            </a:r>
            <a:r>
              <a:rPr b="1" lang="en-US" sz="2400" spc="-1" strike="noStrike">
                <a:solidFill>
                  <a:srgbClr val="000000"/>
                </a:solidFill>
                <a:latin typeface="Graffiti2CTT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 века в США и Великобрита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Появление рока тесно связано с техническим, экономическим, политическим и социальным развитием. Именно технический прогресс дал толчок развитию рока. Подтверждением тому служит тот факт, что рок процветает лишь в наиболее развитых странах. Технический прогресс послужил рождению и усложнению музыкальной аппаратуры (электрогитары, синтезатор, различные звуковые процессоры, звукоусиливающая аппаратур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Рисунок 3" descr="rock-music-guitar-skelet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РОК – МУЗЫКА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 постепенно становилась предметом самовыражения молодого поколения: рождались молодежные движения, которые при помощи рок – музыки могли говорить о своих проблемах, о своем отношении к жизни, обществу, о своих интересах, о том, что их не устраивает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Рисунок 3" descr="rock-music-guitar-skelet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806400" y="155736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Арт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 – рок (художественный 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Симфо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Глэмм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Панк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Хард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Готик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Этно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Хэви – метал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Бард - ро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620200" cy="1335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914400" y="19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raffiti2CTT"/>
              </a:rPr>
              <a:t>БЛЮЗ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raffiti2CTT"/>
              </a:rPr>
              <a:t>РИТМ –ЭНД – БЛЮЗ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raffiti2CTT"/>
              </a:rPr>
              <a:t>РОК – Н – РОЛЛ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raffiti2CTT"/>
              </a:rPr>
              <a:t>РОК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176040" y="-6480"/>
            <a:ext cx="8529840" cy="13845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065200" y="1413000"/>
            <a:ext cx="3970440" cy="468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руппа родилась в 1959 году в Ливерпуле (Великобритания).Первая группа, вызвавшая интерес к рок – н – роллу у молодежи. Состав группы: Джон Леннон, Пол Маккартни, Джордж Харрисон, Ринго Стар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астроли: Париж, США, Дания, Голландия, Гонконг, Австрия, Новая Зелландия, Канада. В 1965 году английский королевский дом наградил группу орденом «За бога и империю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битлз"/>
          <p:cNvPicPr/>
          <p:nvPr/>
        </p:nvPicPr>
        <p:blipFill>
          <a:blip r:embed="rId2"/>
          <a:stretch/>
        </p:blipFill>
        <p:spPr>
          <a:xfrm>
            <a:off x="179280" y="1916280"/>
            <a:ext cx="489744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08000" y="2349000"/>
            <a:ext cx="8856720" cy="4248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Группа «</a:t>
            </a:r>
            <a:r>
              <a:rPr b="1" i="1" lang="en-US" sz="2800" spc="-1" strike="noStrike">
                <a:solidFill>
                  <a:srgbClr val="000000"/>
                </a:solidFill>
                <a:latin typeface="Graffiti2CTT"/>
              </a:rPr>
              <a:t>The Beatles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»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приносила огромный доход государственной казне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 1965 году во всем мире люди слушали 115 миллионов пластин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 1964 году выпущено дисков на сумму в 50 миллионов ма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Фильм о группе « Да, да, да!», за шесть недель показа в кинотеатрах, принес доход в 24 миллиона ма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Модные товары (футболки, мягкие игрушки ) за год принесли 400 миллионов фунтов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Рисунок 2" descr="rock-music-guitar-skelet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-6480" y="255600"/>
            <a:ext cx="8699760" cy="1384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Особая ритмическая пульсация в басу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Использование электромузыкальных инструмент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Поведение музыкантов на сцен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Применение на сцене различных спецэффект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48:14Z</dcterms:created>
  <dc:creator>User</dc:creator>
  <dc:description/>
  <dc:language>en-US</dc:language>
  <cp:lastModifiedBy>Максим</cp:lastModifiedBy>
  <dcterms:modified xsi:type="dcterms:W3CDTF">2018-04-23T14:04:53Z</dcterms:modified>
  <cp:revision>40</cp:revision>
  <dc:subject/>
  <dc:title>Рок - музыка</dc:title>
</cp:coreProperties>
</file>