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B230-371D-4837-90B1-BE5FF4AC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4976-4E68-4445-A5DA-401E680B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D7E-5027-4EAA-838B-64F2B51B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60E-9083-49D0-9F91-66878C98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9D6C-88F3-4F16-91BC-CC7074C3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E520-F1A0-4E39-AABD-FFA2B3BC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8ACC-1AE1-4AEF-821A-ECB2AA6F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F75C-1FE9-4FC3-8DDC-185B0F24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DD01-A9A2-47CA-A45D-EA28E564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C0E6-8B45-4A73-8CD4-BE451B14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C679-CD40-4D4C-9BFF-9DD8E482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12E-9A66-4C28-85F3-B47BD652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D992-BB6F-4FE3-9E06-AB1A6694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D478-F630-4EDD-B11B-BAACC39E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D31B-678C-4610-93F7-8F87FCCD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3442-C58D-4872-9208-257F3AB1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DE11-86C4-464A-86EE-007DAB60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F2BF4-9718-41B9-9AE3-353CA4BB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F764E-7AAF-430C-B676-A639E5BA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3B9D9-D6A1-4950-90D5-0DB2808F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73C65-5CE8-4D3B-B6AB-2949F599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D56D3-5034-42F1-A8BB-4E42FDDA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667E-F5B1-4958-9B51-5E53DC27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1836E-D439-4DF9-A89D-7399110B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325BA-2AC0-4508-8CCF-38205B3D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0FA41-9D98-4DA6-BBF8-F953AF25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247C5-6F19-4D6D-92A4-4C4B7A16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708DC-E677-4D1D-96CB-62D883B4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73B7-6B99-4797-9DB7-F7EDD931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E535F-D39B-43D0-87D5-86A3BFE2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0CCDE-8CA0-4415-A9E2-58062F04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7B510-6768-41C4-B957-AA5E6F1F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14C52-D363-4E02-824D-55439A80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F37-1742-4F21-8824-1F22F59D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345DD-DDEF-4640-98F9-335A61CF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E13D2-5FE4-47BB-9F4E-6618BC33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0D4C8-985B-4CDA-8D97-31ED6713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15E61-4280-4EA0-83B2-E73309DD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E48AD-6B71-404E-9A6A-A92BE9EF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07041-9DDA-4B05-9058-4C0D6164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D7561-2BF3-4D22-BA3C-F065B738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8E15A-84E0-49FF-8CDC-908F9690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3E2FD-3A77-48E9-B652-1F6C38F1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E8C-DB28-47EB-99CC-346E507E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8A8-8D4F-4080-8A4D-E9148320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773-3CB7-4C61-BF30-977FCD75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05A-8BCA-4916-B596-C58D3E13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2F3-4923-438C-8C8F-C11B5D90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F6EB-B9EB-4439-BDE3-AF2AD878444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6DF0-DADD-49F2-B2C4-ADC4A46F8A7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6EFA-674E-4055-BC90-58391D9FAE7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B65E-A777-43B3-9556-DBEF3A00D4F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3" descr=""/>
          <p:cNvPicPr/>
          <p:nvPr/>
        </p:nvPicPr>
        <p:blipFill>
          <a:blip r:embed="rId1"/>
          <a:stretch/>
        </p:blipFill>
        <p:spPr>
          <a:xfrm>
            <a:off x="817560" y="476280"/>
            <a:ext cx="717408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3" descr=""/>
          <p:cNvPicPr/>
          <p:nvPr/>
        </p:nvPicPr>
        <p:blipFill>
          <a:blip r:embed="rId1"/>
          <a:stretch/>
        </p:blipFill>
        <p:spPr>
          <a:xfrm>
            <a:off x="828720" y="219240"/>
            <a:ext cx="6510240" cy="132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755640" y="2649600"/>
          <a:ext cx="7416720" cy="2297160"/>
        </p:xfrm>
        <a:graphic>
          <a:graphicData uri="http://schemas.openxmlformats.org/drawingml/2006/table">
            <a:tbl>
              <a:tblPr/>
              <a:tblGrid>
                <a:gridCol w="1130400"/>
                <a:gridCol w="541080"/>
                <a:gridCol w="541440"/>
                <a:gridCol w="541440"/>
                <a:gridCol w="541440"/>
                <a:gridCol w="542880"/>
                <a:gridCol w="541080"/>
                <a:gridCol w="1011240"/>
                <a:gridCol w="1013040"/>
                <a:gridCol w="101268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мужч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4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женщ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5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8-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0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тарше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ж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е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Заголовок 3" descr=""/>
          <p:cNvPicPr/>
          <p:nvPr/>
        </p:nvPicPr>
        <p:blipFill>
          <a:blip r:embed="rId1"/>
          <a:stretch/>
        </p:blipFill>
        <p:spPr>
          <a:xfrm>
            <a:off x="828720" y="219240"/>
            <a:ext cx="6510240" cy="132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826920" y="1989000"/>
          <a:ext cx="7632720" cy="4124520"/>
        </p:xfrm>
        <a:graphic>
          <a:graphicData uri="http://schemas.openxmlformats.org/drawingml/2006/table">
            <a:tbl>
              <a:tblPr/>
              <a:tblGrid>
                <a:gridCol w="1633680"/>
                <a:gridCol w="666720"/>
                <a:gridCol w="666720"/>
                <a:gridCol w="666720"/>
                <a:gridCol w="665280"/>
                <a:gridCol w="666720"/>
                <a:gridCol w="666720"/>
                <a:gridCol w="666720"/>
                <a:gridCol w="666720"/>
                <a:gridCol w="666720"/>
              </a:tblGrid>
              <a:tr h="14544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бразова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законченное средне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редне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ред. специально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ысше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оц. полож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абоч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лужащ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рестьян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едпринимател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безработны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енсионе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емейное полож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холос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8484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Женат/замуже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/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/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4/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5,9/3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/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12120"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уровень мат. обеспече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иже средн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ред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92600">
                <a:tc>
                  <a:txBody>
                    <a:bodyPr lIns="51840" rIns="51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ыше средн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51840" rIns="51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1840" marR="51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3" descr=""/>
          <p:cNvPicPr/>
          <p:nvPr/>
        </p:nvPicPr>
        <p:blipFill>
          <a:blip r:embed="rId1"/>
          <a:stretch/>
        </p:blipFill>
        <p:spPr>
          <a:xfrm>
            <a:off x="669960" y="6480"/>
            <a:ext cx="6669000" cy="132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395280" y="1332000"/>
          <a:ext cx="8280360" cy="5265720"/>
        </p:xfrm>
        <a:graphic>
          <a:graphicData uri="http://schemas.openxmlformats.org/drawingml/2006/table">
            <a:tbl>
              <a:tblPr/>
              <a:tblGrid>
                <a:gridCol w="1843200"/>
                <a:gridCol w="714240"/>
                <a:gridCol w="716040"/>
                <a:gridCol w="716040"/>
                <a:gridCol w="714240"/>
                <a:gridCol w="716040"/>
                <a:gridCol w="716040"/>
                <a:gridCol w="714240"/>
                <a:gridCol w="716040"/>
                <a:gridCol w="714240"/>
              </a:tblGrid>
              <a:tr h="185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8468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ценка состояния здоровь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5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хорош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5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удовлетворительн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468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лох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576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аследственно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5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ипертоническая болез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468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ахарный диаб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5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туберкуле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5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нколог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468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жир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мерть родственников от заб. в раннем период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468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факторы рис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5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ур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5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лоупотребление алкоголе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468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жир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5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иподинам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6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ипертоническая болез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43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ахарный диаб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57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иперхолестеринем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612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аличие хр. заболева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43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61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572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и наличии хр. заболева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432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оводилось их леч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6120"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если проводилос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82160">
                <a:tc>
                  <a:txBody>
                    <a:bodyPr lIns="40320" rIns="40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амбулатор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40320" rIns="40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40320" marR="40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658800" y="-42840"/>
            <a:ext cx="7693200" cy="13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108000" y="620640"/>
          <a:ext cx="8928000" cy="6135840"/>
        </p:xfrm>
        <a:graphic>
          <a:graphicData uri="http://schemas.openxmlformats.org/drawingml/2006/table">
            <a:tbl>
              <a:tblPr/>
              <a:tblGrid>
                <a:gridCol w="1690560"/>
                <a:gridCol w="803520"/>
                <a:gridCol w="804600"/>
                <a:gridCol w="803520"/>
                <a:gridCol w="804600"/>
                <a:gridCol w="804960"/>
                <a:gridCol w="803160"/>
                <a:gridCol w="804960"/>
                <a:gridCol w="804960"/>
                <a:gridCol w="803160"/>
              </a:tblGrid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35028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 режимом работы больниц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5028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знакомлен медперсонал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5028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знаю, но никто не говори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 ознакомл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бъемом обслед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удовлетвор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 удовлетвор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смотр врач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л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пол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5028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 каком объеме проводилось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только по профил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о профилю и сопут-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езультатами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удовлетвор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 удовлетвор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0020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 случае повторного лечения выбрали ли вы в качестве лечащего врач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оводившего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ругого врач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525240"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осмотрен врачом в отделении после госпитал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 течение 30 ми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 течение 1 час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 течение 3 час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17532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в течение д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50280">
                <a:tc>
                  <a:txBody>
                    <a:bodyPr lIns="33120" rIns="33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 осмотрен в течение дн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33120" rIns="33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33120" marR="33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3" descr=""/>
          <p:cNvPicPr/>
          <p:nvPr/>
        </p:nvPicPr>
        <p:blipFill>
          <a:blip r:embed="rId1"/>
          <a:stretch/>
        </p:blipFill>
        <p:spPr>
          <a:xfrm>
            <a:off x="828720" y="79200"/>
            <a:ext cx="7559640" cy="1036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611280" y="1874880"/>
          <a:ext cx="7993080" cy="1682640"/>
        </p:xfrm>
        <a:graphic>
          <a:graphicData uri="http://schemas.openxmlformats.org/drawingml/2006/table">
            <a:tbl>
              <a:tblPr/>
              <a:tblGrid>
                <a:gridCol w="1407960"/>
                <a:gridCol w="549360"/>
                <a:gridCol w="547560"/>
                <a:gridCol w="549360"/>
                <a:gridCol w="549360"/>
                <a:gridCol w="547560"/>
                <a:gridCol w="549360"/>
                <a:gridCol w="549360"/>
                <a:gridCol w="547560"/>
                <a:gridCol w="549360"/>
                <a:gridCol w="549360"/>
                <a:gridCol w="547560"/>
                <a:gridCol w="549360"/>
              </a:tblGrid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больн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3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2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3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9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9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частично паци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6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,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преимущественно паци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0,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  <p:sp>
        <p:nvSpPr>
          <p:cNvPr id="225" name="Rectangle 1"/>
          <p:cNvSpPr/>
          <p:nvPr/>
        </p:nvSpPr>
        <p:spPr>
          <a:xfrm>
            <a:off x="154620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3" descr=""/>
          <p:cNvPicPr/>
          <p:nvPr/>
        </p:nvPicPr>
        <p:blipFill>
          <a:blip r:embed="rId1"/>
          <a:stretch/>
        </p:blipFill>
        <p:spPr>
          <a:xfrm>
            <a:off x="828720" y="79200"/>
            <a:ext cx="7559640" cy="10368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"/>
          <p:cNvSpPr/>
          <p:nvPr/>
        </p:nvSpPr>
        <p:spPr>
          <a:xfrm>
            <a:off x="154620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042920" y="1522440"/>
          <a:ext cx="7416720" cy="1262160"/>
        </p:xfrm>
        <a:graphic>
          <a:graphicData uri="http://schemas.openxmlformats.org/drawingml/2006/table">
            <a:tbl>
              <a:tblPr/>
              <a:tblGrid>
                <a:gridCol w="1262160"/>
                <a:gridCol w="493560"/>
                <a:gridCol w="455760"/>
                <a:gridCol w="520560"/>
                <a:gridCol w="520920"/>
                <a:gridCol w="519120"/>
                <a:gridCol w="520560"/>
                <a:gridCol w="520560"/>
                <a:gridCol w="520920"/>
                <a:gridCol w="520560"/>
                <a:gridCol w="520920"/>
                <a:gridCol w="520560"/>
                <a:gridCol w="52056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4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,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"/>
          <p:cNvSpPr/>
          <p:nvPr/>
        </p:nvSpPr>
        <p:spPr>
          <a:xfrm>
            <a:off x="1546200" y="1943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Заголовок 13" descr=""/>
          <p:cNvPicPr/>
          <p:nvPr/>
        </p:nvPicPr>
        <p:blipFill>
          <a:blip r:embed="rId1"/>
          <a:stretch/>
        </p:blipFill>
        <p:spPr>
          <a:xfrm>
            <a:off x="298440" y="-12600"/>
            <a:ext cx="8448840" cy="97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1258920" y="1979640"/>
          <a:ext cx="6913440" cy="841320"/>
        </p:xfrm>
        <a:graphic>
          <a:graphicData uri="http://schemas.openxmlformats.org/drawingml/2006/table">
            <a:tbl>
              <a:tblPr/>
              <a:tblGrid>
                <a:gridCol w="1528560"/>
                <a:gridCol w="598680"/>
                <a:gridCol w="596880"/>
                <a:gridCol w="598320"/>
                <a:gridCol w="598680"/>
                <a:gridCol w="598320"/>
                <a:gridCol w="598680"/>
                <a:gridCol w="598320"/>
                <a:gridCol w="598680"/>
                <a:gridCol w="598320"/>
              </a:tblGrid>
              <a:tr h="210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2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420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3,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9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21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6,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6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682560" y="-103320"/>
            <a:ext cx="6510240" cy="1816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50920" y="1052280"/>
            <a:ext cx="86421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1.Стационарная помощь доступна всем слоям населения любого возраста и социального статуса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2. Основная масса опрошенных имеют «средний» уровень материального обеспечения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3.Увеличилось число респондентов, оценивших  состояние своего здоровья, как «удовлетворительное» с 64% до 72%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4. Сохраняется высоким % пациентов, ближайшие родственники которых страдают гипертонической болезнью,  сахарным диабетом и ожирением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5. Основными факторами риска у пациентов стационара по-прежнему являются гипертоническая болезнь, сахарный диабет и курение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6.Количество  курящих респондентов остается высоким.  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7.Доля опрошенных, находящихся в стационарных отделениях и имеющих  хронические заболевания  снизилась с  53% до 47%. 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8. Пациенты с хроническими заболеваниями получают преимущественно амбулаторное  лечение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9. Несколько увеличилось  количество больных, госпитализируются в день обращения в приемное отделение за счет занятости, в основном, кардиологического и неврологического отделений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10. Возросло число респондентов, которым  проведены антропометрические исследования, измерения АД и температуры тела. 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10. Практически все опрошенные осмотрены врачом отделения в течении часа после поступления в отделение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11.Имеются случаи не удовлетворенных  осмотрами врача, объемом обследования, результатами лечения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12. В 97% пациентов  при лечении в стационаре  были обеспечены  необходимыми медикаментами. 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13. Незначительно уменьшилось  количество пациентов, которые удовлетворены питанием с  91%  до 90%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14. Снизилось число  опрошенных, удовлетворенных результатом лечения со 100% до 98,5%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15. Не все пациенты при последующей госпитализации хотели бы, чтобы их лечащим врачом был врач, проводивший лечение. 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16. Имеются  единичные случаи грубости со стороны младшего медицинского персонала отделений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spcBef>
                <a:spcPts val="2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1100" spc="-1" strike="noStrike">
                <a:solidFill>
                  <a:srgbClr val="404040"/>
                </a:solidFill>
                <a:latin typeface="Trebuchet MS"/>
              </a:rPr>
              <a:t>7</a:t>
            </a:r>
            <a:r>
              <a:rPr b="0" lang="ru-RU" sz="1100" spc="-1" strike="noStrike">
                <a:solidFill>
                  <a:srgbClr val="404040"/>
                </a:solidFill>
                <a:latin typeface="Trebuchet MS"/>
              </a:rPr>
              <a:t>.  Процент опрошенных, которые считают достаточным уровень медицинской помощи в нашем лечебном учреждении возрос с  91.5% до 96.2%.</a:t>
            </a: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  <a:p>
            <a:pPr marL="173520" indent="-138600"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09:13:33Z</dcterms:created>
  <dc:creator>Administrator</dc:creator>
  <dc:description/>
  <dc:language>en-US</dc:language>
  <cp:lastModifiedBy>Админ</cp:lastModifiedBy>
  <dcterms:modified xsi:type="dcterms:W3CDTF">2018-05-16T10:27:47Z</dcterms:modified>
  <cp:revision>38</cp:revision>
  <dc:subject/>
  <dc:title>Анализ социологического опроса удовлетворенности оказания медицинской помощи в отделениях стационара МУЗ «Ливенская ЦРБ» за 2009-2011 г.</dc:title>
</cp:coreProperties>
</file>