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36E1-6F43-4043-9EE7-6FF5F11F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8755-FB82-4013-9A84-8FB04CC6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E42-8645-4AC2-85CC-26D13B4B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4C0-D516-4C58-8D30-EB5DF4EB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0232-66D2-49B3-905A-62D06EC8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99E9-4EF0-4430-B732-9C0761FA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ED6E-325F-4444-B14A-A60693CA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8F1B-CF9F-4149-AEAC-5B5D96B0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788C-62C4-424B-94FE-BCAF1655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F5AA-ED1D-4469-9919-14B3510F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DB79-F27B-4B70-B90F-9254E00D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D088-4CF2-4E24-823F-6FBA63B8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03A4-35DF-414B-BE89-1985D133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BC02-A70C-49CA-80D8-1B6D7B2A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BA81-6905-4FA2-8BA5-9F724E32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2787-A718-48BC-AEE5-F6904C3B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387C-6A00-4A23-B66E-18C1D3F0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DF8EB-3F3D-46AF-AEAE-DC501E73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F67DD-70F3-45B4-9CD2-57CD6BA8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D01CF-2C0B-4C52-93F3-50AF5D02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BFD71-E850-4973-B38F-EAC70D3D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848D0-E0EB-4A2E-9FA6-4AC6664B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8CD9-389E-4EB5-9A35-06C72DA7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5533B-45C3-4805-A426-DB5EC82D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CE4EA-91BB-4CB3-81CE-FFE8475F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8FBC7-2C72-4FA1-8378-D038EE22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2F26E-F7C8-401C-8E23-83684729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46FA2-915B-4205-A2F7-5C625AD9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31E68-0418-4139-A724-1C2EB55A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89C6C-1967-4E2A-AE0A-08BD83B4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53F3A-2E8B-453C-8F6E-4D12AF2A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8E5EE-D1F1-4167-B455-2730DA88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6A147-EC8B-41B2-A2AC-5FC6E601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2F8D-FC7F-4D48-AE2D-BD20D7D7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698D3-C68B-4B34-A930-962963A7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B0A78-3BE5-4404-AD71-DF2A03D3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1899C-E1DE-4975-9363-5538075A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8FD71-D7E2-408B-99D2-440A3603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E3478-8713-4BA4-B21F-E76E8F08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FD972-EF0F-4480-A86D-184095F2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A04B6-0C44-4989-B643-6C7AA2A7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14465-4151-48FA-B5E8-104B2F94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BB813-17E6-426F-9ACB-F7EF775D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B695-4A64-4001-885D-EA347CB5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A083-26C3-420C-93FE-9E959FCD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D370-E059-440E-B8B2-4FEC7A46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0A59-F9BC-45EE-AADF-B9CA84FC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5BAB-96E7-43AB-965B-04ED8B24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4B18-2D9E-4374-B995-90DBB233382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EA06-A6A6-4DE9-8F74-43CA3F000B9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2F9A-6973-40B6-85CE-B5730B99756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BFFB-5F6D-4DBA-BF1E-CE0C38C149C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3" descr=""/>
          <p:cNvPicPr/>
          <p:nvPr/>
        </p:nvPicPr>
        <p:blipFill>
          <a:blip r:embed="rId1"/>
          <a:stretch/>
        </p:blipFill>
        <p:spPr>
          <a:xfrm>
            <a:off x="817560" y="476280"/>
            <a:ext cx="717408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3" descr=""/>
          <p:cNvPicPr/>
          <p:nvPr/>
        </p:nvPicPr>
        <p:blipFill>
          <a:blip r:embed="rId1"/>
          <a:stretch/>
        </p:blipFill>
        <p:spPr>
          <a:xfrm>
            <a:off x="828720" y="219240"/>
            <a:ext cx="6510240" cy="132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755640" y="2649600"/>
          <a:ext cx="7416720" cy="2297160"/>
        </p:xfrm>
        <a:graphic>
          <a:graphicData uri="http://schemas.openxmlformats.org/drawingml/2006/table">
            <a:tbl>
              <a:tblPr/>
              <a:tblGrid>
                <a:gridCol w="1130400"/>
                <a:gridCol w="541080"/>
                <a:gridCol w="541440"/>
                <a:gridCol w="541440"/>
                <a:gridCol w="541440"/>
                <a:gridCol w="542880"/>
                <a:gridCol w="541080"/>
                <a:gridCol w="1011240"/>
                <a:gridCol w="1013040"/>
                <a:gridCol w="101268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мужч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4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женщ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5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8-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0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тарше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ж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г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е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3" descr=""/>
          <p:cNvPicPr/>
          <p:nvPr/>
        </p:nvPicPr>
        <p:blipFill>
          <a:blip r:embed="rId1"/>
          <a:stretch/>
        </p:blipFill>
        <p:spPr>
          <a:xfrm>
            <a:off x="828720" y="219240"/>
            <a:ext cx="6510240" cy="132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826920" y="1989000"/>
          <a:ext cx="7632720" cy="4124520"/>
        </p:xfrm>
        <a:graphic>
          <a:graphicData uri="http://schemas.openxmlformats.org/drawingml/2006/table">
            <a:tbl>
              <a:tblPr/>
              <a:tblGrid>
                <a:gridCol w="1633680"/>
                <a:gridCol w="666720"/>
                <a:gridCol w="666720"/>
                <a:gridCol w="666720"/>
                <a:gridCol w="665280"/>
                <a:gridCol w="666720"/>
                <a:gridCol w="666720"/>
                <a:gridCol w="666720"/>
                <a:gridCol w="666720"/>
                <a:gridCol w="666720"/>
              </a:tblGrid>
              <a:tr h="14544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бразова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законченное средне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редне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ред. специально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ысше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оц. полож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абоч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лужащ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рестьян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едпринимат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безработны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енсион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емейное полож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холос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8484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Женат/замуже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2/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2/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4/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5,9/3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/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1212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уровень мат. обеспече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иже средн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ред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ыше средн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3" descr=""/>
          <p:cNvPicPr/>
          <p:nvPr/>
        </p:nvPicPr>
        <p:blipFill>
          <a:blip r:embed="rId1"/>
          <a:stretch/>
        </p:blipFill>
        <p:spPr>
          <a:xfrm>
            <a:off x="669960" y="6480"/>
            <a:ext cx="6669000" cy="132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395280" y="1332000"/>
          <a:ext cx="8280360" cy="5265720"/>
        </p:xfrm>
        <a:graphic>
          <a:graphicData uri="http://schemas.openxmlformats.org/drawingml/2006/table">
            <a:tbl>
              <a:tblPr/>
              <a:tblGrid>
                <a:gridCol w="1843200"/>
                <a:gridCol w="714240"/>
                <a:gridCol w="716040"/>
                <a:gridCol w="716040"/>
                <a:gridCol w="714240"/>
                <a:gridCol w="716040"/>
                <a:gridCol w="716040"/>
                <a:gridCol w="714240"/>
                <a:gridCol w="716040"/>
                <a:gridCol w="714240"/>
              </a:tblGrid>
              <a:tr h="1857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18468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ценка состояния здоровь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57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хорош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857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удовлетворительн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468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лох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8576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аследственно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57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гипертоническая болез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8468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ахарный диаб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57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туберкуле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857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нколог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468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жир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мерть родственников от заб. в раннем период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468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факторы рис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857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ур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57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лоупотребление алкоголе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8468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жир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57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гиподинам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86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гипертоническая болез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43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ахарный диаб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857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гиперхолестеринем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612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аличие хр. заболева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843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6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572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и наличии хр. заболева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43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оводилось их леч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8612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если проводилос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21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амбулатор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658800" y="-42840"/>
            <a:ext cx="7693200" cy="130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08000" y="620640"/>
          <a:ext cx="8928000" cy="6135840"/>
        </p:xfrm>
        <a:graphic>
          <a:graphicData uri="http://schemas.openxmlformats.org/drawingml/2006/table">
            <a:tbl>
              <a:tblPr/>
              <a:tblGrid>
                <a:gridCol w="1690560"/>
                <a:gridCol w="803520"/>
                <a:gridCol w="804600"/>
                <a:gridCol w="803520"/>
                <a:gridCol w="804600"/>
                <a:gridCol w="804960"/>
                <a:gridCol w="803160"/>
                <a:gridCol w="804960"/>
                <a:gridCol w="804960"/>
                <a:gridCol w="803160"/>
              </a:tblGrid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35028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 режимом работы боль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5028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знакомлен медперсонал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5028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наю, но никто не говори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 ознакомл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бъемом обслед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удовлетвор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 удовлетвор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смотр врач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л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пол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5028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 каком объеме проводилось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только по профил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 профилю и сопут-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езультатами л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удовлетвор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 удовлетвор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0020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 случае повторного лечения выбрали ли вы в качестве лечащего врач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оводившего л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ругого врач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52524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смотрен врачом в отделении после госпитал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 течение 3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 течение 1 ча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 течение 3 час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 течение д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5028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 осмотрен в течение д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3" descr=""/>
          <p:cNvPicPr/>
          <p:nvPr/>
        </p:nvPicPr>
        <p:blipFill>
          <a:blip r:embed="rId1"/>
          <a:stretch/>
        </p:blipFill>
        <p:spPr>
          <a:xfrm>
            <a:off x="828720" y="79200"/>
            <a:ext cx="7559640" cy="103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611280" y="1874880"/>
          <a:ext cx="7993080" cy="1682640"/>
        </p:xfrm>
        <a:graphic>
          <a:graphicData uri="http://schemas.openxmlformats.org/drawingml/2006/table">
            <a:tbl>
              <a:tblPr/>
              <a:tblGrid>
                <a:gridCol w="1407960"/>
                <a:gridCol w="549360"/>
                <a:gridCol w="547560"/>
                <a:gridCol w="549360"/>
                <a:gridCol w="549360"/>
                <a:gridCol w="547560"/>
                <a:gridCol w="549360"/>
                <a:gridCol w="549360"/>
                <a:gridCol w="547560"/>
                <a:gridCol w="549360"/>
                <a:gridCol w="549360"/>
                <a:gridCol w="547560"/>
                <a:gridCol w="549360"/>
              </a:tblGrid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больн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3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2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3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9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частично пацие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6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еимущественно паци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0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  <p:sp>
        <p:nvSpPr>
          <p:cNvPr id="225" name="Rectangle 1"/>
          <p:cNvSpPr/>
          <p:nvPr/>
        </p:nvSpPr>
        <p:spPr>
          <a:xfrm>
            <a:off x="154620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3" descr=""/>
          <p:cNvPicPr/>
          <p:nvPr/>
        </p:nvPicPr>
        <p:blipFill>
          <a:blip r:embed="rId1"/>
          <a:stretch/>
        </p:blipFill>
        <p:spPr>
          <a:xfrm>
            <a:off x="828720" y="79200"/>
            <a:ext cx="7559640" cy="10368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"/>
          <p:cNvSpPr/>
          <p:nvPr/>
        </p:nvSpPr>
        <p:spPr>
          <a:xfrm>
            <a:off x="154620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042920" y="1522440"/>
          <a:ext cx="7416720" cy="1262160"/>
        </p:xfrm>
        <a:graphic>
          <a:graphicData uri="http://schemas.openxmlformats.org/drawingml/2006/table">
            <a:tbl>
              <a:tblPr/>
              <a:tblGrid>
                <a:gridCol w="1262160"/>
                <a:gridCol w="493560"/>
                <a:gridCol w="455760"/>
                <a:gridCol w="520560"/>
                <a:gridCol w="520920"/>
                <a:gridCol w="519120"/>
                <a:gridCol w="520560"/>
                <a:gridCol w="520560"/>
                <a:gridCol w="520920"/>
                <a:gridCol w="520560"/>
                <a:gridCol w="520920"/>
                <a:gridCol w="520560"/>
                <a:gridCol w="52056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4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154620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Заголовок 13" descr=""/>
          <p:cNvPicPr/>
          <p:nvPr/>
        </p:nvPicPr>
        <p:blipFill>
          <a:blip r:embed="rId1"/>
          <a:stretch/>
        </p:blipFill>
        <p:spPr>
          <a:xfrm>
            <a:off x="298440" y="-12600"/>
            <a:ext cx="8448840" cy="97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1258920" y="1979640"/>
          <a:ext cx="6913440" cy="841320"/>
        </p:xfrm>
        <a:graphic>
          <a:graphicData uri="http://schemas.openxmlformats.org/drawingml/2006/table">
            <a:tbl>
              <a:tblPr/>
              <a:tblGrid>
                <a:gridCol w="1528560"/>
                <a:gridCol w="598680"/>
                <a:gridCol w="596880"/>
                <a:gridCol w="598320"/>
                <a:gridCol w="598680"/>
                <a:gridCol w="598320"/>
                <a:gridCol w="598680"/>
                <a:gridCol w="598320"/>
                <a:gridCol w="598680"/>
                <a:gridCol w="598320"/>
              </a:tblGrid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3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9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6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682560" y="-103320"/>
            <a:ext cx="6510240" cy="1816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50920" y="1052280"/>
            <a:ext cx="86421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1.Стационарная помощь доступна всем слоям населения любого возраста и социального статуса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2. Основная масса опрошенных имеют «средний» уровень материального обеспечения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3.Увеличилось число респондентов, оценивших  состояние своего здоровья, как «удовлетворительное» с 64% до 72%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4. Сохраняется высоким % пациентов, ближайшие родственники которых страдают гипертонической болезнью,  сахарным диабетом и ожирением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5. Основными факторами риска у пациентов стационара по-прежнему являются гипертоническая болезнь, сахарный диабет и курение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6.Количество  курящих респондентов остается высоким.  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7.Доля опрошенных, находящихся в стационарных отделениях и имеющих  хронические заболевания  снизилась с  53% до 47%. 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8. Пациенты с хроническими заболеваниями получают преимущественно амбулаторное  лечение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9. Несколько увеличилось  количество больных, госпитализируются в день обращения в приемное отделение за счет занятости, в основном, кардиологического и неврологического отделений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10. Возросло число респондентов, которым  проведены антропометрические исследования, измерения АД и температуры тела. 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10. Практически все опрошенные осмотрены врачом отделения в течении часа после поступления в отделение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11.Имеются случаи не удовлетворенных  осмотрами врача, объемом обследования, результатами лечения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12. В 97% пациентов  при лечении в стационаре  были обеспечены  необходимыми медикаментами. 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13. Незначительно уменьшилось  количество пациентов, которые удовлетворены питанием с  91%  до 90%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14. Снизилось число  опрошенных, удовлетворенных результатом лечения со 100% до 98,5%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15. Не все пациенты при последующей госпитализации хотели бы, чтобы их лечащим врачом был врач, проводивший лечение. 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16. Имеются  единичные случаи грубости со стороны младшего медицинского персонала отделений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1100" spc="-1" strike="noStrike">
                <a:solidFill>
                  <a:srgbClr val="404040"/>
                </a:solidFill>
                <a:latin typeface="Trebuchet MS"/>
              </a:rPr>
              <a:t>7</a:t>
            </a: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.  Процент опрошенных, которые считают достаточным уровень медицинской помощи в нашем лечебном учреждении возрос с  91.5% до 96.2%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09:13:33Z</dcterms:created>
  <dc:creator>Administrator</dc:creator>
  <dc:description/>
  <dc:language>en-US</dc:language>
  <cp:lastModifiedBy>Админ</cp:lastModifiedBy>
  <dcterms:modified xsi:type="dcterms:W3CDTF">2018-05-16T10:27:47Z</dcterms:modified>
  <cp:revision>38</cp:revision>
  <dc:subject/>
  <dc:title>Анализ социологического опроса удовлетворенности оказания медицинской помощи в отделениях стационара МУЗ «Ливенская ЦРБ» за 2009-2011 г.</dc:title>
</cp:coreProperties>
</file>