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E79-F985-4F8B-A5C5-C641C3F9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DA7-0FC2-4EEA-8A63-646700CD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D15-33B0-41BB-857E-08C70C8E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D39-81A4-41FC-8EAD-7FC9641A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64C-3F3A-4B9F-8739-23483C76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732-EC93-4F09-9AB3-3B822173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2A8-4836-4DB9-8E87-AFFBA2B7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55E-E896-4EC3-A312-56C3594F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E30-DDB2-4E97-82DA-7D899356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F15-6580-47D4-8304-024DDD70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986-BD64-4B37-AC90-734691E2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7A9-429B-4307-9022-85127410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4C43C-D5A5-42C8-BD27-D40297D857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source.org/wiki/&#1054;_&#1089;&#1088;&#1077;&#1076;&#1089;&#1090;&#1074;&#1072;&#1093;_&#1080;&#1085;&#1076;&#1080;&#1074;&#1080;&#1076;&#1091;&#1072;&#1083;&#1100;&#1085;&#1086;&#1081;_&#1079;&#1072;&#1097;&#1080;&#1090;&#1099;_&#1086;&#1088;&#1075;&#1072;&#1085;&#1086;&#1074;_&#1076;&#1099;&#1093;&#1072;&#1085;&#1080;&#1103;_&#1086;&#1090;_&#1087;&#1099;&#1083;&#1080;" TargetMode="External"/><Relationship Id="rId2" Type="http://schemas.openxmlformats.org/officeDocument/2006/relationships/hyperlink" Target="https://ru.wikisource.org/wiki/&#1058;&#1088;&#1077;&#1073;&#1086;&#1074;&#1072;&#1085;&#1080;&#1103;_&#1082;_&#1074;&#1099;&#1073;&#1086;&#1088;&#1091;_&#1101;&#1092;&#1092;&#1077;&#1082;&#1090;&#1080;&#1074;&#1085;&#1099;&#1093;_&#1088;&#1077;&#1089;&#1087;&#1080;&#1088;&#1072;&#1090;&#1086;&#1088;&#1086;&#1074;_&#1080;_&#1082;_&#1086;&#1088;&#1075;&#1072;&#1085;&#1080;&#1079;&#1072;&#1094;&#1080;&#1080;_&#1080;&#1093;_&#1087;&#1088;&#1080;&#1084;&#1077;&#1085;&#1077;&#1085;&#1080;&#1103;" TargetMode="External"/><Relationship Id="rId3" Type="http://schemas.openxmlformats.org/officeDocument/2006/relationships/hyperlink" Target="https://ru.wikisource.org/wiki/&#1057;&#1090;&#1072;&#1085;&#1076;&#1072;&#1088;&#1090;_&#1089;_&#1090;&#1088;&#1077;&#1073;&#1086;&#1074;&#1072;&#1085;&#1080;&#1103;&#1084;&#1080;_&#1082;_&#1088;&#1077;&#1089;&#1087;&#1080;&#1088;&#1072;&#1090;&#1086;&#1088;&#1072;&#1084;_&#1087;&#1088;&#1080;_&#1080;&#1093;_&#1089;&#1077;&#1088;&#1090;&#1080;&#1092;&#1080;&#1082;&#1072;&#1094;&#1080;&#1080;_(&#1057;&#1064;&#1040;)" TargetMode="External"/><Relationship Id="rId4" Type="http://schemas.openxmlformats.org/officeDocument/2006/relationships/hyperlink" Target="http://www.hse.gov.uk/pubns/books/hsg53.htm" TargetMode="External"/><Relationship Id="rId5" Type="http://schemas.openxmlformats.org/officeDocument/2006/relationships/hyperlink" Target="https://ru.wikipedia.org/wiki/&#1060;&#1072;&#1081;&#1083;:DUST_2010.pdf" TargetMode="External"/><Relationship Id="rId6" Type="http://schemas.openxmlformats.org/officeDocument/2006/relationships/hyperlink" Target="https://ru.wikisource.org/wiki/&#1054;&#1073;&#1079;&#1086;&#1088;_&#1088;&#1077;&#1079;&#1091;&#1083;&#1100;&#1090;&#1072;&#1090;&#1086;&#1074;_&#1087;&#1088;&#1086;&#1080;&#1079;&#1074;&#1086;&#1076;&#1089;&#1090;&#1074;&#1077;&#1085;&#1085;&#1099;&#1093;_&#1080;&#1089;&#1087;&#1099;&#1090;&#1072;&#1085;&#1080;&#1081;_&#1089;&#1088;&#1077;&#1076;&#1089;&#1090;&#1074;_&#1080;&#1085;&#1076;&#1080;&#1074;&#1080;&#1076;&#1091;&#1072;&#1083;&#1100;&#1085;&#1086;&#1081;_&#1079;&#1072;&#1097;&#1080;&#1090;&#1099;_&#1086;&#1088;&#1075;&#1072;&#1085;&#1086;&#1074;_&#1076;&#1099;&#1093;&#1072;&#1085;&#1080;&#1103;_(&#1057;&#1048;&#1047;&#1054;&#1044;)" TargetMode="External"/><Relationship Id="rId7" Type="http://schemas.openxmlformats.org/officeDocument/2006/relationships/hyperlink" Target="https://miningwiki.ru/wiki/&#1057;&#1090;&#1072;&#1090;&#1100;&#1080;_&#1086;_&#1057;&#1048;&#1047;&#1054;&#1044;_&#1054;_&#1088;&#1077;&#1089;&#1087;&#1080;&#1088;&#1072;&#1090;&#1086;&#1088;&#1085;&#1086;&#1081;_&#1079;&#1072;&#1097;&#1080;&#1090;&#1077;_&#1088;&#1072;&#1073;&#1086;&#1090;&#1072;&#1102;&#1097;&#1080;&#1093;" TargetMode="External"/><Relationship Id="rId8" Type="http://schemas.openxmlformats.org/officeDocument/2006/relationships/hyperlink" Target="https://ru.wikisource.org/wiki/&#1053;&#1077;&#1074;&#1077;&#1089;&#1086;&#1084;&#1099;&#1081;_&#1087;&#1086;&#1088;&#1086;&#1075;._&#1055;&#1088;&#1086;&#1073;&#1083;&#1077;&#1084;&#1099;_&#1080;&#1089;&#1087;&#1086;&#1083;&#1100;&#1079;&#1086;&#1074;&#1072;&#1085;&#1080;&#1103;_&#1087;&#1088;&#1086;&#1090;&#1080;&#1074;&#1086;&#1075;&#1072;&#1079;&#1085;&#1099;&#1093;_&#1057;&#1048;&#1047;_&#1086;&#1088;&#1075;&#1072;&#1085;&#1086;&#1074;_&#1076;&#1099;&#1093;&#1072;&#1085;&#1080;&#1103;" TargetMode="External"/><Relationship Id="rId9" Type="http://schemas.openxmlformats.org/officeDocument/2006/relationships/hyperlink" Target="https://miningwiki.ru/wiki/&#1054;&#1073;_&#1101;&#1092;&#1092;&#1077;&#1082;&#1090;&#1080;&#1074;&#1085;&#1086;&#1089;&#1090;&#1080;_&#1089;&#1088;&#1077;&#1076;&#1089;&#1090;&#1074;_&#1080;&#1085;&#1076;&#1080;&#1074;&#1080;&#1076;&#1091;&#1072;&#1083;&#1100;&#1085;&#1086;&#1081;_&#1079;&#1072;&#1097;&#1080;&#1090;&#1099;_&#1086;&#1088;&#1075;&#1072;&#1085;&#1086;&#1074;_&#1076;&#1099;&#1093;&#1072;&#1085;&#1080;&#1103;_&#1082;&#1072;&#1082;_&#1089;&#1088;&#1077;&#1076;&#1089;&#1090;&#1074;&#1072;_&#1087;&#1088;&#1086;&#1092;&#1080;&#1083;&#1072;&#1082;&#1090;&#1080;&#1082;&#1080;_&#1079;&#1072;&#1073;&#1086;&#1083;&#1077;&#1074;&#1072;&#1085;&#1080;&#1081;_(&#1086;&#1073;&#1079;&#1086;&#1088;)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XII всероссийский конгресс «ПРОФЕССИЯ И ЗДОРОВЬЕ» и V Всероссийский съезд врачей-профпатолог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2000" y="1944720"/>
            <a:ext cx="856800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7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6600cc"/>
                </a:solidFill>
                <a:latin typeface="LiberationSans-Bold"/>
                <a:ea typeface="LiberationSans-Bold"/>
              </a:rPr>
              <a:t>Снижение вредного воздействия загрязнённого воздуха на рабочих с помощью СИЗ органов дых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6600cc"/>
                </a:solidFill>
                <a:latin typeface="LiberationSans-Bold"/>
                <a:ea typeface="LiberationSans-Bold"/>
              </a:rPr>
              <a:t>Чиркин А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6600cc"/>
                </a:solidFill>
                <a:latin typeface="LiberationSans-Bold"/>
                <a:ea typeface="LiberationSans-Bold"/>
              </a:rPr>
              <a:t>Бета-продакш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1640" y="4751280"/>
            <a:ext cx="9071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Минтруда РФ более 30 % работников трудятся во вредных и/или опасных условиях, и их число  продолжает возрастать. Профзаболевания органов дыхания являются одними из наиболее распространённых. Это заставляет широко использовать последнее и порой единственное средство сохранения здоровья рабочих — средства индивидуальной защиты. Но использование СИЗ органов дыхания далеко не всегда даёт желаем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640" y="626436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, 27-30 ноября 2013 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лад сделан 28 ноября на ВВ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6360" y="225360"/>
            <a:ext cx="9215280" cy="4238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7680" y="4464000"/>
            <a:ext cx="95457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упоминалось, эффективность респиратора — случайная величина. Измерения в производственных условиях показали, что средние коэффициенты защиты у одного рабочего, использующего один и тот же респиратор, в разные дни могут отличаться в сотни раз, а средние коэффициенты защиты у разных рабочих (использующих совершенно одинаковые респираторы) сильно отличаются. Это затрудняет выявление причин вдыхания загрязнённого воздуха рабочими, и мешает обоснованно требовать выдачи более надёжных респираторов, так как в каких-то случаях у части рабочих недостаточно эффективные респираторы защиту всё же обеспечивают. Но такие случаи не уменьшают риск развития профзаболеваний у основной массы рабоч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заведомо недостаточно эффективных респираторов (полумасок) для использования в условиях, в которых они не могут обеспечить адекватную защиту из-за самой своей конструкции, является причиной повреждения здоровья рабочих в течение многих десятиле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144360"/>
            <a:ext cx="907092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Применение устаревших СИЗ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7280" y="431280"/>
            <a:ext cx="95760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 fontScale="98000"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продолжается выпуск и использование устаревших СИЗОД, часть которых разработана полвека назад, обладающих низкими защитными свойствами. Например, при установке воздухонепроницаемой плёнки вместо фильтра в респиратор Ф-62Ш эту полумаску (с трикотажным обтюратором) можно одеть и дышать — воздух проходит через зазоры между маской и лицом. А ведь это средство защиты используется шахтёрами при запылённости воздуха в сотни ПДК! Такая же лицевая часть (ПР7) используется и в других российских, украинских и казахстанских респираторах-полумасках (РПГ-67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080" y="1800360"/>
            <a:ext cx="957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noAutofit/>
          </a:bodyPr>
          <a:p>
            <a:pPr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соответствии маски и лица по форме и/или размеру вероятность образования зазоров и снижения эффективности респиратора возрастает. Поэтому в развитых странах законодательство [7] обязывает работодателя подбирать маску к лицу индивидуально, и проверять правильность выбора приборами (так как удобная по ощущениям маска может в каких-то местах прилегать к лицу с зазорами). Для проверки может использоваться, например, распыление раствора сладкого/горького вещества около лица рабочего, одевшего респиратор. Если при дыхании через рот он не чувствует вкус — значит маска достаточно плотно сидит на лице. Используется недорогой распылитель с резиновой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LiberationSerif-Italic"/>
              </a:rPr>
              <a:t>груш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280" y="1511280"/>
            <a:ext cx="907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Использование масок, не соответствующих лицам по форме и разме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3168720"/>
            <a:ext cx="6335640" cy="3887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12000" y="3384720"/>
            <a:ext cx="27352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хранения здоровья нужно, чтобы респираторы использовались своевременно и правильно. Однако в РФ отсутствуют конкретные требования к работодателю — как Применение устаревших СИЗОД проводить обучение и тренировки рабочих, чему их учить, что они должны знать и умет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Не своевременная замена противогазных филь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6000" y="698040"/>
            <a:ext cx="9070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воевременной замены противогазных фильтров изготовители и авторы соответствующей литературы (РФ, СССР) рекомендуют использовать появление запаха вредного газа под маской. Но есть вредные вещества, не имеющие запаха при опасной концентрации; разных людей — разная чувствительность к запахам; у отдельного человека чувствительность может снизится из-за заболевания, из-за того, что он всё внимание уделяет работе и т. д. Если фильтр насыщается и начинает пропускать вредные газы, то их концентрация во вдыхаемом воздухе возрастает постепенно. В некоторых случаях это приводит к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LiberationSerif-Italic"/>
              </a:rPr>
              <a:t>привыкани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рабочий не реагирует на высокие уровни концентрации, опасные для здоров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сейчас в США полностью запретили использовать появление запаха под маской в качестве критерия для замены фильтров — работодатель обязан составить расписание (учитывающее срок службы и условия использования респиратора), или использовать индикаторы окончания срока службы (End of Service Life Indicator — ESLI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11160" y="3032280"/>
            <a:ext cx="6540840" cy="42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Недостаточно точное измерение загрязнённости воздуха (её заниж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6000" y="698040"/>
            <a:ext cx="907092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выбора респиратора нужно знать степень загрязнённости воздуха. Обычно она непостоянна, а зависит от места и времени. Использование индивидуальных пробоотборных насосов и пассивных диффузионных измерителей показало, что загрязнённость воздуха около лица (в зоне дыхания), от которой должен защищать респиратор в среднем обычно выше, чем загрязнённость воздуха в помещении — порой в десятки раз. Поэтому в США для определения загрязнённости воздуха стараются использовать индивидуальные пробоотборные измерители [11]. А в РФ официально утверждённые методики требуют измерять загрязнённость воздуха рабочей зоны, и использование результатов таких измерений при проведении АРМ может дать заниженный результат, что приводит к неиспользованию СИЗОД (при загрязнённости воздуха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LiberationSerif-Italic"/>
              </a:rPr>
              <a:t>меньше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К) и использованию недостаточно надёжных респиратор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16000" y="2316240"/>
            <a:ext cx="5958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Выводы — Недопустимость снижения класса вредности пр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обеспечении рабочих сертифицированными СИЗ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5480" y="937800"/>
            <a:ext cx="9070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 fontScale="97000"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 итог, можно сказать, что поскольку эффективность респиратора зависит от своевременности его применения, и от других факторов — это заведомо ненадёжное средство защиты, что подтверждается объективными результатами многочисленных измерений, проводившихся в развитых странах. Поэтому нужно — с одной стороны — больше внимания уделять автоматизации и механизации работ во вредных условиях, вентиляции и другим средствам снижения загрязнённости воздуха — как в США (при подземной добыче угля в РФ загрязнённость воздуха достигает десятков и сотен ПДК, а использование эффективной вентиляции в США позволяет обеспечить запылённость в зоне дыхания ниже ПДК в большинстве случаев [12]), а также разработать соответствующие нормативные документы, регулирующие выбор и организацию применения респираторов. А с другой стороны, нельзя использовать выдачу СИЗОД как основание для снижения класса вредности условий труда людей, работающих в загрязнённой атмосфере, так как нет никаких оснований считать, что снабжение рабочих СИЗОД — так, как это происходит в РФ сейчас — позволяет надёжно сохранить их здоровье. После разработки соответствующих нормативных документов нужно будет дифференцировать отчисления работодателя в Фонд социального страхования в зависимости от того, насколько правильно он выполняет требования к выбору и организации применения СИЗ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Список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6000" y="771480"/>
            <a:ext cx="9070920" cy="621360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1. ГОСТ 17269-71 Респираторы фильтрующие газопылезащитные РУ-60 м и РУ-60му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2. ГОСТ 12.4.004-74 Респираторы фильтрующие противогазовые РПГ-67. Технические услов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3. ГОСТ 12.4.028-76 ССБТ. Респираторы ШБ-1 Лепесток. Технические услов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4. ГОСТ Р 12.4.190-99 Полумаски и четвертьмаски из изолирующих материалов. Общие технические услов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5. ГОСТ Р 12.4.191-99 Средства индивидуальной защиты органов дыхания. Полумаски фильтрующие для защиты о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аэрозол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6. Кириллов В. Ф.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"/>
              </a:rPr>
              <a:t>О средствах индивидуальной защиты от пыли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. Медицина труда и промышленная экология № 8 201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7. 29 CFR 1910.134 Respiratory Protection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"/>
              </a:rPr>
              <a:t>Есть перев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8. 3M Respirator Selection Guide 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9. US Standard 42 Code of Federal Register Part 84 Respiratory Protective Device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"/>
              </a:rPr>
              <a:t>Есть перев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10. Health and Safety Executive.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4"/>
              </a:rPr>
              <a:t>Respiratory protective equipment at work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. A practical gu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11. Lavoue J., M.S. Friesen and I. Burstin. Workplace Measurements by the Occupational Safety and Health Administration since 1979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ve Analysis and Potential Uses for Exposure Assessment The Annual of Occupational Hygiene (2013) vol. 57, № 1, ст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77-97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12. Jay Colinet, James Rider et all. Best Practices for Dust Control in Coal Mining NIOSH 2010 г.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5"/>
              </a:rPr>
              <a:t>Есть перев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===============================================================================================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ругие статьи о проблемах при попытках сберечь здоровье работников с помощью СИЗ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оф. Кириллов В.Ф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. и д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6"/>
              </a:rPr>
              <a:t>Обзор результатов производственных испытаний средств индивидуальной защиты органов дыхания (СИЗОД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7"/>
              </a:rPr>
              <a:t>О респираторной защите работающи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оф. Капцов В.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8"/>
              </a:rPr>
              <a:t>Невесомый порог. Проблемы использования противогазных СИЗ органов дых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9"/>
              </a:rPr>
              <a:t>Об эффективности средств индивидуальной защиты органов дыхания как средства профилактики заболеваний (обзо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7280" y="258480"/>
            <a:ext cx="9576000" cy="2189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ы: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пользование заведомо неэффективных СИЗОД из-за грубых ошибок при начальном выборе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а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изкое качество устаревших полумасок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тсутствие индивидуального подбора маски и обучения рабочих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своевременная замена противогазных фильтров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правильное определение загрязнённости воздуха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ичины более подробно описаны ниж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640" y="2592360"/>
            <a:ext cx="907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респираторы разных конструкций. Из-за конструктивных отличий они обладают разными защитными свойствами, поэтому использование высококачественного, исправного и сертифицированного респиратора в условиях, на которые он — по своей конструкции — не рассчитан, не позволяет надёжно защитить рабоч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защиты любого респиратора зависит от просачивания неотфильтрованного воздуха через зазоры между маской и лицом, и (у наиболее распространённых респираторов) от эффективности фильтров. Поэтому при правильном выборе фильтров уровень защиты всего респиратора определяется степенью просачивания через зазоры, которые образуются из-за неаккуратного одевания маски и её сползания во время работы при выполнении разных движений, и/или задевания за предметы. Форма, размеры и положение этих зазоров непостоянны, и они различны и у разных рабочих, и у одного и того же рабочего в разные моменты времени. В результате при использовании респиратора в реальных производственных условиях его степень защиты становится случайной величиной, зависящей от разных фак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7640" y="360360"/>
            <a:ext cx="8783640" cy="67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6360" y="503280"/>
            <a:ext cx="935964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60000"/>
            <a:ext cx="9070920" cy="27846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разрешается использовать только сертифицированные СИЗ (в том числе — органов дыхания), и те, кто их использует, ошибочно полагают, что сертификация гарантирует эффективность применяемого СИЗОД. Но при сертификации респиратора испытатель в принципе не может имитировать всё то огромное разнообразие движений, которые совершают миллионы рабочих, и ограниченное число испытателей не может точно имитировать всё разнообразие лиц рабочих по форме и размеру. Кроме того, в лаборатории испытатели одевают респираторы более неторопливо и аккуратно. Поэтому </a:t>
            </a:r>
            <a:r>
              <a:rPr b="0" i="1" lang="ru-RU" sz="1800" spc="-1" strike="noStrike">
                <a:solidFill>
                  <a:srgbClr val="000000"/>
                </a:solidFill>
                <a:latin typeface="LiberationSerif-Italic"/>
                <a:ea typeface="LiberationSerif-Italic"/>
              </a:rPr>
              <a:t>лабораторна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СИЗОД при сертификации значительно отличается от защитных свойств при реальном использовании в производственных условиях, которая измерялась в развитых странах десятки раз. При реальном использовании зазоры образуются чаще, они (в среднем) больше, и эффективность респираторов значительно н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0360" y="3672000"/>
            <a:ext cx="90709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й причине в США и ЕС для надёжной защиты органов дыхания рабочих с помощью респираторов выполняются два вида требований: а) к изготовителю респираторов (требования к качеству СИЗОД, выполняются при сертификации; в том числе требования к защитным свойствам при сертификации), и б) к работодателю (требования к правильному выбору и к организации использования СИЗОД; в том числе ограничения области применения респираторов разных конструкций). В таблице показаны коэффициенты защиты КЗ (отношение концентрации снаружи маски к подмасочной — во вдыхаемом воздухе) респираторов наиболее распространённых конструкций, получаемые при сертификации в соответствии с требованиями соответствующих ГОСТов — КЗ(С); и КЗ, используемые при ограничении области допустимого безопасного применения этих же респираторов во время работы — КЗ(Р). При выборе респиратора для работы в заранее известных условиях численное значение его КЗ(Р) не должно быть ниже коэффициента загрязнённости воздуха (суммы отношений: концентраций вредных веществ / их ПДК). В последнем столбце таблицы показана кратность превышения КЗ(С) по отношению к КЗ(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3280" y="287280"/>
          <a:ext cx="9075240" cy="3605040"/>
        </p:xfrm>
        <a:graphic>
          <a:graphicData uri="http://schemas.openxmlformats.org/drawingml/2006/table">
            <a:tbl>
              <a:tblPr/>
              <a:tblGrid>
                <a:gridCol w="1814400"/>
                <a:gridCol w="1815120"/>
                <a:gridCol w="1814760"/>
                <a:gridCol w="1814760"/>
                <a:gridCol w="1816200"/>
              </a:tblGrid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Респи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Р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С)/КЗ(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18000" rIns="18000" tIns="25920" bIns="18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7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нолицевая маска 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&gt;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~250000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A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&gt; 5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316160" y="4232160"/>
            <a:ext cx="70912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Коэффициенты защиты, полученные при сертификации респираторов КЗ(С) 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установленные как ограничения области их применения для безопасног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использования СИЗОД КЗ(Р) [ 4,5,7,9,10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ША Полнолицевая маска &gt; ~25000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A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50 &gt; 50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ША Эластомерная полумаска (с противогазными фильтрами) &gt; ~2500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A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0 &gt; 2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ША Полумаска класса </a:t>
            </a:r>
            <a:r>
              <a:rPr b="0" i="1" lang="ru-RU" sz="900" spc="-1" strike="noStrike">
                <a:solidFill>
                  <a:srgbClr val="000000"/>
                </a:solidFill>
                <a:latin typeface="LiberationSans-Italic"/>
                <a:ea typeface="LiberationSans-Italic"/>
              </a:rPr>
              <a:t>100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— фильтрующая противоаэрозольная &gt; 10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C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0 &gt;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ЕС Полнолицевая маска &gt; 2000 40 &gt; 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ЕС Эластомерная полумаска &gt; 5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B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20 &gt; 2,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ЕС Фильтрующая полумаска класса FFP3 &gt; 5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B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20 &gt; 2,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Ф Полнолицевая маска &gt; 2000 Н 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Ф Эластомерная полумаска &gt; 5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B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 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Ф Фильтрующая полумаска FFP3 &gt; 5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B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 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A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— КЗ(С) вычислен как отношение концентраций изоамилацетата — в испытательной камере 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орогу восприятия его запаха [8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B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— для 8 из 10 человек [ 4,5 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C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— с вероятностью 90 % [10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требования к КЗ(С) респираторов, изложенные в ГОСТах и выполняемые при их изготовлении и сертификации, предупреждаю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ние в продажу продукции низкого качества. Как видно из таблицы, в США и ЕС учитывают различие защитных свойств СИЗОД 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х и производственных условиях, предъявляя при сертификации более жёсткие требования — в 2.5÷50000 раз. Поэтому знач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З(Р) устанавливали на основании результатов, полученных не в лабораторных, а в реальных производственных условиях, при проведен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ков исследований респираторов разных конструкци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отсутствуют сведения о КЗ(Р) для РФ. Причина в том, что при первой попытке вступления в ВТО, когда перешли на систем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и респираторов, схожую с европейской, требований к работодателю (регулирующим правильный выбор и организаци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 СИЗОД) не разрабатывалась, они отсутствуют и поныне. Но это не мешает их производству, сертификации, продаже 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280" y="177840"/>
            <a:ext cx="907092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Коэффициенты защиты, полученные при сертификации респираторов КЗ(С), и установленные как ограничения области их применения для безопасного использования СИЗОД КЗ(Р) [ 4,5,7,9,10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98480" y="887400"/>
          <a:ext cx="8542080" cy="2904840"/>
        </p:xfrm>
        <a:graphic>
          <a:graphicData uri="http://schemas.openxmlformats.org/drawingml/2006/table">
            <a:tbl>
              <a:tblPr/>
              <a:tblGrid>
                <a:gridCol w="851040"/>
                <a:gridCol w="4752360"/>
                <a:gridCol w="969840"/>
                <a:gridCol w="656280"/>
                <a:gridCol w="1312560"/>
              </a:tblGrid>
              <a:tr h="307080">
                <a:tc>
                  <a:txBody>
                    <a:bodyPr lIns="18000" rIns="18000" tIns="3132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18000" rIns="18000" tIns="338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Респи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18000" rIns="18000" tIns="3132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18000" rIns="18000" tIns="3132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18000" rIns="18000" tIns="3132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С)/КЗ(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нолицевая м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~25000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ластомерная полумаска (с противогазными фильтра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~2500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умаска класса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LiberationSans-Italic"/>
                        </a:rPr>
                        <a:t>10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фильтрующая противоаэрозо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нолицевая м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ластомерная полум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5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льтрующая полумаска класса FF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5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нолицевая м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ластомерная полум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5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льтрующая полумаска FF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5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216000" y="4103640"/>
            <a:ext cx="97200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LiberationSans-Bold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— КЗ(С) вычислен как отношение концентраций изоамилацетата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— в испытательной камере к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LiberationSans-Bold"/>
              </a:rPr>
              <a:t>порогу восприятия его запаха [8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LiberationSans-Bold"/>
              </a:rPr>
              <a:t>B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— для 8 из 10 человек [ 4,5 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LiberationSans-Bold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— с вероятностью 90 % [10]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Высокие требования к КЗ(С) респираторов, изложенные в ГОСТах и выполняемые при их изготовлении и сертификации, предупреждают попадание в продажу продукции низкого качества. Как видно из таблицы, в США и ЕС учитывают различие защитных свойств СИЗОД в лабораторных и производственных условиях, предъявляя при сертификации более жёсткие требования — в 2.5÷50000 раз. Поэтому значения КЗ(Р) устанавливали на основании результатов, полученных не в лабораторных, а в реальных производственных условиях, при проведении десятков исследований респираторов разных конструкций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блице отсутствуют сведения о КЗ(Р) для РФ. Причина в том, что при первой попытке вступления в ВТО, когда перешли на систему сертификации респираторов, схожую с европейской, требований к работодателю (регулирующим правильный выбор и организацию применения СИЗОД) не разрабатывалась, они отсутствуют и поныне. Но это не мешает их производству, сертификации, продаже и использова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1640" y="503280"/>
            <a:ext cx="950436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2920" y="287280"/>
            <a:ext cx="907092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новым ГОСТам, регулирующим сертификацию респираторов, и согласно Техническому регламенту «</a:t>
            </a:r>
            <a:r>
              <a:rPr b="0" i="1" lang="ru-RU" sz="1400" spc="-1" strike="noStrike">
                <a:solidFill>
                  <a:srgbClr val="000000"/>
                </a:solidFill>
                <a:latin typeface="LiberationSerif-Italic"/>
                <a:ea typeface="LiberationSerif-Italic"/>
              </a:rPr>
              <a:t>О безопасности СИЗ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готовитель обязан указывать области допустимого применения своей продукции — а они в РФ не установлены. Эта неразрешимая проблема не остановила находчивых изготовителей СИЗОД: Ранее, в (ГОСТах СССР) содержались требования к респираторам, и — одновременно —  в каждом из них указывалась область допустимого применения [1-3]. Следуя многолетней традиции, изготовители перенесли значения КЗ(С) в паспорта, руководства по эксплуатации, на упаковку и в каталоги продукции, хотя КЗ(С) не предназначены для этого. В результате эффективность российских СИЗОД резко возросла — полумасок до 50 ПДК, а полнолицевых масок — до 2000 ПД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новых ГОСТах не было чётких и недвусмысленных указаний, ограничивающих области применения (их там нет вообще) — и часть изготовителей пошла дальше. Кимрская фабрика имени Горького повысила эффективность своих полумасок до 200 ПДК, а ОАО АРТИ — до &gt;5000 ПДК Изготовители респираторов из США и ЕС, попав на рынок РФ, тоже стали указывать в паспортах на респираторы завышенные коэффициенты защиты, причём в отдельных случаях на одной и той же станице на разных языках указывали разные КЗ(Р). По тому же пути пошли многие авторы книг и публикаций о СИЗОД, обзор которых сделан в [6], и там приводятся рекомендуемые ограничения области применения респираторов разных конструкций, основанные на современных нормах развитых стран (статья есть в интернет в бесплатном доступ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ША и ЕС выбор респиратора для известных условий работы должен проводить подготовленный специалист на основе требований законодательства и рекомендациями учебных пособий, соответствующих законодательству. А инженеры по охране труда в РФ руководствуются </a:t>
            </a:r>
            <a:r>
              <a:rPr b="0" i="1" lang="ru-RU" sz="1400" spc="-1" strike="noStrike">
                <a:solidFill>
                  <a:srgbClr val="000000"/>
                </a:solidFill>
                <a:latin typeface="LiberationSerif-Italic"/>
                <a:ea typeface="LiberationSerif-Italic"/>
              </a:rPr>
              <a:t>Типовыми нормами бесплатной выдачи специально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ы, специальной обуви и других средств индивидуальной защиты </a:t>
            </a:r>
            <a:r>
              <a:rPr b="0" i="1" lang="ru-RU" sz="1400" spc="-1" strike="noStrike">
                <a:solidFill>
                  <a:srgbClr val="000000"/>
                </a:solidFill>
                <a:latin typeface="LiberationSerif-Italic"/>
                <a:ea typeface="LiberationSerif-Italic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окументами, которые даже не различают противогазные и противоаэрозольные СИЗОД, рассматривая их наряду с валенками и телогрейками. Это не может не приводить к ошибкам, так как для оценки защитных свойств приходится использовать значения предоставляемые изготовителями — а они обычно завышены. Более эффективные респираторы часто (но не всегда) стоят дороже, что является хорошим поводом для экономии средств, и способствует снижению уровня защиты. Если учесть, что в РФ регистрируется заниженное число профзаболеваний, в том числе — органов дыхания, то понятно, что выбор заведомо неэффективного респиратора не несёт никакого риска не только для изготовителя и продавца, завышающих эффективность, но и для работод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8T10:31:46Z</dcterms:created>
  <dc:creator>Александр Чиркин</dc:creator>
  <dc:description/>
  <dc:language>en-US</dc:language>
  <cp:lastModifiedBy>Александр Чиркин</cp:lastModifiedBy>
  <dcterms:modified xsi:type="dcterms:W3CDTF">2018-11-18T12:34:16Z</dcterms:modified>
  <cp:revision>2</cp:revision>
  <dc:subject/>
  <dc:title/>
</cp:coreProperties>
</file>