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EE7-AD37-4427-BB36-8C5CB313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3D2-7476-4DD7-BD75-D3DF8966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7D8C-BABA-4C84-A2A5-4AD48763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7227-AF90-4F49-92B7-5E085A77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78D2-990F-4EF7-AD25-7597D408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557-F431-4BAF-A667-DBF70A92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5658-681D-45B4-ADF1-BD4521F8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009-B83D-4F1A-A5D4-1BE8821B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2B38-E43F-4F9E-86D1-406D0288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61D9-D11F-4756-B29C-FC7E59C7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12F1-922A-4BE9-A731-6AF20D63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D61-64E5-441C-A6D4-04317B79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65D4-EE19-455A-861A-E54BC46284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y.orb.ru/assets/images/novosti_avatar/PDD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32000" y="2565360"/>
            <a:ext cx="4211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Права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и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обязанности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гражд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1867873"/>
          <p:cNvPicPr/>
          <p:nvPr/>
        </p:nvPicPr>
        <p:blipFill>
          <a:blip r:embed="rId1"/>
          <a:stretch/>
        </p:blipFill>
        <p:spPr>
          <a:xfrm>
            <a:off x="0" y="0"/>
            <a:ext cx="486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Граница пр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8642160" cy="136836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Откройте стр.73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чтите раздел                                                                      «Где проходит граница твоих прав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человечки 22"/>
          <p:cNvPicPr/>
          <p:nvPr/>
        </p:nvPicPr>
        <p:blipFill>
          <a:blip r:embed="rId1"/>
          <a:stretch/>
        </p:blipFill>
        <p:spPr>
          <a:xfrm>
            <a:off x="250920" y="2073240"/>
            <a:ext cx="6121440" cy="459252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85" name="Text Box 5"/>
          <p:cNvSpPr/>
          <p:nvPr/>
        </p:nvSpPr>
        <p:spPr>
          <a:xfrm>
            <a:off x="250920" y="2637000"/>
            <a:ext cx="871380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 ПРОХОДИТ  ГРАНИЦА  ПРАВ 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50920" y="3645000"/>
            <a:ext cx="8713800" cy="137376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ПРАВА  ОДНОГО  ЧЕЛОВЕКА  ЗАКАНЧИВАЮТСЯ  ТАМ,  ГДЕ НАЧИНАЮТСЯ  ПРАВА  ДРУГОГО  ЧЕЛОВЕ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916280"/>
            <a:ext cx="83739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Arial"/>
              </a:rPr>
              <a:t>Граждане Российской Федерации </a:t>
            </a:r>
            <a:r>
              <a:rPr b="1" lang="ru-RU" sz="3600" spc="-1" strike="noStrike" u="sng">
                <a:solidFill>
                  <a:srgbClr val="ff6600"/>
                </a:solidFill>
                <a:uFillTx/>
                <a:latin typeface="Arial"/>
              </a:rPr>
              <a:t>обяз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755640" y="3141720"/>
            <a:ext cx="1943280" cy="698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БЛЮД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СТИТУЦИЮ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УГИЕ ЗАКОНЫ РФ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3492360" y="5013360"/>
            <a:ext cx="2087640" cy="627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АТИТЬ ЗАКОН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ТАНОВЛЕ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ЛОГИ И СБО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6372360" y="2852640"/>
            <a:ext cx="2303280" cy="625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РЕЧЬ ПАМЯТ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РИ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826920" y="4581360"/>
            <a:ext cx="1872000" cy="771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ЩИЩ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Е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6443640" y="4653000"/>
            <a:ext cx="2232000" cy="865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РЕЖ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НОСИТЬ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 ПРИРОД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ГАТСТВ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3492360" y="2708280"/>
            <a:ext cx="2087640" cy="1990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4" name="Line 9"/>
          <p:cNvSpPr/>
          <p:nvPr/>
        </p:nvSpPr>
        <p:spPr>
          <a:xfrm flipH="1" flipV="1">
            <a:off x="2700360" y="3499920"/>
            <a:ext cx="720720" cy="36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H="1">
            <a:off x="2700360" y="4508640"/>
            <a:ext cx="720720" cy="288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 flipV="1">
            <a:off x="5651640" y="3141720"/>
            <a:ext cx="647640" cy="4334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>
            <a:off x="5580000" y="4292640"/>
            <a:ext cx="720720" cy="36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324000" y="0"/>
            <a:ext cx="85690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Права и обяза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аво - это то, что государство гарантирует дать своим гражданам, а обязанность - это то, что граждане гарантируют дать своему государ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0" y="5734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Обязанность государства – гарантировать права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каждого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 конкретного челове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Полные блоки презентаций по всему годовому курсу по                                Обществознанию и Истории                                Вы можете найти на сайт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presentation-history.ru/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На сайте также размещены тестовые задания (с ответами) банка ФИПИ                           к ОГЭ и ЕГЭ по обществознанию, большой набор карт по истории, материалы для дополнительных занятий и многое другое.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зучить параграф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тветить на вопросы (проверим себя) на стр.21 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дание №1 и №3 в разделе                  «в классе и дома» на стр.21   (</a:t>
            </a: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письменно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x_17bf67a9"/>
          <p:cNvPicPr/>
          <p:nvPr/>
        </p:nvPicPr>
        <p:blipFill>
          <a:blip r:embed="rId1"/>
          <a:stretch/>
        </p:blipFill>
        <p:spPr>
          <a:xfrm>
            <a:off x="4211640" y="3360600"/>
            <a:ext cx="4321080" cy="349740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ава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беспечение п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Граница п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ава и обяза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флаг"/>
          <p:cNvPicPr/>
          <p:nvPr/>
        </p:nvPicPr>
        <p:blipFill>
          <a:blip r:embed="rId1"/>
          <a:stretch/>
        </p:blipFill>
        <p:spPr>
          <a:xfrm>
            <a:off x="3149640" y="3141720"/>
            <a:ext cx="33145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Права человек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563640" y="98100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 основе жизни человека и деятельности человека лежит удовлетворение потребностей. Для этого человек должен иметь права, которые закреплены в 20 веке.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PD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907920"/>
            <a:ext cx="3673440" cy="446580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Права человека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69228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Основные группы прав: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50920" y="1413000"/>
            <a:ext cx="8642160" cy="825480"/>
          </a:xfrm>
          <a:prstGeom prst="rect">
            <a:avLst/>
          </a:prstGeom>
          <a:solidFill>
            <a:srgbClr val="ffffbd"/>
          </a:solidFill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.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Гражданские прав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: на жизнь, на свободу и личную неприкосновенность, на честь и достои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50920" y="2349360"/>
            <a:ext cx="8642160" cy="825480"/>
          </a:xfrm>
          <a:prstGeom prst="rect">
            <a:avLst/>
          </a:prstGeom>
          <a:solidFill>
            <a:srgbClr val="ffffbd"/>
          </a:solidFill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2.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Политические прав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: обеспечивают возможность участия граждан в политической жизни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3284640"/>
            <a:ext cx="8642160" cy="1191240"/>
          </a:xfrm>
          <a:prstGeom prst="rect">
            <a:avLst/>
          </a:prstGeom>
          <a:solidFill>
            <a:srgbClr val="ffffbd"/>
          </a:solidFill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3.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Экономические и социальные прав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: касаются благосостояния, социальной защиты, достойный уровень жизни. (попробуйте предположить как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50920" y="4653000"/>
            <a:ext cx="8642160" cy="825480"/>
          </a:xfrm>
          <a:prstGeom prst="rect">
            <a:avLst/>
          </a:prstGeom>
          <a:solidFill>
            <a:srgbClr val="ffffbd"/>
          </a:solidFill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4.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Культурные прав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: обеспечивают духовное развитие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Права человек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8569440" cy="1152720"/>
          </a:xfrm>
          <a:prstGeom prst="rect">
            <a:avLst/>
          </a:prstGeom>
          <a:noFill/>
          <a:ln w="22320">
            <a:solidFill>
              <a:srgbClr val="0000ff"/>
            </a:solidFill>
            <a:prstDash val="sysDot"/>
            <a:miter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о многих документах написано «права человека и гражданин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опробуйте объяснить поч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600pxusgreatsealobverse"/>
          <p:cNvPicPr/>
          <p:nvPr/>
        </p:nvPicPr>
        <p:blipFill>
          <a:blip r:embed="rId1"/>
          <a:stretch/>
        </p:blipFill>
        <p:spPr>
          <a:xfrm>
            <a:off x="4859280" y="692280"/>
            <a:ext cx="4067280" cy="406692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58" name="Picture 14" descr="x_7f6d92cf"/>
          <p:cNvPicPr/>
          <p:nvPr/>
        </p:nvPicPr>
        <p:blipFill>
          <a:blip r:embed="rId2"/>
          <a:stretch/>
        </p:blipFill>
        <p:spPr>
          <a:xfrm>
            <a:off x="395280" y="692280"/>
            <a:ext cx="3860640" cy="403200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59" name="Text Box 15"/>
          <p:cNvSpPr/>
          <p:nvPr/>
        </p:nvSpPr>
        <p:spPr>
          <a:xfrm>
            <a:off x="395280" y="5950080"/>
            <a:ext cx="8570880" cy="459720"/>
          </a:xfrm>
          <a:prstGeom prst="rect">
            <a:avLst/>
          </a:prstGeom>
          <a:solidFill>
            <a:srgbClr val="ffffbd"/>
          </a:solidFill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равним права гражданина страны и не граждан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Права человек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64000" y="691920"/>
            <a:ext cx="5400720" cy="5832360"/>
          </a:xfrm>
          <a:prstGeom prst="rect">
            <a:avLst/>
          </a:prstGeom>
          <a:noFill/>
          <a:ln w="22320">
            <a:solidFill>
              <a:srgbClr val="0000ff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ервые документы закреплявшие и гарантировавшие права человека: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Декларация независимости США» (1776 г.),       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«Декларация прав человека и гражданина»  (Франция, 1789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Declaration_of_Human_Rights"/>
          <p:cNvPicPr/>
          <p:nvPr/>
        </p:nvPicPr>
        <p:blipFill>
          <a:blip r:embed="rId1"/>
          <a:stretch/>
        </p:blipFill>
        <p:spPr>
          <a:xfrm>
            <a:off x="179280" y="549360"/>
            <a:ext cx="2408400" cy="30240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63" name="Picture 8" descr="Картинка 10 из 12089"/>
          <p:cNvPicPr/>
          <p:nvPr/>
        </p:nvPicPr>
        <p:blipFill>
          <a:blip r:embed="rId2"/>
          <a:stretch/>
        </p:blipFill>
        <p:spPr>
          <a:xfrm>
            <a:off x="1332000" y="3429000"/>
            <a:ext cx="2138400" cy="320184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Права человека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3716280"/>
            <a:ext cx="8713800" cy="1224000"/>
          </a:xfrm>
          <a:prstGeom prst="rect">
            <a:avLst/>
          </a:prstGeom>
          <a:noFill/>
          <a:ln w="22320">
            <a:solidFill>
              <a:srgbClr val="0000ff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Всеобщая декларация прав человека»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принята ООН 10 декабря 1948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smerti-v-mire"/>
          <p:cNvPicPr/>
          <p:nvPr/>
        </p:nvPicPr>
        <p:blipFill>
          <a:blip r:embed="rId1"/>
          <a:stretch/>
        </p:blipFill>
        <p:spPr>
          <a:xfrm>
            <a:off x="4932360" y="620640"/>
            <a:ext cx="4032360" cy="301788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67" name="Picture 9" descr="1302640232628-w750"/>
          <p:cNvPicPr/>
          <p:nvPr/>
        </p:nvPicPr>
        <p:blipFill>
          <a:blip r:embed="rId2"/>
          <a:stretch/>
        </p:blipFill>
        <p:spPr>
          <a:xfrm>
            <a:off x="250920" y="620640"/>
            <a:ext cx="4537080" cy="302436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68" name="Text Box 10"/>
          <p:cNvSpPr/>
          <p:nvPr/>
        </p:nvSpPr>
        <p:spPr>
          <a:xfrm>
            <a:off x="250920" y="5229360"/>
            <a:ext cx="8713800" cy="88632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том документе основные Права человека признаны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ВСЕОБЩИМИ и НЕОТЧУЖДАЕМЫ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Обеспечение прав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07280" cy="1008000"/>
          </a:xfrm>
          <a:prstGeom prst="rect">
            <a:avLst/>
          </a:prstGeom>
          <a:noFill/>
          <a:ln w="22320">
            <a:solidFill>
              <a:srgbClr val="0000ff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осударство признает права и свободы человека 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0"/>
          <p:cNvSpPr/>
          <p:nvPr/>
        </p:nvSpPr>
        <p:spPr>
          <a:xfrm>
            <a:off x="179280" y="1700280"/>
            <a:ext cx="8713800" cy="82548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язуется поддерживать их соблюдение на своей террито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1"/>
          <p:cNvSpPr/>
          <p:nvPr/>
        </p:nvSpPr>
        <p:spPr>
          <a:xfrm>
            <a:off x="179280" y="2565360"/>
            <a:ext cx="8713800" cy="82548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авливает законы, гарантирующие каждому его пра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2"/>
          <p:cNvSpPr/>
          <p:nvPr/>
        </p:nvSpPr>
        <p:spPr>
          <a:xfrm>
            <a:off x="179280" y="3429000"/>
            <a:ext cx="8713800" cy="82548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спечивает судебную защиту прав человека                   в случае их нару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3" descr="picture"/>
          <p:cNvPicPr/>
          <p:nvPr/>
        </p:nvPicPr>
        <p:blipFill>
          <a:blip r:embed="rId1"/>
          <a:stretch/>
        </p:blipFill>
        <p:spPr>
          <a:xfrm>
            <a:off x="250920" y="4317840"/>
            <a:ext cx="3384360" cy="254016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75" name="Picture 44" descr="Картинка 47 из 2359"/>
          <p:cNvPicPr/>
          <p:nvPr/>
        </p:nvPicPr>
        <p:blipFill>
          <a:blip r:embed="rId2"/>
          <a:stretch/>
        </p:blipFill>
        <p:spPr>
          <a:xfrm>
            <a:off x="3708360" y="4292640"/>
            <a:ext cx="1841400" cy="25653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76" name="Picture 45" descr="Картинка 4 из 45852"/>
          <p:cNvPicPr/>
          <p:nvPr/>
        </p:nvPicPr>
        <p:blipFill>
          <a:blip r:embed="rId3"/>
          <a:stretch/>
        </p:blipFill>
        <p:spPr>
          <a:xfrm>
            <a:off x="5651640" y="4267080"/>
            <a:ext cx="3213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Граница пр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8642160" cy="136836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Откройте стр.19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чтите раздел                                                                      « Механизм защиты и реализации….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человечки 22"/>
          <p:cNvPicPr/>
          <p:nvPr/>
        </p:nvPicPr>
        <p:blipFill>
          <a:blip r:embed="rId1"/>
          <a:stretch/>
        </p:blipFill>
        <p:spPr>
          <a:xfrm>
            <a:off x="250920" y="2073240"/>
            <a:ext cx="6121440" cy="459252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80" name="Text Box 9"/>
          <p:cNvSpPr/>
          <p:nvPr/>
        </p:nvSpPr>
        <p:spPr>
          <a:xfrm>
            <a:off x="250920" y="2637000"/>
            <a:ext cx="871380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 ПРОХОДИТ  ГРАНИЦА  ПРАВ 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50920" y="3645000"/>
            <a:ext cx="8713800" cy="137376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ПРАВА  ОДНОГО  ЧЕЛОВЕКА  ЗАКАНЧИВАЮТСЯ  ТАМ,  ГДЕ НАЧИНАЮТСЯ  ПРАВА  ДРУГОГО  ЧЕЛОВЕ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9:45:08Z</dcterms:created>
  <dc:creator>Нафор Маточ</dc:creator>
  <dc:description/>
  <dc:language>en-US</dc:language>
  <cp:lastModifiedBy>1</cp:lastModifiedBy>
  <dcterms:modified xsi:type="dcterms:W3CDTF">2019-03-27T08:36:23Z</dcterms:modified>
  <cp:revision>144</cp:revision>
  <dc:subject/>
  <dc:title>Права и обязанности граждан</dc:title>
</cp:coreProperties>
</file>