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E75-E751-409B-B62E-2993E2F5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D20-D34D-4240-BA45-258E43EA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A16-FAD6-43ED-A165-57C2A59C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129-9AD3-4E19-94E3-61B970BE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6E0-2F59-4126-999F-106ED203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F01-CD48-4212-A6A1-6AEE1B36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1CB-73E8-4FDC-A4DB-75930109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03F-B97B-4FB8-B9B0-71B46C0C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852-8179-4787-A05C-5BDADB7D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F2A-E994-45A8-A300-9705B293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39B-8F29-4460-9DED-6C7D835D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09A-0818-4B22-ABA1-CE405BA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5FEC-F19B-4C1E-9F6A-1DB2BE6B0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virtual5.com.mx/articulos/wp-content/uploads/2010/07/coach-lider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125360"/>
            <a:ext cx="8353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Групповая дифференциация</a:t>
            </a:r>
            <a:endParaRPr b="1" lang="en-US" sz="1800" spc="1" strike="noStrike">
              <a:ln w="3492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и</a:t>
            </a:r>
            <a:endParaRPr b="1" lang="en-US" sz="1800" spc="1" strike="noStrike">
              <a:ln w="3492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80"/>
                  </a:solidFill>
                  <a:miter/>
                </a:ln>
                <a:solidFill>
                  <a:srgbClr val="ffff99"/>
                </a:solidFill>
                <a:latin typeface="Arial"/>
              </a:rPr>
              <a:t>лидерство</a:t>
            </a:r>
            <a:endParaRPr b="1" lang="en-US" sz="1800" spc="1" strike="noStrike">
              <a:ln w="34920">
                <a:solidFill>
                  <a:srgbClr val="000080"/>
                </a:solidFill>
                <a:miter/>
              </a:ln>
              <a:solidFill>
                <a:srgbClr val="ffff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Лидерские р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940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деляют лидеров-инициаторов, лидеров-эрудитов, лидеров-генераторов эмоционального настроя, лидеров-умельцев, лидеров-организаторов и лидеров-дезорганизаторов( по направленности своих действий лидер может быть положительным и отрицательны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1148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Лидерские р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8000" y="3716280"/>
            <a:ext cx="892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Формальное лидерство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 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цесс влияния на людей с позиции занимаемой должности (именно в этом смысле употребляют и термин «руководство») и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неформальное лидерство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 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цесс влияния на людей при помощи своих способностей, умений или других ресурсов.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Формальный лиде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несет ответственность                                  за положение дел в группе и обладает официальным правом поощрения и наказ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19640" cy="2901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79280" y="3860640"/>
            <a:ext cx="87487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Неформальный лиде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не обладает властными полномочиями и официальными обязанностями.                  Его влияние и авторитет основаны на отношении                       к нему группы, а не на его служебном положении, должности, статусе.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Лидерские р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068640"/>
            <a:ext cx="87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ли должностное влияние сочетается                                            с неофициальным лидерством, в группе формируются благоприятные взаимоотношения. Если же этого совпадения нет, то взаимоотношения в группе будут зависеть от отношений между официальным                            и неофициальным лидерами. Худшая ситуация,                       при которой неформальный лидер состоит в конфликтных отношениях с формальным лидером.                 В этом случае группа будет подвержена внутренним противоречиям и конфликта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56000" y="692280"/>
            <a:ext cx="3960720" cy="23097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4. Стили лиде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765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тилем лидерства называют совокупность приемов, применяемых лидером для оказания влияния                          на остальных членов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989000"/>
            <a:ext cx="8748720" cy="192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Лидер-демокра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советуется с коллегами, поощряет             их инициативу, прислушивается к их аргументам, ориентируется на мнение группы, проводит обсуждение задач, часть полномочий делегирует другим членам групп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4005360"/>
            <a:ext cx="874872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Авторитарный лиде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станавливает жесткую дисциплину, четко распределяет обязанности,                          не прислушивается к мнению группы, не устраивает дискуссий, навязывает свое мн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989000"/>
            <a:ext cx="8748720" cy="2654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Лидер-анархист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руководит по принципу «делайте что хотите и как хотите». Он не предъявляет требований, не настаивает, принимает все предложения членов группы, избегает столкновений, конфликтов.                       Группа практически не организована, разобщена, функциональные обязанности в ней распределяются хаотич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724280"/>
            <a:ext cx="8748720" cy="1557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Чаще всего лидер использует разные стили                                 в зависимости от обстоятельств.                                        Анализируя стиль того или иного лидера, можно обнаружить определенные доминирующие че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68360" y="1125360"/>
            <a:ext cx="4896000" cy="29559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4149720"/>
            <a:ext cx="87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Школьный класс является официальным объединением учащихся - формальной малой группой, со своими органами самоуправления и может быть способна к самоорганизации. Школьный класс имеет основную цель, заданную обществом.                                    Такой целью для школьного класса выступают цели образования и воспита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350028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сихологически школьный класс складывается из разного рода отношений людей к общему делу и друг к другу. При сравнительно простых задачах, привычных для учеников, не требующих от них значительных совместных усилий и большой эмоциональной напряженности, личные взаимоотношения существенно не влияют на результаты работы класса. Личные взаимоотношения играют роль при решении сложных твор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3652560" cy="24368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789360"/>
            <a:ext cx="87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школьном классе объединены личности, которым свойственно стремиться быть непохожими на других и быть признанными другими. Если отношения в классе не создают возможностей для реализации этих стремлений, учащиеся ищут такие возможности                     в других объединениях (предметные кружки, научно-технические общества, спортивные секции, творческие студии, молодежные клубы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916360" y="1125360"/>
            <a:ext cx="4032000" cy="2587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разных объединениях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один и тот же человек может занимать разное положение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.            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одном объединении учащийся может стать лидером, в другом - оставаться на позициях ведом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416720" cy="39495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5. 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4149720"/>
            <a:ext cx="87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собо значимы для учащихся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неформальные группы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 -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группы приятелей и друзей, возникающие как в школе,              так и вне ее. В этих группах ценится открытость отношений, искренность, независимость, свобода самовыражения. Каждый в такой группе получает возможность ощущать значимость своей личности, пользуется признанием со стороны друг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4537080" cy="29275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Полные блоки презентаций по всему годовому курсу по                                Обществознанию и Истории                                Вы можете найти на сайте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На сайте также размещены тестовые задания (с ответами) банка ФИПИ                           к ОГЭ и ЕГЭ по обществознанию, большой набор карт по истории, материалы для дополнительных занятий и многое другое.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764640"/>
            <a:ext cx="830268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ложение личности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нятие лиде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Лидерские 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тили лиде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заимоотношения в ученических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32000" y="3933720"/>
            <a:ext cx="3745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340000" y="2852640"/>
            <a:ext cx="604836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роработать параграф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дготовиться к работе на уроке по заданиям                   в конц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40360" y="188640"/>
            <a:ext cx="43192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981000"/>
            <a:ext cx="360360" cy="43200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6000" y="1413000"/>
            <a:ext cx="28728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836640"/>
            <a:ext cx="503280" cy="21600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71640" y="765000"/>
            <a:ext cx="503280" cy="216000"/>
          </a:xfrm>
          <a:prstGeom prst="ellipse">
            <a:avLst/>
          </a:prstGeom>
          <a:noFill/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908000" y="1628280"/>
            <a:ext cx="1151280" cy="7164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9280" y="4005360"/>
            <a:ext cx="8785440" cy="28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группе протекают процессы дифференциации                   (от лат. differentia - разность) межличностного взаимодействия и выделения лидеров - членов малой группы, имеющих определенное влияние            на различные стороны ее жизни. В процессе жизнедеятельности группы одни участники выдвигаются на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минирующи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ведущие позиции, другие занимают позиции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ведомых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56000" y="115920"/>
            <a:ext cx="4105080" cy="384336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Положение личности в груп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508640"/>
            <a:ext cx="878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Отношение группы к своим членам проявляется в том, что одних любят, других не любят, третьих просто не замечают, четвертых отвергают. Фактически в группе происходит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дифференциация 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разделение группы               на участников, занимающих различное положение                   в системе межличностных отнош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4897440" cy="3673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Положение личности в груп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76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оциометрический метод позволяет определить социальный статус каждого члена группы - е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место в иерархии внутригруппового общественного мнен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20500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ЗВЕЗДЫ и ЛИД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78136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ПРИЯТНЫЕ и ПРЕДПОЧИТА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335772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РЕНЕБРЕГА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393372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ИЗОЛИРОВ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4508640"/>
            <a:ext cx="705636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РЖ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. Положение личности в груп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005360"/>
            <a:ext cx="8785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Если критерием, на основании которого осуществлялся выбор, были симпатии и антипатии относительно, например, проведения досуга (т. е. критерий эмоциональный), то человек, набравший самое большое количество голосов, - это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социометрическая звезд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или эмоциональный лидер, группы.                                                    Если выбор осуществлялся по критерию деловых функций,                    то ведущее место получает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деловой лиде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организующий деятельность группы. Часто «социометрическая звезда»                             и «деловой лидер» группы - разные люд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824360" cy="32162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8920" y="4797000"/>
            <a:ext cx="8713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Лидер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от англ. </a:t>
            </a:r>
            <a:r>
              <a:rPr b="1" i="1" lang="en" sz="2400" spc="-1" strike="noStrike">
                <a:solidFill>
                  <a:srgbClr val="333399"/>
                </a:solidFill>
                <a:latin typeface="Arial"/>
              </a:rPr>
              <a:t>leader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- ведущий, первый, идущий впереди) - лицо в какой-либо группе, пользующееся большим, признанным авторитетом, обладающее влиянием, которое проявляется как управляющее действ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7 из 214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804960"/>
            <a:ext cx="7129440" cy="38908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Понятие лиде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8920" y="765000"/>
            <a:ext cx="871380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Существует множество определений лидер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. Понятие лиде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1916280"/>
            <a:ext cx="87854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дерство - отношения доминирования                                   и подчинения, влияния и следования в системе межличностны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141720"/>
            <a:ext cx="87854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дерство - психологическая характеристика поведения какого-то члена группы, пользующегося наибольшим влиянием на други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4365720"/>
            <a:ext cx="87854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дерство - это конкретные действия личности                    как инициатора и организатора групповых взаимодейств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5589720"/>
            <a:ext cx="8785440" cy="1191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Лидерство - это система взаимоотношений в группе, когда один человек выступает с инициативой и берет на себя ответственность за действия групп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fefc"/>
            </a:gs>
            <a:gs pos="50000">
              <a:srgbClr val="f8fdfd"/>
            </a:gs>
            <a:gs pos="100000">
              <a:srgbClr val="d2fef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3. Лидерские ро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83664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е фундаментальные лидерские роли - роль инструментального (делового, целевого) лидера                          и роль лидера социально-эмоционального (экспрессивног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492280"/>
            <a:ext cx="4321440" cy="4337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Деловой ли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действия, направленные на организацию группы для достижения цели деятельности, решение поставленной перед группой задачи.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Это лидер, обладающий наибольшими знаниями и компетентностью, необходимыми для решения групповых задач и достижения ц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492280"/>
            <a:ext cx="4392720" cy="4642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Экспрессивный лид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ействия, относящиеся                 в основном                                       к межличностным отношениям                                      и регулирующие их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Это лидер, влияющий на эмоциональную атмосферу группы благодаря способности выражать интересы, мнения, настроения группы, уменьшать напряжение в 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6:56:57Z</dcterms:created>
  <dc:creator>Нафор Маточ</dc:creator>
  <dc:description/>
  <dc:language>en-US</dc:language>
  <cp:lastModifiedBy>1</cp:lastModifiedBy>
  <dcterms:modified xsi:type="dcterms:W3CDTF">2019-03-27T09:03:16Z</dcterms:modified>
  <cp:revision>207</cp:revision>
  <dc:subject/>
  <dc:title>Групповая дифференциация и лидерство</dc:title>
</cp:coreProperties>
</file>