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E306-8681-4674-8AB0-3751D043B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3AE8-C18E-4E64-A6E2-EAF636A14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73B7-30F0-42D7-B00C-489C2B2B9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8E34-381F-4F7A-86AA-342B1A573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5D10-F474-4155-8607-74F149AAB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9EA4-9FEA-40BB-B6B6-0121B02BF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E8C1-E189-4BA6-8344-4BEA4F89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4B14-D05F-4FE0-815D-D7C972A35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983C-47F1-4F0B-9F47-8F452F36D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1646-72A3-495F-9DAA-4CBCBC85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6D5A-D99E-4BE9-B4CE-CC47F494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C4BD-4C41-4091-AF9C-46DF2FD1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fefc"/>
            </a:gs>
            <a:gs pos="50000">
              <a:srgbClr val="f8fdfd"/>
            </a:gs>
            <a:gs pos="100000">
              <a:srgbClr val="d2fef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23414-8D93-47BE-A587-6D835F2B2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presentation-history.ru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virtual5.com.mx/articulos/wp-content/uploads/2010/07/coach-lider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fefc"/>
            </a:gs>
            <a:gs pos="50000">
              <a:srgbClr val="f8fdfd"/>
            </a:gs>
            <a:gs pos="100000">
              <a:srgbClr val="d2fef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95280" y="1125360"/>
            <a:ext cx="8353440" cy="460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4920">
                  <a:solidFill>
                    <a:srgbClr val="00008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Групповая дифференциация</a:t>
            </a:r>
            <a:endParaRPr b="1" lang="en-US" sz="1800" spc="1" strike="noStrike">
              <a:ln w="34920">
                <a:solidFill>
                  <a:srgbClr val="00008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4920">
                  <a:solidFill>
                    <a:srgbClr val="00008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и</a:t>
            </a:r>
            <a:endParaRPr b="1" lang="en-US" sz="1800" spc="1" strike="noStrike">
              <a:ln w="34920">
                <a:solidFill>
                  <a:srgbClr val="00008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4920">
                  <a:solidFill>
                    <a:srgbClr val="00008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лидерство</a:t>
            </a:r>
            <a:endParaRPr b="1" lang="en-US" sz="1800" spc="1" strike="noStrike">
              <a:ln w="34920">
                <a:solidFill>
                  <a:srgbClr val="00008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fefc"/>
            </a:gs>
            <a:gs pos="50000">
              <a:srgbClr val="f8fdfd"/>
            </a:gs>
            <a:gs pos="100000">
              <a:srgbClr val="d2fef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3. Лидерские ро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0920" y="4940280"/>
            <a:ext cx="871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ыделяют лидеров-инициаторов, лидеров-эрудитов, лидеров-генераторов эмоционального настроя, лидеров-умельцев, лидеров-организаторов и лидеров-дезорганизаторов( по направленности своих действий лидер может быть положительным и отрицательным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41148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fefc"/>
            </a:gs>
            <a:gs pos="50000">
              <a:srgbClr val="f8fdfd"/>
            </a:gs>
            <a:gs pos="100000">
              <a:srgbClr val="d2fef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3. Лидерские ро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8000" y="3716280"/>
            <a:ext cx="8928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Формальное лидерство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 -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процесс влияния на людей с позиции занимаемой должности (именно в этом смысле употребляют и термин «руководство») и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неформальное лидерство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 -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процесс влияния на людей при помощи своих способностей, умений или других ресурсов.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Формальный лидер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несет ответственность                                  за положение дел в группе и обладает официальным правом поощрения и наказ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411280" y="692280"/>
            <a:ext cx="4319640" cy="290196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sp>
        <p:nvSpPr>
          <p:cNvPr id="80" name=""/>
          <p:cNvSpPr/>
          <p:nvPr/>
        </p:nvSpPr>
        <p:spPr>
          <a:xfrm>
            <a:off x="179280" y="3860640"/>
            <a:ext cx="8748720" cy="19227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Неформальный лидер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не обладает властными полномочиями и официальными обязанностями.                  Его влияние и авторитет основаны на отношении                       к нему группы, а не на его служебном положении, должности, статусе.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fefc"/>
            </a:gs>
            <a:gs pos="50000">
              <a:srgbClr val="f8fdfd"/>
            </a:gs>
            <a:gs pos="100000">
              <a:srgbClr val="d2fef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3. Лидерские ро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3068640"/>
            <a:ext cx="8748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Если должностное влияние сочетается                                            с неофициальным лидерством, в группе формируются благоприятные взаимоотношения. Если же этого совпадения нет, то взаимоотношения в группе будут зависеть от отношений между официальным                            и неофициальным лидерами. Худшая ситуация,                       при которой неформальный лидер состоит в конфликтных отношениях с формальным лидером.                 В этом случае группа будет подвержена внутренним противоречиям и конфликтам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556000" y="692280"/>
            <a:ext cx="3960720" cy="230976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fefc"/>
            </a:gs>
            <a:gs pos="50000">
              <a:srgbClr val="f8fdfd"/>
            </a:gs>
            <a:gs pos="100000">
              <a:srgbClr val="d2fef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4. Стили лидер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6000" y="765000"/>
            <a:ext cx="87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Стилем лидерства называют совокупность приемов, применяемых лидером для оказания влияния                          на остальных членов групп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9280" y="1989000"/>
            <a:ext cx="8748720" cy="19227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Лидер-демократ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советуется с коллегами, поощряет             их инициативу, прислушивается к их аргументам, ориентируется на мнение группы, проводит обсуждение задач, часть полномочий делегирует другим членам групп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9280" y="4005360"/>
            <a:ext cx="8748720" cy="1557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Авторитарный лидер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устанавливает жесткую дисциплину, четко распределяет обязанности,                          не прислушивается к мнению группы, не устраивает дискуссий, навязывает свое мнени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1989000"/>
            <a:ext cx="8748720" cy="2654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Лидер-анархист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руководит по принципу «делайте что хотите и как хотите». Он не предъявляет требований, не настаивает, принимает все предложения членов группы, избегает столкновений, конфликтов.                       Группа практически не организована, разобщена, функциональные обязанности в ней распределяются хаотично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9280" y="4724280"/>
            <a:ext cx="8748720" cy="1557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Чаще всего лидер использует разные стили                                 в зависимости от обстоятельств.                                        Анализируя стиль того или иного лидера, можно обнаружить определенные доминирующие чер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2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fefc"/>
            </a:gs>
            <a:gs pos="50000">
              <a:srgbClr val="f8fdfd"/>
            </a:gs>
            <a:gs pos="100000">
              <a:srgbClr val="d2fef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5. Взаимоотношения в ученических групп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268360" y="1125360"/>
            <a:ext cx="4896000" cy="295596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179280" y="4149720"/>
            <a:ext cx="874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Школьный класс является официальным объединением учащихся - формальной малой группой, со своими органами самоуправления и может быть способна к самоорганизации. Школьный класс имеет основную цель, заданную обществом.                                    Такой целью для школьного класса выступают цели образования и воспитания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fefc"/>
            </a:gs>
            <a:gs pos="50000">
              <a:srgbClr val="f8fdfd"/>
            </a:gs>
            <a:gs pos="100000">
              <a:srgbClr val="d2fef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5. Взаимоотношения в ученических групп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9280" y="3500280"/>
            <a:ext cx="87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Психологически школьный класс складывается из разного рода отношений людей к общему делу и друг к другу. При сравнительно простых задачах, привычных для учеников, не требующих от них значительных совместных усилий и большой эмоциональной напряженности, личные взаимоотношения существенно не влияют на результаты работы класса. Личные взаимоотношения играют роль при решении сложных творческих зад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59280" y="1052640"/>
            <a:ext cx="3652560" cy="243684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fefc"/>
            </a:gs>
            <a:gs pos="50000">
              <a:srgbClr val="f8fdfd"/>
            </a:gs>
            <a:gs pos="100000">
              <a:srgbClr val="d2fef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5. Взаимоотношения в ученических групп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9280" y="3789360"/>
            <a:ext cx="874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 школьном классе объединены личности, которым свойственно стремиться быть непохожими на других и быть признанными другими. Если отношения в классе не создают возможностей для реализации этих стремлений, учащиеся ищут такие возможности                     в других объединениях (предметные кружки, научно-технические общества, спортивные секции, творческие студии, молодежные клубы и др.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916360" y="1125360"/>
            <a:ext cx="4032000" cy="258768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fefc"/>
            </a:gs>
            <a:gs pos="50000">
              <a:srgbClr val="f8fdfd"/>
            </a:gs>
            <a:gs pos="100000">
              <a:srgbClr val="d2fef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5. Взаимоотношения в ученических групп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229360"/>
            <a:ext cx="87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 разных объединениях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один и тот же человек может занимать разное положение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.                                       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 одном объединении учащийся может стать лидером, в другом - оставаться на позициях ведом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7416720" cy="394956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fefc"/>
            </a:gs>
            <a:gs pos="50000">
              <a:srgbClr val="f8fdfd"/>
            </a:gs>
            <a:gs pos="100000">
              <a:srgbClr val="d2fef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5. Взаимоотношения в ученических групп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9280" y="4149720"/>
            <a:ext cx="874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Особо значимы для учащихся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неформальные группы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 -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группы приятелей и друзей, возникающие как в школе,              так и вне ее. В этих группах ценится открытость отношений, искренность, независимость, свобода самовыражения. Каждый в такой группе получает возможность ощущать значимость своей личности, пользуется признанием со стороны других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771640" y="1125360"/>
            <a:ext cx="4537080" cy="292752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fefc"/>
            </a:gs>
            <a:gs pos="50000">
              <a:srgbClr val="f8fdfd"/>
            </a:gs>
            <a:gs pos="100000">
              <a:srgbClr val="d2fef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Полные блоки презентаций по всему годовому курсу по                                Обществознанию и Истории                                Вы можете найти на сайте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presentation-history.ru/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На сайте также размещены тестовые задания (с ответами) банка ФИПИ                           к ОГЭ и ЕГЭ по обществознанию, большой набор карт по истории, материалы для дополнительных занятий и многое другое.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fefc"/>
            </a:gs>
            <a:gs pos="50000">
              <a:srgbClr val="f8fdfd"/>
            </a:gs>
            <a:gs pos="100000">
              <a:srgbClr val="d2fef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План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4920" y="764640"/>
            <a:ext cx="830268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Положение личности в групп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Понятие лидер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Лидерские ро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Стили лидер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Взаимоотношения в ученических групп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132000" y="3933720"/>
            <a:ext cx="3745080" cy="27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fefc"/>
            </a:gs>
            <a:gs pos="50000">
              <a:srgbClr val="f8fdfd"/>
            </a:gs>
            <a:gs pos="100000">
              <a:srgbClr val="d2fef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340000" y="2852640"/>
            <a:ext cx="6048360" cy="21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Проработать параграф 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Подготовиться к работе на уроке по заданиям                   в конце параграф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140360" y="188640"/>
            <a:ext cx="43192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00"/>
                </a:solidFill>
                <a:latin typeface="Arial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484360" y="981000"/>
            <a:ext cx="360360" cy="432000"/>
          </a:xfrm>
          <a:prstGeom prst="line">
            <a:avLst/>
          </a:prstGeom>
          <a:ln w="22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556000" y="1413000"/>
            <a:ext cx="287280" cy="0"/>
          </a:xfrm>
          <a:prstGeom prst="line">
            <a:avLst/>
          </a:prstGeom>
          <a:ln w="22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19280" y="836640"/>
            <a:ext cx="503280" cy="216000"/>
          </a:xfrm>
          <a:prstGeom prst="ellipse">
            <a:avLst/>
          </a:prstGeom>
          <a:noFill/>
          <a:ln w="22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71640" y="765000"/>
            <a:ext cx="503280" cy="216000"/>
          </a:xfrm>
          <a:prstGeom prst="ellipse">
            <a:avLst/>
          </a:prstGeom>
          <a:noFill/>
          <a:ln w="22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908000" y="1628280"/>
            <a:ext cx="1151280" cy="71640"/>
          </a:xfrm>
          <a:prstGeom prst="line">
            <a:avLst/>
          </a:prstGeom>
          <a:ln w="22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fefc"/>
            </a:gs>
            <a:gs pos="50000">
              <a:srgbClr val="f8fdfd"/>
            </a:gs>
            <a:gs pos="100000">
              <a:srgbClr val="d2fef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79280" y="4005360"/>
            <a:ext cx="8785440" cy="28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группе протекают процессы дифференциации                   (от лат. differentia - разность) межличностного взаимодействия и выделения лидеров - членов малой группы, имеющих определенное влияние            на различные стороны ее жизни. В процессе жизнедеятельности группы одни участники выдвигаются на </a:t>
            </a: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доминирующие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, ведущие позиции, другие занимают позиции </a:t>
            </a: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ведомых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56000" y="115920"/>
            <a:ext cx="4105080" cy="384336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fefc"/>
            </a:gs>
            <a:gs pos="50000">
              <a:srgbClr val="f8fdfd"/>
            </a:gs>
            <a:gs pos="100000">
              <a:srgbClr val="d2fef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. Положение личности в групп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9280" y="4508640"/>
            <a:ext cx="878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Отношение группы к своим членам проявляется в том, что одних любят, других не любят, третьих просто не замечают, четвертых отвергают. Фактически в группе происходит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дифференциация 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разделение группы               на участников, занимающих различное положение                   в системе межличностных отнош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68360" y="692280"/>
            <a:ext cx="4897440" cy="367344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fefc"/>
            </a:gs>
            <a:gs pos="50000">
              <a:srgbClr val="f8fdfd"/>
            </a:gs>
            <a:gs pos="100000">
              <a:srgbClr val="d2fef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. Положение личности в групп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9280" y="76500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Социометрический метод позволяет определить социальный статус каждого члена группы - ег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место в иерархии внутригруппового общественного мнения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42920" y="2205000"/>
            <a:ext cx="7056360" cy="5205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ЗВЕЗДЫ и ЛИД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42920" y="2781360"/>
            <a:ext cx="7056360" cy="5205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ПРИЯТНЫЕ и ПРЕДПОЧИТАЕМ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42920" y="3357720"/>
            <a:ext cx="7056360" cy="5205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ПРЕНЕБРЕГАЕМ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42920" y="3933720"/>
            <a:ext cx="7056360" cy="5205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ИЗОЛИРОВА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42920" y="4508640"/>
            <a:ext cx="7056360" cy="5205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ВЕРЖЕ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fefc"/>
            </a:gs>
            <a:gs pos="50000">
              <a:srgbClr val="f8fdfd"/>
            </a:gs>
            <a:gs pos="100000">
              <a:srgbClr val="d2fef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. Положение личности в групп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4005360"/>
            <a:ext cx="8785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Если критерием, на основании которого осуществлялся выбор, были симпатии и антипатии относительно, например, проведения досуга (т. е. критерий эмоциональный), то человек, набравший самое большое количество голосов, - это </a:t>
            </a:r>
            <a:r>
              <a:rPr b="1" i="1" lang="en-US" sz="2000" spc="-1" strike="noStrike">
                <a:solidFill>
                  <a:srgbClr val="003300"/>
                </a:solidFill>
                <a:latin typeface="Arial"/>
              </a:rPr>
              <a:t>социометрическая звезда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или эмоциональный лидер, группы.                                                    Если выбор осуществлялся по критерию деловых функций,                    то ведущее место получает </a:t>
            </a:r>
            <a:r>
              <a:rPr b="1" i="1" lang="en-US" sz="2000" spc="-1" strike="noStrike">
                <a:solidFill>
                  <a:srgbClr val="003300"/>
                </a:solidFill>
                <a:latin typeface="Arial"/>
              </a:rPr>
              <a:t>деловой лидер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организующий деятельность группы. Часто «социометрическая звезда»                             и «деловой лидер» группы - разные люд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195640" y="692280"/>
            <a:ext cx="4824360" cy="321624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fefc"/>
            </a:gs>
            <a:gs pos="50000">
              <a:srgbClr val="f8fdfd"/>
            </a:gs>
            <a:gs pos="100000">
              <a:srgbClr val="d2fef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78920" y="4797000"/>
            <a:ext cx="8713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Лидер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(от англ. </a:t>
            </a:r>
            <a:r>
              <a:rPr b="1" i="1" lang="en" sz="2400" spc="-1" strike="noStrike">
                <a:solidFill>
                  <a:srgbClr val="333399"/>
                </a:solidFill>
                <a:latin typeface="Arial"/>
              </a:rPr>
              <a:t>leader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 - ведущий, первый, идущий впереди) - лицо в какой-либо группе, пользующееся большим, признанным авторитетом, обладающее влиянием, которое проявляется как управляющее действ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Картинка 7 из 2146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804960"/>
            <a:ext cx="7129440" cy="389088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2. Понятие лидер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fefc"/>
            </a:gs>
            <a:gs pos="50000">
              <a:srgbClr val="f8fdfd"/>
            </a:gs>
            <a:gs pos="100000">
              <a:srgbClr val="d2fef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78920" y="765000"/>
            <a:ext cx="871380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Существует множество определений лидерств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2. Понятие лидер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1916280"/>
            <a:ext cx="8785440" cy="119124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Лидерство - отношения доминирования                                   и подчинения, влияния и следования в системе межличностных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3141720"/>
            <a:ext cx="8785440" cy="119124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Лидерство - психологическая характеристика поведения какого-то члена группы, пользующегося наибольшим влиянием на других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9280" y="4365720"/>
            <a:ext cx="8785440" cy="119124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Лидерство - это конкретные действия личности                    как инициатора и организатора групповых взаимодействи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280" y="5589720"/>
            <a:ext cx="8785440" cy="119124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Лидерство - это система взаимоотношений в группе, когда один человек выступает с инициативой и берет на себя ответственность за действия группы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fefc"/>
            </a:gs>
            <a:gs pos="50000">
              <a:srgbClr val="f8fdfd"/>
            </a:gs>
            <a:gs pos="100000">
              <a:srgbClr val="d2fef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3. Лидерские ро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836640"/>
            <a:ext cx="871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Две фундаментальные лидерские роли - роль инструментального (делового, целевого) лидера                          и роль лидера социально-эмоционального (экспрессивного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9280" y="2492280"/>
            <a:ext cx="4321440" cy="4337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Деловой лид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действия, направленные на организацию группы для достижения цели деятельности, решение поставленной перед группой задачи.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Это лидер, обладающий наибольшими знаниями и компетентностью, необходимыми для решения групповых задач и достижения ц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43280" y="2492280"/>
            <a:ext cx="4392720" cy="46425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6600"/>
                </a:solidFill>
                <a:uFillTx/>
                <a:latin typeface="Arial"/>
              </a:rPr>
              <a:t>Экспрессивный лид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действия, относящиеся                 в основном                                       к межличностным отношениям                                      и регулирующие их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Это лидер, влияющий на эмоциональную атмосферу группы благодаря способности выражать интересы, мнения, настроения группы, уменьшать напряжение в 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06:56:57Z</dcterms:created>
  <dc:creator>Нафор Маточ</dc:creator>
  <dc:description/>
  <dc:language>en-US</dc:language>
  <cp:lastModifiedBy>1</cp:lastModifiedBy>
  <dcterms:modified xsi:type="dcterms:W3CDTF">2019-03-27T09:03:16Z</dcterms:modified>
  <cp:revision>207</cp:revision>
  <dc:subject/>
  <dc:title>Групповая дифференциация и лидерство</dc:title>
</cp:coreProperties>
</file>