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DDF-877E-435C-94C9-1D7E000F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F59-EF90-49CA-B852-69DF2B9F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EAB-77BB-498C-8656-064FFB0F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D6E-D012-4FD7-AE61-0AA1942A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BE8-190A-4DC3-80BE-4692169D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949-A72E-4860-82C6-8B9A174A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24D-70B0-42A7-85F0-0452248F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60F-FE0C-4D0C-96C1-C1F9784B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1A3-A311-4601-98C3-9F3F2E96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AF8-5A19-4877-B7E6-15AE6099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54E-42B0-4CD2-8ABF-22C7AFD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DDA-44A6-4B9A-877B-3C914F12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CFAA-F6B6-42DC-B52D-A42CAEAA9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news.mail.ru/pic/c4/04/840121_500_400_source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1.liveinternet.ru/images/attach/c/0/63/41/63041695_1282485343_681021_normal_700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borodynovka.narod.ru/gimn_Rossii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thumb/a/a4/Socrates_Louvre.jpg/450px-Socrates_Louvre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litzona.net/public/users/img/img_4292232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23760"/>
            <a:ext cx="831708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549360"/>
            <a:ext cx="806436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циальны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ститу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Динамика социальных инстит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 развитием общества могут исчезать старые институты (институт рабства), и возникать новы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ститут парламента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ститут президен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ститут многопартийности и 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нципы и правила их функционирования закрепляются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соответствующих зако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Социальная и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907920"/>
            <a:ext cx="8280360" cy="1557000"/>
          </a:xfrm>
          <a:prstGeom prst="rect">
            <a:avLst/>
          </a:prstGeom>
          <a:noFill/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99"/>
                </a:solidFill>
                <a:uFillTx/>
                <a:latin typeface="Arial"/>
              </a:rPr>
              <a:t>ИНФРАСТРУКТУР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(от лат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ra –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д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structura -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ение) – составные части общего устройства, носящие подчиненный. Вспомогательный характер и обеспечивающие деятельность системы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4869000"/>
            <a:ext cx="269856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395280" y="256536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 социальной инфраструктуре относят все объекты материально-вещественной среды (здания, средства связи и т.д.), которые обеспечивают трудовую, социальную, политическую, культурную и другие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2 из 133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4869000"/>
            <a:ext cx="224964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8" name="" descr="Картинка 1 из 124143"/>
          <p:cNvPicPr/>
          <p:nvPr/>
        </p:nvPicPr>
        <p:blipFill>
          <a:blip r:embed="rId4"/>
          <a:stretch/>
        </p:blipFill>
        <p:spPr>
          <a:xfrm>
            <a:off x="3132000" y="4869000"/>
            <a:ext cx="319572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Социальная и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836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жно подразделить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2 из 133000"/>
          <p:cNvPicPr/>
          <p:nvPr/>
        </p:nvPicPr>
        <p:blipFill>
          <a:blip r:embed="rId1"/>
          <a:stretch/>
        </p:blipFill>
        <p:spPr>
          <a:xfrm>
            <a:off x="755640" y="2060640"/>
            <a:ext cx="224964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24000" y="148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ЭКОНО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155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О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69892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5" name="" descr="Картинка 1 из 124143"/>
          <p:cNvPicPr/>
          <p:nvPr/>
        </p:nvPicPr>
        <p:blipFill>
          <a:blip r:embed="rId3"/>
          <a:stretch/>
        </p:blipFill>
        <p:spPr>
          <a:xfrm>
            <a:off x="324000" y="2060640"/>
            <a:ext cx="319536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508720" y="2133720"/>
            <a:ext cx="2703240" cy="180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7" name="" descr="Картинка 17 из 132985"/>
          <p:cNvPicPr/>
          <p:nvPr/>
        </p:nvPicPr>
        <p:blipFill>
          <a:blip r:embed="rId5"/>
          <a:stretch/>
        </p:blipFill>
        <p:spPr>
          <a:xfrm>
            <a:off x="5508720" y="2133720"/>
            <a:ext cx="2695320" cy="180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8" name="" descr="Картинка 2 из 46583"/>
          <p:cNvPicPr/>
          <p:nvPr/>
        </p:nvPicPr>
        <p:blipFill>
          <a:blip r:embed="rId6"/>
          <a:stretch/>
        </p:blipFill>
        <p:spPr>
          <a:xfrm>
            <a:off x="5508720" y="2133720"/>
            <a:ext cx="267804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24000" y="4149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Инфраструктура общества охватывает только те материальные условия жизнедеятельности человека, которые созданы им самим. </a:t>
            </a: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Природные факторы сюда не входя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Полные блоки презентаций по всему годовому курсу по                                Обществознанию и Истории                                Вы можете найти на сай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presentation-history.ru/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а сайте также размещены тестовые задания (с ответами) банка ФИПИ                           к ОГЭ и ЕГЭ по обществознанию, большой набор карт по истории, материалы для дополнительных занятий и многое другое.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3492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зучить параграф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 Ответить на вопросы на стр.23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. Задания стр.23-24 №1 и №5 ПИСЬМЕННО, №2,4,6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84360" y="3666960"/>
            <a:ext cx="4248360" cy="3191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нятие социального инстит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ипы социальных инстит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Функции социальных инстит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циальная инфра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3122640"/>
            <a:ext cx="4752720" cy="3570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Понятие социального инстит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2016000"/>
          </a:xfrm>
          <a:prstGeom prst="rect">
            <a:avLst/>
          </a:prstGeom>
          <a:noFill/>
          <a:ln w="3492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СОЦИАЛЬНЫЙ ИНСТИТУ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– набор социальных ролей, комплекс устойчивых общепринятых моделей поведения, совокупность норм, его регулиру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852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имволы социального институт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429000"/>
            <a:ext cx="8642160" cy="324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Государство                                    -    герб, флаг,  гим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5287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16 из 462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05360"/>
            <a:ext cx="2376360" cy="2512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2" name="" descr="Картинка 5 из 83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7080" y="3860640"/>
            <a:ext cx="1820880" cy="265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3429000"/>
            <a:ext cx="8642160" cy="324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Семья                                                                 -    ко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916360" y="3933720"/>
            <a:ext cx="3744720" cy="25844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50920" y="3429000"/>
            <a:ext cx="8642160" cy="324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059280" y="3429000"/>
            <a:ext cx="36003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Понятие социального инстит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052640"/>
            <a:ext cx="8569080" cy="48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пы становления социального института (институциализаци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зникновение насущной потребности, осознание ее обществом, формирование на этой основе общих ц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епенная выработка социальных норм, призванных регулировать соответствующую обла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здание особой системы знаков и символов, говорящих о принадлежности к данному инстит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зникновение соответствующих статусов и ро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здание материальной базы социального институ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ключение института в существующую социальную систему, выработка санкций для обеспечения ожидаемого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Понятие социального инстит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76500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4011840" cy="286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2" name="" descr="Картинка 3 из 544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68280"/>
            <a:ext cx="2857680" cy="3810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3" name="" descr="Картинка 6 из 284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91120" y="3152880"/>
            <a:ext cx="3152880" cy="37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203640" y="4221000"/>
            <a:ext cx="2174760" cy="2637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68360" y="2349360"/>
            <a:ext cx="8136000" cy="3319920"/>
          </a:xfrm>
          <a:prstGeom prst="rect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озникает в древнейшие времена, однако как особый институт общества стала оформляться только в Нов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ндонское королевское общество 166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ранцузская академия наук 166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етербургская академия наук 172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5964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Социальный  институ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овокупность лиц, занятых определенным видом деятельности и обеспечивающих удовлетворение определенной значимой для общества потребности (напр. все работники системы образо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нститут закрепляется системой правовых и нравственных норм, традиций и обыча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Социальный  институ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абилизирует социальные отношения, общество становится более устойчив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Понятие социального инстит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Типы социальных инстит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Институт с лат. – «установле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55736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ять основных общественных потреб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Потребность в воспроизводстве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Потребность в безопасности и социальном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Потребность в средствах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. Потребность в получении знаний, соци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. Потребность в решении духовн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60930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ля удовлетворения  этих основных потребностей возникли социальные институт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ститут семьи и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итические институты, особенно 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ономические институты (производ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ституты образования, науки и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ститут рели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Типы социальных инстит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1052640"/>
            <a:ext cx="561636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ПОЛИТИЧЕСКИЕ 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2276640"/>
            <a:ext cx="561636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ГОСУДАРСТВЕНН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1557360"/>
            <a:ext cx="0" cy="719280"/>
          </a:xfrm>
          <a:prstGeom prst="line">
            <a:avLst/>
          </a:prstGeom>
          <a:ln w="73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645000"/>
            <a:ext cx="388764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ИНСТИТУТ   ПРЕЗИДЕН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3645000"/>
            <a:ext cx="331308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ИНСТИТУТ        МОНАРХ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00360" y="2781360"/>
            <a:ext cx="1727280" cy="79200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81360"/>
            <a:ext cx="1800360" cy="79200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063880" cy="3284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2336760" cy="3284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62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Функции социальных инстит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98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лавная функция любого института – удовлетворение определенной социальной потре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1916280"/>
            <a:ext cx="7345440" cy="82548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ПРОИЗВОДСТВО  ПРЕДМЕТОВ 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924280"/>
            <a:ext cx="3384720" cy="247896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ЯВ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Удовлетворение потребностей в пище, одежде, комфортной среде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2924280"/>
            <a:ext cx="3384360" cy="284472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СКРЫТ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Удовлетворяет потребности человека в повышении собственного прести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916280"/>
            <a:ext cx="7345440" cy="82548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СРЕДСТВА   МАССОВОЙ                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924280"/>
            <a:ext cx="3384720" cy="266940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ЯВ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Информировать население о происходящих событ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2924280"/>
            <a:ext cx="3384360" cy="284472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СКРЫТ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Внедряют в сознание людей определенные установки, модели ожидаем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5635800"/>
            <a:ext cx="8569080" cy="119124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скрытые функции приобретают негативный характер, а главные функции не реализуются говорят о ДИСФУНКЦИИ социального инстит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41:29Z</dcterms:created>
  <dc:creator>Нафор Маточ.</dc:creator>
  <dc:description/>
  <dc:language>en-US</dc:language>
  <cp:lastModifiedBy>1</cp:lastModifiedBy>
  <dcterms:modified xsi:type="dcterms:W3CDTF">2019-03-27T09:56:29Z</dcterms:modified>
  <cp:revision>89</cp:revision>
  <dc:subject/>
  <dc:title>Социальные институты</dc:title>
</cp:coreProperties>
</file>