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EE0F-1814-4356-AC9C-4FB70A20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AF6-E91A-464D-B4DF-2169AFD5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03F-FBB5-4183-8F44-E4F75E62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C81-E7FE-425F-8C22-004538DF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649-3AC3-4A00-B8BD-2C99354C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305-F10F-4C97-ACD6-DD3A004A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F1A-0BF4-44F6-8E4A-9D6A2FD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9D3-8621-4C1F-A647-1E326FA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18B-45DE-47B6-B437-22A484D3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18D-200A-413A-ADE3-3C9E6E7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A88-7354-4526-8896-B7660A8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358-31B9-4DA8-938D-6FA7C80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9B8C-EF77-462E-8CF2-1192B52F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news.mail.ru/pic/c4/04/840121_500_400_source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g1.liveinternet.ru/images/attach/c/0/63/41/63041695_1282485343_681021_normal_700.jp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borodynovka.narod.ru/gimn_Rossii.jpg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upload.wikimedia.org/wikipedia/commons/thumb/a/a4/Socrates_Louvre.jpg/450px-Socrates_Louvre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litzona.net/public/users/img/img_4292232.jpg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23760"/>
            <a:ext cx="831708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84360" y="549360"/>
            <a:ext cx="8064360" cy="341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Социальны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ститу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Динамика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 развитием общества могут исчезать старые институты (институт рабства), и возникать новы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парламентар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президен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нститут многопартийности и 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нципы и правила их функционирования закрепляются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 соответствующих зако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оциа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907920"/>
            <a:ext cx="8280360" cy="1557000"/>
          </a:xfrm>
          <a:prstGeom prst="rect">
            <a:avLst/>
          </a:prstGeom>
          <a:noFill/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3399"/>
                </a:solidFill>
                <a:uFillTx/>
                <a:latin typeface="Arial"/>
              </a:rPr>
              <a:t>ИНФРАСТРУКТУР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(от лат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fra –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под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structura -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ение) – составные части общего устройства, носящие подчиненный. Вспомогательный характер и обеспечивающие деятельность системы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4869000"/>
            <a:ext cx="269856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95280" y="256536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 социальной инфраструктуре относят все объекты материально-вещественной среды (здания, средства связи и т.д.), которые обеспечивают трудовую, социальную, политическую, культурную и другие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Картинка 2 из 133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4869000"/>
            <a:ext cx="22496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98" name="" descr="Картинка 1 из 124143"/>
          <p:cNvPicPr/>
          <p:nvPr/>
        </p:nvPicPr>
        <p:blipFill>
          <a:blip r:embed="rId4"/>
          <a:stretch/>
        </p:blipFill>
        <p:spPr>
          <a:xfrm>
            <a:off x="3132000" y="4869000"/>
            <a:ext cx="319572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оциальная инфраструк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836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Можно подразделить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Картинка 2 из 133000"/>
          <p:cNvPicPr/>
          <p:nvPr/>
        </p:nvPicPr>
        <p:blipFill>
          <a:blip r:embed="rId1"/>
          <a:stretch/>
        </p:blipFill>
        <p:spPr>
          <a:xfrm>
            <a:off x="755640" y="2060640"/>
            <a:ext cx="22496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324000" y="148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ЭКОНОМ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0000" y="1557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О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69892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5" name="" descr="Картинка 1 из 124143"/>
          <p:cNvPicPr/>
          <p:nvPr/>
        </p:nvPicPr>
        <p:blipFill>
          <a:blip r:embed="rId3"/>
          <a:stretch/>
        </p:blipFill>
        <p:spPr>
          <a:xfrm>
            <a:off x="324000" y="2060640"/>
            <a:ext cx="319536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2133720"/>
            <a:ext cx="2703240" cy="180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7" name="" descr="Картинка 17 из 132985"/>
          <p:cNvPicPr/>
          <p:nvPr/>
        </p:nvPicPr>
        <p:blipFill>
          <a:blip r:embed="rId5"/>
          <a:stretch/>
        </p:blipFill>
        <p:spPr>
          <a:xfrm>
            <a:off x="5508720" y="2133720"/>
            <a:ext cx="2695320" cy="1800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08" name="" descr="Картинка 2 из 46583"/>
          <p:cNvPicPr/>
          <p:nvPr/>
        </p:nvPicPr>
        <p:blipFill>
          <a:blip r:embed="rId6"/>
          <a:stretch/>
        </p:blipFill>
        <p:spPr>
          <a:xfrm>
            <a:off x="5508720" y="2133720"/>
            <a:ext cx="2678040" cy="179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24000" y="4149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Arial"/>
              </a:rPr>
              <a:t>Инфраструктура общества охватывает только те материальные условия жизнедеятельности человека, которые созданы им самим. </a:t>
            </a: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Природные факторы сюда не входя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presentation-history.ru/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Изучить параграф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 Ответить на вопросы на стр.23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3. Задания стр.23-24 №1 и №5 ПИСЬМЕННО, №2,4,6 уст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4360" y="3666960"/>
            <a:ext cx="4248360" cy="3191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ие социального инстит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Типы социальных инстит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Функции социальных институ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оциальная инфра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3122640"/>
            <a:ext cx="4752720" cy="3570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2016000"/>
          </a:xfrm>
          <a:prstGeom prst="rect">
            <a:avLst/>
          </a:prstGeom>
          <a:noFill/>
          <a:ln w="3492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СОЦИАЛЬНЫЙ ИНСТИТУ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– набор социальных ролей, комплекс устойчивых общепринятых моделей поведения, совокупность норм, его регулиру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2852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имволы социального института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Государство                                    -    герб, флаг,  гим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59280" y="4149720"/>
            <a:ext cx="3528720" cy="2352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Картинка 16 из 4621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005360"/>
            <a:ext cx="2376360" cy="2512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2" name="" descr="Картинка 5 из 837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77080" y="3860640"/>
            <a:ext cx="1820880" cy="265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Семья                                                                 -    ко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916360" y="3933720"/>
            <a:ext cx="3744720" cy="25844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50920" y="3429000"/>
            <a:ext cx="8642160" cy="324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3429000"/>
            <a:ext cx="360036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052640"/>
            <a:ext cx="8569080" cy="48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апы становления социального института (институциализац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зникновение насущной потребности, осознание ее обществом, формирование на этой основе общих це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епенная выработка социальных норм, призванных регулировать соответствующую обла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здание особой системы знаков и символов, говорящих о принадлежности к данному инстит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озникновение соответствующих статусов и роле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оздание материальной базы социального институ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ключение института в существующую социальную систему, выработка санкций для обеспечения ожидаем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76500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Arial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4011840" cy="286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2" name="" descr="Картинка 3 из 5447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68280"/>
            <a:ext cx="2857680" cy="3810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63" name="" descr="Картинка 6 из 2845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91120" y="3152880"/>
            <a:ext cx="3152880" cy="370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03640" y="4221000"/>
            <a:ext cx="2174760" cy="2637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68360" y="2349360"/>
            <a:ext cx="8136000" cy="3319920"/>
          </a:xfrm>
          <a:prstGeom prst="rect">
            <a:avLst/>
          </a:prstGeom>
          <a:solidFill>
            <a:srgbClr val="ccffff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Возникает в древнейшие времена, однако как особый институт общества стала оформляться только в Нов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Лондонское королевское общество 166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Французская академия наук 1666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етербургская академия наук 172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75964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ff3399"/>
                </a:solidFill>
                <a:uFillTx/>
                <a:latin typeface="Arial"/>
              </a:rPr>
              <a:t>Социальный  институ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овокупность лиц, занятых определенным видом деятельности и обеспечивающих удовлетворение определенной значимой для общества потребности (напр. все работники системы образова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нститут закрепляется системой правовых и нравственных норм, традиций и обыча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Социальный  институ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табилизирует социальные отношения, общество становится более устойчив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. Понятие социального институ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Типы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836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99"/>
                </a:solidFill>
                <a:uFillTx/>
                <a:latin typeface="Arial"/>
              </a:rPr>
              <a:t>Институт с лат. – «установлени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55736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Пять основных общественных потребно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. Потребность в воспроизводстве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. Потребность в безопасности и социальном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. Потребность в средствах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Потребность в получении знаний, социал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. Потребность в решении духовн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60930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я удовлетворения  этих основных потребностей возникли социальные институты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 семьи и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итические институты, особенно госу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ономические институты (производств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ы образования, науки и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ститут рели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Типы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1052640"/>
            <a:ext cx="561636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ПОЛИТИЧЕСКИЕ 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35280" y="2276640"/>
            <a:ext cx="561636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ГОСУДАРСТВЕННЫЕ ИНСТИТ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1557360"/>
            <a:ext cx="0" cy="719280"/>
          </a:xfrm>
          <a:prstGeom prst="line">
            <a:avLst/>
          </a:prstGeom>
          <a:ln w="73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3645000"/>
            <a:ext cx="388764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ИНСТИТУТ   ПРЕЗИДЕНТ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3645000"/>
            <a:ext cx="3313080" cy="825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ИНСТИТУТ        МОНАРХ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700360" y="2781360"/>
            <a:ext cx="1727280" cy="79200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2781360"/>
            <a:ext cx="1800360" cy="79200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27640" y="3573360"/>
            <a:ext cx="2063880" cy="328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336760" cy="3284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dd"/>
            </a:gs>
            <a:gs pos="50000">
              <a:srgbClr val="ffffcc"/>
            </a:gs>
            <a:gs pos="100000">
              <a:srgbClr val="fefed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Функции социальных институ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981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лавная функция любого института – удовлетворение определенной социальной потреб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916280"/>
            <a:ext cx="7345440" cy="82548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ПРОИЗВОДСТВО  ПРЕДМЕТОВ  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924280"/>
            <a:ext cx="3384720" cy="247896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Я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Удовлетворение потребностей в пище, одежде, комфортной среде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2924280"/>
            <a:ext cx="3384360" cy="2844720"/>
          </a:xfrm>
          <a:prstGeom prst="rect">
            <a:avLst/>
          </a:prstGeom>
          <a:noFill/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КРЫ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Удовлетворяет потребности человека в повышении собственного прести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1916280"/>
            <a:ext cx="7345440" cy="82548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РЕДСТВА   МАССОВОЙ                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924280"/>
            <a:ext cx="3384720" cy="266940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ЯВ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Информировать население о происходящих событ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2924280"/>
            <a:ext cx="3384360" cy="2844720"/>
          </a:xfrm>
          <a:prstGeom prst="rect">
            <a:avLst/>
          </a:prstGeom>
          <a:solidFill>
            <a:srgbClr val="ccffff"/>
          </a:solidFill>
          <a:ln w="34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СКРЫТ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Внедряют в сознание людей определенные установки, модели ожидаем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5635800"/>
            <a:ext cx="8569080" cy="1191240"/>
          </a:xfrm>
          <a:prstGeom prst="rect">
            <a:avLst/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скрытые функции приобретают негативный характер, а главные функции не реализуются говорят о ДИСФУНКЦИИ социального инстит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1:41:29Z</dcterms:created>
  <dc:creator>Нафор Маточ.</dc:creator>
  <dc:description/>
  <dc:language>en-US</dc:language>
  <cp:lastModifiedBy>1</cp:lastModifiedBy>
  <dcterms:modified xsi:type="dcterms:W3CDTF">2019-03-27T09:56:29Z</dcterms:modified>
  <cp:revision>89</cp:revision>
  <dc:subject/>
  <dc:title>Социальные институты</dc:title>
</cp:coreProperties>
</file>