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FB1-FF68-4C40-99AD-4252CA24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E2D-9A0F-495E-B469-33C283B4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2AC-09A2-4D70-A414-57E655B5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95D-3D51-4980-A915-DA2DE6CF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457-6BE3-490F-B6C2-500D32A6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029-A190-4B9F-A1F1-38B4233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14F-5AE8-4F80-A1F9-BC73E107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E6B-1502-46C0-9013-62636140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ADF-C054-4955-89F8-580139D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7C4-F519-485D-BB80-71F825EF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617-C552-4B0D-BCBD-23105EBC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DC6-4B1B-4F8C-A8F9-709C5F3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755-74AA-4D12-BD48-FBC81D7C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2/70/819/70819293_Demetra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hutorskoy.ru/travel/greece/delphi/khutorskoy_ru_100_222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0760" cy="605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1484280"/>
            <a:ext cx="640872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66">
                    <a:alpha val="95000"/>
                  </a:srgbClr>
                </a:solidFill>
                <a:latin typeface="Arial"/>
              </a:rPr>
              <a:t>Религия 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66">
                  <a:alpha val="95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66">
                    <a:alpha val="95000"/>
                  </a:srgbClr>
                </a:solidFill>
                <a:latin typeface="Arial"/>
              </a:rPr>
              <a:t>древних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66">
                  <a:alpha val="95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66">
                    <a:alpha val="95000"/>
                  </a:srgbClr>
                </a:solidFill>
                <a:latin typeface="Arial"/>
              </a:rPr>
              <a:t>греков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66">
                  <a:alpha val="95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иф о Деметре и Персеф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4652640"/>
            <a:ext cx="86630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кройте параграф 28 и прочитайте раздел                      «Миф о Деметре и ее дочери Персефо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65000"/>
            <a:ext cx="2847960" cy="38102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64000" y="765000"/>
            <a:ext cx="3543480" cy="38102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059280" y="1197000"/>
            <a:ext cx="1944360" cy="100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еметра – богиня плодоро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141720"/>
            <a:ext cx="1944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ерсефона – богиня подземного ц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5734080"/>
            <a:ext cx="8713800" cy="1008720"/>
          </a:xfrm>
          <a:prstGeom prst="rect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те какие явления природы призван объяснить этот миф. Какой миф в Древнем Египте был посвящен                                           такому же явлению приро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771640" y="765000"/>
            <a:ext cx="3403800" cy="6093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Миф о Промет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24000" y="907920"/>
            <a:ext cx="5040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юди в древние времена были дикими, ходили в шкурах, ели сырое мясо.                            Титан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омете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ожалел их и похитил из кузницы бога Гефеста ого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5200" y="765000"/>
            <a:ext cx="3741840" cy="6093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67280" y="3573360"/>
            <a:ext cx="5076720" cy="3019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Миф о Промет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92360" y="836280"/>
            <a:ext cx="3598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Этот поступок Прометея страшно разозлил Зевса и он приказал приковать его навечно к скале. Каждый день прилетал орел и клевал его печень, доставляя Прометею ужасные страдания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811400" cy="5904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Миф о Промет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40360" y="836280"/>
            <a:ext cx="4751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ного столетий промучился Прометей, прикованным к скале.               Но он не раскаялся в совершенном поступке            и не попросил пощады           у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Зевс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                         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омете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пасло его умение предсказывать будущее.                                       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Геракл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 разрешения Зевса освободил Прометея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940200" cy="5904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Полные блоки презентаций по всему годовому курсу по                                Обществознанию и Истории                                Вы можете найти на сай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presentation-history.ru/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а сайте также размещены тестовые задания (с ответами) банка ФИПИ                           к ОГЭ и ЕГЭ по обществознанию, большой набор карт по истории, материалы для дополнительных занятий и многое другое.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зучить параграф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Запомнить основных богов Древней Гре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2598840"/>
            <a:ext cx="5688360" cy="4259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8497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иф о Деметре и ее дочери Персеф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иф о Промет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049800" cy="40831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907920"/>
            <a:ext cx="84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ревние греки верили во множество б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ревние греки считали, что главные боги живут на вершине высокой горы Олимп на севере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8604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78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11280" y="2637000"/>
            <a:ext cx="1224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а Оли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6000" y="2133720"/>
            <a:ext cx="1224000" cy="50328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19280" y="1125000"/>
            <a:ext cx="3924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ора Олимп находится на севере Греции.   На границе Фессалии и Макед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5640" y="836280"/>
            <a:ext cx="4897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лавным среди богов был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Зев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Он правил на земле и на небе, подземное царство он отдал в управление своему брату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Аиду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а морем правил еще один брат –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осейдо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816360" cy="6021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284720" y="3645000"/>
            <a:ext cx="460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а олимпе жили также богини сестры Зевса –               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Гер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Деметр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и боги – дети Зев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5516640"/>
            <a:ext cx="4319280" cy="1191240"/>
          </a:xfrm>
          <a:prstGeom prst="rect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Кого из изображенных на картинке богов вы можете наз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7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32360" y="98100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Зевс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– главный среди б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203720" cy="4724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59119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тешествие Посейдона по мор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26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2637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Бог подземного царства мертвых А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719520" cy="6093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49417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Древние греки считали, что все, что происходит зависит от воли богов. Они строили множество посвященных богам храмов, приносили им дары и жерт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6408720" cy="4268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3:27Z</dcterms:created>
  <dc:creator>Нафор Маточ</dc:creator>
  <dc:description/>
  <dc:language>en-US</dc:language>
  <cp:lastModifiedBy>1</cp:lastModifiedBy>
  <dcterms:modified xsi:type="dcterms:W3CDTF">2019-03-27T10:06:05Z</dcterms:modified>
  <cp:revision>185</cp:revision>
  <dc:subject/>
  <dc:title>Религия древних греков</dc:title>
</cp:coreProperties>
</file>