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1172-6921-48E1-8B97-59045B26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4C10-7A25-42F0-9C49-AB6071E7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543A-C457-49A3-8609-EE6CD123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A6B-FE0A-43AC-AF5D-1ECAC59B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859-DAD4-48BB-9D3C-1428CCBE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9E6-CBC9-41B0-AF63-18E012B7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523F-024A-4983-B69F-1F62F6DC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A55D-719E-46F1-BFA5-047A142D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1E6-C3C5-40DC-A3F8-01DCF843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3469-0FDE-4785-9DDD-B4E8E570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E571-C6A6-43CC-BC9B-97D990B3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C51-79F2-43F4-ABB3-0525ACFD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7F7C-D157-4CA1-B8BB-F64CC03AB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2/70/819/70819293_Demetra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hutorskoy.ru/travel/greece/delphi/khutorskoy_ru_100_2222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98480"/>
            <a:ext cx="9140760" cy="605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92360" y="1484280"/>
            <a:ext cx="640872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ff9966">
                    <a:alpha val="95000"/>
                  </a:srgbClr>
                </a:solidFill>
                <a:latin typeface="Arial"/>
              </a:rPr>
              <a:t>Религия </a:t>
            </a:r>
            <a:endParaRPr b="1" lang="en-US" sz="1800" spc="1" strike="noStrike">
              <a:ln w="22320">
                <a:solidFill>
                  <a:srgbClr val="0000ff"/>
                </a:solidFill>
                <a:miter/>
              </a:ln>
              <a:solidFill>
                <a:srgbClr val="ff9966">
                  <a:alpha val="95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ff9966">
                    <a:alpha val="95000"/>
                  </a:srgbClr>
                </a:solidFill>
                <a:latin typeface="Arial"/>
              </a:rPr>
              <a:t>древних</a:t>
            </a:r>
            <a:endParaRPr b="1" lang="en-US" sz="1800" spc="1" strike="noStrike">
              <a:ln w="22320">
                <a:solidFill>
                  <a:srgbClr val="0000ff"/>
                </a:solidFill>
                <a:miter/>
              </a:ln>
              <a:solidFill>
                <a:srgbClr val="ff9966">
                  <a:alpha val="95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ff9966">
                    <a:alpha val="95000"/>
                  </a:srgbClr>
                </a:solidFill>
                <a:latin typeface="Arial"/>
              </a:rPr>
              <a:t>греков</a:t>
            </a:r>
            <a:endParaRPr b="1" lang="en-US" sz="1800" spc="1" strike="noStrike">
              <a:ln w="22320">
                <a:solidFill>
                  <a:srgbClr val="0000ff"/>
                </a:solidFill>
                <a:miter/>
              </a:ln>
              <a:solidFill>
                <a:srgbClr val="ff9966">
                  <a:alpha val="95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Миф о Деметре и Персеф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4652640"/>
            <a:ext cx="86630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ткройте параграф 28 и прочитайте раздел                      «Миф о Деметре и ее дочери Персефон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765000"/>
            <a:ext cx="2847960" cy="381024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364000" y="765000"/>
            <a:ext cx="3543480" cy="381024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3059280" y="1197000"/>
            <a:ext cx="1944360" cy="1008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Деметра – богиня плодоро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3141720"/>
            <a:ext cx="194472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Персефона – богиня подземного ц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5734080"/>
            <a:ext cx="8713800" cy="1008720"/>
          </a:xfrm>
          <a:prstGeom prst="rect">
            <a:avLst/>
          </a:prstGeom>
          <a:noFill/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те какие явления природы призван объяснить этот миф. Какой миф в Древнем Египте был посвящен                                           такому же явлению приро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771640" y="765000"/>
            <a:ext cx="3403800" cy="6093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Миф о Промет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24000" y="907920"/>
            <a:ext cx="50403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Люди в древние времена были дикими, ходили в шкурах, ели сырое мясо.                            Титан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Прометей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пожалел их и похитил из кузницы бога Гефеста ого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95200" y="765000"/>
            <a:ext cx="3741840" cy="609300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067280" y="3573360"/>
            <a:ext cx="5076720" cy="30196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Миф о Промет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92360" y="836280"/>
            <a:ext cx="35989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Этот поступок Прометея страшно разозлил Зевса и он приказал приковать его навечно к скале. Каждый день прилетал орел и клевал его печень, доставляя Прометею ужасные страдания.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4811400" cy="590400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Миф о Промет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140360" y="836280"/>
            <a:ext cx="47512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ного столетий промучился Прометей, прикованным к скале.               Но он не раскаялся в совершенном поступке            и не попросил пощады           у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Зевс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                          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Прометея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спасло его умение предсказывать будущее.                                       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Геракл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с разрешения Зевса освободил Прометея.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3940200" cy="590400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Полные блоки презентаций по всему годовому курсу по                                Обществознанию и Истории                                Вы можете найти на сайт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presentation-history.ru/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На сайте также размещены тестовые задания (с ответами) банка ФИПИ                           к ОГЭ и ЕГЭ по обществознанию, большой набор карт по истории, материалы для дополнительных занятий и многое другое.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Изучить параграф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Запомнить основных богов Древней Гре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8000" y="2598840"/>
            <a:ext cx="5688360" cy="42591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691920"/>
            <a:ext cx="84978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Боги Г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иф о Деметре и ее дочери Персеф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Миф о Промет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6049800" cy="408312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 Боги Гре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907920"/>
            <a:ext cx="842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ревние греки верили во множество бо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ревние греки считали, что главные боги живут на вершине высокой горы Олимп на севере Гре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860400"/>
            <a:ext cx="914400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781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411280" y="2637000"/>
            <a:ext cx="12240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а Олим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6000" y="2133720"/>
            <a:ext cx="1224000" cy="503280"/>
          </a:xfrm>
          <a:prstGeom prst="line">
            <a:avLst/>
          </a:prstGeom>
          <a:ln w="73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219280" y="1125000"/>
            <a:ext cx="3924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Гора Олимп находится на севере Греции.   На границе Фессалии и Македо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 Боги Гре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95640" y="836280"/>
            <a:ext cx="4897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лавным среди богов был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Зев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 Он правил на земле и на небе, подземное царство он отдал в управление своему брату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Аиду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, а морем правил еще один брат –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Посейдон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816360" cy="60213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4284720" y="3645000"/>
            <a:ext cx="4608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На олимпе жили также богини сестры Зевса –               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Гер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и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Деметр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и боги – дети Зев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5516640"/>
            <a:ext cx="4319280" cy="1191240"/>
          </a:xfrm>
          <a:prstGeom prst="rect">
            <a:avLst/>
          </a:prstGeom>
          <a:noFill/>
          <a:ln w="22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Кого из изображенных на картинке богов вы можете наз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5600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Боги Гре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79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932360" y="981000"/>
            <a:ext cx="35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Зевс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– главный среди бо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203720" cy="4724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Боги Гре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59119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утешествие Посейдона по мор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61440" cy="50263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Боги Гре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4720" y="263700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Бог подземного царства мертвых А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3719520" cy="609300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eea"/>
            </a:gs>
            <a:gs pos="50000">
              <a:srgbClr val="ccffcc"/>
            </a:gs>
            <a:gs pos="100000">
              <a:srgbClr val="eafee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Боги Гре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49417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Древние греки считали, что все, что происходит зависит от воли богов. Они строили множество посвященных богам храмов, приносили им дары и жерт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692280"/>
            <a:ext cx="6408720" cy="426852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17:03:27Z</dcterms:created>
  <dc:creator>Нафор Маточ</dc:creator>
  <dc:description/>
  <dc:language>en-US</dc:language>
  <cp:lastModifiedBy>1</cp:lastModifiedBy>
  <dcterms:modified xsi:type="dcterms:W3CDTF">2019-03-27T10:06:05Z</dcterms:modified>
  <cp:revision>185</cp:revision>
  <dc:subject/>
  <dc:title>Религия древних греков</dc:title>
</cp:coreProperties>
</file>