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CA5-1DF6-4E5B-A82B-EE18C8F3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044-75BE-4A37-A0A1-64EC3EDB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8EA5-07B4-48E2-AE5D-17543628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5AC-4097-4D0D-8F71-4CDE0837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A5A-42F0-4226-BFB7-AF547C0E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036-619B-4760-B893-C9891329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A98-5DD2-4EFB-9266-9B23F169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B33-5C4E-40B0-B2F3-C4F73690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845-D735-4D8E-88E3-F1A9AEA5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2CDB-E008-46F0-A278-CC7F9DB4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8E1D-CC78-4537-B1E0-57993862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759-DE15-4B61-B8FA-1D3A7F2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A0AD-9B42-42F4-A8B6-94F561B44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4400" spc="-1" strike="noStrike">
                <a:solidFill>
                  <a:srgbClr val="000000"/>
                </a:solidFill>
                <a:latin typeface="Calibri"/>
              </a:rPr>
              <a:t>Тема: </a:t>
            </a:r>
            <a:r>
              <a:rPr b="0" i="1" lang="ba-RU" sz="4400" spc="-1" strike="noStrike">
                <a:solidFill>
                  <a:srgbClr val="000000"/>
                </a:solidFill>
                <a:latin typeface="Calibri"/>
              </a:rPr>
              <a:t>Признаки параллельности прямых.</a:t>
            </a:r>
            <a:br>
              <a:rPr sz="4400"/>
            </a:br>
            <a:br>
              <a:rPr sz="4400"/>
            </a:b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Цель урока: </a:t>
            </a:r>
            <a:r>
              <a:rPr b="0" i="1" lang="ba-RU" sz="2400" spc="-1" strike="noStrike">
                <a:solidFill>
                  <a:srgbClr val="000000"/>
                </a:solidFill>
                <a:latin typeface="Calibri"/>
              </a:rPr>
              <a:t>повторить признаки параллельности прямых, уметь применять при решении зад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4508280"/>
            <a:ext cx="5184720" cy="15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Урок геометрии, 7клас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Подготовила: Герасимова А.Р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a-RU" sz="2400" spc="-1" strike="noStrike">
                <a:solidFill>
                  <a:srgbClr val="000000"/>
                </a:solidFill>
                <a:latin typeface="Calibri"/>
              </a:rPr>
              <a:t>г. Сург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а: повторить признаки параллельности прям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повторил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аучил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не понял(а)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бы хотелось поделиться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думающий ученик картинки: 2 тыс изображений найдено в Яндекс ..."/>
          <p:cNvPicPr/>
          <p:nvPr/>
        </p:nvPicPr>
        <p:blipFill>
          <a:blip r:embed="rId1"/>
          <a:stretch/>
        </p:blipFill>
        <p:spPr>
          <a:xfrm>
            <a:off x="6012000" y="378936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Признаки параллельности прямых. 7 класс геометрия. - математика, презентации"/>
          <p:cNvPicPr/>
          <p:nvPr/>
        </p:nvPicPr>
        <p:blipFill>
          <a:blip r:embed="rId2"/>
          <a:stretch/>
        </p:blipFill>
        <p:spPr>
          <a:xfrm>
            <a:off x="324000" y="189000"/>
            <a:ext cx="8448480" cy="63356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2268360" y="1052640"/>
            <a:ext cx="50403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Трапеция: свойства, признаки, площадь, средняя линия - материалы для  подготовки к ЕГЭ"/>
          <p:cNvPicPr/>
          <p:nvPr/>
        </p:nvPicPr>
        <p:blipFill>
          <a:blip r:embed="rId2"/>
          <a:stretch/>
        </p:blipFill>
        <p:spPr>
          <a:xfrm>
            <a:off x="611280" y="260280"/>
            <a:ext cx="74898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Параллельные прямые - Геометрия - Презентации - 7 класс"/>
          <p:cNvPicPr/>
          <p:nvPr/>
        </p:nvPicPr>
        <p:blipFill>
          <a:blip r:embed="rId2"/>
          <a:stretch/>
        </p:blipFill>
        <p:spPr>
          <a:xfrm>
            <a:off x="250920" y="189000"/>
            <a:ext cx="8545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Углы при 2-х параллельных прямых и секущей"/>
          <p:cNvPicPr/>
          <p:nvPr/>
        </p:nvPicPr>
        <p:blipFill>
          <a:blip r:embed="rId2"/>
          <a:stretch/>
        </p:blipFill>
        <p:spPr>
          <a:xfrm>
            <a:off x="826920" y="404640"/>
            <a:ext cx="727416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&lt;2,3,4,5,6,7,8-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Две параллельные прямые — свойства и признаки"/>
          <p:cNvPicPr/>
          <p:nvPr/>
        </p:nvPicPr>
        <p:blipFill>
          <a:blip r:embed="rId1"/>
          <a:stretch/>
        </p:blipFill>
        <p:spPr>
          <a:xfrm>
            <a:off x="1332000" y="404640"/>
            <a:ext cx="5924520" cy="4365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211640" y="620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угол 1 и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249800" cy="3456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3"/>
          <a:stretch/>
        </p:blipFill>
        <p:spPr>
          <a:xfrm>
            <a:off x="4716360" y="476280"/>
            <a:ext cx="3888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lt;2 - &lt;1=44                                       &lt;АВС-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lt;1, &lt;2 -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Параллельные прямые. Обратные теоремы - презентация онлайн"/>
          <p:cNvPicPr/>
          <p:nvPr/>
        </p:nvPicPr>
        <p:blipFill>
          <a:blip r:embed="rId2"/>
          <a:stretch/>
        </p:blipFill>
        <p:spPr>
          <a:xfrm>
            <a:off x="1116000" y="1498680"/>
            <a:ext cx="7031160" cy="5273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1154160" y="32162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154160" y="19098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580000" y="2998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18584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540400" y="501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1:27Z</dcterms:created>
  <dc:creator>Admin</dc:creator>
  <dc:description/>
  <dc:language>en-US</dc:language>
  <cp:lastModifiedBy>Админ</cp:lastModifiedBy>
  <dcterms:modified xsi:type="dcterms:W3CDTF">2023-07-14T12:24:51Z</dcterms:modified>
  <cp:revision>201</cp:revision>
  <dc:subject/>
  <dc:title>Слайд 1</dc:title>
</cp:coreProperties>
</file>