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5064-CF86-4CEA-94AC-181CD9019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B3E4-E5FA-4E81-8123-AFA12A06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2E63-D1D6-43D9-A32A-85A7E58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A960-4B6D-4A14-A440-2EC7B24D6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AC3E-43DE-4844-8399-4F73725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8E7C-65BE-4331-B2AE-27D6CB0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5D58-ECB1-45C1-A102-AA39C907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78C7-C623-4683-AE1D-E61263CE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4E40-5F14-4CEC-949D-79034892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5BC6-23A4-479E-8EDB-1208399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1B23F-DAC3-4152-8361-172B2198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22BA-33A7-42CF-9003-6C679F8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590B24-46B4-40C5-81E1-BB95A55E46A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1214280" y="1785960"/>
            <a:ext cx="6472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Monotype Corsiva"/>
              </a:rPr>
              <a:t>ПТИЦЫ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страу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яйца страуса.jpg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1763640" y="5732640"/>
            <a:ext cx="5832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ЯЙЦО   СТРАУС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крок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кро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з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мура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ингв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попуга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74 из 2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ИНГВИН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4548240" cy="54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86000" y="357120"/>
            <a:ext cx="4429080" cy="54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ТРАУ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ельфи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дель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есня дельфина.mp3" descr=""/>
          <p:cNvPicPr/>
          <p:nvPr/>
        </p:nvPicPr>
        <p:blipFill>
          <a:blip r:embed="rId2"/>
          <a:stretch/>
        </p:blipFill>
        <p:spPr>
          <a:xfrm>
            <a:off x="8317080" y="476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2199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357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Рисунок 3" descr="черепаха.jpg"/>
          <p:cNvPicPr/>
          <p:nvPr/>
        </p:nvPicPr>
        <p:blipFill>
          <a:blip r:embed="rId1"/>
          <a:stretch/>
        </p:blipFill>
        <p:spPr>
          <a:xfrm>
            <a:off x="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черепах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9:48:17Z</dcterms:created>
  <dc:creator>Administrator</dc:creator>
  <dc:description/>
  <dc:language>en-US</dc:language>
  <cp:lastModifiedBy>Эльдорадо</cp:lastModifiedBy>
  <dcterms:modified xsi:type="dcterms:W3CDTF">2017-02-06T12:18:49Z</dcterms:modified>
  <cp:revision>52</cp:revision>
  <dc:subject/>
  <dc:title>Презентация к уроку 1 класс, А.А. Плешаков «Мир вокруг нас» </dc:title>
</cp:coreProperties>
</file>