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5C97-814A-495F-9990-C69964161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DBD8-43F4-4A5A-B362-9D5D3827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F6F3-D38C-4669-8C5A-B81FFA5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7EB5-66C5-4178-BBED-E1C6E133B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8DDE-4B73-4733-8D5A-FD3C7AD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E07B-00C7-4397-AC40-E6BA938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436A-F424-42D9-8BA5-A1E47048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A52E-1513-4702-899D-08E2E5CB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35F8-28D5-4AB6-80AF-31455387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726F-A18A-4C43-BCB9-D256FE7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7409-3E12-45DD-939C-2C9DBFA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6117-F3F2-4ED6-BF59-ECA9CAB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098099-AAC0-48F4-A088-7407D6ACA67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14280" y="1785960"/>
            <a:ext cx="6472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Monotype Corsiva"/>
              </a:rPr>
              <a:t>ПТИЦЫ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трау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яйца страуса.jpg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1763640" y="5732640"/>
            <a:ext cx="5832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ЙЦО   СТРАУС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крок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кр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з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мура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ингв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попуга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74 из 2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ИНГВИН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454824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429080" cy="54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ТРАУ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льф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дель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есня дельфина.mp3" descr=""/>
          <p:cNvPicPr/>
          <p:nvPr/>
        </p:nvPicPr>
        <p:blipFill>
          <a:blip r:embed="rId2"/>
          <a:stretch/>
        </p:blipFill>
        <p:spPr>
          <a:xfrm>
            <a:off x="8317080" y="476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2199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Рисунок 3" descr="черепаха.jpg"/>
          <p:cNvPicPr/>
          <p:nvPr/>
        </p:nvPicPr>
        <p:blipFill>
          <a:blip r:embed="rId1"/>
          <a:stretch/>
        </p:blipFill>
        <p:spPr>
          <a:xfrm>
            <a:off x="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черепа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9:48:17Z</dcterms:created>
  <dc:creator>Administrator</dc:creator>
  <dc:description/>
  <dc:language>en-US</dc:language>
  <cp:lastModifiedBy>Эльдорадо</cp:lastModifiedBy>
  <dcterms:modified xsi:type="dcterms:W3CDTF">2017-02-06T12:18:49Z</dcterms:modified>
  <cp:revision>52</cp:revision>
  <dc:subject/>
  <dc:title>Презентация к уроку 1 класс, А.А. Плешаков «Мир вокруг нас» </dc:title>
</cp:coreProperties>
</file>