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454-1984-43AF-A124-ACD164C8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C62D-5BE0-4081-9E0B-1FC1D505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3B27-3A93-4696-9B05-D3659C65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24C-5B1E-482E-9096-BFD53FA9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80E-CB67-45DE-A6D2-FDE7F476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83AE-6757-4A3D-8EA8-4FCCEBE5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5B92-1706-49E9-A92F-E7FAAC93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DEA-F3B7-41BD-A0D2-326FC774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DFC-584B-4DF3-9319-B3752E69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70D-A3E2-4FAF-B82F-BE642655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6F9-5883-4B09-B290-677E09EF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77A-713E-4C4C-B389-59CA381B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8825-890F-4120-8771-B03B63A211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000000"/>
                </a:solidFill>
                <a:latin typeface="Calibri"/>
              </a:rPr>
              <a:t>Тема урока: </a:t>
            </a:r>
            <a:r>
              <a:rPr b="0" i="1" lang="ba-RU" sz="4400" spc="-1" strike="noStrike">
                <a:solidFill>
                  <a:srgbClr val="000000"/>
                </a:solidFill>
                <a:latin typeface="Calibri"/>
              </a:rPr>
              <a:t>Свойства прямоугольных треугольник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400" spc="-1" strike="noStrike">
                <a:solidFill>
                  <a:srgbClr val="000000"/>
                </a:solidFill>
                <a:latin typeface="Calibri"/>
              </a:rPr>
              <a:t>Цель урока: </a:t>
            </a:r>
            <a:r>
              <a:rPr b="0" i="1" lang="ba-RU" sz="2400" spc="-1" strike="noStrike">
                <a:solidFill>
                  <a:srgbClr val="000000"/>
                </a:solidFill>
                <a:latin typeface="Calibri"/>
              </a:rPr>
              <a:t>повторить свойства, признаки прямоугольных треугольников,уметь применять их при решении зада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1800" spc="-1" strike="noStrike">
                <a:solidFill>
                  <a:srgbClr val="000000"/>
                </a:solidFill>
                <a:latin typeface="Calibri"/>
              </a:rPr>
              <a:t>Выполнила: учитель математик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1800" spc="-1" strike="noStrike">
                <a:solidFill>
                  <a:srgbClr val="000000"/>
                </a:solidFill>
                <a:latin typeface="Calibri"/>
              </a:rPr>
              <a:t>Герасимова А.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1800" spc="-1" strike="noStrike">
                <a:solidFill>
                  <a:srgbClr val="000000"/>
                </a:solidFill>
                <a:latin typeface="Calibri"/>
              </a:rPr>
              <a:t>г. Сургут, МБОУ «СТШ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9. Прямоугольные треугольники.18. 04.2020. - 7 класс. Дистанционное обучение"/>
          <p:cNvPicPr/>
          <p:nvPr/>
        </p:nvPicPr>
        <p:blipFill>
          <a:blip r:embed="rId2"/>
          <a:stretch/>
        </p:blipFill>
        <p:spPr>
          <a:xfrm>
            <a:off x="539640" y="260280"/>
            <a:ext cx="80996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ризнаки равенства прямоугольных треугольников"/>
          <p:cNvPicPr/>
          <p:nvPr/>
        </p:nvPicPr>
        <p:blipFill>
          <a:blip r:embed="rId1"/>
          <a:stretch/>
        </p:blipFill>
        <p:spPr>
          <a:xfrm>
            <a:off x="1692360" y="333360"/>
            <a:ext cx="58831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Самостоятельная работа по готовым чертежам по теме &quot;Признаки равенства  прямоугольных треугольников&quot;"/>
          <p:cNvPicPr/>
          <p:nvPr/>
        </p:nvPicPr>
        <p:blipFill>
          <a:blip r:embed="rId2"/>
          <a:srcRect l="52570" t="30512" r="10237" b="39375"/>
          <a:stretch/>
        </p:blipFill>
        <p:spPr>
          <a:xfrm>
            <a:off x="1868400" y="3544920"/>
            <a:ext cx="7275600" cy="331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Самостоятельная работа по готовым чертежам по теме &quot;Признаки равенства  прямоугольных треугольников&quot;"/>
          <p:cNvPicPr/>
          <p:nvPr/>
        </p:nvPicPr>
        <p:blipFill>
          <a:blip r:embed="rId3"/>
          <a:srcRect l="1937" t="21654" r="47870" b="37894"/>
          <a:stretch/>
        </p:blipFill>
        <p:spPr>
          <a:xfrm>
            <a:off x="0" y="0"/>
            <a:ext cx="78850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s://avatars.mds.yandex.net/i?id=89892034832e3af1f77c0883ff2519ea5c81fc58-4633333-images-thumbs&amp;n=13"/>
          <p:cNvPicPr/>
          <p:nvPr/>
        </p:nvPicPr>
        <p:blipFill>
          <a:blip r:embed="rId2"/>
          <a:stretch/>
        </p:blipFill>
        <p:spPr>
          <a:xfrm>
            <a:off x="250920" y="0"/>
            <a:ext cx="842472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а к контрольной работе по теме: Свойства прямоугольных треуголь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из острых углов прямоугольного треугольника в 4 раза больше другого. Найдите эти уг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рямоугольном треугольнике АВС &lt;С=90°, &lt;В=60°, АВ =31 см.  Найдите В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строугольном  ∆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иссектриса &lt;М пересекает высоту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K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очке О, причем ОК=8см. Найдите расстояние от точки О до прямой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ройте прямоугольный треугольник по гипотенузе и острому угл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ройте с помощью циркуля и линейки углы 30°,60°,150°, 120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Свойства прямоугольных треугольников. Решение задач на применение свойств  прямоугольных треугольников - презентация онлайн"/>
          <p:cNvPicPr/>
          <p:nvPr/>
        </p:nvPicPr>
        <p:blipFill>
          <a:blip r:embed="rId2"/>
          <a:stretch/>
        </p:blipFill>
        <p:spPr>
          <a:xfrm>
            <a:off x="250920" y="189000"/>
            <a:ext cx="83646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ма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Один из углов прямоугольного треугольника равен 60°, а сумма гипотенузы и меньшего катета 63см. Найдите гипотенуз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Через середину отрезка АВ проведена прямая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Из точек А и В к прямой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оведены перпендикуляры АС и 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Докажите, что АС=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Из точек М биссектрисы неразвернутого  угла О проведены перпендикуляры МА и МВ к сторонам этого угла. Докажите, что МА=МВ.                               4) Постройте с помощью циркуля и линейки углы 30°,60°,150°, 120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повторил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научил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не понял(а)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е бы хотелось поделиться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думающий ученик картинки: 2 тыс изображений найдено в Яндекс ..."/>
          <p:cNvPicPr/>
          <p:nvPr/>
        </p:nvPicPr>
        <p:blipFill>
          <a:blip r:embed="rId1"/>
          <a:stretch/>
        </p:blipFill>
        <p:spPr>
          <a:xfrm>
            <a:off x="6012000" y="3789360"/>
            <a:ext cx="2832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1:27Z</dcterms:created>
  <dc:creator>Admin</dc:creator>
  <dc:description/>
  <dc:language>en-US</dc:language>
  <cp:lastModifiedBy>Админ</cp:lastModifiedBy>
  <dcterms:modified xsi:type="dcterms:W3CDTF">2023-07-14T12:55:52Z</dcterms:modified>
  <cp:revision>201</cp:revision>
  <dc:subject/>
  <dc:title>Слайд 1</dc:title>
</cp:coreProperties>
</file>