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24D8-C19C-48F0-ABA1-F78DAAA9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DB1-A1CF-47D0-B24E-44CAC875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3BB-A541-4682-8BE7-53BBFAF5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EB0-E942-4509-9058-EB3DC285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20C-CAE1-4134-9886-03D9D6B1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CCC-4AAC-4440-B218-2FD76F48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50C-8CE1-4538-899F-DCE84D18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9D2-DAD3-4597-AF27-5A5C8CDC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42F-1A12-4604-B58F-885D9D2B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E6D-23E8-4439-A009-A2AD2390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85B-B124-4AF4-BC0B-317FA684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030-E34C-4220-B380-F494A6C6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D54A-C695-4B79-A5B5-CD2112D0D8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умма углов треугольника. Соотношения между сторонами и углами треугольник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4508280"/>
            <a:ext cx="518472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Урок геометрии, 7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Подготовила: Герасимова А.Р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г. Сург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: вариант 2, №1-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вторил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е понял(а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бы хотелось поделиться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думающий ученик картинки: 2 тыс изображений найдено в Яндекс ..."/>
          <p:cNvPicPr/>
          <p:nvPr/>
        </p:nvPicPr>
        <p:blipFill>
          <a:blip r:embed="rId1"/>
          <a:stretch/>
        </p:blipFill>
        <p:spPr>
          <a:xfrm>
            <a:off x="6012000" y="3789360"/>
            <a:ext cx="2832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: решить зада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https://avatars.mds.yandex.net/i?id=2a0000017a0bc9f964e159334591245b61ce-4369663-images-thumbs&amp;n=13"/>
          <p:cNvPicPr/>
          <p:nvPr/>
        </p:nvPicPr>
        <p:blipFill>
          <a:blip r:embed="rId2"/>
          <a:stretch/>
        </p:blipFill>
        <p:spPr>
          <a:xfrm>
            <a:off x="684360" y="1460520"/>
            <a:ext cx="77245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189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Если вы хотите научиться плавать, то смело входите в воду, а если хотите научиться решать задачи, то решайте их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матик и педагог Дьёрдь Пойа, или Джордж Полиа (1887-198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ode Energy"/>
          <p:cNvPicPr/>
          <p:nvPr/>
        </p:nvPicPr>
        <p:blipFill>
          <a:blip r:embed="rId1"/>
          <a:stretch/>
        </p:blipFill>
        <p:spPr>
          <a:xfrm>
            <a:off x="1476360" y="2997360"/>
            <a:ext cx="65660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к контрольной работе по теме: «Сумма углов треугольника. Соотношения между сторонами и углами треугольни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вторение. Стр. 69-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ормулируйте теорему о сумме углов треуголь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бывают треугольн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соотношения между сторонами и углами бывают в треугольни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орема о неравенстве треуголь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угл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Конспект урока по геометрии в 7 классе по теме «Соотношения между сторонами  и углами треугольника»"/>
          <p:cNvPicPr/>
          <p:nvPr/>
        </p:nvPicPr>
        <p:blipFill>
          <a:blip r:embed="rId2"/>
          <a:srcRect l="0" t="0" r="7849" b="42263"/>
          <a:stretch/>
        </p:blipFill>
        <p:spPr>
          <a:xfrm>
            <a:off x="611280" y="1268280"/>
            <a:ext cx="8045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угольнике АВС    АВ &gt; ВС &gt; АС. Найдите ∠A, ∠B, ∠C, если известно, что один из углов треугольника равен 120°, а другой 40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угольнике АВС угол А равен 50°, а угол В в 12 раз меньше угла С. Найдите углы В и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4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реугольнике АВС угол С равен 90°, а угол В равен 35°, CD — высота. Найдите углы треугольника AC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 5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 Периметр равнобедренного треугольника равен 45 см, а одна из его сторон больше другой на 12 см. Найдите стороны треуголь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углы треугольников: &lt;А=?,&lt;В=?,&lt;С=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1. Найти углы треугольника АВС. А.П. Ершова Геометрия 7 класс. СП-9 Вариант  А 2 – Рамблер/класс"/>
          <p:cNvPicPr/>
          <p:nvPr/>
        </p:nvPicPr>
        <p:blipFill>
          <a:blip r:embed="rId1"/>
          <a:stretch/>
        </p:blipFill>
        <p:spPr>
          <a:xfrm>
            <a:off x="611280" y="1268280"/>
            <a:ext cx="3529080" cy="233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. Найти углы треугольника АВС. Геометрия 7 класс А.П. Ершова. СП-9 Вариант  А 1 – Рамблер/класс"/>
          <p:cNvPicPr/>
          <p:nvPr/>
        </p:nvPicPr>
        <p:blipFill>
          <a:blip r:embed="rId2"/>
          <a:stretch/>
        </p:blipFill>
        <p:spPr>
          <a:xfrm>
            <a:off x="4716360" y="1197000"/>
            <a:ext cx="3240360" cy="219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Найти углы треугольника АВС. - Школьные Знания.com"/>
          <p:cNvPicPr/>
          <p:nvPr/>
        </p:nvPicPr>
        <p:blipFill>
          <a:blip r:embed="rId3"/>
          <a:srcRect l="25984" t="15223" r="19783" b="6299"/>
          <a:stretch/>
        </p:blipFill>
        <p:spPr>
          <a:xfrm>
            <a:off x="539640" y="3860640"/>
            <a:ext cx="3240360" cy="2638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1. Дано: АВ - ВС. Найти углы треугольника АВС. А.П. Ершова 7 класс  Геометрия. СП-9 Вариант Б-2 – Рамблер/класс"/>
          <p:cNvPicPr/>
          <p:nvPr/>
        </p:nvPicPr>
        <p:blipFill>
          <a:blip r:embed="rId4"/>
          <a:stretch/>
        </p:blipFill>
        <p:spPr>
          <a:xfrm>
            <a:off x="4643280" y="3805200"/>
            <a:ext cx="3600720" cy="265896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1042920" y="134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61128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5148360" y="126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514836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1:27Z</dcterms:created>
  <dc:creator>Admin</dc:creator>
  <dc:description/>
  <dc:language>en-US</dc:language>
  <cp:lastModifiedBy>Админ</cp:lastModifiedBy>
  <dcterms:modified xsi:type="dcterms:W3CDTF">2023-07-14T13:23:23Z</dcterms:modified>
  <cp:revision>200</cp:revision>
  <dc:subject/>
  <dc:title>Слайд 1</dc:title>
</cp:coreProperties>
</file>