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D4FE-6956-4773-997C-7684FE2C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177-C0DF-4BE7-B27F-E2D9E3E8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9D1-1303-47A4-84E6-B624051B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88D-B5EE-438A-AB92-14F6419F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1021-63DA-49C3-8AE3-461E3033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2DD3-509C-4941-B79F-F161AE9D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E339-B589-4341-BDD5-75C67235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2FED-A1A7-46DF-B1FE-90F92CD3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01FF-66B6-44AC-922F-E23965E4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1A60-02EF-44AA-A3A7-E5F67C72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C7D4-B70B-4939-ACCA-3D167896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97A-B6BA-4811-A432-C7AEC999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2515-3DBC-4AAF-AC88-34E1133F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A445-4BF4-40D2-AB06-3E25A7A1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E86B-7C3E-40CE-B330-70868053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5D59-DB02-4168-B083-42AA8C07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BF31-CCBB-4BCB-B944-1066659E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58AE-7DE6-4C86-A8A8-39BDD8FF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EAA3-CB08-49B3-BE31-7B40474F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E809-89DE-47F5-8D4C-E1FD040E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09D7-323B-4CF7-9CCA-C9A7E853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CA00-985F-415A-A9F4-1DC6CD22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092-CAF1-4AC1-9927-5038894E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A0C3E-C7A6-47DA-A731-34A8D59D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6474-DD64-432A-961B-9AEC727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0103F-C6D9-4692-BC1C-7F604F7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4C1A-DD94-44C4-BD15-604E8701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5EED-9CB6-4EC0-89BC-81EBFEAC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4C69E-4F00-4442-BE3E-F0452F6C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5B5F-457F-4F2F-98BD-2A214360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2AF79-9DF4-4E2E-B28C-767C04AE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19AB-8C87-415A-BEE8-31CCAD05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55FC-9920-44F4-8846-348C807A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EB7-F306-4C4E-9201-66326AFA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DC5C-E261-47F9-9D74-BD94F059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16AE8-FE5B-409A-95AD-9AF288A5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161FF-7403-4A72-A29E-DDF71E30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8771E-3398-4A15-9B07-25536F18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8FC9-E155-4953-BC34-B1017040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F6CD-7CF2-40A3-8157-BAD00E20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13B2-0512-428E-BBF8-2D42071B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D5665-A9A7-4C53-AB6A-8B0C6166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8704-1BCE-466E-ADF4-E0534B72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A2B-9066-482F-ADE2-46A7477C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537-F6DB-4F8E-911A-887A720D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D58-9C4A-4053-B8D8-612B5ACA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2FF-9F45-4EAE-83CA-B240EA9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968-543D-4374-ACD2-BDA49CCC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6ADC-49A0-4599-802B-15F966D0E19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2938-DD3C-471F-8267-9BCE4AC49A3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17F1-5518-4F31-8B6F-F43D3B91CAC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2AEF-ABEF-4376-8ED0-9D009B5F6FB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Constantia"/>
              </a:rPr>
              <a:t>Разнообразен и прекрасен мир растений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Constantia"/>
              </a:rPr>
              <a:t>Мхи, водоросли, папоротники, плаун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Constantia"/>
              </a:rPr>
              <a:t>И семенные: сосны, туя, пихты, ели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b5395"/>
                </a:solidFill>
                <a:latin typeface="Constantia"/>
              </a:rPr>
              <a:t>Но властелины царства не он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AutoShape 2" descr=""/>
          <p:cNvPicPr/>
          <p:nvPr/>
        </p:nvPicPr>
        <p:blipFill>
          <a:blip r:embed="rId1"/>
          <a:stretch/>
        </p:blipFill>
        <p:spPr>
          <a:xfrm>
            <a:off x="396720" y="0"/>
            <a:ext cx="874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</a:rPr>
              <a:t>Происхождение покрытосеменных растений.</a:t>
            </a: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рытосеменные – самая богатая видами группа раст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вестно 250 тысяч вид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е цветковые растения появились в начале мелового периода около 135 миллионов лет назад (или даже в конце юрского период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 о предке покрытосеменных в настоящее время остаётся открытым; но наиболее вероятно, что покрытосеменные произошли от одной из групп семенных папоротни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410760"/>
            <a:ext cx="815976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Как вы думаете, почему именно покрытосеменным  удалось занять господствующее положение на Земле?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знаки, позволившие занять господствующее положение среди   растений: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2491920"/>
            <a:ext cx="40384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личие цвет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личие пл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рытосемянност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оение органов достигает наибольшей сложно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кани имеют высокую степень специализац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тенсивный обмен вещест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oblep.jpg"/>
          <p:cNvPicPr/>
          <p:nvPr/>
        </p:nvPicPr>
        <p:blipFill>
          <a:blip r:embed="rId1"/>
          <a:stretch/>
        </p:blipFill>
        <p:spPr>
          <a:xfrm>
            <a:off x="5148360" y="1989000"/>
            <a:ext cx="2843280" cy="2132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F:\кровь\12205573737710.jpg"/>
          <p:cNvPicPr/>
          <p:nvPr/>
        </p:nvPicPr>
        <p:blipFill>
          <a:blip r:embed="rId2"/>
          <a:stretch/>
        </p:blipFill>
        <p:spPr>
          <a:xfrm>
            <a:off x="5940360" y="422100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257760" y="907920"/>
            <a:ext cx="6993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___________– самая богатая вид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а раст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о _____ тысяч вид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цветковые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ошли _____ миллионов лет наза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___________________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сивные черты позволили за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рытосеменным раст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____________ положе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цветков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но налич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________ и _________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енных в п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50920" y="260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4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b5395"/>
                </a:solidFill>
                <a:latin typeface="Constantia"/>
              </a:rPr>
              <a:t>Дорогие ребята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b5395"/>
                </a:solidFill>
                <a:latin typeface="Constantia"/>
              </a:rPr>
              <a:t>Хоть хвалиться неприлично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b5395"/>
                </a:solidFill>
                <a:latin typeface="Constantia"/>
              </a:rPr>
              <a:t>Но должна я вам сказат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b5395"/>
                </a:solidFill>
                <a:latin typeface="Constantia"/>
              </a:rPr>
              <a:t>Что вы можете отлич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b5395"/>
                </a:solidFill>
                <a:latin typeface="Constantia"/>
              </a:rPr>
              <a:t>И учиться, и играть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ить викторины, легенды, загадки, кроссворды по теме «Покрытосеменные растения», а именно 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лекарственных растениях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646200" y="738360"/>
            <a:ext cx="8326440" cy="1450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7" descr="Рисунок1"/>
          <p:cNvPicPr/>
          <p:nvPr/>
        </p:nvPicPr>
        <p:blipFill>
          <a:blip r:embed="rId2"/>
          <a:stretch/>
        </p:blipFill>
        <p:spPr>
          <a:xfrm>
            <a:off x="1619280" y="2492280"/>
            <a:ext cx="5721480" cy="3922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3:54:42Z</dcterms:created>
  <dc:creator>User</dc:creator>
  <dc:description/>
  <dc:language>en-US</dc:language>
  <cp:lastModifiedBy>учитель</cp:lastModifiedBy>
  <dcterms:modified xsi:type="dcterms:W3CDTF">2021-12-07T10:11:19Z</dcterms:modified>
  <cp:revision>18</cp:revision>
  <dc:subject/>
  <dc:title>Слайд 1</dc:title>
</cp:coreProperties>
</file>