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CFD-361E-4AA1-B7B8-5E7041DF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94E-4DF1-48F0-8E1F-C6F0E996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905-E642-4828-9203-0C4AE3F7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44A-BDC9-4083-BD67-973946B4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F6FF-B6A1-4DA9-873B-4C8A65BC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CE52-F2D5-4F03-B776-DB8F3646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DFE6-6B2E-4539-8378-02F8E3CD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FFD7-3771-4D93-A593-2A89FC63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B306-C5DC-4EBA-A1A5-F26BC7F7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0053-B852-47C2-A128-4C21EB22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A921-8CB8-4FA9-93FC-BF4957B3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829-9346-4DAF-897F-F4F08070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0041-B94D-4046-B93A-D108D0DC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C930-6B50-4F86-B232-C7301939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B81F-D00D-4D17-AA22-70CA6825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4350-EFFC-4D56-9220-EC67637E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7003-976E-49DD-8191-96C42284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DA66-C149-4E10-99B4-5D182046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7036-4765-4524-9451-88BD7D8A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9025-E2B1-4E70-824D-DEA86F93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B2AC-CDF4-4167-92DA-F1063AA7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DD8B-A0C5-4B8A-8E0C-607D06CD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C06-339F-4119-8254-8F6F625C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2B563-91E4-494B-A17E-92FC23D9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2C47-C202-4DBD-9AD7-73FA4EAB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0DA7-A898-4649-8D99-531AED2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B606-B543-4191-85C2-4A21710F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D023-B8FF-4715-A5F5-9F4B9E48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E16E2-42EE-4BA4-B4CF-A0592DF2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4428A-D935-4646-9F9D-9606551A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AD41-BDF4-4443-90C5-920E2C11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CC5A-2612-46AD-8411-02B3036D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C6DD9-BD4C-4608-8A95-4EF1D407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03D-9EBF-4F79-ACFF-5D1194F8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219C0-4856-4799-A849-A8FD475F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6BE8-8E74-4AEA-A89E-E4E03CD3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7B8A-61CC-4BF9-AAFB-AEB94871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1341-FEF1-499D-A484-C9B48895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2BCA4-092A-4E34-A758-967C00B5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B6641-A876-4460-823F-DD86251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68E31-5C0D-452F-A761-4BF29FFC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CAEC6-40C7-4CA5-9B3F-F1F434A9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5370-6AF3-46F0-A960-8EF415A4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F62-068C-444E-AB56-149339A4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2F5-271F-49E3-8366-1829B925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FB2-C5D5-402A-800B-C50EAE2E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C30-E4CC-4938-A6D4-DF74D6AB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D46-EFDC-4ADA-8288-FAE4AF74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EB29-E30A-45B8-B64F-BF0977E50BA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D5B4-0DEB-4400-8FB9-DDDD1DE6655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9B78-8354-48CA-B8F5-89CC50D81DA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61DE-66C6-4C1D-BEEA-20A181BECBE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Constantia"/>
              </a:rPr>
              <a:t>Разнообразен и прекрасен мир растени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Constantia"/>
              </a:rPr>
              <a:t>Мхи, водоросли, папоротники, плаун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Constantia"/>
              </a:rPr>
              <a:t>И семенные: сосны, туя, пихты, ели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Constantia"/>
              </a:rPr>
              <a:t>Но властелины царства не он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AutoShape 2" descr=""/>
          <p:cNvPicPr/>
          <p:nvPr/>
        </p:nvPicPr>
        <p:blipFill>
          <a:blip r:embed="rId1"/>
          <a:stretch/>
        </p:blipFill>
        <p:spPr>
          <a:xfrm>
            <a:off x="396720" y="0"/>
            <a:ext cx="874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</a:rPr>
              <a:t>Происхождение покрытосеменных растений.</a:t>
            </a: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рытосеменные – самая богатая видами группа раст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вестно 250 тысяч вид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е цветковые растения появились в начале мелового периода около 135 миллионов лет назад (или даже в конце юрского период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о предке покрытосеменных в настоящее время остаётся открытым; но наиболее вероятно, что покрытосеменные произошли от одной из групп семенных папоротни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410760"/>
            <a:ext cx="815976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Как вы думаете, почему именно покрытосеменным  удалось занять господствующее положение на Земле?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знаки, позволившие занять господствующее положение среди   растений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2491920"/>
            <a:ext cx="40384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личие цвет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личие пл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рытосемянност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оение органов достигает наибольшей сложно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кани имеют высокую степень специализа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тенсивный обмен вещест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oblep.jpg"/>
          <p:cNvPicPr/>
          <p:nvPr/>
        </p:nvPicPr>
        <p:blipFill>
          <a:blip r:embed="rId1"/>
          <a:stretch/>
        </p:blipFill>
        <p:spPr>
          <a:xfrm>
            <a:off x="5148360" y="1989000"/>
            <a:ext cx="2843280" cy="2132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F:\кровь\12205573737710.jpg"/>
          <p:cNvPicPr/>
          <p:nvPr/>
        </p:nvPicPr>
        <p:blipFill>
          <a:blip r:embed="rId2"/>
          <a:stretch/>
        </p:blipFill>
        <p:spPr>
          <a:xfrm>
            <a:off x="5940360" y="422100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257760" y="907920"/>
            <a:ext cx="6993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___________– самая богатая вид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 _____ тысяч вид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цветков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ошли _____ миллионов лет наза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___________________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сивные черты позволили за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рытосеменным раст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____________ положе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цветков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но нали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________ и _________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енных в п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50920" y="260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4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b5395"/>
                </a:solidFill>
                <a:latin typeface="Constantia"/>
              </a:rPr>
              <a:t>Дорогие ребята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b5395"/>
                </a:solidFill>
                <a:latin typeface="Constantia"/>
              </a:rPr>
              <a:t>Хоть хвалиться неприличн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b5395"/>
                </a:solidFill>
                <a:latin typeface="Constantia"/>
              </a:rPr>
              <a:t>Но должна я вам сказат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b5395"/>
                </a:solidFill>
                <a:latin typeface="Constantia"/>
              </a:rPr>
              <a:t>Что вы можете отлич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b5395"/>
                </a:solidFill>
                <a:latin typeface="Constantia"/>
              </a:rPr>
              <a:t>И учиться, и играть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ить викторины, легенды, загадки, кроссворды по теме «Покрытосеменные растения», а именно 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лекарственных растениях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646200" y="738360"/>
            <a:ext cx="8326440" cy="1450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7" descr="Рисунок1"/>
          <p:cNvPicPr/>
          <p:nvPr/>
        </p:nvPicPr>
        <p:blipFill>
          <a:blip r:embed="rId2"/>
          <a:stretch/>
        </p:blipFill>
        <p:spPr>
          <a:xfrm>
            <a:off x="1619280" y="2492280"/>
            <a:ext cx="5721480" cy="3922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3:54:42Z</dcterms:created>
  <dc:creator>User</dc:creator>
  <dc:description/>
  <dc:language>en-US</dc:language>
  <cp:lastModifiedBy>учитель</cp:lastModifiedBy>
  <dcterms:modified xsi:type="dcterms:W3CDTF">2021-12-07T10:11:19Z</dcterms:modified>
  <cp:revision>18</cp:revision>
  <dc:subject/>
  <dc:title>Слайд 1</dc:title>
</cp:coreProperties>
</file>