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70E-C2AA-40FF-8870-96466834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5E2-05C1-47B4-B27F-2AF3C99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E24-F86E-47CB-B3FC-C04A1E6A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3ED-DD20-4BD4-9CD6-813E3595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9622-CB4B-460D-B8DB-3FB10588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CD31-8692-4117-822E-72E9EA17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ADBB-741E-42CA-91D9-EB0E6A28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F29C-4C9F-42BD-A8CD-157D039D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194A-FBC2-4D38-B9A3-0B0DFD33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C871-3B52-4CFF-95B1-E9531227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239B-C03D-4163-BCF8-E3B6EDD6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46C-2A8C-49F6-A091-2DD861A5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C630-8240-42B9-86CF-F5F4EB7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9725-F3C0-47C0-A7A2-E45D4FAB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BD9A-7653-4420-A884-3C7071BC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82F0-9AA7-43E5-945A-A24D9685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8C30-4FD3-4E27-BAA5-D3C297C5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7B0-1C9F-4261-A1C6-4E68FD26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443-F7A6-4FAB-83A1-A15B1184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2E6-0543-40B8-83CC-5250FC52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E8A-761E-4AE2-BC09-00078F3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9A6-CD48-4EE9-8F71-39B6115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9D0-FC58-4DCA-8631-622F8AA2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2AF-008A-4191-A687-F0FA470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67FF-25FD-4886-8AAA-9D7C46FCEF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2AFD-59E2-4057-95FC-665DDF0763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Кто хочет стать миллионером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75640" y="5300640"/>
            <a:ext cx="2017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чи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чинникова Н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C:\Users\Computer\Desktop\деньги.gif"/>
          <p:cNvPicPr/>
          <p:nvPr/>
        </p:nvPicPr>
        <p:blipFill>
          <a:blip r:embed="rId1"/>
          <a:stretch/>
        </p:blipFill>
        <p:spPr>
          <a:xfrm>
            <a:off x="3132000" y="4221000"/>
            <a:ext cx="2903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х знаков не бы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>
            <a:hlinkClick r:id="" action="ppaction://hlinkshowjump?jump=nextslide"/>
          </p:cNvPr>
          <p:cNvSpPr/>
          <p:nvPr/>
        </p:nvSpPr>
        <p:spPr>
          <a:xfrm>
            <a:off x="3851280" y="2708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бр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3995640" y="479736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еш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упрежд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360" y="2708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щ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машины могут проехать на красный ц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8">
            <a:hlinkClick r:id="" action="ppaction://hlinkshowjump?jump=nextslide"/>
          </p:cNvPr>
          <p:cNvSpPr/>
          <p:nvPr/>
        </p:nvSpPr>
        <p:spPr>
          <a:xfrm>
            <a:off x="3780000" y="299736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ая помощь, пожарная, поли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ина и мам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11"/>
          <p:cNvSpPr/>
          <p:nvPr/>
        </p:nvSpPr>
        <p:spPr>
          <a:xfrm>
            <a:off x="3780000" y="4724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з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Computer\Desktop\деньги.gif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5126040"/>
          </a:xfrm>
          <a:prstGeom prst="rect">
            <a:avLst/>
          </a:prstGeom>
          <a:ln w="0">
            <a:noFill/>
          </a:ln>
        </p:spPr>
      </p:pic>
      <p:pic>
        <p:nvPicPr>
          <p:cNvPr id="236" name="Fanfari_-_(iPleer.fm)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4" descr=""/>
          <p:cNvPicPr/>
          <p:nvPr/>
        </p:nvPicPr>
        <p:blipFill>
          <a:blip r:embed="rId3"/>
          <a:stretch/>
        </p:blipFill>
        <p:spPr>
          <a:xfrm>
            <a:off x="1547640" y="73080"/>
            <a:ext cx="6048720" cy="19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27515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2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Конец!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акой цвет светофора можно переходить дорог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164360" y="1197000"/>
            <a:ext cx="154800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8">
            <a:hlinkClick r:id="" action="ppaction://hlinkshowjump?jump=nextslide"/>
          </p:cNvPr>
          <p:cNvSpPr/>
          <p:nvPr/>
        </p:nvSpPr>
        <p:spPr>
          <a:xfrm>
            <a:off x="755640" y="49417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л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3780000" y="486900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люб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т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асть улицы  для пеше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8">
            <a:hlinkClick r:id="" action="ppaction://hlinkshowjump?jump=nextslide"/>
          </p:cNvPr>
          <p:cNvSpPr/>
          <p:nvPr/>
        </p:nvSpPr>
        <p:spPr>
          <a:xfrm>
            <a:off x="371484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оту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гистр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оп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люди ждут автоб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>
            <a:hlinkClick r:id="" action="ppaction://hlinkshowjump?jump=nextslide"/>
          </p:cNvPr>
          <p:cNvSpPr/>
          <p:nvPr/>
        </p:nvSpPr>
        <p:spPr>
          <a:xfrm>
            <a:off x="3780000" y="2708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останов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684360" y="2708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агази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851280" y="465300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рекрест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8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управляет движением если светофор сло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8">
            <a:hlinkClick r:id="" action="ppaction://hlinkshowjump?jump=nextslide"/>
          </p:cNvPr>
          <p:cNvSpPr/>
          <p:nvPr/>
        </p:nvSpPr>
        <p:spPr>
          <a:xfrm>
            <a:off x="3924360" y="299736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улировщ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3924360" y="479736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ше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пешеходы обязаны переходить доро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8">
            <a:hlinkClick r:id="" action="ppaction://hlinkshowjump?jump=nextslide"/>
          </p:cNvPr>
          <p:cNvSpPr/>
          <p:nvPr/>
        </p:nvSpPr>
        <p:spPr>
          <a:xfrm>
            <a:off x="371484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пешеходному перех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где нельз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захоч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троту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6562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еловек, который едет в транспорте, но не управляет 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8">
            <a:hlinkClick r:id="" action="ppaction://hlinkshowjump?jump=nextslide"/>
          </p:cNvPr>
          <p:cNvSpPr/>
          <p:nvPr/>
        </p:nvSpPr>
        <p:spPr>
          <a:xfrm>
            <a:off x="539640" y="2924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аж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3708360" y="4724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ф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ше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1"/>
          <p:cNvSpPr/>
          <p:nvPr/>
        </p:nvSpPr>
        <p:spPr>
          <a:xfrm>
            <a:off x="3564000" y="2924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место пересечения двух дор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8">
            <a:hlinkClick r:id="" action="ppaction://hlinkshowjump?jump=nextslide"/>
          </p:cNvPr>
          <p:cNvSpPr/>
          <p:nvPr/>
        </p:nvSpPr>
        <p:spPr>
          <a:xfrm>
            <a:off x="684360" y="299736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кре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3635280" y="479736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оту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земный пере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авильно обходить авто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8">
            <a:hlinkClick r:id="" action="ppaction://hlinkshowjump?jump=nextslide"/>
          </p:cNvPr>
          <p:cNvSpPr/>
          <p:nvPr/>
        </p:nvSpPr>
        <p:spPr>
          <a:xfrm>
            <a:off x="684360" y="479736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за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ре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3708360" y="486900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из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ть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08:09:21Z</dcterms:created>
  <dc:creator>USER</dc:creator>
  <dc:description/>
  <dc:language>en-US</dc:language>
  <cp:lastModifiedBy>User</cp:lastModifiedBy>
  <dcterms:modified xsi:type="dcterms:W3CDTF">2023-07-14T03:49:17Z</dcterms:modified>
  <cp:revision>39</cp:revision>
  <dc:subject/>
  <dc:title>Кто хочет стать миллионером?</dc:title>
</cp:coreProperties>
</file>