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8AD-96F8-4D07-A39E-5F7D91A6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DF0-ACF7-4E9D-9F21-D0BFE09A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D79-31DF-4D24-8926-8C9C697E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DFC-DE62-40AD-8CE3-4A4B9993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6797-CA2C-4BC0-845B-C178199A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5B6B-024A-4395-902A-9F3ADF12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8E61-F724-449B-919C-FDFD33A4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9128-7721-4D68-B6F6-711F19E7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B048-7CEB-41DB-9E4A-FEA857FB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911C-52FB-4D80-A69F-51C85AF8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E726-4B33-48D9-B39D-469C4233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A50B-ED9B-433C-AEDF-8F5FBC15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8C34-72B2-48B0-BA36-989AFB5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34CA-6CEE-4EE7-912A-5B999CB4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EFBE-79B5-44C4-8142-A5A6D371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3588-3520-437C-A4B7-17A1F4F6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EF37-EFD2-4152-8222-3BFCD103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A42-C139-4516-8D00-7B1B05F4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93C-88E9-45F0-8A6A-19713219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D85F-9997-4A48-ACA0-9FC82BAC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E61-244E-440B-9746-9F061C77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F46-90F8-493B-8E90-143777EE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2C6-F37B-481B-9DE6-53226E7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511-4DF8-4AA6-8B72-F164CCD5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31CE-671A-42A6-A5D0-14315DC863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4BAF-CFDB-464E-B459-C8AB57E2A2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Garamond"/>
              </a:rPr>
              <a:t>Кто хочет стать миллионером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75640" y="5300640"/>
            <a:ext cx="20174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чи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вчинникова Н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C:\Users\Computer\Desktop\деньги.gif"/>
          <p:cNvPicPr/>
          <p:nvPr/>
        </p:nvPicPr>
        <p:blipFill>
          <a:blip r:embed="rId1"/>
          <a:stretch/>
        </p:blipFill>
        <p:spPr>
          <a:xfrm>
            <a:off x="3132000" y="4221000"/>
            <a:ext cx="2903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71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х знаков не бы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>
            <a:hlinkClick r:id="" action="ppaction://hlinkshowjump?jump=nextslide"/>
          </p:cNvPr>
          <p:cNvSpPr/>
          <p:nvPr/>
        </p:nvSpPr>
        <p:spPr>
          <a:xfrm>
            <a:off x="3851280" y="2708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бр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9"/>
          <p:cNvSpPr/>
          <p:nvPr/>
        </p:nvSpPr>
        <p:spPr>
          <a:xfrm>
            <a:off x="3995640" y="479736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еш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упрежд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11"/>
          <p:cNvSpPr/>
          <p:nvPr/>
        </p:nvSpPr>
        <p:spPr>
          <a:xfrm>
            <a:off x="684360" y="2708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щ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машины могут проехать на красный ц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оугольник 8">
            <a:hlinkClick r:id="" action="ppaction://hlinkshowjump?jump=nextslide"/>
          </p:cNvPr>
          <p:cNvSpPr/>
          <p:nvPr/>
        </p:nvSpPr>
        <p:spPr>
          <a:xfrm>
            <a:off x="3780000" y="299736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ая помощь, пожарная, поли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ина и мам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11"/>
          <p:cNvSpPr/>
          <p:nvPr/>
        </p:nvSpPr>
        <p:spPr>
          <a:xfrm>
            <a:off x="3780000" y="4724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з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Computer\Desktop\деньги.gif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5126040"/>
          </a:xfrm>
          <a:prstGeom prst="rect">
            <a:avLst/>
          </a:prstGeom>
          <a:ln w="0">
            <a:noFill/>
          </a:ln>
        </p:spPr>
      </p:pic>
      <p:pic>
        <p:nvPicPr>
          <p:cNvPr id="236" name="Fanfari_-_(iPleer.fm)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TextBox 4" descr=""/>
          <p:cNvPicPr/>
          <p:nvPr/>
        </p:nvPicPr>
        <p:blipFill>
          <a:blip r:embed="rId3"/>
          <a:stretch/>
        </p:blipFill>
        <p:spPr>
          <a:xfrm>
            <a:off x="1547640" y="73080"/>
            <a:ext cx="6048720" cy="19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27515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2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ffffff"/>
                </a:solidFill>
                <a:latin typeface="Arial"/>
              </a:rPr>
              <a:t>Конец!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акой цвет светофора можно переходить дорог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164360" y="1197000"/>
            <a:ext cx="154800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8">
            <a:hlinkClick r:id="" action="ppaction://hlinkshowjump?jump=nextslide"/>
          </p:cNvPr>
          <p:cNvSpPr/>
          <p:nvPr/>
        </p:nvSpPr>
        <p:spPr>
          <a:xfrm>
            <a:off x="755640" y="49417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ле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10"/>
          <p:cNvSpPr/>
          <p:nvPr/>
        </p:nvSpPr>
        <p:spPr>
          <a:xfrm>
            <a:off x="3780000" y="486900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люб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т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асть улицы  для пеше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8">
            <a:hlinkClick r:id="" action="ppaction://hlinkshowjump?jump=nextslide"/>
          </p:cNvPr>
          <p:cNvSpPr/>
          <p:nvPr/>
        </p:nvSpPr>
        <p:spPr>
          <a:xfrm>
            <a:off x="371484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оту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гистр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оп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люди ждут автоб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8">
            <a:hlinkClick r:id="" action="ppaction://hlinkshowjump?jump=nextslide"/>
          </p:cNvPr>
          <p:cNvSpPr/>
          <p:nvPr/>
        </p:nvSpPr>
        <p:spPr>
          <a:xfrm>
            <a:off x="3780000" y="2708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останов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оугольник 9"/>
          <p:cNvSpPr/>
          <p:nvPr/>
        </p:nvSpPr>
        <p:spPr>
          <a:xfrm>
            <a:off x="684360" y="2708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агази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3851280" y="465300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рекрест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8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управляет движением если светофор сло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8">
            <a:hlinkClick r:id="" action="ppaction://hlinkshowjump?jump=nextslide"/>
          </p:cNvPr>
          <p:cNvSpPr/>
          <p:nvPr/>
        </p:nvSpPr>
        <p:spPr>
          <a:xfrm>
            <a:off x="3924360" y="299736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улировщ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3924360" y="479736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ше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 пешеходы обязаны переходить доро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8">
            <a:hlinkClick r:id="" action="ppaction://hlinkshowjump?jump=nextslide"/>
          </p:cNvPr>
          <p:cNvSpPr/>
          <p:nvPr/>
        </p:nvSpPr>
        <p:spPr>
          <a:xfrm>
            <a:off x="371484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пешеходному перех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где нельз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захоч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тротуар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6562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еловек, который едет в транспорте, но не управляет 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8">
            <a:hlinkClick r:id="" action="ppaction://hlinkshowjump?jump=nextslide"/>
          </p:cNvPr>
          <p:cNvSpPr/>
          <p:nvPr/>
        </p:nvSpPr>
        <p:spPr>
          <a:xfrm>
            <a:off x="539640" y="2924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аж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9"/>
          <p:cNvSpPr/>
          <p:nvPr/>
        </p:nvSpPr>
        <p:spPr>
          <a:xfrm>
            <a:off x="3708360" y="4724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оф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ше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1"/>
          <p:cNvSpPr/>
          <p:nvPr/>
        </p:nvSpPr>
        <p:spPr>
          <a:xfrm>
            <a:off x="3564000" y="292428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место пересечения двух дор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8">
            <a:hlinkClick r:id="" action="ppaction://hlinkshowjump?jump=nextslide"/>
          </p:cNvPr>
          <p:cNvSpPr/>
          <p:nvPr/>
        </p:nvSpPr>
        <p:spPr>
          <a:xfrm>
            <a:off x="684360" y="299736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крес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3635280" y="479736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оту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10"/>
          <p:cNvSpPr/>
          <p:nvPr/>
        </p:nvSpPr>
        <p:spPr>
          <a:xfrm>
            <a:off x="642960" y="471492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шеходный пере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земный пере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авильно обходить автоб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7236000" y="1197000"/>
            <a:ext cx="1547640" cy="518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10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5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2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10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7.5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3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15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8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4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1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8">
            <a:hlinkClick r:id="" action="ppaction://hlinkshowjump?jump=nextslide"/>
          </p:cNvPr>
          <p:cNvSpPr/>
          <p:nvPr/>
        </p:nvSpPr>
        <p:spPr>
          <a:xfrm>
            <a:off x="684360" y="479736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за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714240" y="3000240"/>
            <a:ext cx="264348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ре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3708360" y="4869000"/>
            <a:ext cx="2643120" cy="128556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из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3714840" y="3000240"/>
            <a:ext cx="2643120" cy="1285920"/>
          </a:xfrm>
          <a:prstGeom prst="rect">
            <a:avLst/>
          </a:prstGeom>
          <a:solidFill>
            <a:srgbClr val="3366ff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ть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08:09:21Z</dcterms:created>
  <dc:creator>USER</dc:creator>
  <dc:description/>
  <dc:language>en-US</dc:language>
  <cp:lastModifiedBy>User</cp:lastModifiedBy>
  <dcterms:modified xsi:type="dcterms:W3CDTF">2023-07-14T03:49:17Z</dcterms:modified>
  <cp:revision>39</cp:revision>
  <dc:subject/>
  <dc:title>Кто хочет стать миллионером?</dc:title>
</cp:coreProperties>
</file>