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88A-EC43-4DC9-A343-7C9BBFAA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973-924A-4F33-A240-BC2830E1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24B-1A5D-414D-96C7-6652F419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246-EE3F-4458-B3BB-448D831E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67C-8B3C-443B-AF33-A474E882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C3B-B2EE-445A-9347-8989478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D10-7507-4301-8BDC-CDF5184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501-52A2-40DB-B46B-9405A8B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841-26C4-4929-9726-8F2A973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986-324D-4716-8E45-245B929C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D03-A983-46D9-A857-98B8E8F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D2E-D65C-4390-8AA2-16AE625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8EA-1352-4A98-9F29-98C7F27A1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859563" TargetMode="External"/><Relationship Id="rId2" Type="http://schemas.openxmlformats.org/officeDocument/2006/relationships/hyperlink" Target="https://dic.academic.ru/dic.nsf/ruwiki/6516" TargetMode="External"/><Relationship Id="rId3" Type="http://schemas.openxmlformats.org/officeDocument/2006/relationships/hyperlink" Target="https://dic.academic.ru/dic.nsf/ruwiki/35285" TargetMode="External"/><Relationship Id="rId4" Type="http://schemas.openxmlformats.org/officeDocument/2006/relationships/hyperlink" Target="https://dic.academic.ru/dic.nsf/ruwiki/326386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6482" TargetMode="External"/><Relationship Id="rId2" Type="http://schemas.openxmlformats.org/officeDocument/2006/relationships/hyperlink" Target="https://dic.academic.ru/dic.nsf/ruwiki/255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25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2" name="Picture 4" descr="C:\Users\Эльмира\Desktop\4da347e5ea7813a074ecb4f021290b4c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ует со многими простыми веществами 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логе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которыми металлами, проявляя окислительные и восстановительные 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 металлами 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кисл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уе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осфи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Ca → C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Mg → M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 с неметаллами —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сстанов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S → 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2P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заимодействует с водой, при эт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пропорционирует  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00-800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°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, кат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t? Cu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Р + 6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→ Р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3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сфатная кисл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Взаимодействие с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щело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творах щелочей диспропорционирование происходит в большей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Р + 3KOH + 3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→ Р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3K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Сильные окислители превращают фосфор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сфорную кисло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P + 5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→ 3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5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P + 5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еакция окисления также происходит при поджигании спичек, в качестве окислителя выступ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толетова с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P + 5KCl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5KCl + 3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        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ПРИМЕНЕ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50004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оединения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76400" y="907920"/>
            <a:ext cx="9141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иды- соединения фосфора с металлами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ин -соединение с водородом( Р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овитый бесцветный газ с запахом чеснока. Образуется при разло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х соединений. Окисление кислородом-«блуждающие ог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кс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4"/>
          <p:cNvCxnSpPr/>
          <p:nvPr/>
        </p:nvCxnSpPr>
        <p:spPr>
          <a:xfrm flipH="1">
            <a:off x="2987280" y="3508200"/>
            <a:ext cx="162792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6"/>
          <p:cNvCxnSpPr/>
          <p:nvPr/>
        </p:nvCxnSpPr>
        <p:spPr>
          <a:xfrm>
            <a:off x="5003280" y="3508200"/>
            <a:ext cx="1553400" cy="3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7"/>
          <p:cNvSpPr/>
          <p:nvPr/>
        </p:nvSpPr>
        <p:spPr>
          <a:xfrm>
            <a:off x="170640" y="3832200"/>
            <a:ext cx="3634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оксид дифос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 фосф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е кристалл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, реагирует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149040" y="564840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3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= 2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49400" y="6127920"/>
            <a:ext cx="45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сфористая (фосфоновая)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ли-фос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419440" y="3838680"/>
            <a:ext cx="3787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нтаоксид  дифос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 фосф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е кристалл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, реагирует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458680" y="564840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3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= 2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213520" y="6108840"/>
            <a:ext cx="37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сфорная (ортофосфор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28440" y="3541680"/>
            <a:ext cx="1962360" cy="125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7738920" y="2290680"/>
            <a:ext cx="1578240" cy="169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924360" y="2924280"/>
            <a:ext cx="129528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4"/>
          <p:cNvCxnSpPr>
            <a:endCxn id="80" idx="2"/>
          </p:cNvCxnSpPr>
          <p:nvPr/>
        </p:nvCxnSpPr>
        <p:spPr>
          <a:xfrm flipH="1" flipV="1">
            <a:off x="4479480" y="2052360"/>
            <a:ext cx="7200" cy="90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1" name="Прямая со стрелкой 6"/>
          <p:cNvCxnSpPr/>
          <p:nvPr/>
        </p:nvCxnSpPr>
        <p:spPr>
          <a:xfrm flipV="1">
            <a:off x="5219280" y="2348640"/>
            <a:ext cx="648360" cy="57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2" name="Прямая со стрелкой 8"/>
          <p:cNvCxnSpPr>
            <a:stCxn id="78" idx="3"/>
          </p:cNvCxnSpPr>
          <p:nvPr/>
        </p:nvCxnSpPr>
        <p:spPr>
          <a:xfrm flipV="1">
            <a:off x="5219640" y="3585600"/>
            <a:ext cx="7214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3" name="Прямая со стрелкой 10"/>
          <p:cNvCxnSpPr/>
          <p:nvPr/>
        </p:nvCxnSpPr>
        <p:spPr>
          <a:xfrm>
            <a:off x="5219280" y="4247640"/>
            <a:ext cx="648360" cy="467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" name="Прямая со стрелкой 12"/>
          <p:cNvCxnSpPr>
            <a:stCxn id="78" idx="2"/>
          </p:cNvCxnSpPr>
          <p:nvPr/>
        </p:nvCxnSpPr>
        <p:spPr>
          <a:xfrm>
            <a:off x="4571640" y="4247640"/>
            <a:ext cx="1080" cy="694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15"/>
          <p:cNvCxnSpPr/>
          <p:nvPr/>
        </p:nvCxnSpPr>
        <p:spPr>
          <a:xfrm flipH="1" flipV="1">
            <a:off x="3160080" y="3585600"/>
            <a:ext cx="78948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/>
          <p:nvPr/>
        </p:nvCxnSpPr>
        <p:spPr>
          <a:xfrm flipH="1">
            <a:off x="3347280" y="4247640"/>
            <a:ext cx="577080" cy="467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7" name="Прямая со стрелкой 27"/>
          <p:cNvCxnSpPr/>
          <p:nvPr/>
        </p:nvCxnSpPr>
        <p:spPr>
          <a:xfrm flipH="1" flipV="1">
            <a:off x="3347280" y="2348640"/>
            <a:ext cx="577080" cy="57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8" name="TextBox 35843"/>
          <p:cNvSpPr/>
          <p:nvPr/>
        </p:nvSpPr>
        <p:spPr>
          <a:xfrm>
            <a:off x="1434960" y="170028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сф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6"/>
          <p:cNvSpPr/>
          <p:nvPr/>
        </p:nvSpPr>
        <p:spPr>
          <a:xfrm>
            <a:off x="5909760" y="1698480"/>
            <a:ext cx="19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3054960" y="974880"/>
            <a:ext cx="284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6046560" y="329400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2"/>
          <p:cNvSpPr/>
          <p:nvPr/>
        </p:nvSpPr>
        <p:spPr>
          <a:xfrm>
            <a:off x="395280" y="300204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хими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3"/>
          <p:cNvSpPr/>
          <p:nvPr/>
        </p:nvSpPr>
        <p:spPr>
          <a:xfrm>
            <a:off x="5906880" y="4237200"/>
            <a:ext cx="251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ывча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4"/>
          <p:cNvSpPr/>
          <p:nvPr/>
        </p:nvSpPr>
        <p:spPr>
          <a:xfrm>
            <a:off x="1373760" y="4248000"/>
            <a:ext cx="19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5"/>
          <p:cNvSpPr/>
          <p:nvPr/>
        </p:nvSpPr>
        <p:spPr>
          <a:xfrm>
            <a:off x="3489480" y="490860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plavitmetall.ru/wp-content/uploads/2017/05/fosforn-kisl.jpg"/>
          <p:cNvPicPr/>
          <p:nvPr/>
        </p:nvPicPr>
        <p:blipFill>
          <a:blip r:embed="rId3"/>
          <a:stretch/>
        </p:blipFill>
        <p:spPr>
          <a:xfrm>
            <a:off x="274680" y="249120"/>
            <a:ext cx="2620800" cy="1708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281400" y="0"/>
            <a:ext cx="23097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51600" y="60480"/>
            <a:ext cx="2720880" cy="181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reatex.ru/images/com_hikashop/upload/thumbnails/180x180f/c1.png"/>
          <p:cNvPicPr/>
          <p:nvPr/>
        </p:nvPicPr>
        <p:blipFill>
          <a:blip r:embed="rId6"/>
          <a:stretch/>
        </p:blipFill>
        <p:spPr>
          <a:xfrm>
            <a:off x="757080" y="5032440"/>
            <a:ext cx="2035440" cy="203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severinform.ru/images/clipart/800x600_943979287.jpg"/>
          <p:cNvPicPr/>
          <p:nvPr/>
        </p:nvPicPr>
        <p:blipFill>
          <a:blip r:embed="rId7"/>
          <a:stretch/>
        </p:blipFill>
        <p:spPr>
          <a:xfrm>
            <a:off x="6765840" y="5310360"/>
            <a:ext cx="2378160" cy="178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gepatoz.lechenie-pechen.ru/wp-content/uploads/2018/06/fosfogliv-ili-essentsiale-otlichiya.jpg"/>
          <p:cNvPicPr/>
          <p:nvPr/>
        </p:nvPicPr>
        <p:blipFill>
          <a:blip r:embed="rId8"/>
          <a:stretch/>
        </p:blipFill>
        <p:spPr>
          <a:xfrm>
            <a:off x="3481560" y="5462640"/>
            <a:ext cx="22176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Эльмира\Desktop\fd5cd71d5cdc7e4313124961ea10793c-800x.jpg"/>
          <p:cNvPicPr/>
          <p:nvPr/>
        </p:nvPicPr>
        <p:blipFill>
          <a:blip r:embed="rId2"/>
          <a:stretch/>
        </p:blipFill>
        <p:spPr>
          <a:xfrm>
            <a:off x="285840" y="7920"/>
            <a:ext cx="84661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55640" y="98100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69 Хеннинг Бранд при нагревании смеси белого песка и выпаренной мочи получил светящееся в темноте вещество, названное сначала «холодным огнём». Вторичное наз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осфор» проис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е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 «фос» — с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«феро» — н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ткрытие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72040" y="2984400"/>
            <a:ext cx="35719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466200" y="15876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электронные формулы атома фосф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возможные степени окис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ого э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hp\Desktop\32-2.jpg"/>
          <p:cNvPicPr/>
          <p:nvPr/>
        </p:nvPicPr>
        <p:blipFill>
          <a:blip r:embed="rId1"/>
          <a:stretch/>
        </p:blipFill>
        <p:spPr>
          <a:xfrm>
            <a:off x="896760" y="1484280"/>
            <a:ext cx="76647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30040" y="15876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ые степени окисления фос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765000"/>
          <a:ext cx="7991280" cy="432000"/>
        </p:xfrm>
        <a:graphic>
          <a:graphicData uri="http://schemas.openxmlformats.org/drawingml/2006/table">
            <a:tbl>
              <a:tblPr/>
              <a:tblGrid>
                <a:gridCol w="3024000"/>
                <a:gridCol w="49672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кис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8360" y="1268280"/>
          <a:ext cx="7991280" cy="4297320"/>
        </p:xfrm>
        <a:graphic>
          <a:graphicData uri="http://schemas.openxmlformats.org/drawingml/2006/table">
            <a:tbl>
              <a:tblPr/>
              <a:tblGrid>
                <a:gridCol w="3024000"/>
                <a:gridCol w="496728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myslide.ru/documents_7/8d4c9a18e557801cdd0fc04de312d5f5/img4.jpg"/>
          <p:cNvPicPr/>
          <p:nvPr/>
        </p:nvPicPr>
        <p:blipFill>
          <a:blip r:embed="rId1"/>
          <a:stretch/>
        </p:blipFill>
        <p:spPr>
          <a:xfrm>
            <a:off x="642960" y="57168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Физ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9280" y="1417680"/>
            <a:ext cx="8651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ОТРОПНЫЕ МОДИФИКАЦИИ ФОСФ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фосфор Р4 (табл. 18 с.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олекулярная решетка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Д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расный фосфор Рп (табл. 18 с.104)- атомная решетка. Не ядов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Черный фосфор Р – атомная реш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385360" y="5645160"/>
            <a:ext cx="437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ис. 28 с.1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4336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Фосфор легко окисляетс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слород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5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P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657360" y="112536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активность фосфора значительно выше, чем 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з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Химические свойства фосфора во многом определяются его аллотропной модификацией. Белый фосфор очень активен, в процессе перехода к красному и чёрному фосфору химическая активность резко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9:31:35Z</dcterms:created>
  <dc:creator>Comp</dc:creator>
  <dc:description/>
  <dc:language>en-US</dc:language>
  <cp:lastModifiedBy>Эльмира</cp:lastModifiedBy>
  <dcterms:modified xsi:type="dcterms:W3CDTF">2023-07-13T18:17:21Z</dcterms:modified>
  <cp:revision>27</cp:revision>
  <dc:subject/>
  <dc:title>Фосфор и его соединения</dc:title>
</cp:coreProperties>
</file>