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19F6-A26A-4A6F-8B27-934C16A07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93AA-C2DE-454A-85C9-E329D179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7BC93A-82D2-4D9A-A1D9-99472199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BB3E4-FC5F-4B56-93EC-6C20C5B3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152368-EA89-4418-9731-CE15EE55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0D05F3-9828-41A0-BB5F-4EAFE8DD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D0CEEB-D3BF-4DEF-A890-022F36DC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0ECEF4-EC20-4EEC-B509-2118F555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E42461-F51D-45B3-A3C0-AA08B499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5F9A38-B176-4E1C-BB2B-8C0E9EF9F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182EDD-D5D6-434C-881C-540B8771D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BE1A-4B81-4A57-BBF9-48FBF4EE7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1529-4DCF-4A32-8681-BDE93177D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E9CC-0BDB-4121-BB0A-3A3BF3B0A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E10A-83CD-4B31-8DCA-905BCDA8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8FEAB-1322-459F-A350-7C9F73FD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025CE-0C07-4CF4-B0F6-C1AC364E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E9ED-6C95-4388-A342-011DD617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E427-BD95-4D24-B918-339ABE58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48C7-3CFA-4831-8B2E-B09B714B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BB45-6D80-4420-A64C-90B33BE2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F552E-8DBF-414E-B506-29A6EE43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2B5F-CF82-40BD-8E14-CA3FC44F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D480-A192-425C-8DC5-ABAEE953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FFDA4-0027-4D06-9E4A-3CC10B6C9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C56A-6A3D-4D57-A43B-6313F1A7D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B9383-D682-464E-87E7-80E552DC1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07677-1AF5-4124-80F2-F79FCA34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70A79-D326-4CC1-ADD7-D4486893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D5659-67D7-4F4F-AA36-03F42DCF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41D3F-B59E-464E-986C-A01A1DB5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8656-7CCC-4DE2-A522-07B407A6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B3286-02AD-4757-9C18-369C1FF7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813B2-7E7A-4302-BDE0-12F9D3A5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9CC53-DC64-4BFC-8121-D9ABCF46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00CD4-3625-431C-95BE-5D11A760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A2EC5-9312-42AA-8E9B-F3162955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E36FB-7A2B-41B6-9F3D-9A78E853E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8A3DC-D529-476B-880A-69C58E98D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8EA17-87EB-498C-B952-926457B96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8CFEC-E451-49CC-91F2-73C717B3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D57E8-2856-4226-80D0-6E720F54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B757-6EA5-4910-8BCC-40E126C9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EAA76-AC88-406F-9EF2-7A713758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DB1C2-081F-49FC-B6BF-1304A2AE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0BECE-D845-459C-9348-853A48DA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EBF47-D9AD-4DEC-B040-F2A26889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9703A-2F66-4A85-9474-EDDA2665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0D062-ECA2-4F75-BF3E-FD1FD0F0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1B201-793D-433D-941D-1B089836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D2C5F-1FFA-4B6B-A051-18607D37B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D7452-43A0-4BDB-948A-53E475DCF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FDFA3-3843-42D3-BCC8-BC6C17A67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3673-979F-4D04-B1A0-F87B984C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4C6E3-47CF-4E56-A9E2-A51AB4EB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2FA73-F7F8-4BEF-B0C6-998C8620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1B261-5D62-4E1F-8456-0859965D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F6EA4-2385-4023-A453-527F6E53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3DD20-DCCB-417A-9D32-8017CCA1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5FE56-8FA9-4265-A9D9-59A551B0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B38AE-EA01-45A9-B4EA-B134655E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669C8-209E-42A2-8EFE-16D8421B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716A7-38BB-45D3-9022-316DBA33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0CD00-5ECC-420B-AF90-CCA890C07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E7EA-C341-47B3-A23E-68BC68C2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650B4-9EC0-486C-8C89-4A623C284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EADA7-E2A3-4869-BB22-B550CCF1F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E0C76-4DCC-440E-A17B-50D6E7D0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61D3A-C751-45DF-9BA2-6F3B4E0E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5A4A0-3551-43D0-B11F-A3776336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32146-8585-4FEA-9B51-1B065039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A3E22-6672-46CA-8A66-0AA52621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6B5AD-4CC9-406B-AF6F-953B44B2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325DB-0634-4276-8435-FACFA3E2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81576-94EE-472A-A762-08E004D4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0E32-7AA6-4A1E-8E43-18C762FD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88D15-5D61-4456-B72C-34C2FD8E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FA3C5-1816-4F96-9965-E9FB76108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4B1DE-BF80-4A20-97A8-4AE683C3E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8DBC1-B1E1-4089-9D8B-AB1A97741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B8045-5C19-4885-8470-718B2A1C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3C934-632F-4170-B4B6-DBB2B7FB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FC112-0110-4706-9BAA-35994D74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EB567-44FC-4185-9BE8-303BA200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26932-24A2-4033-8AF0-915B3008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E4572-FCA3-41E4-A956-726F02F7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FAE0-BAC3-49EC-B70A-05B5789E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EE9F6-4E11-499D-BACA-F11FB460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23C5B-D309-4C8C-AC12-90ABA3D1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CA3F7-AD26-439A-8784-CAFA1696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4182F-4D27-4359-AE0A-08C9D101C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3DDB0-EFD9-4613-94A4-ECF3BF56D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50595-6004-4613-8687-C57A8E5A9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EAB88-C520-4BE8-B99C-127345A4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44BC4-8B27-4A82-ADC4-6C47D100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DA7B4-91C2-4202-8071-E4D98190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90D1A-67EA-41F5-AE8F-6C8B5934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4B0C-8AC9-4517-A547-42F9100D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F786B-4619-4319-9729-C358EB97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2E54D-47F5-446C-9651-5545E1DD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833DA-C443-406E-B70B-31D89161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A4E47-388A-42C8-B507-0DCAA1C1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6DE0B-8056-4720-89AF-02D4E37A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7E7E3-9283-4145-BC14-78C71B439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F465D-D134-4A70-AAD5-A6C3875D1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224C3F-C4E1-4A12-8A40-6642F1B51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531367-F39C-470A-B913-64C4A86D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A4A257-4BEB-405C-9568-A42C33D0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C859-E070-45B1-8DD5-F7AC9AD4E2B2}" type="slidenum"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"/>
          <p:cNvGrpSpPr/>
          <p:nvPr/>
        </p:nvGrpSpPr>
        <p:grpSpPr>
          <a:xfrm>
            <a:off x="512640" y="5346720"/>
            <a:ext cx="8637840" cy="17280"/>
            <a:chOff x="512640" y="5346720"/>
            <a:chExt cx="8637840" cy="17280"/>
          </a:xfrm>
        </p:grpSpPr>
        <p:pic>
          <p:nvPicPr>
            <p:cNvPr id="51" name="Прямая соединительная линия 1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7DD5-0F42-4BFF-A360-3CCD484B3920}" type="slidenum"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34E5-4D54-42E8-9D2C-B064D9AC81C8}" type="slidenum"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"/>
          <p:cNvGrpSpPr/>
          <p:nvPr/>
        </p:nvGrpSpPr>
        <p:grpSpPr>
          <a:xfrm>
            <a:off x="512640" y="3438360"/>
            <a:ext cx="8637840" cy="17640"/>
            <a:chOff x="512640" y="3438360"/>
            <a:chExt cx="8637840" cy="17640"/>
          </a:xfrm>
        </p:grpSpPr>
        <p:pic>
          <p:nvPicPr>
            <p:cNvPr id="145" name="Прямая соединительная линия 1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fa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efa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8F45-866F-4AF2-AD80-58BB74BC3968}" type="slidenum"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"/>
          <p:cNvGrpSpPr/>
          <p:nvPr/>
        </p:nvGrpSpPr>
        <p:grpSpPr>
          <a:xfrm>
            <a:off x="512640" y="6016680"/>
            <a:ext cx="8637840" cy="19080"/>
            <a:chOff x="512640" y="6016680"/>
            <a:chExt cx="8637840" cy="19080"/>
          </a:xfrm>
        </p:grpSpPr>
        <p:pic>
          <p:nvPicPr>
            <p:cNvPr id="189" name="Прямая соединительная линия 1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F45E-C61C-4656-98AF-5D490F69A676}" type="slidenum"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7547-87E8-4819-869E-A7E3FB74C67C}" type="slidenum"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"/>
          <p:cNvGrpSpPr/>
          <p:nvPr/>
        </p:nvGrpSpPr>
        <p:grpSpPr>
          <a:xfrm>
            <a:off x="512640" y="5846760"/>
            <a:ext cx="8637840" cy="17640"/>
            <a:chOff x="512640" y="5846760"/>
            <a:chExt cx="8637840" cy="17640"/>
          </a:xfrm>
        </p:grpSpPr>
        <p:pic>
          <p:nvPicPr>
            <p:cNvPr id="274" name="Прямая соединительная линия 1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15EB-809B-405C-A68E-958C2649D05E}" type="slidenum"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C1E0-77F8-4B8B-8E44-AF8D830C2979}" type="slidenum"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FBC1-639C-4ACF-9368-D3571A5C43EB}" type="slidenum"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Box 5"/>
          <p:cNvSpPr/>
          <p:nvPr/>
        </p:nvSpPr>
        <p:spPr>
          <a:xfrm>
            <a:off x="755640" y="1773360"/>
            <a:ext cx="763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ямая и обратная пропорциональная зависимость. (задачи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3" descr=""/>
          <p:cNvPicPr/>
          <p:nvPr/>
        </p:nvPicPr>
        <p:blipFill>
          <a:blip r:embed="rId1"/>
          <a:stretch/>
        </p:blipFill>
        <p:spPr>
          <a:xfrm>
            <a:off x="142920" y="2143080"/>
            <a:ext cx="5429160" cy="4071960"/>
          </a:xfrm>
          <a:prstGeom prst="rect">
            <a:avLst/>
          </a:prstGeom>
          <a:ln w="0">
            <a:noFill/>
          </a:ln>
        </p:spPr>
      </p:pic>
      <p:sp>
        <p:nvSpPr>
          <p:cNvPr id="401" name="TextBox 4"/>
          <p:cNvSpPr/>
          <p:nvPr/>
        </p:nvSpPr>
        <p:spPr>
          <a:xfrm>
            <a:off x="5715000" y="142920"/>
            <a:ext cx="32148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ер на море гуля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раблик подгоня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бежит себе в волн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аздутых парус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абельщики дивят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раблике толпят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накомом остро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до видят наяв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 новый златоглав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ань с крепкою застав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шки с пристани паля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аблю пристать веля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"/>
          <p:cNvPicPr/>
          <p:nvPr/>
        </p:nvPicPr>
        <p:blipFill>
          <a:blip r:embed="rId1"/>
          <a:stretch/>
        </p:blipFill>
        <p:spPr>
          <a:xfrm>
            <a:off x="5143680" y="857160"/>
            <a:ext cx="3763800" cy="3000600"/>
          </a:xfrm>
          <a:prstGeom prst="rect">
            <a:avLst/>
          </a:prstGeom>
          <a:ln w="0">
            <a:noFill/>
          </a:ln>
        </p:spPr>
      </p:pic>
      <p:sp>
        <p:nvSpPr>
          <p:cNvPr id="403" name="TextBox 6"/>
          <p:cNvSpPr/>
          <p:nvPr/>
        </p:nvSpPr>
        <p:spPr>
          <a:xfrm>
            <a:off x="285840" y="714240"/>
            <a:ext cx="442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d2901"/>
                </a:solidFill>
                <a:latin typeface="Georgia"/>
              </a:rPr>
              <a:t>Ель растет перед дворц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d2901"/>
                </a:solidFill>
                <a:latin typeface="Georgia"/>
              </a:rPr>
              <a:t>А под ней хрустальный д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d2901"/>
                </a:solidFill>
                <a:latin typeface="Georgia"/>
              </a:rPr>
              <a:t>Белка там живет ручн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d2901"/>
                </a:solidFill>
                <a:latin typeface="Georgia"/>
              </a:rPr>
              <a:t>Да затейница кака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d2901"/>
                </a:solidFill>
                <a:latin typeface="Georgia"/>
              </a:rPr>
              <a:t>Белка песенки по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d2901"/>
                </a:solidFill>
                <a:latin typeface="Georgia"/>
              </a:rPr>
              <a:t>Да орешки всё грыз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7"/>
          <p:cNvSpPr/>
          <p:nvPr/>
        </p:nvSpPr>
        <p:spPr>
          <a:xfrm>
            <a:off x="428760" y="4143240"/>
            <a:ext cx="84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 3 ч белка разгрызла 28 орешков. Сколько орешков разгрызет белка за 15 ч, если будет грызть орешки с той же скоростью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8"/>
          <p:cNvSpPr/>
          <p:nvPr/>
        </p:nvSpPr>
        <p:spPr>
          <a:xfrm>
            <a:off x="3857760" y="214200"/>
            <a:ext cx="142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№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Box 1"/>
          <p:cNvSpPr/>
          <p:nvPr/>
        </p:nvSpPr>
        <p:spPr>
          <a:xfrm>
            <a:off x="214200" y="928800"/>
            <a:ext cx="5572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d2901"/>
                </a:solidFill>
                <a:latin typeface="Georgia"/>
              </a:rPr>
              <a:t>Ветер весело шум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d2901"/>
                </a:solidFill>
                <a:latin typeface="Georgia"/>
              </a:rPr>
              <a:t>Судно весело беж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d2901"/>
                </a:solidFill>
                <a:latin typeface="Georgia"/>
              </a:rPr>
              <a:t>Мимо острова Буя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d2901"/>
                </a:solidFill>
                <a:latin typeface="Georgia"/>
              </a:rPr>
              <a:t>В царство славного Салтана 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d2901"/>
                </a:solidFill>
                <a:latin typeface="Georgia"/>
              </a:rPr>
              <a:t>И желанная стр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d2901"/>
                </a:solidFill>
                <a:latin typeface="Georgia"/>
              </a:rPr>
              <a:t>Вот уж издали вид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5715000" y="820800"/>
            <a:ext cx="3286080" cy="2465280"/>
          </a:xfrm>
          <a:prstGeom prst="rect">
            <a:avLst/>
          </a:prstGeom>
          <a:ln w="0">
            <a:noFill/>
          </a:ln>
        </p:spPr>
      </p:pic>
      <p:sp>
        <p:nvSpPr>
          <p:cNvPr id="408" name="TextBox 4"/>
          <p:cNvSpPr/>
          <p:nvPr/>
        </p:nvSpPr>
        <p:spPr>
          <a:xfrm>
            <a:off x="3714840" y="285840"/>
            <a:ext cx="20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№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5"/>
          <p:cNvSpPr/>
          <p:nvPr/>
        </p:nvSpPr>
        <p:spPr>
          <a:xfrm>
            <a:off x="571680" y="3571920"/>
            <a:ext cx="8215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какой скоростью нужно было плыть кораблю, чтобы от острова Буяна доплы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 царства царя Салтана за 4, 5 ч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сли при скорости 57 км\ч он проходит это расстояние за 6ч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Box 1"/>
          <p:cNvSpPr/>
          <p:nvPr/>
        </p:nvSpPr>
        <p:spPr>
          <a:xfrm>
            <a:off x="285840" y="928800"/>
            <a:ext cx="3571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d2901"/>
                </a:solidFill>
                <a:latin typeface="Times New Roman"/>
                <a:ea typeface="Times New Roman"/>
              </a:rPr>
              <a:t>Корабельщики в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d2901"/>
                </a:solidFill>
                <a:latin typeface="Times New Roman"/>
                <a:ea typeface="Times New Roman"/>
              </a:rPr>
              <a:t>«Мы объехали весь св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d2901"/>
                </a:solidFill>
                <a:latin typeface="Times New Roman"/>
                <a:ea typeface="Times New Roman"/>
              </a:rPr>
              <a:t>Торговали соболя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d2901"/>
                </a:solidFill>
                <a:latin typeface="Times New Roman"/>
                <a:ea typeface="Times New Roman"/>
              </a:rPr>
              <a:t>Чернобурыми лис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d2901"/>
                </a:solidFill>
                <a:latin typeface="Times New Roman"/>
                <a:ea typeface="Times New Roman"/>
              </a:rPr>
              <a:t>А теперь нам вышел ср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d2901"/>
                </a:solidFill>
                <a:latin typeface="Times New Roman"/>
                <a:ea typeface="Times New Roman"/>
              </a:rPr>
              <a:t>Едем прямо на вост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d2901"/>
                </a:solidFill>
                <a:latin typeface="Times New Roman"/>
                <a:ea typeface="Times New Roman"/>
              </a:rPr>
              <a:t>Мимо острова Буя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d2901"/>
                </a:solidFill>
                <a:latin typeface="Times New Roman"/>
                <a:ea typeface="Times New Roman"/>
              </a:rPr>
              <a:t>В царство славного Салт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4"/>
          <p:cNvSpPr/>
          <p:nvPr/>
        </p:nvSpPr>
        <p:spPr>
          <a:xfrm>
            <a:off x="3714840" y="285840"/>
            <a:ext cx="20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№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3"/>
          <p:cNvSpPr/>
          <p:nvPr/>
        </p:nvSpPr>
        <p:spPr>
          <a:xfrm>
            <a:off x="3857760" y="1071720"/>
            <a:ext cx="51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ручка корабельщиков после продажи товара составила 5000 рублей, причем за соболя выручили 45%. Сколько рублей выручили за чернобурых лис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2" descr=""/>
          <p:cNvPicPr/>
          <p:nvPr/>
        </p:nvPicPr>
        <p:blipFill>
          <a:blip r:embed="rId1"/>
          <a:stretch/>
        </p:blipFill>
        <p:spPr>
          <a:xfrm>
            <a:off x="4071960" y="3929040"/>
            <a:ext cx="4786200" cy="22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3T14:33:32Z</dcterms:created>
  <dc:creator>Виктор</dc:creator>
  <dc:description/>
  <dc:language>en-US</dc:language>
  <cp:lastModifiedBy>Ириша</cp:lastModifiedBy>
  <dcterms:modified xsi:type="dcterms:W3CDTF">2023-07-13T17:14:20Z</dcterms:modified>
  <cp:revision>11</cp:revision>
  <dc:subject/>
  <dc:title>Слайд 1</dc:title>
</cp:coreProperties>
</file>