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4D42-0D16-4A11-AB27-0AA158343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5862-0622-44A1-A7F3-74EDD887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DDC13-4478-4B7B-8F09-CA03FAB8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6A30B6-163F-4775-85D0-CF07CDC3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E868BF-90A5-48D6-8786-57F77C3A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C4D438-9B50-41CA-B9C4-CB38129E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BA3B0B-6D55-4C78-96B7-A883DDFC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7D6F69-7577-41C5-8828-983D6220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6A3F8F-4031-4AC5-85F9-35684FD6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6F91C2-03C7-40F6-837B-9AC5F0C16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0887A4-BF7D-45B2-8365-5231EDE7D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784E-BAC5-4FDC-B788-938B7A28D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642D-4A35-4C0D-98A7-B8AEBCBBD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BC930-ABD6-4A7D-95E9-3996F37C2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55DD-9985-481B-9BE1-8B22B464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D4277-5FD0-4A43-83C6-D7B73B2A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5C39-EE82-4781-8962-2BE5281C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08A89-EE9F-405B-BACC-ABAE7D59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5217D-EEF1-418E-B3D3-6A8AA544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86982-CD4B-4227-96CD-5BA262E8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A853-ADE9-47F1-B74B-C820E41F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42612-4E5B-4277-B458-A405A5E2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18C1-77AE-4FF3-A8AB-57B56D2B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4BF4-DDF3-4376-AAFA-4855F540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B20A-F1EB-4900-9CBB-1C61F8D35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F297-260E-4EDF-9C7D-CD648AC2B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892CC-2437-4BFA-8D17-9E62127CD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889A2-AF6E-4C02-8C71-510D7408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D99BD-2A0C-4882-965B-392B41EB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5EBBB-88B0-4375-A4A0-A3C3BF87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11EF6-682B-4ADE-8CF6-04444BC9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0BBE-9F25-4F6C-895D-3CDFEEC3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C5636-4F0E-43D5-86DB-EDD8D974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FE1B3-E508-420B-B342-2F633BB9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5DC8E-19C4-4955-B225-EA48915F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3B0AA-B8ED-424C-A9C1-0A7A45E5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9462B-5739-48E6-ABA9-3791C430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FEF69-64EE-4A86-987D-DF8AFD7C2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886F4-1B2B-428A-B18F-AE5199A12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3A289-DC21-4820-A758-CEADD180B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92AAA-EF3C-4265-A41C-80F4E10F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ABA9D-05D0-44D8-8854-77314BC2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04DC-77A2-4C53-BBAA-74B4C3E5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B2CFE-F151-438A-B611-EE5AC987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9DF6C-B508-4483-B009-1ADE950A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42750-D6F4-4984-8455-33C12CC5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A8CF6-1832-4321-8040-5C04E70F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9D828-4CD8-44DD-B843-BF3744F0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4916F-CBA2-4A71-9B6D-B5FDCA66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44BB2-BF28-4E65-8084-F33E7C63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8701E-33DA-45F7-A5E8-B86025308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AB6C6-1387-4990-AA78-01CA93FC2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E8B40-EF9E-4E48-92AE-866B7CE14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07BB-67BF-4521-A5C9-8ACD272E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E58EF-9E61-401C-83B4-C3B4B589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51989-4F3B-4A30-98D3-32411C95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5425E-2D1D-4047-8200-1C4F311A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D08A9-5C00-49D2-ABDB-95F703AD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2A1EF-6440-40A3-90CE-FABC412F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0B948-D278-47C9-B188-8FB00902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F962A-89DB-43EB-B8E2-6F4E166A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CDF6E-1229-42F2-91F8-7EFBE4F7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14A59-16BB-4F59-84BF-1112E74D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1B7A0-0854-4F3A-A200-9C9C9D692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7A96-2DB6-448D-973E-A92398F7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590BF-D3ED-4112-A3B2-0C41111A9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43906-63EF-4C98-A131-731752869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66815-9E41-4908-B713-B95B1A9E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2BFA0-AED7-456E-AF04-E898E321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44211-4F73-474A-B160-72ADC1CB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94121-5009-40A9-BA6B-56240D6E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9A77F-41EA-4F49-8296-31B167F0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C2C68-D10A-43F0-B944-90965245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2441D-DF08-44D1-A060-3399AA30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029E1-F445-4405-B4E9-8C8111BF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F7FB-D047-4027-AD22-4B9F67FA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6555C-52CD-443E-A6BC-FE10E069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1B390-EFC8-4DC7-A97E-0681AFE3E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CF341-AC4D-4676-AEF3-02D7CE88B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236F0-20B4-45B2-99A2-4F078CBAE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85AB4-8E68-4089-8E59-EF65457B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3A8F5-1A30-4961-BA94-57C11DCE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476F5-66CD-4682-92FC-4FED6042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5D3D0-E3DD-49A6-8134-B1996BA3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77314-D954-4F5C-B741-F02C8373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A766F-E118-4935-9169-3FBB7D17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A424-0C10-4E41-878E-27D9B6E0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E2DAF-48FB-4E89-8C6C-E828F766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4809E-9DDC-47EE-BCDB-FBC82FF4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8E97C-A660-4B3E-986D-D72194F2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93C82-6D0B-4A76-BF90-41732BCC6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E922E-C3C0-4C01-A204-663484800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15716-65F2-4A63-879F-70E11976C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9201B-A1F3-43DA-9EB2-3EB95016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F5205-A066-484C-BCD3-1545DFCF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E2003-400D-4E88-9EB6-D4183B99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0FB1B-AE13-4DA0-A9AC-15953928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84BE-37C0-4CFF-B2B1-F3515F93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443AE-4254-46E7-BCDF-C8FCF454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4ADF6-D5E4-4591-A0B3-BCB37A6F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C9674-1CC7-46C0-85EE-4F780F97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584A9-5661-489D-9225-0B416A0E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33DE8-6883-410C-B242-BA23AFA0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C99A7-F9DC-427A-8EF5-3D7FF43B1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48596-185F-4247-889E-9E12F1F8D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EAE076-6ECD-4182-9690-614B36ECF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BB85F2-BA47-4E35-9E9D-E92242CB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B1AB92-8DC4-4F73-8D04-522D4F5F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9C68-4066-47F1-A67C-5C850FC69927}" type="slidenum"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"/>
          <p:cNvGrpSpPr/>
          <p:nvPr/>
        </p:nvGrpSpPr>
        <p:grpSpPr>
          <a:xfrm>
            <a:off x="512640" y="5346720"/>
            <a:ext cx="8637840" cy="17280"/>
            <a:chOff x="512640" y="5346720"/>
            <a:chExt cx="8637840" cy="17280"/>
          </a:xfrm>
        </p:grpSpPr>
        <p:pic>
          <p:nvPicPr>
            <p:cNvPr id="51" name="Прямая соединительная линия 1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2438-3383-4EAA-B583-108D3C09FCAC}" type="slidenum"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859C-EA68-4E7B-91C7-24C17015829D}" type="slidenum"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"/>
          <p:cNvGrpSpPr/>
          <p:nvPr/>
        </p:nvGrpSpPr>
        <p:grpSpPr>
          <a:xfrm>
            <a:off x="512640" y="3438360"/>
            <a:ext cx="8637840" cy="17640"/>
            <a:chOff x="512640" y="3438360"/>
            <a:chExt cx="8637840" cy="17640"/>
          </a:xfrm>
        </p:grpSpPr>
        <p:pic>
          <p:nvPicPr>
            <p:cNvPr id="145" name="Прямая соединительная линия 1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fa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efa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ED83-282B-467B-8903-5EDC5B2CE5EF}" type="slidenum"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"/>
          <p:cNvGrpSpPr/>
          <p:nvPr/>
        </p:nvGrpSpPr>
        <p:grpSpPr>
          <a:xfrm>
            <a:off x="512640" y="6016680"/>
            <a:ext cx="8637840" cy="19080"/>
            <a:chOff x="512640" y="6016680"/>
            <a:chExt cx="8637840" cy="19080"/>
          </a:xfrm>
        </p:grpSpPr>
        <p:pic>
          <p:nvPicPr>
            <p:cNvPr id="189" name="Прямая соединительная линия 1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AF73-8CF2-4209-8C1E-C3C4AC1F57FD}" type="slidenum"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D53C-4519-4104-B913-B08321E93CEA}" type="slidenum"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"/>
          <p:cNvGrpSpPr/>
          <p:nvPr/>
        </p:nvGrpSpPr>
        <p:grpSpPr>
          <a:xfrm>
            <a:off x="512640" y="5846760"/>
            <a:ext cx="8637840" cy="17640"/>
            <a:chOff x="512640" y="5846760"/>
            <a:chExt cx="8637840" cy="17640"/>
          </a:xfrm>
        </p:grpSpPr>
        <p:pic>
          <p:nvPicPr>
            <p:cNvPr id="274" name="Прямая соединительная линия 1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C53D-E5EA-41FF-BCC5-60BD44BA5FFA}" type="slidenum"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A972-1280-4D0D-B351-48D8356E32F1}" type="slidenum"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F7EC-31C2-450F-9DC3-FCE75839DA5F}" type="slidenum">
              <a:rPr b="0" lang="ru-RU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Box 5"/>
          <p:cNvSpPr/>
          <p:nvPr/>
        </p:nvSpPr>
        <p:spPr>
          <a:xfrm>
            <a:off x="755640" y="1773360"/>
            <a:ext cx="763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ямая и обратная пропорциональная зависимость. (задачи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3" descr=""/>
          <p:cNvPicPr/>
          <p:nvPr/>
        </p:nvPicPr>
        <p:blipFill>
          <a:blip r:embed="rId1"/>
          <a:stretch/>
        </p:blipFill>
        <p:spPr>
          <a:xfrm>
            <a:off x="142920" y="2143080"/>
            <a:ext cx="5429160" cy="4071960"/>
          </a:xfrm>
          <a:prstGeom prst="rect">
            <a:avLst/>
          </a:prstGeom>
          <a:ln w="0">
            <a:noFill/>
          </a:ln>
        </p:spPr>
      </p:pic>
      <p:sp>
        <p:nvSpPr>
          <p:cNvPr id="401" name="TextBox 4"/>
          <p:cNvSpPr/>
          <p:nvPr/>
        </p:nvSpPr>
        <p:spPr>
          <a:xfrm>
            <a:off x="5715000" y="142920"/>
            <a:ext cx="32148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ер на море гуля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раблик подгоня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бежит себе в волн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аздутых парус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абельщики дивят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раблике толпят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накомом остро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до видят наяв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 новый златоглав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ань с крепкою застав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шки с пристани паля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аблю пристать веля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"/>
          <p:cNvPicPr/>
          <p:nvPr/>
        </p:nvPicPr>
        <p:blipFill>
          <a:blip r:embed="rId1"/>
          <a:stretch/>
        </p:blipFill>
        <p:spPr>
          <a:xfrm>
            <a:off x="5143680" y="857160"/>
            <a:ext cx="3763800" cy="3000600"/>
          </a:xfrm>
          <a:prstGeom prst="rect">
            <a:avLst/>
          </a:prstGeom>
          <a:ln w="0">
            <a:noFill/>
          </a:ln>
        </p:spPr>
      </p:pic>
      <p:sp>
        <p:nvSpPr>
          <p:cNvPr id="403" name="TextBox 6"/>
          <p:cNvSpPr/>
          <p:nvPr/>
        </p:nvSpPr>
        <p:spPr>
          <a:xfrm>
            <a:off x="285840" y="714240"/>
            <a:ext cx="442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d2901"/>
                </a:solidFill>
                <a:latin typeface="Georgia"/>
              </a:rPr>
              <a:t>Ель растет перед дворц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d2901"/>
                </a:solidFill>
                <a:latin typeface="Georgia"/>
              </a:rPr>
              <a:t>А под ней хрустальный д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d2901"/>
                </a:solidFill>
                <a:latin typeface="Georgia"/>
              </a:rPr>
              <a:t>Белка там живет ручн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d2901"/>
                </a:solidFill>
                <a:latin typeface="Georgia"/>
              </a:rPr>
              <a:t>Да затейница кака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d2901"/>
                </a:solidFill>
                <a:latin typeface="Georgia"/>
              </a:rPr>
              <a:t>Белка песенки по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d2901"/>
                </a:solidFill>
                <a:latin typeface="Georgia"/>
              </a:rPr>
              <a:t>Да орешки всё грыз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7"/>
          <p:cNvSpPr/>
          <p:nvPr/>
        </p:nvSpPr>
        <p:spPr>
          <a:xfrm>
            <a:off x="428760" y="4143240"/>
            <a:ext cx="84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 3 ч белка разгрызла 28 орешков. Сколько орешков разгрызет белка за 15 ч, если будет грызть орешки с той же скоростью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8"/>
          <p:cNvSpPr/>
          <p:nvPr/>
        </p:nvSpPr>
        <p:spPr>
          <a:xfrm>
            <a:off x="3857760" y="214200"/>
            <a:ext cx="142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№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Box 1"/>
          <p:cNvSpPr/>
          <p:nvPr/>
        </p:nvSpPr>
        <p:spPr>
          <a:xfrm>
            <a:off x="214200" y="928800"/>
            <a:ext cx="5572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d2901"/>
                </a:solidFill>
                <a:latin typeface="Georgia"/>
              </a:rPr>
              <a:t>Ветер весело шум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d2901"/>
                </a:solidFill>
                <a:latin typeface="Georgia"/>
              </a:rPr>
              <a:t>Судно весело беж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d2901"/>
                </a:solidFill>
                <a:latin typeface="Georgia"/>
              </a:rPr>
              <a:t>Мимо острова Буя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d2901"/>
                </a:solidFill>
                <a:latin typeface="Georgia"/>
              </a:rPr>
              <a:t>В царство славного Салтана 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d2901"/>
                </a:solidFill>
                <a:latin typeface="Georgia"/>
              </a:rPr>
              <a:t>И желанная стр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d2901"/>
                </a:solidFill>
                <a:latin typeface="Georgia"/>
              </a:rPr>
              <a:t>Вот уж издали вид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5715000" y="820800"/>
            <a:ext cx="3286080" cy="2465280"/>
          </a:xfrm>
          <a:prstGeom prst="rect">
            <a:avLst/>
          </a:prstGeom>
          <a:ln w="0">
            <a:noFill/>
          </a:ln>
        </p:spPr>
      </p:pic>
      <p:sp>
        <p:nvSpPr>
          <p:cNvPr id="408" name="TextBox 4"/>
          <p:cNvSpPr/>
          <p:nvPr/>
        </p:nvSpPr>
        <p:spPr>
          <a:xfrm>
            <a:off x="3714840" y="285840"/>
            <a:ext cx="20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№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5"/>
          <p:cNvSpPr/>
          <p:nvPr/>
        </p:nvSpPr>
        <p:spPr>
          <a:xfrm>
            <a:off x="571680" y="3571920"/>
            <a:ext cx="8215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какой скоростью нужно было плыть кораблю, чтобы от острова Буяна доплы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 царства царя Салтана за 4, 5 ч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сли при скорости 57 км\ч он проходит это расстояние за 6ч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Box 1"/>
          <p:cNvSpPr/>
          <p:nvPr/>
        </p:nvSpPr>
        <p:spPr>
          <a:xfrm>
            <a:off x="285840" y="928800"/>
            <a:ext cx="3571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d2901"/>
                </a:solidFill>
                <a:latin typeface="Times New Roman"/>
                <a:ea typeface="Times New Roman"/>
              </a:rPr>
              <a:t>Корабельщики в 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d2901"/>
                </a:solidFill>
                <a:latin typeface="Times New Roman"/>
                <a:ea typeface="Times New Roman"/>
              </a:rPr>
              <a:t>«Мы объехали весь св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d2901"/>
                </a:solidFill>
                <a:latin typeface="Times New Roman"/>
                <a:ea typeface="Times New Roman"/>
              </a:rPr>
              <a:t>Торговали соболя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d2901"/>
                </a:solidFill>
                <a:latin typeface="Times New Roman"/>
                <a:ea typeface="Times New Roman"/>
              </a:rPr>
              <a:t>Чернобурыми лис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d2901"/>
                </a:solidFill>
                <a:latin typeface="Times New Roman"/>
                <a:ea typeface="Times New Roman"/>
              </a:rPr>
              <a:t>А теперь нам вышел ср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d2901"/>
                </a:solidFill>
                <a:latin typeface="Times New Roman"/>
                <a:ea typeface="Times New Roman"/>
              </a:rPr>
              <a:t>Едем прямо на вост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d2901"/>
                </a:solidFill>
                <a:latin typeface="Times New Roman"/>
                <a:ea typeface="Times New Roman"/>
              </a:rPr>
              <a:t>Мимо острова Буя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d2901"/>
                </a:solidFill>
                <a:latin typeface="Times New Roman"/>
                <a:ea typeface="Times New Roman"/>
              </a:rPr>
              <a:t>В царство славного Салт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4"/>
          <p:cNvSpPr/>
          <p:nvPr/>
        </p:nvSpPr>
        <p:spPr>
          <a:xfrm>
            <a:off x="3714840" y="285840"/>
            <a:ext cx="20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№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3"/>
          <p:cNvSpPr/>
          <p:nvPr/>
        </p:nvSpPr>
        <p:spPr>
          <a:xfrm>
            <a:off x="3857760" y="1071720"/>
            <a:ext cx="51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ручка корабельщиков после продажи товара составила 5000 рублей, причем за соболя выручили 45%. Сколько рублей выручили за чернобурых лис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2" descr=""/>
          <p:cNvPicPr/>
          <p:nvPr/>
        </p:nvPicPr>
        <p:blipFill>
          <a:blip r:embed="rId1"/>
          <a:stretch/>
        </p:blipFill>
        <p:spPr>
          <a:xfrm>
            <a:off x="4071960" y="3929040"/>
            <a:ext cx="4786200" cy="22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3T14:33:32Z</dcterms:created>
  <dc:creator>Виктор</dc:creator>
  <dc:description/>
  <dc:language>en-US</dc:language>
  <cp:lastModifiedBy>Ириша</cp:lastModifiedBy>
  <dcterms:modified xsi:type="dcterms:W3CDTF">2023-07-13T17:14:20Z</dcterms:modified>
  <cp:revision>11</cp:revision>
  <dc:subject/>
  <dc:title>Слайд 1</dc:title>
</cp:coreProperties>
</file>