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media/image5.jpeg" ContentType="image/jpeg"/>
  <Override PartName="/ppt/media/image27.jpeg" ContentType="image/jpeg"/>
  <Override PartName="/ppt/media/image33.gif" ContentType="image/gif"/>
  <Override PartName="/ppt/media/image28.jpeg" ContentType="image/jpeg"/>
  <Override PartName="/ppt/media/image34.jpeg" ContentType="image/jpeg"/>
  <Override PartName="/ppt/media/image44.gif" ContentType="image/gif"/>
  <Override PartName="/ppt/media/image40.gif" ContentType="image/gi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2.gif" ContentType="image/gif"/>
  <Override PartName="/ppt/media/image25.gif" ContentType="image/gif"/>
  <Override PartName="/ppt/media/image6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gif" ContentType="image/gif"/>
  <Override PartName="/ppt/media/image51.png" ContentType="image/png"/>
  <Override PartName="/ppt/media/image32.jpeg" ContentType="image/jpeg"/>
  <Override PartName="/ppt/media/image31.jpeg" ContentType="image/jpeg"/>
  <Override PartName="/ppt/media/image37.wmf" ContentType="image/x-wmf"/>
  <Override PartName="/ppt/media/image30.jpeg" ContentType="image/jpeg"/>
  <Override PartName="/ppt/media/image13.jpeg" ContentType="image/jpeg"/>
  <Override PartName="/ppt/media/image18.gif" ContentType="image/gif"/>
  <Override PartName="/ppt/media/image41.gif" ContentType="image/gif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856-A309-4ACF-ADF7-E86921BA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66E-4980-4BAF-AAD2-430929C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DFF-F747-4CB9-B955-CBB6AA5A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76A-B345-4E71-BFBA-2F463C8F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CAF-E9BD-4E5B-8412-DCD23DD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7CD-59B6-4FB8-B387-C09B21A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A7A-E465-4914-B334-BD090EA0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7F7-064E-4AF1-83CA-B2EEF3D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2E8-E61D-4E6B-AC4A-9BCCA016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E00-745C-47D9-9C2B-9BD106D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E29-A1A5-4DFF-9BA3-E943787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F5B-4AE5-4335-A1A5-6EA18E0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077-3CB7-460D-9345-9C21CBDE5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МОЖЕМ МАТУШКЕ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5360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irakalina_126841_S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k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335112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rganization Chart 3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93" name="_s10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9"/>
            <p:cNvCxnSpPr>
              <a:stCxn id="97" idx="0"/>
              <a:endCxn id="9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0"/>
            <p:cNvCxnSpPr>
              <a:stCxn id="99" idx="0"/>
              <a:endCxn id="9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1031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2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2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13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0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669608184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7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0" descr="6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4" descr="46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6" descr="98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река2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9" descr="30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0" descr="40r3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бак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2" name="Picture 6" descr="заповедник3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3" name="Picture 8" descr="знак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4" name="Picture 9" descr="охрана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5" name="Picture 10" descr="уборка мусора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6" name="Picture 12" descr="sad01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6" descr="река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68" name="Text Box 17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дрозд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6" name="Picture 6" descr="зимородок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" name="Picture 7" descr="зяблик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8" name="Picture 8" descr="птица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9" name="Picture 9" descr="птица2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0" name="Picture 10" descr="филин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белка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2" name="Picture 6" descr="ежик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" name="Picture 7" descr="енот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4" name="Picture 8" descr="зубр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Picture 9" descr="лиса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Picture 10" descr="мишка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Picture 11" descr="волки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Picture 12" descr="олень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xtk4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0" name="Picture 10" descr="9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ad05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вырубка 2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Picture 9" descr="вырубка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Picture 10" descr="37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53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 пожар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Picture 6" descr="1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пожар 3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вода грязь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Picture 6" descr="грязь 2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5" name="Picture 7" descr="грязь рек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6" name="Text Box 8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7" descr="завод 3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1" name="Picture 8" descr="15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уборка 2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Picture 6" descr="уборка 3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User</cp:lastModifiedBy>
  <dcterms:modified xsi:type="dcterms:W3CDTF">2020-10-27T14:04:46Z</dcterms:modified>
  <cp:revision>24</cp:revision>
  <dc:subject/>
  <dc:title>Слайд 1</dc:title>
</cp:coreProperties>
</file>