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media/image5.jpeg" ContentType="image/jpeg"/>
  <Override PartName="/ppt/media/image27.jpeg" ContentType="image/jpeg"/>
  <Override PartName="/ppt/media/image33.gif" ContentType="image/gif"/>
  <Override PartName="/ppt/media/image28.jpeg" ContentType="image/jpeg"/>
  <Override PartName="/ppt/media/image34.jpeg" ContentType="image/jpeg"/>
  <Override PartName="/ppt/media/image44.gif" ContentType="image/gif"/>
  <Override PartName="/ppt/media/image40.gif" ContentType="image/gif"/>
  <Override PartName="/ppt/media/image3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42.gif" ContentType="image/gif"/>
  <Override PartName="/ppt/media/image25.gif" ContentType="image/gif"/>
  <Override PartName="/ppt/media/image6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gif" ContentType="image/gif"/>
  <Override PartName="/ppt/media/image51.png" ContentType="image/png"/>
  <Override PartName="/ppt/media/image32.jpeg" ContentType="image/jpeg"/>
  <Override PartName="/ppt/media/image31.jpeg" ContentType="image/jpeg"/>
  <Override PartName="/ppt/media/image37.wmf" ContentType="image/x-wmf"/>
  <Override PartName="/ppt/media/image30.jpeg" ContentType="image/jpeg"/>
  <Override PartName="/ppt/media/image13.jpeg" ContentType="image/jpeg"/>
  <Override PartName="/ppt/media/image18.gif" ContentType="image/gif"/>
  <Override PartName="/ppt/media/image41.gif" ContentType="image/gif"/>
  <Override PartName="/ppt/media/image12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4D6-2FFB-4560-B609-C95ADE96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4F9-A9EB-4688-8AE3-5DD0829F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967-9CCC-4626-96DF-8AAF5E0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BE5-686C-46EE-A71D-93FB9E09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A39-F78B-4A09-9434-066E68D2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542-DFD4-4017-B236-9DA796A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3B3-7CA4-4DC5-8A2C-45508A6F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84E-918B-4171-AFCE-CD43EEC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DDF-0942-4E97-B4AA-8D531F5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827-7565-498C-B042-D70ACF8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2E6-80DE-4229-BC4F-D9B0BCB3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123-F4C9-471B-80F5-2C9F7903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528-246E-4EF5-8B4F-08B99447F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МОЖЕМ МАТУШКЕ ПРИР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5360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kirakalina_126841_S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k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0335112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rganization Chart 3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93" name="_s10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9"/>
            <p:cNvCxnSpPr>
              <a:stCxn id="97" idx="0"/>
              <a:endCxn id="9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0"/>
            <p:cNvCxnSpPr>
              <a:stCxn id="99" idx="0"/>
              <a:endCxn id="9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1031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2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4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2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Oval 13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0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669608184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8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9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9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4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7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0" descr="6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4" descr="46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6" descr="98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7" descr="река2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9" descr="30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0" descr="40r3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бак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2" name="Picture 6" descr="заповедник3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3" name="Picture 8" descr="знак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4" name="Picture 9" descr="охрана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5" name="Picture 10" descr="уборка мусора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66" name="Picture 12" descr="sad01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6" descr="река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68" name="Text Box 17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дрозд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6" name="Picture 6" descr="зимородок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" name="Picture 7" descr="зяблик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8" name="Picture 8" descr="птица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9" name="Picture 9" descr="птица2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0" name="Picture 10" descr="филин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белка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2" name="Picture 6" descr="ежик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3" name="Picture 7" descr="енот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4" name="Picture 8" descr="зубр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5" name="Picture 9" descr="лиса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Picture 10" descr="мишка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Picture 11" descr="волки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Picture 12" descr="олень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xtk4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0" name="Picture 10" descr="9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ad05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вырубка 2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Picture 9" descr="вырубка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Picture 10" descr="37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53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 пожар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Picture 6" descr="1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2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пожар 3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вода грязь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Picture 6" descr="грязь 2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5" name="Picture 7" descr="грязь рек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6" name="Text Box 8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7" descr="завод 3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1" name="Picture 8" descr="15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уборка 2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Picture 6" descr="уборка 3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User</cp:lastModifiedBy>
  <dcterms:modified xsi:type="dcterms:W3CDTF">2020-10-27T14:04:46Z</dcterms:modified>
  <cp:revision>24</cp:revision>
  <dc:subject/>
  <dc:title>Слайд 1</dc:title>
</cp:coreProperties>
</file>