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camera.wav" ContentType="audio/x-wav"/>
  <Override PartName="/ppt/media/projctor.wav" ContentType="audio/x-wav"/>
  <Override PartName="/ppt/media/image9.png" ContentType="image/png"/>
  <Override PartName="/ppt/media/type.wav" ContentType="audio/x-wav"/>
  <Override PartName="/ppt/media/chimes.wav" ContentType="audio/x-wav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70A-404A-4784-BC6F-840C79EF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1F8-2FBC-46C5-9AAC-C4F09F9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EC4-4911-4E06-AB11-72F1936B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30C-BB45-421B-8404-589514AC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3045-ECE7-41E4-B43B-ADD185B4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61FF-DB87-4847-8B6D-C2AB07FB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A3EA-1D83-4DF1-95E7-CEC64E98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C0E8-EC7E-45A4-BF1B-EC9C586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60C6-FBD0-4D29-8BAE-5BB17D9E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BD8D-9316-4DC3-A02B-3905BD54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4F97-7CB7-4546-BBF7-31961CB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67C-A80C-4AD9-8D78-752343D2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CFE-997A-416D-9F3F-A97B423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F64-0883-465C-9F10-D542296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CAB7-7020-4BC4-913B-BEE06543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247E-6532-4A79-89DB-2AA1FE63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A72-1EC2-4A1E-9D56-1B31917A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6EB-34AD-4F2F-86C9-0AE803D2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352-58D3-412B-BC8B-614FE9D7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889-5191-45B2-8AEE-411BDFB1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8F4-E7FF-4C95-AF0D-42871A97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D55-70CB-4403-8520-5BE94E66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092-317A-4E4B-A86C-2AF32DD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2BC-4AE5-4739-9659-DBF5A021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BD0-84E3-447B-B361-C24C8E95510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8CBD-1BDC-4872-9798-8A24E9F83D76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projctor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Урок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00200" y="2057400"/>
            <a:ext cx="5791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482400"/>
                </a:solidFill>
                <a:uFillTx/>
                <a:latin typeface="Times New Roman"/>
              </a:rPr>
              <a:t>Логарифмы и их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924360" y="4869000"/>
            <a:ext cx="50036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 Кен Су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СОШ №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Дол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0A51-2C26-4C7E-B944-42CB77B04E0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Выполнение упражнений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9297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числи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иск «Алгебра. 7-11 класс», тема «Преобразование степенных и логарифмических выражений»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 № 498 (а, г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5638680" y="3733920"/>
          <a:ext cx="312444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733920"/>
                    <a:ext cx="31244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5"/>
          <p:cNvGraphicFramePr/>
          <p:nvPr/>
        </p:nvGraphicFramePr>
        <p:xfrm>
          <a:off x="1295280" y="3962520"/>
          <a:ext cx="403884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962520"/>
                    <a:ext cx="403884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E4A0-CD65-44BE-BA61-4D735A8B44B1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Выполнение упражнений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уппа работает самостоятельн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 диск 1С: Репетитор. Математика. Часть 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гарифмические уравнения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3.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4A57-1292-44D4-B83F-0C51A657CBF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Самостоятельная работ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6688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групп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Диск «Алгебра. 7-11 класс», тема «Преобразование степенных и логарифмических выражений»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1143000" y="3581280"/>
          <a:ext cx="7769160" cy="26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81280"/>
                    <a:ext cx="77691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A8F4-9E28-4B5D-9FAF-F5D8E3934785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ик для общеобразовательных учреждений «Алгебра и начала математического анализа» 10-11 классы, авторы:Ш.А.Алимов, Ю.М.Колягин и др.       М: «Просвещение», 2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й учебник-справочник «Алгебра. 7-11 класс» (учебник, задачник и справочни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ROM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к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Репетитор. Математика. Час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E002-2F4F-4721-B156-3E745C0E455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BC3-8BEE-454D-904B-281F51AA68AD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82400"/>
                </a:solidFill>
                <a:latin typeface="Times New Roman"/>
              </a:rPr>
              <a:t>Цели: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учить основные свойства логарифм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азать их применение в ходе преобразования выражений, содержащих логариф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5661-D279-446B-B290-397DA45F851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Ход урок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2000" y="1599840"/>
            <a:ext cx="808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лады учащихся по сведениям из истор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н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свойства логарифм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ния выражений содержащих логариф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полнение упражн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 уро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151-546B-4139-BAD9-02F26F81BE94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Доклады учащихся по сведениям из истории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 происхождении терминов и обознач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истории логариф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BC4B-1F98-4B91-A99D-5A532B07A2A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Устная работа.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йте определение логарифма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371600" y="2971800"/>
                <a:ext cx="22096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3886200" y="2971800"/>
                <a:ext cx="22096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8"/>
              <p:cNvSpPr txBox="1"/>
              <p:nvPr/>
            </p:nvSpPr>
            <p:spPr>
              <a:xfrm>
                <a:off x="1523880" y="4724280"/>
                <a:ext cx="243540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4710240" y="4724280"/>
                <a:ext cx="3686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0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6553080" y="2666880"/>
                <a:ext cx="209736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1"/>
          <p:cNvSpPr/>
          <p:nvPr/>
        </p:nvSpPr>
        <p:spPr>
          <a:xfrm>
            <a:off x="83818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4B99-ADB1-4C45-B7F0-E06E27025F05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82400"/>
                </a:solidFill>
                <a:latin typeface="Times New Roman"/>
              </a:rPr>
              <a:t>Устная работа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ое логарифмическое тожде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ростите выраже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1523880" y="5181480"/>
                <a:ext cx="25146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523880" y="3581280"/>
                <a:ext cx="20750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5181480" y="5257800"/>
                <a:ext cx="25146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5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5257800" y="3200400"/>
                <a:ext cx="251460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8"/>
          <p:cNvSpPr/>
          <p:nvPr/>
        </p:nvSpPr>
        <p:spPr>
          <a:xfrm>
            <a:off x="76201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E6B3-BC78-4435-8A05-E4C087A93A6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228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Основные свойства логарифмов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иск 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: Репетитор. Математика. Часть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гарифмические уравнения. Формулы преобразования логарифмов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81DA-A508-41D0-8EFB-F0A3EC587B7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реобразования выражений содержащих логарифмы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обрать решение пример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 1. Прологарифмируйте по основанию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0, b&gt;0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4038480" y="2697120"/>
                <a:ext cx="12956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ad>
                      <m:deg>
                        <m:r>
                          <m:t xml:space="preserve">7</m:t>
                        </m:r>
                      </m:deg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447920" y="3200400"/>
                <a:ext cx="670536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ad>
                          <m:deg>
                            <m:r>
                              <m:t xml:space="preserve">7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C67B-64D3-4732-B7C6-2D0D3F3CABBA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1766880"/>
            <a:ext cx="83818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. Найдем х, е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82400"/>
                </a:solidFill>
                <a:latin typeface="Times New Roman"/>
              </a:rPr>
              <a:t>Преобразования выражений содержащих логарифмы.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1295280" y="2286000"/>
                <a:ext cx="6477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6"/>
          <p:cNvSpPr/>
          <p:nvPr/>
        </p:nvSpPr>
        <p:spPr>
          <a:xfrm>
            <a:off x="914400" y="3048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разуем правую часть данного равенства, пользуясь основными свойствами логариф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600200" y="5722920"/>
                <a:ext cx="2819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9"/>
          <p:cNvSpPr/>
          <p:nvPr/>
        </p:nvSpPr>
        <p:spPr>
          <a:xfrm>
            <a:off x="990720" y="6019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343400" y="6019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оэт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5943600" y="5738760"/>
                <a:ext cx="2743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2"/>
              <p:cNvSpPr txBox="1"/>
              <p:nvPr/>
            </p:nvSpPr>
            <p:spPr>
              <a:xfrm>
                <a:off x="1219320" y="3809880"/>
                <a:ext cx="658944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7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3-07-13T05:22:05Z</dcterms:modified>
  <cp:revision>15</cp:revision>
  <dc:subject/>
  <dc:title>PowerPoint Presentation</dc:title>
</cp:coreProperties>
</file>