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amera.wav" ContentType="audio/x-wav"/>
  <Override PartName="/ppt/media/projctor.wav" ContentType="audio/x-wav"/>
  <Override PartName="/ppt/media/image9.png" ContentType="image/png"/>
  <Override PartName="/ppt/media/type.wav" ContentType="audio/x-wav"/>
  <Override PartName="/ppt/media/chimes.wav" ContentType="audio/x-wav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E4D-73FC-4E70-BDAC-B95C0F21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B47-B6B3-4637-A106-1E07BC61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475-0A6B-479C-B5F9-6B2A007E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977-0E3E-4DAD-97FA-B55404C0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1711-44F6-450E-A28E-E8BFDF0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1C9D-BB0B-4B7C-8D81-A846A0C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E98-C4E5-4DC0-B637-29132674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7311-06B7-4BD1-8A43-91E23AD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790-746D-42F8-993E-ED4A840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E436-5939-439A-A1EA-48A09CF2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AEAD-AF6D-4E01-B7A1-001E4E9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B43-972A-449E-89D1-3B832E2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B78-2B05-45F3-8EB9-3755785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7EBD-80B8-4F60-84BE-DC4ADA9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C734-A301-4318-ADE8-25FBAAF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160F-5FCD-456C-AB20-A5937B6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A412-4F60-4B6B-914F-B401FBEB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BDF-5AF6-40AD-8EE6-D3E840C5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9EE-8871-4588-92EA-8D17428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19E-E113-4E2B-838C-7836A27A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C69-A446-46C7-B2EE-3B96A14C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A45-A26D-46B1-B04C-7D1C7C5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912-2A26-4BED-9757-A68DC84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CCF-CA4B-4BDB-9318-BD840E9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397-4A41-4153-9CE4-1FF39DBD96C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2E32-E353-418C-B7A9-8CC6B684EA7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Урок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00200" y="2057400"/>
            <a:ext cx="57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482400"/>
                </a:solidFill>
                <a:uFillTx/>
                <a:latin typeface="Times New Roman"/>
              </a:rPr>
              <a:t>Логарифмы и их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924360" y="4869000"/>
            <a:ext cx="5003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 Кен Су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СОШ №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Дол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37C-EB9A-4773-9ABA-DCEC19FF9D2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Выполнение упражнений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9297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иск «Алгебра. 7-11 класс», тема «Преобразование степенных и логарифмических выражений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 № 498 (а, г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5638680" y="3733920"/>
          <a:ext cx="312444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733920"/>
                    <a:ext cx="3124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1295280" y="3962520"/>
          <a:ext cx="403884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962520"/>
                    <a:ext cx="403884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F753-1C50-4A8F-AC3D-2BB3B5D5210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Выполнение упражнений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работает самостоятельн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 диск 1С: Репетитор. Математика. Часть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гарифмические уравн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C79-14BC-4EFF-A8F7-41B18933B4E2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Самостоятельная работ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6688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групп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Диск «Алгебра. 7-11 класс», тема «Преобразование степенных и логарифмических выражений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1143000" y="3581280"/>
          <a:ext cx="776916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81280"/>
                    <a:ext cx="77691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50B6-BD21-4A7D-91E6-7684DFC0B16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ик для общеобразовательных учреждений «Алгебра и начала математического анализа» 10-11 классы, авторы:Ш.А.Алимов, Ю.М.Колягин и др.       М: «Просвещение», 2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й учебник-справочник «Алгебра. 7-11 класс» (учебник, задачник и справочни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ROM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к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епетитор. Математика. 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E10-20EE-4915-958C-4E79C30E02D7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8251-67B4-419E-BA25-0ED1D6EBB30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82400"/>
                </a:solidFill>
                <a:latin typeface="Times New Roman"/>
              </a:rPr>
              <a:t>Цели: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учить основные свойства логарифм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азать их применение в ходе преобразования выражений, содержащих логариф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32A-5804-4CFC-AC31-86D8BE7C22D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Ход урок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2000" y="1599840"/>
            <a:ext cx="808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лады учащихся по сведениям из ист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н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свойства логарифм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ния выражений содержащих логариф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ение упражн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 уро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F13F-E9F8-46F9-BF10-8449F336854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Доклады учащихся по сведениям из истории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происхождении терминов и обознач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истории логариф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4093-A2DB-42C9-B53F-3A137396995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Устная работа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йте определение логарифма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371600" y="2971800"/>
                <a:ext cx="2209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3886200" y="2971800"/>
                <a:ext cx="22096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1523880" y="4724280"/>
                <a:ext cx="24354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4710240" y="4724280"/>
                <a:ext cx="3686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0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6553080" y="2666880"/>
                <a:ext cx="209736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1"/>
          <p:cNvSpPr/>
          <p:nvPr/>
        </p:nvSpPr>
        <p:spPr>
          <a:xfrm>
            <a:off x="83818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712A-B76B-4DD2-B380-70B35694B4A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Устная работ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ое логарифмическое тожд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остите выра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523880" y="5181480"/>
                <a:ext cx="25146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523880" y="3581280"/>
                <a:ext cx="20750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5181480" y="5257800"/>
                <a:ext cx="25146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5257800" y="3200400"/>
                <a:ext cx="251460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8"/>
          <p:cNvSpPr/>
          <p:nvPr/>
        </p:nvSpPr>
        <p:spPr>
          <a:xfrm>
            <a:off x="76201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E377-AF37-4E6A-94A3-E2ACCCBD1DCB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Основные свойства логарифмов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иск 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Репетитор. Математика. Част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гарифмические уравнения. Формулы преобразования логарифмов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C87F-8022-45B5-BB15-47831FBF9FDB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реобразования выражений содержащих логарифмы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обрать решение пример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 1. Прологарифмируйте по основанию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0, b&gt;0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4038480" y="2697120"/>
                <a:ext cx="129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deg>
                        <m:r>
                          <m:t xml:space="preserve">7</m:t>
                        </m:r>
                      </m:deg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447920" y="3200400"/>
                <a:ext cx="670536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ad>
                          <m:deg>
                            <m:r>
                              <m:t xml:space="preserve">7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A573-5503-405C-AA71-D38AC43DFCB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1766880"/>
            <a:ext cx="83818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. Найдем х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реобразования выражений содержащих логарифмы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1295280" y="2286000"/>
                <a:ext cx="6477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6"/>
          <p:cNvSpPr/>
          <p:nvPr/>
        </p:nvSpPr>
        <p:spPr>
          <a:xfrm>
            <a:off x="914400" y="3048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разуем правую часть данного равенства, пользуясь основными свойствами логариф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600200" y="5722920"/>
                <a:ext cx="2819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9"/>
          <p:cNvSpPr/>
          <p:nvPr/>
        </p:nvSpPr>
        <p:spPr>
          <a:xfrm>
            <a:off x="99072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343400" y="6019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эт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5943600" y="5738760"/>
                <a:ext cx="2743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1219320" y="3809880"/>
                <a:ext cx="658944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7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3-07-13T05:22:05Z</dcterms:modified>
  <cp:revision>15</cp:revision>
  <dc:subject/>
  <dc:title>PowerPoint Presentation</dc:title>
</cp:coreProperties>
</file>